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791-AF0E-4BC5-8EFB-8C4C2D14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604-0C9D-45B7-854B-0442A1BB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F21-2932-456F-BAC1-EFF5CDDF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EAC-74EF-4DD7-9D2A-188BFA77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3D0D8-465B-4421-A622-F6D05BFE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CFB81-08C3-4263-923A-F03CDA67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C625F-BF2D-48B8-95FD-7C722391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F4B37-ABA1-452E-BE35-47C2331B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F2629-102A-4C5D-9BF0-32A59338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99E8-83B3-4F6B-9FDE-07979351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7D070-1224-4B19-9CEC-864A2002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A6D-405B-4B1F-ADD3-A18E6D8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EDCB9-7644-4E77-A219-ADF53A8E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74B6B-DB8A-4510-8B0B-97104C8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642ED-CD05-4FC5-8BB9-9A1787E4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C91D9-F4B3-4683-ABC8-292C5C34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376F9-909B-4E70-BF5B-ECBE7F65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BC4-1DBA-41DD-8CA0-08288ECC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392-FC84-4FBD-ABC9-AC0E0A3E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4F7-EADE-4D98-A89B-16EE8149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97B-341A-4E49-A96B-0B894EC4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386-A81F-4B68-BF42-E641D9C4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6C9-A3EB-4459-85ED-AC6410A2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F47-E0B5-4AFA-B54F-B7AFC537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02A1-9CC7-40AB-81AF-794C5A2FF3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3FEB-1247-415B-8077-471845B0D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Этика в профессиональной культуре педагог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920" y="19807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ая область, г.Клин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ДОУ комбинированного вида №23 «Алёнушк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тель 2-й квалификацион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егории Ильинова Н.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19320" y="1257480"/>
            <a:ext cx="6553080" cy="51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7680" y="565200"/>
            <a:ext cx="81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4572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щение с родителями и деть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дагогическая этика – раздел этической науки, она изучае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арактер нравственной деятельности педагог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равственные отношения в профессиональной сред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ы педагогического этике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авила общ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неры пове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чи педагогической эт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исследование проблем методологического характе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ка специфики нравственных аспектов педагогического тру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ление предъявляемых требований к нравственному облику педаг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стижные качества педагог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ебовательность к се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окритич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ктич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жлив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ние педагогики и психолог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ичное педагогическое мастер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ение оказывать коллегам методическую помощ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дейная убежден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ст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раведлив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ъектив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удолюб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овь к детя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сциплинирова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1522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бота педагога без этики невозмож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9:31:20Z</dcterms:created>
  <dc:creator>Admin</dc:creator>
  <dc:description/>
  <dc:language>en-US</dc:language>
  <cp:lastModifiedBy>Admin</cp:lastModifiedBy>
  <dcterms:modified xsi:type="dcterms:W3CDTF">2013-02-13T14:13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