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4BE-51BD-4EA5-B821-994D702F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74C-869B-4C2B-89E3-4C35DE84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45B-EB97-4A85-BBAF-C8DF49D4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5DE-8026-4FB6-AD59-EFF357AC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BD386-09D8-4048-8223-19718DD0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17B8-BAB1-44DD-9129-DA4CBC9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6DE75-1459-4772-9F71-CA3B03FA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5F4C4-68B5-4F04-9DCA-7133559D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5A9BC-F40D-4F58-8C29-5AF72230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5604C-355B-4152-A741-0D66AA0C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90882-B3A4-4E06-A9E1-9288552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F1F-DEC1-4D21-80C7-8525970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20FB4-7869-43A5-B4F8-3D1E913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24696-4D8C-4C08-9E4F-7F0EB9F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8771F-9705-4F60-AE01-DC3B46DF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258E5-8A04-4B0F-A2C7-475C7FB3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79419-7301-446B-981D-FFD79158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0C8-4AD6-4A9D-8E5D-2B7E6760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F1B-E590-4A30-BC91-EBE7DE2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706-E574-411E-8BF4-8ABCADD2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E39-81FA-4F3D-8631-7CEDFBDD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06B-DE0E-43F8-84B0-6DD9984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06E-DAA2-4C6A-86B8-FB0BECB0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BD6-B469-4EEB-AAB5-A7C119BD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936-C112-498F-AC76-F4376D015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A73D-987C-4075-ADD3-C7F5AE8B0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ика в профессиональной культуре педаго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19807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область, г.Кли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ДОУ комбинированного вида №23 «Алёнушк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тель 2-й квалификацио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гории Ильинова Н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1257480"/>
            <a:ext cx="6553080" cy="51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7680" y="565200"/>
            <a:ext cx="81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4572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ние с родителями и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ическая этика – раздел этической науки, она изуча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арактер нравственной деятельности педаго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равственные отношения в профессиональной сред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ы педагогического этике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а об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неры по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чи педагогической эт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сследование проблем методологического характ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специфики нравственных аспектов педагогического тру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ление предъявляемых требований к нравственному облику педаг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ижные качества педагог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бовательность к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критич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ктич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жлив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ние педагогики и психолог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чное педагогическое мастер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ие оказывать коллегам методическую помощ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ейная убежд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ст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раведлив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ектив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олюб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 к детя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сциплинирова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152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бота педагога без этики невозмож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9:31:20Z</dcterms:created>
  <dc:creator>Admin</dc:creator>
  <dc:description/>
  <dc:language>en-US</dc:language>
  <cp:lastModifiedBy>Admin</cp:lastModifiedBy>
  <dcterms:modified xsi:type="dcterms:W3CDTF">2013-02-13T14:13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