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48F4-7199-48AA-8F9D-6FB69979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410-A22E-454F-A226-F09431A2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913-85D0-4AAD-9369-9FA24ADF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C18-82F0-4401-8EE4-DFFD3872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A0150-CB83-4D72-B912-26B97B4A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97C20-1959-417E-B6F6-E7EEF8E0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30913-7AA4-4841-919C-41E396CD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90A4C-04FC-4503-B457-3A02649D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48C91-235D-4209-A408-1173C109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011D5-0E68-4E4D-B6C8-523FBB61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3228A-6E34-47AB-BEBF-3EABFBAE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752-E8E6-46A6-AC12-962F798E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1049E-6D3F-471E-AB4F-47B07071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B5CF7-6EFE-4B26-AFB8-CB9C0A7F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31A5E-F503-4540-BB66-0FD3BB31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88376-AA7E-4A3A-9537-38A2B005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8B526-1990-4ACE-B12C-A14A1DE8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1EB-36C5-42DD-85C9-FF674DB4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9961-A77B-4818-999C-CD92E74C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CD79-7467-4846-AA2C-CC5558D1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A5E-B567-4D5C-AC1D-DA78988A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6DFE-D072-420E-A1C5-42BC3821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88A-DF8D-4774-B040-4A42C1C1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567-8FA0-4B72-BE96-F6DC3BFA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03F8-523F-4879-A049-F0801A2F2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1BB1-FD52-46A8-A470-406962EF5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Этика в профессиональной культуре педагог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90920" y="19807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сковская область, г.Клин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ДОУ комбинированного вида №23 «Алёнушк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питатель 2-й квалификационн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тегории Ильинова Н.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19320" y="1257480"/>
            <a:ext cx="6553080" cy="5144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7680" y="565200"/>
            <a:ext cx="81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4572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щение с родителями и деть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240" y="9907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дагогическая этика – раздел этической науки, она изучает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арактер нравственной деятельности педагог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равственные отношения в профессиональной сред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ы педагогического этике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авила общ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неры повед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дачи педагогической эти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исследование проблем методологического характер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аботка специфики нравственных аспектов педагогического труд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вление предъявляемых требований к нравственному облику педагог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стижные качества педагог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ебовательность к себ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мокритич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актич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ежлив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ние педагогики и психолог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ичное педагогическое мастер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мение оказывать коллегам методическую помощ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дейная убежден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ст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праведлив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ъектив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удолюб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юбовь к детя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сциплинирован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1522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бота педагога без этики невозмож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9:31:20Z</dcterms:created>
  <dc:creator>Admin</dc:creator>
  <dc:description/>
  <dc:language>en-US</dc:language>
  <cp:lastModifiedBy>Admin</cp:lastModifiedBy>
  <dcterms:modified xsi:type="dcterms:W3CDTF">2013-02-13T14:13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