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9CA-D88F-4E6B-AC2C-FCC27FE4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08E-86D8-4A50-B2A9-70CE0DD9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444-4549-4F86-AFEB-D113E2C2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AFA-DAA8-4E74-8787-B4A37969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91B-4187-4BA6-8414-8AF9AF50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B7F9-0DD4-4D0C-9773-9531B53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ABCD-EDDD-41FE-8FE5-69538FF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DBD2-CCD2-4E31-AB02-25137E46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00F-69BD-4F09-A7A5-6F7326F0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290E-C7D4-49F2-837B-69A100E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F357-6F6B-4E99-86F3-4FFE4A30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B85-E958-4D1F-B602-E70A20E4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3366-58EB-4FD0-84C1-1FA101C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4376-0EC3-4D6C-96D9-AA0B828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DD68-BF43-47EE-842B-52257382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4B6A-4AAA-4DD7-AD11-DB30C27D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A8C6-0CE4-4547-87DB-ADBE4AF0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997-5892-4072-8DF3-6400FBC4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C32-B28B-4C7E-AA0F-2BC6450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DCF-BF6C-4684-9120-B74EA7FE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10E-C400-45E4-A386-5B3387BD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EDA-EA3E-4306-BB93-143084EA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E09-2A97-4A70-99C7-D4F760B1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770-AA0E-4964-A59C-C992F993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3B1-51C3-4FCA-BEA6-7CA8B8BA03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31BB-77A1-40FF-A962-0D8E8F5DBE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Деструктивные</a:t>
            </a:r>
            <a:br>
              <a:rPr sz="6600"/>
            </a:b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организации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арактерный внешний вид гот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ёрный корсет, облегающие чёрные нарукавники и чёрная юбка-макси (для девушек), одежда под старину, клешеные рукава, кожаная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8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еструктивная организ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труктивная организация — это группа или движение, демонстрирующая значительную, глубокую или чрезмерную приверженность либо увлечённость, преданность определённому человеку, идее или вещи и использующие неэтичные манипулятивные методики убеждения и управления (например, изоляция от бывших друзей и семьи, истощение, применение специальных методов, разработанных с целью усиления внушаемости и слепого следования, мощное групповое давление, управление информацией, временное отключение индивидуальности или приостановка действия критического здравого смысла, поощрение полной зависимости от группы и боязни её покинуть и т. д.), предназначенные для того, чтобы способствовать реализации целей лидеров группы с фактическим или возможным ущербом для членов данной организации, их семей или общест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оды воздействия на людей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мывание мозгов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котики, секс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овые «радения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свободного време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раничение внешних контактов и п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евять сатанинских заповед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Вседозволеннос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Животное существовани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Ничем не замутненная мудрость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Доброта только к тем, кто этого заслуживает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ститель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Ответственность только по отношению к ответствен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Животная природа чел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овершение всех так называемых грехов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Лучший друг церкви тот, кто ее постоянно использует в своих цел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бразе Эмо сочетается самобытность прически, макияжа и,, как правило черного и розового. На майках зачастую изображены черепа, разбитое сердце либо герои мультфильм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Субкультура ЭМО"/>
          <p:cNvPicPr/>
          <p:nvPr/>
        </p:nvPicPr>
        <p:blipFill>
          <a:blip r:embed="rId1"/>
          <a:stretch/>
        </p:blipFill>
        <p:spPr>
          <a:xfrm>
            <a:off x="5245200" y="1989000"/>
            <a:ext cx="3068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о предпочитают носить жакеты «детских размеров», свитера с вырезом V-образной формы или с поперечной полосой все тех же розово-черных цве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83080" y="2185920"/>
            <a:ext cx="279396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В обуви эмо предпочитают кеды либо тряпичные тапочки – слипы. Среди прочих признаков присутствуют полосатые гетры на девушках эмо, узкие джинсы на эмо-боях, широкий пояс, сумка через плечо с множеством знач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Субкультура ЭМО"/>
          <p:cNvPicPr/>
          <p:nvPr/>
        </p:nvPicPr>
        <p:blipFill>
          <a:blip r:embed="rId1"/>
          <a:stretch/>
        </p:blipFill>
        <p:spPr>
          <a:xfrm>
            <a:off x="5292720" y="1989000"/>
            <a:ext cx="30416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1274265304_odezhda" descr="Субкультура ЭМО"/>
          <p:cNvPicPr/>
          <p:nvPr/>
        </p:nvPicPr>
        <p:blipFill>
          <a:blip r:embed="rId2"/>
          <a:stretch/>
        </p:blipFill>
        <p:spPr>
          <a:xfrm>
            <a:off x="5292720" y="198900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 и го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о отличает романтизм и акцент на возвышенной любви. Внимание эмо чаще обращено на глубокие личные переживания, чем на общественные события, эмо ненавидят себ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ты ненавидя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арактерный внешний вид гот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ёрная одежда.Чёрные длинные волосы. Лицо неестественно бледное Высокие шнурованные ботинки, сапоги или другая неформальная обув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2270160"/>
            <a:ext cx="42116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20:18Z</dcterms:created>
  <dc:creator>Учитель</dc:creator>
  <dc:description/>
  <dc:language>en-US</dc:language>
  <cp:lastModifiedBy>Учитель</cp:lastModifiedBy>
  <dcterms:modified xsi:type="dcterms:W3CDTF">2012-01-18T13:21:32Z</dcterms:modified>
  <cp:revision>3</cp:revision>
  <dc:subject/>
  <dc:title>Диструктивные организации</dc:title>
</cp:coreProperties>
</file>