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EB5-C211-49F9-AE75-65DC8E3F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F0B-DDB7-4770-B099-AF70DC5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5C0-F20C-47D2-878A-2BA82A2E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D2B-C3A0-4633-B053-BC4FD758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7F60-4BA1-4255-AE73-74325283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45B9-933F-4721-8A7E-08915BF2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549E-B309-4BE5-9F0F-670A63D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FA99-B0FD-468F-BA63-6198F18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E843-B857-41B1-82A6-0D3C9FB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99B1-2AF8-4C62-A2C0-AEBF24A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C7B0-00C7-4BD1-9805-59626E9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FBB-758B-46A9-ACA2-40277C2D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F8D3-56B6-4201-AB36-62141D8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A28A-0755-48A9-99BD-DF6FE90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556D-EA5C-491E-AC2F-74363950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851-0E6E-4971-A9B1-D5F778D8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DF4F-0D5B-43DF-946C-EA54280A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C91-165B-4B74-9905-8103F5D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697-1232-42E9-B79F-AA4DA1AD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3C4-F1D8-4300-B7B6-12A42296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79F-39A0-4860-A645-DA750513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D51-64C9-48A5-93E9-CCDC632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8DA-4761-4138-972E-A3E0DCB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6F8-0541-4109-8DE9-9A90985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381-4369-4226-B353-BCC2A1D241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D11-7567-4F60-930C-477F991CD2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Деструктивные</a:t>
            </a:r>
            <a:br>
              <a:rPr sz="6600"/>
            </a:b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организации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арактерный внешний вид гот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ёрный корсет, облегающие чёрные нарукавники и чёрная юбка-макси (для девушек), одежда под старину, клешеные рукава, кожаная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8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структивная организ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труктивная организация — это группа или движение, демонстрирующая значительную, глубокую или чрезмерную приверженность либо увлечённость, преданность определённому человеку, идее или вещи и использующие неэтичные манипулятивные методики убеждения и управления (например, изоляция от бывших друзей и семьи, истощение, применение специальных методов, разработанных с целью усиления внушаемости и слепого следования, мощное групповое давление, управление информацией, временное отключение индивидуальности или приостановка действия критического здравого смысла, поощрение полной зависимости от группы и боязни её покинуть и т. д.), предназначенные для того, чтобы способствовать реализации целей лидеров группы с фактическим или возможным ущербом для членов данной организации, их семей или обще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оды воздействия на людей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мывание мозгов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котики, сек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овые «радения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свободного време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ие внешних контактов и п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евять сатанинских заповед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Вседозволен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Животное существован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Ничем не замутненная мудрост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Доброта только к тем, кто этого заслуживает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сти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Ответственность только по отношению к ответстве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Животная природа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овершение всех так называемых грехов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Лучший друг церкви тот, кто ее постоянно использует в своих цел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бразе Эмо сочетается самобытность прически, макияжа и,, как правило черного и розового. На майках зачастую изображены черепа, разбитое сердце либо герои мультфиль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Субкультура ЭМО"/>
          <p:cNvPicPr/>
          <p:nvPr/>
        </p:nvPicPr>
        <p:blipFill>
          <a:blip r:embed="rId1"/>
          <a:stretch/>
        </p:blipFill>
        <p:spPr>
          <a:xfrm>
            <a:off x="5245200" y="1989000"/>
            <a:ext cx="3068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о предпочитают носить жакеты «детских размеров», свитера с вырезом V-образной формы или с поперечной полосой все тех же розово-черных цве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83080" y="2185920"/>
            <a:ext cx="279396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В обуви эмо предпочитают кеды либо тряпичные тапочки – слипы. Среди прочих признаков присутствуют полосатые гетры на девушках эмо, узкие джинсы на эмо-боях, широкий пояс, сумка через плечо с множеством знач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Субкультура ЭМО"/>
          <p:cNvPicPr/>
          <p:nvPr/>
        </p:nvPicPr>
        <p:blipFill>
          <a:blip r:embed="rId1"/>
          <a:stretch/>
        </p:blipFill>
        <p:spPr>
          <a:xfrm>
            <a:off x="5292720" y="1989000"/>
            <a:ext cx="30416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1274265304_odezhda" descr="Субкультура ЭМО"/>
          <p:cNvPicPr/>
          <p:nvPr/>
        </p:nvPicPr>
        <p:blipFill>
          <a:blip r:embed="rId2"/>
          <a:stretch/>
        </p:blipFill>
        <p:spPr>
          <a:xfrm>
            <a:off x="5292720" y="198900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мо и го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о отличает романтизм и акцент на возвышенной любви. Внимание эмо чаще обращено на глубокие личные переживания, чем на общественные события, эмо ненавидят себ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ты ненавидя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арактерный внешний вид гот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ёрная одежда.Чёрные длинные волосы. Лицо неестественно бледное Высокие шнурованные ботинки, сапоги или другая неформальная обув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2270160"/>
            <a:ext cx="42116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0:18Z</dcterms:created>
  <dc:creator>Учитель</dc:creator>
  <dc:description/>
  <dc:language>en-US</dc:language>
  <cp:lastModifiedBy>Учитель</cp:lastModifiedBy>
  <dcterms:modified xsi:type="dcterms:W3CDTF">2012-01-18T13:21:32Z</dcterms:modified>
  <cp:revision>3</cp:revision>
  <dc:subject/>
  <dc:title>Диструктивные организации</dc:title>
</cp:coreProperties>
</file>