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202-21ED-4625-B96A-6E065EE5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DA4-F6E7-420B-8C79-11C8C11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130-FBF8-4B90-AA56-E3AA688F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FBA-B70D-4F88-90C2-32F51252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029B-EDC1-4E05-9240-AC255E90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2F05-327D-4008-BB82-4875F38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6182-0D25-40BC-998B-8A98043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A250-0F71-47D0-A298-73BCE55A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DFE-4478-436A-8483-60EC3333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ECA6-BD3F-453F-B8F0-C1780AA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52A-03E2-4831-ABB0-2D05131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90D-4186-4B95-AB69-981B0F97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D4E7-9E1C-49A8-95D7-E22C35F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CE1E-FF6A-475A-A8CD-3319FDB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43B5-78CA-4040-8C62-D1D8FEF6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B2AA-3BD4-4D71-8256-AF34FDAB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FD39-853B-40F0-BCC9-5F78A627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D2-B0AE-4C06-BC03-FBF78FD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7A6-E1E2-4665-A1FB-9BD82CE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863-3118-4708-810C-ED5F5DE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405-D042-42FD-9E0E-3D7B5407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9E5-4E48-41C8-9DA6-FCBDD9B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516-E846-44E5-9621-34521D2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CE4-4553-4184-BFB3-D2603AC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157-591B-4F56-8981-C1A146BC24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E780-D374-4AF3-8B18-B8500498EC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Деструктивные</a:t>
            </a:r>
            <a:br>
              <a:rPr sz="6600"/>
            </a:b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организации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ёрный корсет, облегающие чёрные нарукавники и чёрная юбка-макси (для девушек), одежда под старину, клешеные рукава, кожан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8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структивная организ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руктивная организация — это группа или движение, демонстрирующая значительную, глубокую или чрезмерную приверженность либо увлечённость, преданность определённому человеку, идее или вещи и использующие неэтичные манипулятивные методики убеждения и управления (например, изоляция от бывших друзей и семьи, истощение, применение специальных методов, разработанных с целью усиления внушаемости и слепого следования, мощное групповое давление, управление информацией, временное отключение индивидуальности или приостановка действия критического здравого смысла, поощрение полной зависимости от группы и боязни её покинуть и т. д.), предназначенные для того, чтобы способствовать реализации целей лидеров группы с фактическим или возможным ущербом для членов данной организации, их семей или общ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оды воздействия на люде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мывание мозгов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тики, сек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овые «радения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ного време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е внешних контактов и п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вять сатанинских заповед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Вседозволен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ое существова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ичем не замутненная мудрост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Доброта только к тем, кто этого заслуживает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сти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Ответственность только по отношению к ответств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ая природа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овершение всех так называемых грехов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Лучший друг церкви тот, кто ее постоянно использует в своих цел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бразе Эмо сочетается самобытность прически, макияжа и,, как правило черного и розового. На майках зачастую изображены черепа, разбитое сердце либо герои мультфиль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Субкультура ЭМО"/>
          <p:cNvPicPr/>
          <p:nvPr/>
        </p:nvPicPr>
        <p:blipFill>
          <a:blip r:embed="rId1"/>
          <a:stretch/>
        </p:blipFill>
        <p:spPr>
          <a:xfrm>
            <a:off x="5245200" y="1989000"/>
            <a:ext cx="3068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предпочитают носить жакеты «детских размеров», свитера с вырезом V-образной формы или с поперечной полосой все тех же розово-черных цве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83080" y="2185920"/>
            <a:ext cx="279396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В обуви эмо предпочитают кеды либо тряпичные тапочки – слипы. Среди прочих признаков присутствуют полосатые гетры на девушках эмо, узкие джинсы на эмо-боях, широкий пояс, сумка через плечо с множеством знач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Субкультура ЭМО"/>
          <p:cNvPicPr/>
          <p:nvPr/>
        </p:nvPicPr>
        <p:blipFill>
          <a:blip r:embed="rId1"/>
          <a:stretch/>
        </p:blipFill>
        <p:spPr>
          <a:xfrm>
            <a:off x="5292720" y="1989000"/>
            <a:ext cx="30416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1274265304_odezhda" descr="Субкультура ЭМО"/>
          <p:cNvPicPr/>
          <p:nvPr/>
        </p:nvPicPr>
        <p:blipFill>
          <a:blip r:embed="rId2"/>
          <a:stretch/>
        </p:blipFill>
        <p:spPr>
          <a:xfrm>
            <a:off x="5292720" y="19890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 и го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отличает романтизм и акцент на возвышенной любви. Внимание эмо чаще обращено на глубокие личные переживания, чем на общественные события, эмо ненавидят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ты ненавидя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ёрная одежда.Чёрные длинные волосы. Лицо неестественно бледное Высокие шнурованные ботинки, сапоги или другая неформальная обув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2270160"/>
            <a:ext cx="42116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0:18Z</dcterms:created>
  <dc:creator>Учитель</dc:creator>
  <dc:description/>
  <dc:language>en-US</dc:language>
  <cp:lastModifiedBy>Учитель</cp:lastModifiedBy>
  <dcterms:modified xsi:type="dcterms:W3CDTF">2012-01-18T13:21:32Z</dcterms:modified>
  <cp:revision>3</cp:revision>
  <dc:subject/>
  <dc:title>Диструктивные организации</dc:title>
</cp:coreProperties>
</file>