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0777-0231-45AC-90AF-8F2BD175B0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836-5B43-4FBE-8417-F7EBEDE9A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CB3-70B4-4F98-A439-2808FD600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F34-9E8D-4B17-AE41-30437FF7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CCE-E47E-4740-A37C-FE73D122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B97-101E-456C-8B4E-94C02B79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603-2450-476B-AD80-94EF542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8E4C-AD1C-4770-A04B-3321680C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0A1B-B942-4AF7-9156-96712807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811F-34C5-44C6-8EBD-09C7DE76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EA8-1C3C-41DF-ABBD-D37FE739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79A-C0CB-4FA1-BF63-4766BEC8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C64D-782F-4903-9E9E-2B73AC3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C3F0-4D0D-47A3-9855-35E9ADC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4AF-CCA2-4304-8AAB-B7FB978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23F6-F650-4C2C-97AB-03DE371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043A-F999-40FF-B2A4-7637361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001B-62FF-4511-84C2-3E337CF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CF09-B0EE-4013-BBB3-CAFB3D63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B6F7-A93D-423E-9657-34BC194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7F6F-9017-4917-A84D-B40FAFAC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2214-4731-44F3-A5B1-EB4F06E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7774-D35A-4695-9F82-0529191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4259-747A-4F07-9DEA-25E3C7A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D740-43AF-4177-B66D-A0CE7E1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B10-3105-45FF-B2BA-D357F34D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D151-34DC-4B28-8C19-1CB721A0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3E67-A1C2-4B58-B117-EE1B12E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2914-269F-4CC6-9D87-2DC7EE1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6FAB-058E-4426-8FBE-3FB9920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4DD1-DA5C-48CC-83B0-321C107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D8F8-EED9-422A-9460-6F4DD444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456F-E84B-4B8C-B337-09E7EA69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0064-6080-4EF4-9CC5-BE0031D5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9DE1-8299-4257-A9FB-8A7A537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6CAF-ED7A-425F-87A2-E70EE13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4E1-CE91-485B-93A8-21D809E2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D96D-FD17-4B5E-AC89-9AE23E5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E474-05E1-4D9E-B047-9A91283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C554-71A6-4E99-A83D-97CD2CD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5CC3-25B7-4845-AEFD-8CADEFC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11CB-90B2-4400-85D1-44D2D97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2F7A-EA8D-4AB9-8071-CE14EC7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AF86-C4BC-45B6-9102-A475AA2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A2AD-31B8-458E-94E2-CE224F0C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7AC61-A08F-4D8A-90EF-B9BCC64A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3D7-0537-4DAA-A4E7-F1FF14C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3CA-523B-4E72-9234-1DF0469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680-FB49-4CE9-BB0D-2B79FE9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E6A-423F-4446-9CF9-BA5D429E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9F1-5334-4B42-8E8D-5F8230F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B45-8D4C-4AEB-AC01-ADD1AA0083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2FE-BE33-41A2-8761-C3928FEFD41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8F64-5ACD-4B49-85DE-3B38956FCCF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EFD-53D2-4B1B-A221-83816A7F02E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1706400" y="4492800"/>
            <a:ext cx="7102800" cy="1444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714240" y="3214800"/>
            <a:ext cx="7858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Буллин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C:\Users\Наталия\Desktop\image-bullying.jpg"/>
          <p:cNvPicPr/>
          <p:nvPr/>
        </p:nvPicPr>
        <p:blipFill>
          <a:blip r:embed="rId2"/>
          <a:stretch/>
        </p:blipFill>
        <p:spPr>
          <a:xfrm>
            <a:off x="2666880" y="260280"/>
            <a:ext cx="41371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ДОКУМЕНТЫ\НАСИЛИЕ В ШКОЛЕ\bully1~s600x600.jpg"/>
          <p:cNvPicPr/>
          <p:nvPr/>
        </p:nvPicPr>
        <p:blipFill>
          <a:blip r:embed="rId1"/>
          <a:stretch/>
        </p:blipFill>
        <p:spPr>
          <a:xfrm>
            <a:off x="3000240" y="2714760"/>
            <a:ext cx="3357720" cy="23112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376360" y="3071880"/>
            <a:ext cx="45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сильники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4"/>
          <p:cNvCxnSpPr>
            <a:endCxn id="234" idx="0"/>
          </p:cNvCxnSpPr>
          <p:nvPr/>
        </p:nvCxnSpPr>
        <p:spPr>
          <a:xfrm>
            <a:off x="4929120" y="3785760"/>
            <a:ext cx="210888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785840" y="1999800"/>
            <a:ext cx="189468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6"/>
          <p:cNvCxnSpPr/>
          <p:nvPr/>
        </p:nvCxnSpPr>
        <p:spPr>
          <a:xfrm flipH="1">
            <a:off x="2499480" y="3713760"/>
            <a:ext cx="17154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7"/>
          <p:cNvCxnSpPr/>
          <p:nvPr/>
        </p:nvCxnSpPr>
        <p:spPr>
          <a:xfrm flipH="1" flipV="1">
            <a:off x="2214720" y="1713960"/>
            <a:ext cx="20718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8"/>
          <p:cNvCxnSpPr/>
          <p:nvPr/>
        </p:nvCxnSpPr>
        <p:spPr>
          <a:xfrm flipH="1">
            <a:off x="3857400" y="3857400"/>
            <a:ext cx="7149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Прямоугольник 11"/>
          <p:cNvSpPr/>
          <p:nvPr/>
        </p:nvSpPr>
        <p:spPr>
          <a:xfrm>
            <a:off x="857160" y="42148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4929120" y="10717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, в которых у матери отмечается негативное отношение 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3"/>
          <p:cNvSpPr/>
          <p:nvPr/>
        </p:nvSpPr>
        <p:spPr>
          <a:xfrm>
            <a:off x="785880" y="7858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стные авторитар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4"/>
          <p:cNvSpPr/>
          <p:nvPr/>
        </p:nvSpPr>
        <p:spPr>
          <a:xfrm>
            <a:off x="5429160" y="5286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конфликтными семейными отнош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1"/>
          <p:cNvSpPr/>
          <p:nvPr/>
        </p:nvSpPr>
        <p:spPr>
          <a:xfrm>
            <a:off x="642960" y="5143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генетической предрасположенностью к наси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G:\ДОКУМЕНТЫ\НАСИЛИЕ В ШКОЛЕ\bullyL2810_468x350.jpg"/>
          <p:cNvPicPr/>
          <p:nvPr/>
        </p:nvPicPr>
        <p:blipFill>
          <a:blip r:embed="rId1"/>
          <a:stretch/>
        </p:blipFill>
        <p:spPr>
          <a:xfrm>
            <a:off x="2857680" y="1285920"/>
            <a:ext cx="3311280" cy="2476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1857240" y="714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ствия школьн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2"/>
          <p:cNvCxnSpPr>
            <a:endCxn id="246" idx="0"/>
          </p:cNvCxnSpPr>
          <p:nvPr/>
        </p:nvCxnSpPr>
        <p:spPr>
          <a:xfrm>
            <a:off x="5286240" y="1928880"/>
            <a:ext cx="203760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3"/>
          <p:cNvCxnSpPr/>
          <p:nvPr/>
        </p:nvCxnSpPr>
        <p:spPr>
          <a:xfrm>
            <a:off x="4499640" y="1856880"/>
            <a:ext cx="214920" cy="20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4"/>
          <p:cNvCxnSpPr/>
          <p:nvPr/>
        </p:nvCxnSpPr>
        <p:spPr>
          <a:xfrm flipH="1">
            <a:off x="1856880" y="1856880"/>
            <a:ext cx="192960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Прямоугольник 5"/>
          <p:cNvSpPr/>
          <p:nvPr/>
        </p:nvSpPr>
        <p:spPr>
          <a:xfrm>
            <a:off x="357120" y="39290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е самооценки, зат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500280" y="4071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в учёбе и п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6286680" y="38577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ицидальные 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ли ребенок подтвердил Вам в разговоре, что он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жертв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буллинга.</a:t>
            </a:r>
            <a:br>
              <a:rPr sz="2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жит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тебе вер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ребенку понять, что Вы в состоянии помочь ему с его проблем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понять, что Вы пытаетесь понять его чувств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не твоя ви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дайте понять ребенку, что он не одинок в подобной ситуации: многие его сверстники сталкиваются с разными вариантами запугивания или агрессии в тот или иной момент взросле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это поможет  ребенку понять, что он правильно сделал, обратившись за помощью и поддержк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люблю т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постараюсь сделать так, чтобы тебе больше не угрожала 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ECC-1534-42D7-9FAA-FDBCFB35D68E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Технология реагирования на выявленные или установленные факты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буллинга</a:t>
            </a: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становлении факта либо подозрение на существование ситуации буллирования учитель сообщает о сложившейся ситуации представителю администр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дминистрация, совместно с социально-психологической службой школы принимает решение о неотложности реагирования на выявленный факт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епосредственная работа с жертвами и преследова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тратегия поведения взрослого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1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едагог дает понять пострадавшему, что он принимает его чувства как реальные и понятные для любого человека в такой ситуации. Здесь же: ребенок (подросток) не будет чувствовать себя одиноким и может рассчитывать на продолжение помощи и поддерж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2" descr="C:\Users\Наталия\Desktop\what-to-do-about-bullying-in-schools.jpg"/>
          <p:cNvPicPr/>
          <p:nvPr/>
        </p:nvPicPr>
        <p:blipFill>
          <a:blip r:embed="rId1"/>
          <a:stretch/>
        </p:blipFill>
        <p:spPr>
          <a:xfrm>
            <a:off x="3995640" y="1052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2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н нуждается в повышении самооценки. Оцените его смелость .«Ты проявил настоящую смелость, рассказав мне все о том, что произошло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C:\Users\Наталия\Desktop\30520_fullsize.jpg"/>
          <p:cNvPicPr/>
          <p:nvPr/>
        </p:nvPicPr>
        <p:blipFill>
          <a:blip r:embed="rId1"/>
          <a:stretch/>
        </p:blipFill>
        <p:spPr>
          <a:xfrm>
            <a:off x="4273560" y="210492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лагодарите ребенка за то, что он поделился с вами своими переживаниями, выразив желание встретиться с ним еще р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люблю тебя и постараюсь сделать так, чтобы тебе больше не угрожала опасность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C:\Users\Наталия\Desktop\i (3).jpg"/>
          <p:cNvPicPr/>
          <p:nvPr/>
        </p:nvPicPr>
        <p:blipFill>
          <a:blip r:embed="rId1"/>
          <a:stretch/>
        </p:blipFill>
        <p:spPr>
          <a:xfrm>
            <a:off x="5219640" y="1413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Памятка  для роди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советуйте вашему ребёнку, для того чтобы не попадать в группу риска по школьному буллингу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оказывать своё превосходство над други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ытаться выделяться среди других, если нет для этого пово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 хвастаться- ни своими успехами, ни своими электронными игрушками, ни своими родителя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2" descr="C:\Users\Наталия\Desktop\i.jpg"/>
          <p:cNvPicPr/>
          <p:nvPr/>
        </p:nvPicPr>
        <p:blipFill>
          <a:blip r:embed="rId1"/>
          <a:stretch/>
        </p:blipFill>
        <p:spPr>
          <a:xfrm>
            <a:off x="2700360" y="4292640"/>
            <a:ext cx="4248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0" y="-2594880"/>
            <a:ext cx="2580156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игнорировать решения класса, если они не противоречат его нравственным нор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(не плыть против течения своего коллекти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авать повода для унижения чувства собственного достоин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емонстрировать свою физическую сил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показывать свою слаб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своим даром,увлечениями надо научиться привлекать детей к себе, а не отталкивать от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одарённость вашего ребёнка должна быть направлена на благо класса и школы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ноклассники гордились, что они учатся вместе, а не завидовали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Users\Наталия\Desktop\i (2).jpg"/>
          <p:cNvPicPr/>
          <p:nvPr/>
        </p:nvPicPr>
        <p:blipFill>
          <a:blip r:embed="rId1"/>
          <a:stretch/>
        </p:blipFill>
        <p:spPr>
          <a:xfrm>
            <a:off x="1547640" y="3357720"/>
            <a:ext cx="54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285840" y="714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улл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500040" y="32266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жестокого обращения, когда физически или психически сильный индивид или группа таковых получает удовольствие, причиняя боль, насмехаясь, добиваясь покорности и уступок, завладевая имуществом более слабого. Пострадавшие чаще всего испытывают стыд и неуверенность в себе, но предпочитают не сообщать об издева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88200" y="-2921400"/>
            <a:ext cx="3187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демонстрировать свою элитар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35880" y="-3014640"/>
            <a:ext cx="823212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ужн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отыскать себе друг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среди одноклассников, а ещё лучше не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стоящих дру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йти общий язык с каждым учеником в кл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глашать одноклассников в г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уважать мнение своих однокласс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е пытаться всегда побеждать в своих спорах с ровес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проигрывать и уступать, если он, в самом деле, не пр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Наталия\Desktop\i (1).jpg"/>
          <p:cNvPicPr/>
          <p:nvPr/>
        </p:nvPicPr>
        <p:blipFill>
          <a:blip r:embed="rId1"/>
          <a:stretch/>
        </p:blipFill>
        <p:spPr>
          <a:xfrm>
            <a:off x="1979640" y="3417840"/>
            <a:ext cx="4753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283320" y="-2450880"/>
            <a:ext cx="78328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 конкретно могут сделать роди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бы повысить авторитет своего ребёнка в кругу однокласс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научи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ять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воих одноклассников, у которых тоже есть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наладить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контакты с учителями и однокласс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участвов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в классных мероприятиях, в которые вовлекаются и родите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C:\Users\Наталия\Desktop\homepage-slider-image-01.png"/>
          <p:cNvPicPr/>
          <p:nvPr/>
        </p:nvPicPr>
        <p:blipFill>
          <a:blip r:embed="rId1"/>
          <a:stretch/>
        </p:blipFill>
        <p:spPr>
          <a:xfrm>
            <a:off x="1763640" y="295272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70800" y="-2099880"/>
            <a:ext cx="8451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Если 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профилактические меры не помогли и ваш ребёнок оказался жертвой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буллинга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родители долж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ежде всего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нять истинную причи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ишедше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 н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убедиться, что ваш ребёнок действительно стал жертвой школьно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ллин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ить об этом учителю и школьному психолог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а найти пути выхода из сложившийся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если ребёнок был сильно напуган и потрясён случившимся, не отправлять его на следующий день в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 си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ережитом стрессе попытаться перевести ребёнка в другой класс или даже в другую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Наталия\Desktop\mother_child_talking_rex.jpg"/>
          <p:cNvPicPr/>
          <p:nvPr/>
        </p:nvPicPr>
        <p:blipFill>
          <a:blip r:embed="rId1"/>
          <a:stretch/>
        </p:blipFill>
        <p:spPr>
          <a:xfrm>
            <a:off x="2050920" y="2924280"/>
            <a:ext cx="55231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4"/>
          <p:cNvSpPr/>
          <p:nvPr/>
        </p:nvSpPr>
        <p:spPr>
          <a:xfrm>
            <a:off x="1071720" y="4357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57120" y="35712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булл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ая а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ловесный бул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уг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о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мог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реждение 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1258920" y="3416400"/>
            <a:ext cx="576108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школьного буллинга становятся дети, имеющие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ические недостат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поведени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внешност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ыжие волосы веснушки, оттопыренные уши, кривые ноги, особая форма головы, вес тела (полнота или худоба) и т.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940360" y="494172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892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развитые социальные навык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часто не имеют ни одного близкого друга и успешнее общаются со взрослыми, нежели со сверстник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ах перед школой,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неуспешность в учебе часто формирует у детей отрицательное отношение к школе в целом, страх посещения отдельных предметов, что воспринимается окружающими иногда как повышенная тревожность, неуверен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провоцируя агресси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тсутствие опыта жизни в коллективе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(домашние дет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олезни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– эпилепсию, тики, заикание, энурез (недержание мочи), энкопрез (недержание кала), нарушения речи – дислалия (косноязычие), дисграфия (нарушение письменной речи), дислексия (нарушение чтения), дискалькулия (нарушение способности к счету) и т. 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зкий интеллек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и трудности в обуч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14684744-izgoy"/>
          <p:cNvPicPr/>
          <p:nvPr/>
        </p:nvPicPr>
        <p:blipFill>
          <a:blip r:embed="rId1"/>
          <a:stretch/>
        </p:blipFill>
        <p:spPr>
          <a:xfrm>
            <a:off x="6084720" y="2781360"/>
            <a:ext cx="2589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оведение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жертвы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пределяется по следующим показателям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школьные принадлежности (учебники, тетради, личные вещи) часто бывают разбросаны по классу или спрятан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уроках ведет себя скрытно, боязливо, когда отвечает, в классе начинают распространяться шум, помехи, комментар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перемены, в столовой, держится в стороне от других школьников, скрывается, убегает от сверстников и старших школьников, старается находиться недалеко от учителей, взрослы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оскорбляют, дразнят, дают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других детей он реагирует глупой улыбкой, старается отшутиться, убежать, плач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 плохо со сверст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аздывает к началу занят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 поздно покидает школ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групповых игр, занятий, его игнорируют или выбирают последним.</a:t>
            </a:r>
            <a:r>
              <a:rPr b="1" lang="ru-RU" sz="28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bullying"/>
          <p:cNvPicPr/>
          <p:nvPr/>
        </p:nvPicPr>
        <p:blipFill>
          <a:blip r:embed="rId1"/>
          <a:stretch/>
        </p:blipFill>
        <p:spPr>
          <a:xfrm>
            <a:off x="5292720" y="465300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stock-photo-young-school-boy-bullying-another-in-school-playground-1641910"/>
          <p:cNvPicPr/>
          <p:nvPr/>
        </p:nvPicPr>
        <p:blipFill>
          <a:blip r:embed="rId2"/>
          <a:stretch/>
        </p:blipFill>
        <p:spPr>
          <a:xfrm>
            <a:off x="5796000" y="1714680"/>
            <a:ext cx="28083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505600" y="92880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тат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785880" y="19969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зарубежных и отечественных психологов, буллинг — явление достаточно распространенное в школе. До 10% детей регулярно (раз в неделю и чаще) и 55% эпизодически (время от времени) подвергаются издевательствам со стороны одноклассников. 26% матерей считают своих детей жертвами таких издеватель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090880" y="3571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школьного насил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60920" y="1500120"/>
            <a:ext cx="332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е напря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жение, снижение самооценк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8"/>
          <p:cNvCxnSpPr/>
          <p:nvPr/>
        </p:nvCxnSpPr>
        <p:spPr>
          <a:xfrm flipV="1">
            <a:off x="3642840" y="1571760"/>
            <a:ext cx="7866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Прямая со стрелкой 10"/>
          <p:cNvCxnSpPr/>
          <p:nvPr/>
        </p:nvCxnSpPr>
        <p:spPr>
          <a:xfrm>
            <a:off x="3642840" y="2428920"/>
            <a:ext cx="715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Прямоугольник 13"/>
          <p:cNvSpPr/>
          <p:nvPr/>
        </p:nvSpPr>
        <p:spPr>
          <a:xfrm>
            <a:off x="4572000" y="1285920"/>
            <a:ext cx="36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мешки, присвоение кличек, бесконечные замечания и необъективные оценки, высмеивание, унижение в присутствии других детей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4429080" y="2714760"/>
            <a:ext cx="4000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оржение, изоляция, отказ от общения с жертвой (с ребенком отказываются играть, заниматься, не хотят с ним сидеть за одной партой, не приглашают на дни рождения и т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214200" y="4286160"/>
            <a:ext cx="328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несение физической трав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>
            <a:off x="3643200" y="47149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Прямоугольник 22"/>
          <p:cNvSpPr/>
          <p:nvPr/>
        </p:nvSpPr>
        <p:spPr>
          <a:xfrm>
            <a:off x="5000760" y="435780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нанесение удара, шлепки, подзатыльники, порча и отнятие вещей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Children</cp:lastModifiedBy>
  <dcterms:modified xsi:type="dcterms:W3CDTF">2013-04-17T06:58:07Z</dcterms:modified>
  <cp:revision>78</cp:revision>
  <dc:subject/>
  <dc:title>Психологическая безопасность образовательной среды в ДОЛ</dc:title>
</cp:coreProperties>
</file>