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6DA-3A9A-43FB-AE11-C5251B3330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E92-05E2-4F45-9F1F-DC18F23A0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2AD3-CFF4-4A4D-AFEA-A521DA1B8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EBE-5646-4E6E-9B16-AD2F86FD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F43-B9A6-46F6-8A57-503CFA5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1BD-85CD-45EB-A632-BF278412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065-3188-4C09-8A4A-13DCED13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4704-8F3C-4485-BFC9-AECD5731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CB9E-1E2B-438D-9187-1B0F062A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CEC-FD88-4456-B287-7484C5DC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E2EF-9F58-4CFB-818E-F9267F0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645-E604-4826-9FEA-4891B760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A7A-18DD-4EEB-96EF-B832EB8D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2893-6851-4A60-9284-3468348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9AB-9010-4389-BB51-B18B3F7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07CA-9605-4E41-ADDC-A9A562A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DE80-A1E2-4DD0-9834-F7014AB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C030-72D0-4DD6-85AF-0AD85C2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B6D-D452-4BB4-8657-F30D765F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2DD-D88A-4200-B266-FA661944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16FC-8E46-4061-9D62-BA1BD16E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6C04-84F2-43A1-94FE-37B08D3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E6FC-4823-4D4D-A229-FDAD201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6877-FC48-46A6-ACAA-E37D0B8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EE40-91C4-4B55-9B27-8FC0A8E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3F9-E20D-4697-9974-5519DE5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E798-029B-4075-9695-6F86495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429C-75FD-40FB-B077-2B3635A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F346-AE9E-4D07-AF28-8403C84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F5EF-F904-4921-9767-B1883CE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2868-FB16-4C0E-9873-6968135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6399-B075-44F0-AD3F-755400DA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9BF4-3676-44E3-AE3F-364CEA7B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CE32-CEE7-4A1E-BAC6-3635044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ABFF-048C-472D-9428-4E1CC0B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500D-AAF8-4071-8F57-E887B1E6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F25-45BE-4B37-B5D6-3CF7625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C88F-08F5-41CB-855E-09604520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C9A9-0394-4144-95AA-44936EDA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A50B-8931-4640-9C3F-BF780DF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374A-116F-4362-9958-3A6B0AB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DF05-FE2D-458B-BF78-F48B713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3594-882A-49A8-A0C6-E23E652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F333-68E5-4FC8-AA1A-F320EA51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4E01-AEB5-4CED-B692-D176D3B6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4CE9-D9B9-490F-A6CC-13D31EE6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4FD-8AE2-47A2-AA85-E87AD17C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40F-FD53-43B6-8E63-59D6A3E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114-CDE8-4F19-99C3-739EA3E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546-8D4D-4146-B269-80F5906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466-2D68-4D7E-9F2C-5E5E035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930C-B0AE-4310-9D6C-DB2831468F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0279-41D1-4149-9D55-80FDF18C14A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E5BA-A66E-4245-84C2-CD016259EFE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4269-9805-43A6-AABD-5DD8C64C1E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1706400" y="4492800"/>
            <a:ext cx="7102800" cy="1444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714240" y="3214800"/>
            <a:ext cx="7858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Буллин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C:\Users\Наталия\Desktop\image-bullying.jpg"/>
          <p:cNvPicPr/>
          <p:nvPr/>
        </p:nvPicPr>
        <p:blipFill>
          <a:blip r:embed="rId2"/>
          <a:stretch/>
        </p:blipFill>
        <p:spPr>
          <a:xfrm>
            <a:off x="2666880" y="260280"/>
            <a:ext cx="41371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ДОКУМЕНТЫ\НАСИЛИЕ В ШКОЛЕ\bully1~s600x600.jpg"/>
          <p:cNvPicPr/>
          <p:nvPr/>
        </p:nvPicPr>
        <p:blipFill>
          <a:blip r:embed="rId1"/>
          <a:stretch/>
        </p:blipFill>
        <p:spPr>
          <a:xfrm>
            <a:off x="3000240" y="2714760"/>
            <a:ext cx="3357720" cy="23112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376360" y="3071880"/>
            <a:ext cx="45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сильники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4"/>
          <p:cNvCxnSpPr>
            <a:endCxn id="234" idx="0"/>
          </p:cNvCxnSpPr>
          <p:nvPr/>
        </p:nvCxnSpPr>
        <p:spPr>
          <a:xfrm>
            <a:off x="4929120" y="3785760"/>
            <a:ext cx="210888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785840" y="1999800"/>
            <a:ext cx="189468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6"/>
          <p:cNvCxnSpPr/>
          <p:nvPr/>
        </p:nvCxnSpPr>
        <p:spPr>
          <a:xfrm flipH="1">
            <a:off x="2499480" y="3713760"/>
            <a:ext cx="17154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7"/>
          <p:cNvCxnSpPr/>
          <p:nvPr/>
        </p:nvCxnSpPr>
        <p:spPr>
          <a:xfrm flipH="1" flipV="1">
            <a:off x="2214720" y="1713960"/>
            <a:ext cx="20718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8"/>
          <p:cNvCxnSpPr/>
          <p:nvPr/>
        </p:nvCxnSpPr>
        <p:spPr>
          <a:xfrm flipH="1">
            <a:off x="3857400" y="3857400"/>
            <a:ext cx="7149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Прямоугольник 11"/>
          <p:cNvSpPr/>
          <p:nvPr/>
        </p:nvSpPr>
        <p:spPr>
          <a:xfrm>
            <a:off x="857160" y="42148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4929120" y="10717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, в которых у матери отмечается негативное отношение 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3"/>
          <p:cNvSpPr/>
          <p:nvPr/>
        </p:nvSpPr>
        <p:spPr>
          <a:xfrm>
            <a:off x="785880" y="7858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стные авторитар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4"/>
          <p:cNvSpPr/>
          <p:nvPr/>
        </p:nvSpPr>
        <p:spPr>
          <a:xfrm>
            <a:off x="5429160" y="5286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конфликтными семейными отнош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1"/>
          <p:cNvSpPr/>
          <p:nvPr/>
        </p:nvSpPr>
        <p:spPr>
          <a:xfrm>
            <a:off x="642960" y="5143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и с генетической предрасположенностью к наси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G:\ДОКУМЕНТЫ\НАСИЛИЕ В ШКОЛЕ\bullyL2810_468x350.jpg"/>
          <p:cNvPicPr/>
          <p:nvPr/>
        </p:nvPicPr>
        <p:blipFill>
          <a:blip r:embed="rId1"/>
          <a:stretch/>
        </p:blipFill>
        <p:spPr>
          <a:xfrm>
            <a:off x="2857680" y="1285920"/>
            <a:ext cx="3311280" cy="2476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1857240" y="714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ледствия школьн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2"/>
          <p:cNvCxnSpPr>
            <a:endCxn id="246" idx="0"/>
          </p:cNvCxnSpPr>
          <p:nvPr/>
        </p:nvCxnSpPr>
        <p:spPr>
          <a:xfrm>
            <a:off x="5286240" y="1928880"/>
            <a:ext cx="203760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3"/>
          <p:cNvCxnSpPr/>
          <p:nvPr/>
        </p:nvCxnSpPr>
        <p:spPr>
          <a:xfrm>
            <a:off x="4499640" y="1856880"/>
            <a:ext cx="214920" cy="20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4"/>
          <p:cNvCxnSpPr/>
          <p:nvPr/>
        </p:nvCxnSpPr>
        <p:spPr>
          <a:xfrm flipH="1">
            <a:off x="1856880" y="1856880"/>
            <a:ext cx="192960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Прямоугольник 5"/>
          <p:cNvSpPr/>
          <p:nvPr/>
        </p:nvSpPr>
        <p:spPr>
          <a:xfrm>
            <a:off x="357120" y="392904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е самооценки, зат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500280" y="4071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в учёбе и п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6286680" y="38577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ицидальные 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ли ребенок подтвердил Вам в разговоре, что он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жертв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буллинга.</a:t>
            </a:r>
            <a:br>
              <a:rPr sz="2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жит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тебе вер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ребенку понять, что Вы в состоянии помочь ему с его проблем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понять, что Вы пытаетесь понять его чувств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не твоя ви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дайте понять ребенку, что он не одинок в подобной ситуации: многие его сверстники сталкиваются с разными вариантами запугивания или агрессии в тот или иной момент взросле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это поможет  ребенку понять, что он правильно сделал, обратившись за помощью и поддержко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 люблю т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постараюсь сделать так, чтобы тебе больше не угрожала 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AD3C-E923-4D92-8B05-685D8C902606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Технология реагирования на выявленные или установленные факты </a:t>
            </a: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буллинга</a:t>
            </a:r>
            <a:r>
              <a:rPr b="0" lang="ru-RU" sz="33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становлении факта либо подозрение на существование ситуации буллирования учитель сообщает о сложившейся ситуации представителю администр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дминистрация, совместно с социально-психологической службой школы принимает решение о неотложности реагирования на выявленный факт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епосредственная работа с жертвами и преследова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делать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тратегия поведения взрослого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1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Педагог дает понять пострадавшему, что он принимает его чувства как реальные и понятные для любого человека в такой ситуации. Здесь же: ребенок (подросток) не будет чувствовать себя одиноким и может рассчитывать на продолжение помощи и поддерж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2" descr="C:\Users\Наталия\Desktop\what-to-do-about-bullying-in-schools.jpg"/>
          <p:cNvPicPr/>
          <p:nvPr/>
        </p:nvPicPr>
        <p:blipFill>
          <a:blip r:embed="rId1"/>
          <a:stretch/>
        </p:blipFill>
        <p:spPr>
          <a:xfrm>
            <a:off x="3995640" y="1052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2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н нуждается в повышении самооценки. Оцените его смелость .«Ты проявил настоящую смелость, рассказав мне все о том, что произошло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C:\Users\Наталия\Desktop\30520_fullsize.jpg"/>
          <p:cNvPicPr/>
          <p:nvPr/>
        </p:nvPicPr>
        <p:blipFill>
          <a:blip r:embed="rId1"/>
          <a:stretch/>
        </p:blipFill>
        <p:spPr>
          <a:xfrm>
            <a:off x="4273560" y="210492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лагодарите ребенка за то, что он поделился с вами своими переживаниями, выразив желание встретиться с ним еще р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люблю тебя и постараюсь сделать так, чтобы тебе больше не угрожала опасность (это поможет  ребенку с надеждой посмотреть в будущее и ощутить защиту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C:\Users\Наталия\Desktop\i (3).jpg"/>
          <p:cNvPicPr/>
          <p:nvPr/>
        </p:nvPicPr>
        <p:blipFill>
          <a:blip r:embed="rId1"/>
          <a:stretch/>
        </p:blipFill>
        <p:spPr>
          <a:xfrm>
            <a:off x="5219640" y="1413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Памятка  для роди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советуйте вашему ребёнку, для того чтобы не попадать в группу риска по школьному буллингу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оказывать своё превосходство над други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пытаться выделяться среди других, если нет для этого пово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-не  хвастаться- ни своими успехами, ни своими электронными игрушками, ни своими родителям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2" descr="C:\Users\Наталия\Desktop\i.jpg"/>
          <p:cNvPicPr/>
          <p:nvPr/>
        </p:nvPicPr>
        <p:blipFill>
          <a:blip r:embed="rId1"/>
          <a:stretch/>
        </p:blipFill>
        <p:spPr>
          <a:xfrm>
            <a:off x="2700360" y="4292640"/>
            <a:ext cx="4248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0" y="-2594880"/>
            <a:ext cx="2580156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игнорировать решения класса, если они не противоречат его нравственным нор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(не плыть против течения своего коллекти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авать повода для унижения чувства собственного достоин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демонстрировать свою физическую сил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не показывать свою слаб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своим даром,увлечениями надо научиться привлекать детей к себе, а не отталкивать от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одарённость вашего ребёнка должна быть направлена на благо класса и школы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ноклассники гордились, что они учатся вместе, а не завидовали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Users\Наталия\Desktop\i (2).jpg"/>
          <p:cNvPicPr/>
          <p:nvPr/>
        </p:nvPicPr>
        <p:blipFill>
          <a:blip r:embed="rId1"/>
          <a:stretch/>
        </p:blipFill>
        <p:spPr>
          <a:xfrm>
            <a:off x="1547640" y="3357720"/>
            <a:ext cx="54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285840" y="714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улл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500040" y="32266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жестокого обращения, когда физически или психически сильный индивид или группа таковых получает удовольствие, причиняя боль, насмехаясь, добиваясь покорности и уступок, завладевая имуществом более слабого. Пострадавшие чаще всего испытывают стыд и неуверенность в себе, но предпочитают не сообщать об издева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88200" y="-2921400"/>
            <a:ext cx="3187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демонстрировать свою элитар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335880" y="-3014640"/>
            <a:ext cx="823212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ужн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отыскать себе друг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среди одноклассников, а ещё лучше не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стоящих друз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йти общий язык с каждым учеником в кл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глашать одноклассников в г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уважать мнение своих однокласс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е пытаться всегда побеждать в своих спорах с ровес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*научиться проигрывать и уступать, если он, в самом деле, не пр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Наталия\Desktop\i (1).jpg"/>
          <p:cNvPicPr/>
          <p:nvPr/>
        </p:nvPicPr>
        <p:blipFill>
          <a:blip r:embed="rId1"/>
          <a:stretch/>
        </p:blipFill>
        <p:spPr>
          <a:xfrm>
            <a:off x="1979640" y="3417840"/>
            <a:ext cx="4753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283320" y="-2450880"/>
            <a:ext cx="78328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 конкретно могут сделать роди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чтобы повысить авторитет своего ребёнка в кругу однокласс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научи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ять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воих одноклассников, у которых тоже есть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наладить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контакты с учителями и однокласс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участвов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в классных мероприятиях, в которые вовлекаются и родите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C:\Users\Наталия\Desktop\homepage-slider-image-01.png"/>
          <p:cNvPicPr/>
          <p:nvPr/>
        </p:nvPicPr>
        <p:blipFill>
          <a:blip r:embed="rId1"/>
          <a:stretch/>
        </p:blipFill>
        <p:spPr>
          <a:xfrm>
            <a:off x="1763640" y="295272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70800" y="-2099880"/>
            <a:ext cx="8451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Если 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профилактические меры не помогли и ваш ребёнок оказался жертвой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буллинга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Times New Roman"/>
              </a:rPr>
              <a:t>родители долж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ежде всего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нять истинную причин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ишедше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 н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убедиться, что ваш ребёнок действительно стал жертвой школьног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ллин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ить об этом учителю и школьному психолог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сообща найти пути выхода из сложившийся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если ребёнок был сильно напуган и потрясён случившимся, не отправлять его на следующий день в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*при си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ережитом стрессе попытаться перевести ребёнка в другой класс или даже в другую шко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Наталия\Desktop\mother_child_talking_rex.jpg"/>
          <p:cNvPicPr/>
          <p:nvPr/>
        </p:nvPicPr>
        <p:blipFill>
          <a:blip r:embed="rId1"/>
          <a:stretch/>
        </p:blipFill>
        <p:spPr>
          <a:xfrm>
            <a:off x="2050920" y="2924280"/>
            <a:ext cx="55231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4"/>
          <p:cNvSpPr/>
          <p:nvPr/>
        </p:nvSpPr>
        <p:spPr>
          <a:xfrm>
            <a:off x="1071720" y="4357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57120" y="35712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булл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ая а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ловесный бул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уг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о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мог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реждение 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1258920" y="3416400"/>
            <a:ext cx="576108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школьного буллинга становятся дети, имеющие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ические недостат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поведени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внешност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ыжие волосы веснушки, оттопыренные уши, кривые ноги, особая форма головы, вес тела (полнота или худоба) и т.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940360" y="494172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892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развитые социальные навык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часто не имеют ни одного близкого друга и успешнее общаются со взрослыми, нежели со сверстник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ах перед школой,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неуспешность в учебе часто формирует у детей отрицательное отношение к школе в целом, страх посещения отдельных предметов, что воспринимается окружающими иногда как повышенная тревожность, неуверен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провоцируя агресси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тсутствие опыта жизни в коллективе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(домашние дет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олезни 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– эпилепсию, тики, заикание, энурез (недержание мочи), энкопрез (недержание кала), нарушения речи – дислалия (косноязычие), дисграфия (нарушение письменной речи), дислексия (нарушение чтения), дискалькулия (нарушение способности к счету) и т. 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зкий интеллек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и трудности в обуч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14684744-izgoy"/>
          <p:cNvPicPr/>
          <p:nvPr/>
        </p:nvPicPr>
        <p:blipFill>
          <a:blip r:embed="rId1"/>
          <a:stretch/>
        </p:blipFill>
        <p:spPr>
          <a:xfrm>
            <a:off x="6084720" y="2781360"/>
            <a:ext cx="2589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оведение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жертвы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пределяется по следующим показателям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школьные принадлежности (учебники, тетради, личные вещи) часто бывают разбросаны по классу или спрятан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уроках ведет себя скрытно, боязливо, когда отвечает, в классе начинают распространяться шум, помехи, комментар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перемены, в столовой, держится в стороне от других школьников, скрывается, убегает от сверстников и старших школьников, старается находиться недалеко от учителей, взрослы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оскорбляют, дразнят, дают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других детей он реагирует глупой улыбкой, старается отшутиться, убежать, плач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 плохо со сверст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аздывает к началу занят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 поздно покидает школ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групповых игр, занятий, его игнорируют или выбирают последним.</a:t>
            </a:r>
            <a:r>
              <a:rPr b="1" lang="ru-RU" sz="28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bullying"/>
          <p:cNvPicPr/>
          <p:nvPr/>
        </p:nvPicPr>
        <p:blipFill>
          <a:blip r:embed="rId1"/>
          <a:stretch/>
        </p:blipFill>
        <p:spPr>
          <a:xfrm>
            <a:off x="5292720" y="465300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stock-photo-young-school-boy-bullying-another-in-school-playground-1641910"/>
          <p:cNvPicPr/>
          <p:nvPr/>
        </p:nvPicPr>
        <p:blipFill>
          <a:blip r:embed="rId2"/>
          <a:stretch/>
        </p:blipFill>
        <p:spPr>
          <a:xfrm>
            <a:off x="5796000" y="1714680"/>
            <a:ext cx="28083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505600" y="92880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тат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785880" y="19969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зарубежных и отечественных психологов, буллинг — явление достаточно распространенное в школе. До 10% детей регулярно (раз в неделю и чаще) и 55% эпизодически (время от времени) подвергаются издевательствам со стороны одноклассников. 26% матерей считают своих детей жертвами таких издеватель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090880" y="357120"/>
            <a:ext cx="57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школьного насил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60920" y="1500120"/>
            <a:ext cx="332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е напря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жение, снижение самооценк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8"/>
          <p:cNvCxnSpPr/>
          <p:nvPr/>
        </p:nvCxnSpPr>
        <p:spPr>
          <a:xfrm flipV="1">
            <a:off x="3642840" y="1571760"/>
            <a:ext cx="7866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Прямая со стрелкой 10"/>
          <p:cNvCxnSpPr/>
          <p:nvPr/>
        </p:nvCxnSpPr>
        <p:spPr>
          <a:xfrm>
            <a:off x="3642840" y="2428920"/>
            <a:ext cx="715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Прямоугольник 13"/>
          <p:cNvSpPr/>
          <p:nvPr/>
        </p:nvSpPr>
        <p:spPr>
          <a:xfrm>
            <a:off x="4572000" y="1285920"/>
            <a:ext cx="36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мешки, присвоение кличек, бесконечные замечания и необъективные оценки, высмеивание, унижение в присутствии других детей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4429080" y="2714760"/>
            <a:ext cx="4000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оржение, изоляция, отказ от общения с жертвой (с ребенком отказываются играть, заниматься, не хотят с ним сидеть за одной партой, не приглашают на дни рождения и т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214200" y="4286160"/>
            <a:ext cx="328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несение физической трав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>
            <a:off x="3643200" y="47149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Прямоугольник 22"/>
          <p:cNvSpPr/>
          <p:nvPr/>
        </p:nvSpPr>
        <p:spPr>
          <a:xfrm>
            <a:off x="5000760" y="435780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ение, нанесение удара, шлепки, подзатыльники, порча и отнятие вещей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Children</cp:lastModifiedBy>
  <dcterms:modified xsi:type="dcterms:W3CDTF">2013-04-17T06:58:07Z</dcterms:modified>
  <cp:revision>78</cp:revision>
  <dc:subject/>
  <dc:title>Психологическая безопасность образовательной среды в ДОЛ</dc:title>
</cp:coreProperties>
</file>