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2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12.jpeg" ContentType="image/jpeg"/>
  <Override PartName="/ppt/media/image7.jpeg" ContentType="image/jpeg"/>
  <Override PartName="/ppt/media/image6.png" ContentType="image/png"/>
  <Override PartName="/ppt/media/image23.jpeg" ContentType="image/jpeg"/>
  <Override PartName="/ppt/media/image18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6.jpeg" ContentType="image/jpeg"/>
  <Override PartName="/ppt/media/image14.jpeg" ContentType="image/jpeg"/>
  <Override PartName="/ppt/media/image4.jpeg" ContentType="image/jpeg"/>
  <Override PartName="/ppt/media/image2.png" ContentType="image/png"/>
  <Override PartName="/ppt/media/image1.jpeg" ContentType="image/jpeg"/>
  <Override PartName="/ppt/media/image22.jpeg" ContentType="image/jpeg"/>
  <Override PartName="/ppt/media/image17.jpeg" ContentType="image/jpeg"/>
  <Override PartName="/ppt/media/image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9F1C7-8D59-44B6-8841-410384D66D6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7DE3A-B200-4A41-B2B8-742D281DDCA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4B9BD-64C0-4D05-A495-07B1332D7F3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A9463-F70C-4803-B9D7-00E74BF36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59588-99B7-441A-8275-16B1ADA37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0CA8C-1094-4EA0-8FC1-38CFFBC5E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DB3AA-B165-4CE0-8FE7-BA837B757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C9734-387E-4F9C-B611-201306AF3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71319-F94E-4BD2-863E-2E98FAD86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A9D5B-DF8C-4C8A-B058-B635B6804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CB4D2-1489-4367-9C42-9B6FE01D7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2D14F-EB47-4A9F-9492-67A17E22A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1A0E2-14BF-4945-A8BC-136C3E585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9505D-C7A8-4B60-9276-815836246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CFEC4-4B1D-4500-BBE5-80A1B39C0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15752-FD26-4FC2-8C96-CAADBBB54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A4383-6B5E-4BEC-A8CB-2BFB38270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787DA-6AE7-4419-9E58-8D4216533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5001C-1D3B-4673-AE4A-5311C2C21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7A8A9-2E76-43D2-8176-CD9469B0A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6DF850-2E78-41F9-B110-86E10D6DB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FAD543-FC9E-45DC-9F8A-96D6AF5F0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525932-F2E8-4811-AD86-516F10648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8B44C6-773C-47F9-847B-0B1C669F7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8FF37C-DE9D-4122-9085-096FCD0B0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610CB-A831-4621-900D-B6CF60154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4245EC-5B0D-42DC-AF92-10AE1D311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172F07-2A28-4002-B2B9-D130DF6D9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E2DA81-BC3A-48BD-B883-3C8BA4957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9176AE-902A-4410-9BC2-E3274953C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2099E6-18DA-4BB5-AFEC-90B3E4DBF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037E42-EADB-43FF-AFD5-7DBF22566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CFAE5D-EF1D-4BC4-9E5E-3FF4CEC9E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03A50C-3777-4625-B6C2-7FB6E2F97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3FE1B0-F194-4E4C-9B7C-6D79CC784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AACAF7-7458-4B45-B28B-4B59EA985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F4EBD-FD58-44E7-835D-B30F25F99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6AF35C-5C4D-4044-AE45-70850530E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72E3CF-295C-437C-872B-A9FF9E0E5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DDF41F-550D-4775-ADA6-74A91CC2C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E8E246-3392-4E0F-93FA-8FB1D7171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E5135D-45B2-4732-8D57-7C4C1822F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AAD7FA-99D8-4C87-AF3A-F65958A2B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614769-1390-4B38-A37D-789696958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5DA207-F3CA-42F7-8EDF-4B026A25E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9C1CF9-1B31-4DC5-8F22-CD8F2B021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29DFA-9883-4EE6-B8DD-BBBB302F6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2427B-14C7-4C27-BC99-6AAE0F583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0778E-C00F-4372-B396-7BC2C8F9C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9DD6D-B720-47A8-A651-0D2037E06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A6D02-9549-4275-A227-D5B6AE5AB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E8DB5-142C-4A48-AE3E-34080DD9F299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20618-39B9-417B-8D0B-9A627B8FF312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A41D7-2292-4296-8B1C-9DB6E0EF7A98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1DF87-FFED-42F4-8FA8-A5D3BFAF1909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Rectangle 2" descr=""/>
          <p:cNvPicPr/>
          <p:nvPr/>
        </p:nvPicPr>
        <p:blipFill>
          <a:blip r:embed="rId1"/>
          <a:stretch/>
        </p:blipFill>
        <p:spPr>
          <a:xfrm>
            <a:off x="1706400" y="4492800"/>
            <a:ext cx="7102800" cy="1444320"/>
          </a:xfrm>
          <a:prstGeom prst="rect">
            <a:avLst/>
          </a:prstGeom>
          <a:ln w="0">
            <a:noFill/>
          </a:ln>
        </p:spPr>
      </p:pic>
      <p:sp>
        <p:nvSpPr>
          <p:cNvPr id="203" name="Text Box 6"/>
          <p:cNvSpPr/>
          <p:nvPr/>
        </p:nvSpPr>
        <p:spPr>
          <a:xfrm>
            <a:off x="714240" y="3214800"/>
            <a:ext cx="7858440" cy="158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00"/>
                </a:solidFill>
                <a:latin typeface="Times New Roman"/>
              </a:rPr>
              <a:t>Буллинг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Прямоугольник 6"/>
          <p:cNvSpPr/>
          <p:nvPr/>
        </p:nvSpPr>
        <p:spPr>
          <a:xfrm>
            <a:off x="2357280" y="2571840"/>
            <a:ext cx="564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6" descr="C:\Users\Наталия\Desktop\image-bullying.jpg"/>
          <p:cNvPicPr/>
          <p:nvPr/>
        </p:nvPicPr>
        <p:blipFill>
          <a:blip r:embed="rId2"/>
          <a:stretch/>
        </p:blipFill>
        <p:spPr>
          <a:xfrm>
            <a:off x="2666880" y="260280"/>
            <a:ext cx="4137120" cy="288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2" descr="G:\ДОКУМЕНТЫ\НАСИЛИЕ В ШКОЛЕ\bully1~s600x600.jpg"/>
          <p:cNvPicPr/>
          <p:nvPr/>
        </p:nvPicPr>
        <p:blipFill>
          <a:blip r:embed="rId1"/>
          <a:stretch/>
        </p:blipFill>
        <p:spPr>
          <a:xfrm>
            <a:off x="3000240" y="2714760"/>
            <a:ext cx="3357720" cy="2311200"/>
          </a:xfrm>
          <a:prstGeom prst="rect">
            <a:avLst/>
          </a:prstGeom>
          <a:ln w="0">
            <a:noFill/>
          </a:ln>
        </p:spPr>
      </p:pic>
      <p:sp>
        <p:nvSpPr>
          <p:cNvPr id="232" name="Прямоугольник 3"/>
          <p:cNvSpPr/>
          <p:nvPr/>
        </p:nvSpPr>
        <p:spPr>
          <a:xfrm>
            <a:off x="2376360" y="3071880"/>
            <a:ext cx="459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Насильники в школ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3" name="Прямая со стрелкой 4"/>
          <p:cNvCxnSpPr>
            <a:endCxn id="234" idx="0"/>
          </p:cNvCxnSpPr>
          <p:nvPr/>
        </p:nvCxnSpPr>
        <p:spPr>
          <a:xfrm>
            <a:off x="4929120" y="3785760"/>
            <a:ext cx="2108880" cy="1500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35" name="Прямая со стрелкой 5"/>
          <p:cNvCxnSpPr/>
          <p:nvPr/>
        </p:nvCxnSpPr>
        <p:spPr>
          <a:xfrm flipV="1">
            <a:off x="4785840" y="1999800"/>
            <a:ext cx="1894680" cy="1215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36" name="Прямая со стрелкой 6"/>
          <p:cNvCxnSpPr/>
          <p:nvPr/>
        </p:nvCxnSpPr>
        <p:spPr>
          <a:xfrm flipH="1">
            <a:off x="2499480" y="3713760"/>
            <a:ext cx="1715400" cy="786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37" name="Прямая со стрелкой 7"/>
          <p:cNvCxnSpPr/>
          <p:nvPr/>
        </p:nvCxnSpPr>
        <p:spPr>
          <a:xfrm flipH="1" flipV="1">
            <a:off x="2214720" y="1713960"/>
            <a:ext cx="2071800" cy="1500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38" name="Прямая со стрелкой 8"/>
          <p:cNvCxnSpPr/>
          <p:nvPr/>
        </p:nvCxnSpPr>
        <p:spPr>
          <a:xfrm flipH="1">
            <a:off x="3857400" y="3857400"/>
            <a:ext cx="714960" cy="121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39" name="Прямоугольник 11"/>
          <p:cNvSpPr/>
          <p:nvPr/>
        </p:nvSpPr>
        <p:spPr>
          <a:xfrm>
            <a:off x="857160" y="4214880"/>
            <a:ext cx="157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полные семь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Прямоугольник 12"/>
          <p:cNvSpPr/>
          <p:nvPr/>
        </p:nvSpPr>
        <p:spPr>
          <a:xfrm>
            <a:off x="4929120" y="1071720"/>
            <a:ext cx="3357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емьи, в которых у матери отмечается негативное отношение к жиз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Прямоугольник 23"/>
          <p:cNvSpPr/>
          <p:nvPr/>
        </p:nvSpPr>
        <p:spPr>
          <a:xfrm>
            <a:off x="785880" y="785880"/>
            <a:ext cx="1857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ластные авторитарные семь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рямоугольник 24"/>
          <p:cNvSpPr/>
          <p:nvPr/>
        </p:nvSpPr>
        <p:spPr>
          <a:xfrm>
            <a:off x="5429160" y="5286240"/>
            <a:ext cx="32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емьи с конфликтными семейными отношениям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Прямоугольник 31"/>
          <p:cNvSpPr/>
          <p:nvPr/>
        </p:nvSpPr>
        <p:spPr>
          <a:xfrm>
            <a:off x="642960" y="5143680"/>
            <a:ext cx="43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емьи с генетической предрасположенностью к насили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2" descr="G:\ДОКУМЕНТЫ\НАСИЛИЕ В ШКОЛЕ\bullyL2810_468x350.jpg"/>
          <p:cNvPicPr/>
          <p:nvPr/>
        </p:nvPicPr>
        <p:blipFill>
          <a:blip r:embed="rId1"/>
          <a:stretch/>
        </p:blipFill>
        <p:spPr>
          <a:xfrm>
            <a:off x="2857680" y="1285920"/>
            <a:ext cx="3311280" cy="2476440"/>
          </a:xfrm>
          <a:prstGeom prst="rect">
            <a:avLst/>
          </a:prstGeom>
          <a:ln w="0">
            <a:noFill/>
          </a:ln>
        </p:spPr>
      </p:pic>
      <p:sp>
        <p:nvSpPr>
          <p:cNvPr id="244" name="Прямоугольник 1"/>
          <p:cNvSpPr/>
          <p:nvPr/>
        </p:nvSpPr>
        <p:spPr>
          <a:xfrm>
            <a:off x="1857240" y="714240"/>
            <a:ext cx="5072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Последствия школьного насил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Прямая со стрелкой 2"/>
          <p:cNvCxnSpPr>
            <a:endCxn id="246" idx="0"/>
          </p:cNvCxnSpPr>
          <p:nvPr/>
        </p:nvCxnSpPr>
        <p:spPr>
          <a:xfrm>
            <a:off x="5286240" y="1928880"/>
            <a:ext cx="2037600" cy="1929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47" name="Прямая со стрелкой 3"/>
          <p:cNvCxnSpPr/>
          <p:nvPr/>
        </p:nvCxnSpPr>
        <p:spPr>
          <a:xfrm>
            <a:off x="4499640" y="1856880"/>
            <a:ext cx="214920" cy="207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48" name="Прямая со стрелкой 4"/>
          <p:cNvCxnSpPr/>
          <p:nvPr/>
        </p:nvCxnSpPr>
        <p:spPr>
          <a:xfrm flipH="1">
            <a:off x="1856880" y="1856880"/>
            <a:ext cx="1929600" cy="2001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49" name="Прямоугольник 5"/>
          <p:cNvSpPr/>
          <p:nvPr/>
        </p:nvSpPr>
        <p:spPr>
          <a:xfrm>
            <a:off x="357120" y="3929040"/>
            <a:ext cx="214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адение самооценки, затравлен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Прямоугольник 6"/>
          <p:cNvSpPr/>
          <p:nvPr/>
        </p:nvSpPr>
        <p:spPr>
          <a:xfrm>
            <a:off x="3500280" y="4071960"/>
            <a:ext cx="2000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блемы в учёбе и поведен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Прямоугольник 7"/>
          <p:cNvSpPr/>
          <p:nvPr/>
        </p:nvSpPr>
        <p:spPr>
          <a:xfrm>
            <a:off x="6286680" y="3857760"/>
            <a:ext cx="207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уицидальные намер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Если ребенок подтвердил Вам в разговоре, что он </a:t>
            </a:r>
            <a:r>
              <a:rPr b="1" i="1" lang="ru-RU" sz="2400" spc="-1" strike="noStrike">
                <a:solidFill>
                  <a:srgbClr val="ff0000"/>
                </a:solidFill>
                <a:latin typeface="Calibri"/>
              </a:rPr>
              <a:t>жертва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                                                   буллинга.</a:t>
            </a:r>
            <a:br>
              <a:rPr sz="2500"/>
            </a:b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onstantia"/>
              </a:rPr>
              <a:t>         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Скажите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ребенку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Я тебе верю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(это поможет ребенку понять, что Вы в состоянии помочь ему с его проблемой)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Мне жаль, что с тобой это случилось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(это поможет  ребенку понять, что Вы пытаетесь понять его чувства)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Это не твоя вина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(дайте понять ребенку, что он не одинок в подобной ситуации: многие его сверстники сталкиваются с разными вариантами запугивания или агрессии в тот или иной момент взросления)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Хорошо, что ты мне об этом сказал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(это поможет  ребенку понять, что он правильно сделал, обратившись за помощью и поддержкой)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Я люблю теб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и постараюсь сделать так, чтобы тебе больше не угрожала опасность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(это поможет  ребенку с надеждой посмотреть в будущее и ощутить защиту)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3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B143A-A420-4561-ACC0-A5416B561138}" type="slidenum">
              <a:rPr b="0" lang="ru-RU" sz="1200" spc="-1" strike="noStrike">
                <a:solidFill>
                  <a:srgbClr val="898989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4778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ff0000"/>
                </a:solidFill>
                <a:latin typeface="Calibri"/>
              </a:rPr>
              <a:t>Технология реагирования на выявленные или установленные факты </a:t>
            </a:r>
            <a:r>
              <a:rPr b="1" lang="ru-RU" sz="3300" spc="-1" strike="noStrike">
                <a:solidFill>
                  <a:srgbClr val="ff0000"/>
                </a:solidFill>
                <a:latin typeface="Calibri"/>
              </a:rPr>
              <a:t>буллинга</a:t>
            </a:r>
            <a:r>
              <a:rPr b="0" lang="ru-RU" sz="3300" spc="-1" strike="noStrike">
                <a:solidFill>
                  <a:srgbClr val="ff0000"/>
                </a:solidFill>
                <a:latin typeface="Calibri"/>
              </a:rPr>
              <a:t>.</a:t>
            </a:r>
            <a:endParaRPr b="0" lang="en-US" sz="33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1.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и установлении факта либо подозрение на существование ситуации буллирования учитель сообщает о сложившейся ситуации представителю администрации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2. Администрация, совместно с социально-психологической службой школы принимает решение о неотложности реагирования на выявленный факт агрессии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3. Непосредственная работа с жертвами и преследователями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2400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Что делать ?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1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nstantia"/>
              </a:rPr>
              <a:t>Стратегия поведения взрослого.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4617b"/>
                </a:solidFill>
                <a:latin typeface="Calibri"/>
              </a:rPr>
              <a:t>1.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743200" cy="457200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 fontScale="96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onstantia"/>
              </a:rPr>
              <a:t>Педагог дает понять пострадавшему, что он принимает его чувства как реальные и понятные для любого человека в такой ситуации. Здесь же: ребенок (подросток) не будет чувствовать себя одиноким и может рассчитывать на продолжение помощи и поддержку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0" name="Picture 2" descr="C:\Users\Наталия\Desktop\what-to-do-about-bullying-in-schools.jpg"/>
          <p:cNvPicPr/>
          <p:nvPr/>
        </p:nvPicPr>
        <p:blipFill>
          <a:blip r:embed="rId1"/>
          <a:stretch/>
        </p:blipFill>
        <p:spPr>
          <a:xfrm>
            <a:off x="3995640" y="1052640"/>
            <a:ext cx="439272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4617b"/>
                </a:solidFill>
                <a:latin typeface="Calibri"/>
              </a:rPr>
              <a:t>2.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743200" cy="457200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nstantia"/>
              </a:rPr>
              <a:t>Он нуждается в повышении самооценки. Оцените его смелость .«Ты проявил настоящую смелость, рассказав мне все о том, что произошло»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3" name="Picture 2" descr="C:\Users\Наталия\Desktop\30520_fullsize.jpg"/>
          <p:cNvPicPr/>
          <p:nvPr/>
        </p:nvPicPr>
        <p:blipFill>
          <a:blip r:embed="rId1"/>
          <a:stretch/>
        </p:blipFill>
        <p:spPr>
          <a:xfrm>
            <a:off x="4273560" y="2104920"/>
            <a:ext cx="371484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3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Поблагодарите ребенка за то, что он поделился с вами своими переживаниями, выразив желание встретиться с ним еще раз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Я люблю тебя и постараюсь сделать так, чтобы тебе больше не угрожала опасность (это поможет  ребенку с надеждой посмотреть в будущее и ощутить защиту)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6" name="Picture 2" descr="C:\Users\Наталия\Desktop\i (3).jpg"/>
          <p:cNvPicPr/>
          <p:nvPr/>
        </p:nvPicPr>
        <p:blipFill>
          <a:blip r:embed="rId1"/>
          <a:stretch/>
        </p:blipFill>
        <p:spPr>
          <a:xfrm>
            <a:off x="5219640" y="1413000"/>
            <a:ext cx="3529080" cy="36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c00000"/>
                </a:solidFill>
                <a:latin typeface="Calibri"/>
              </a:rPr>
              <a:t>Памятка  для родителей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Посоветуйте вашему ребёнку, для того чтобы не попадать в группу риска по школьному буллингу: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--не показывать своё превосходство над другими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--не пытаться выделяться среди других, если нет для этого повода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--не  хвастаться- ни своими успехами, ни своими электронными игрушками, ни своими родителями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9" name="Picture 2" descr="C:\Users\Наталия\Desktop\i.jpg"/>
          <p:cNvPicPr/>
          <p:nvPr/>
        </p:nvPicPr>
        <p:blipFill>
          <a:blip r:embed="rId1"/>
          <a:stretch/>
        </p:blipFill>
        <p:spPr>
          <a:xfrm>
            <a:off x="2700360" y="4292640"/>
            <a:ext cx="4248000" cy="23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1"/>
          <p:cNvSpPr/>
          <p:nvPr/>
        </p:nvSpPr>
        <p:spPr>
          <a:xfrm>
            <a:off x="0" y="-2594880"/>
            <a:ext cx="25801560" cy="59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--не игнорировать решения класса, если они не противоречат его нравственным норма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(не плыть против течения своего коллектива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--не давать повода для унижения чувства собственного достоинства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--не демонстрировать свою физическую силу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--не показывать свою слабость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--своим даром,увлечениями надо научиться привлекать детей к себе, а не отталкивать от себя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--одарённость вашего ребёнка должна быть направлена на благо класса и школы, чтобы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одноклассники гордились, что они учатся вместе, а не завидовали ем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1" descr="C:\Users\Наталия\Desktop\i (2).jpg"/>
          <p:cNvPicPr/>
          <p:nvPr/>
        </p:nvPicPr>
        <p:blipFill>
          <a:blip r:embed="rId1"/>
          <a:stretch/>
        </p:blipFill>
        <p:spPr>
          <a:xfrm>
            <a:off x="1547640" y="3357720"/>
            <a:ext cx="540072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 Box 6"/>
          <p:cNvSpPr/>
          <p:nvPr/>
        </p:nvSpPr>
        <p:spPr>
          <a:xfrm>
            <a:off x="285840" y="714240"/>
            <a:ext cx="8429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Буллинг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—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длительное физическое или психическое насилие со стороны индивида или группы в отношении индивида, не способного защитить себя в данной ситуаци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1"/>
          <p:cNvSpPr/>
          <p:nvPr/>
        </p:nvSpPr>
        <p:spPr>
          <a:xfrm>
            <a:off x="500040" y="3226680"/>
            <a:ext cx="81439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форма жестокого обращения, когда физически или психически сильный индивид или группа таковых получает удовольствие, причиняя боль, насмехаясь, добиваясь покорности и уступок, завладевая имуществом более слабого. Пострадавшие чаще всего испытывают стыд и неуверенность в себе, но предпочитают не сообщать об издевательств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1"/>
          <p:cNvSpPr/>
          <p:nvPr/>
        </p:nvSpPr>
        <p:spPr>
          <a:xfrm>
            <a:off x="88200" y="-2921400"/>
            <a:ext cx="3187440" cy="629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  <a:ea typeface="Times New Roman"/>
              </a:rPr>
              <a:t>не демонстрировать свою элитарность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2"/>
          <p:cNvSpPr/>
          <p:nvPr/>
        </p:nvSpPr>
        <p:spPr>
          <a:xfrm>
            <a:off x="335880" y="-3014640"/>
            <a:ext cx="8232120" cy="648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Нужно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*отыскать себе друга,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среди одноклассников, а ещё лучше нескольк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настоящих друзе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*найти общий язык с каждым учеником в класс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*приглашать одноклассников в гост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*научиться уважать мнение своих одноклассник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*не пытаться всегда побеждать в своих спорах с ровесникам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*научиться проигрывать и уступать, если он, в самом деле, не пра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Picture 2" descr="C:\Users\Наталия\Desktop\i (1).jpg"/>
          <p:cNvPicPr/>
          <p:nvPr/>
        </p:nvPicPr>
        <p:blipFill>
          <a:blip r:embed="rId1"/>
          <a:stretch/>
        </p:blipFill>
        <p:spPr>
          <a:xfrm>
            <a:off x="1979640" y="3417840"/>
            <a:ext cx="4753080" cy="317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1"/>
          <p:cNvSpPr/>
          <p:nvPr/>
        </p:nvSpPr>
        <p:spPr>
          <a:xfrm>
            <a:off x="283320" y="-2450880"/>
            <a:ext cx="7832880" cy="53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Verdana"/>
                <a:ea typeface="Times New Roman"/>
              </a:rPr>
              <a:t>Что</a:t>
            </a:r>
            <a:r>
              <a:rPr b="0" lang="ru-RU" sz="1800" spc="-1" strike="noStrike">
                <a:solidFill>
                  <a:srgbClr val="c00000"/>
                </a:solidFill>
                <a:latin typeface="Arial"/>
                <a:ea typeface="Times New Roman"/>
              </a:rPr>
              <a:t> </a:t>
            </a:r>
            <a:r>
              <a:rPr b="0" lang="ru-RU" sz="1800" spc="-1" strike="noStrike">
                <a:solidFill>
                  <a:srgbClr val="c00000"/>
                </a:solidFill>
                <a:latin typeface="Verdana"/>
                <a:ea typeface="Times New Roman"/>
              </a:rPr>
              <a:t> конкретно могут сделать родители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Verdana"/>
                <a:ea typeface="Times New Roman"/>
              </a:rPr>
              <a:t>чтобы повысить авторитет своего ребёнка в кругу одноклассников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1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 научить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не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бояться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своих одноклассников, у которых тоже есть проблемы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2. наладить родителям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 контакты с учителями и одноклассникам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3. участвовать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 в классных мероприятиях, в которые вовлекаются и родител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3" descr="C:\Users\Наталия\Desktop\homepage-slider-image-01.png"/>
          <p:cNvPicPr/>
          <p:nvPr/>
        </p:nvPicPr>
        <p:blipFill>
          <a:blip r:embed="rId1"/>
          <a:stretch/>
        </p:blipFill>
        <p:spPr>
          <a:xfrm>
            <a:off x="1763640" y="2952720"/>
            <a:ext cx="5715000" cy="39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1"/>
          <p:cNvSpPr/>
          <p:nvPr/>
        </p:nvSpPr>
        <p:spPr>
          <a:xfrm>
            <a:off x="370800" y="-2099880"/>
            <a:ext cx="8451360" cy="465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Verdana"/>
                <a:ea typeface="Times New Roman"/>
              </a:rPr>
              <a:t>Если </a:t>
            </a:r>
            <a:r>
              <a:rPr b="0" lang="ru-RU" sz="1200" spc="-1" strike="noStrike">
                <a:solidFill>
                  <a:srgbClr val="c00000"/>
                </a:solidFill>
                <a:latin typeface="Arial"/>
                <a:ea typeface="Times New Roman"/>
              </a:rPr>
              <a:t> </a:t>
            </a:r>
            <a:r>
              <a:rPr b="0" lang="ru-RU" sz="1200" spc="-1" strike="noStrike">
                <a:solidFill>
                  <a:srgbClr val="c00000"/>
                </a:solidFill>
                <a:latin typeface="Verdana"/>
                <a:ea typeface="Times New Roman"/>
              </a:rPr>
              <a:t>профилактические меры не помогли и ваш ребёнок оказался жертвой</a:t>
            </a:r>
            <a:r>
              <a:rPr b="0" lang="ru-RU" sz="1200" spc="-1" strike="noStrike">
                <a:solidFill>
                  <a:srgbClr val="c00000"/>
                </a:solidFill>
                <a:latin typeface="Arial"/>
                <a:ea typeface="Times New Roman"/>
              </a:rPr>
              <a:t> </a:t>
            </a:r>
            <a:r>
              <a:rPr b="0" lang="ru-RU" sz="1200" spc="-1" strike="noStrike">
                <a:solidFill>
                  <a:srgbClr val="c00000"/>
                </a:solidFill>
                <a:latin typeface="Verdana"/>
                <a:ea typeface="Times New Roman"/>
              </a:rPr>
              <a:t> буллинга</a:t>
            </a:r>
            <a:r>
              <a:rPr b="0" lang="ru-RU" sz="1200" spc="-1" strike="noStrike">
                <a:solidFill>
                  <a:srgbClr val="c00000"/>
                </a:solidFill>
                <a:latin typeface="Arial"/>
                <a:ea typeface="Times New Roman"/>
              </a:rPr>
              <a:t> </a:t>
            </a:r>
            <a:r>
              <a:rPr b="0" lang="ru-RU" sz="1200" spc="-1" strike="noStrike">
                <a:solidFill>
                  <a:srgbClr val="c00000"/>
                </a:solidFill>
                <a:latin typeface="Verdana"/>
                <a:ea typeface="Times New Roman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Verdana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c00000"/>
                </a:solidFill>
                <a:latin typeface="Verdana"/>
                <a:ea typeface="Times New Roman"/>
              </a:rPr>
              <a:t>родители должн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Arial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  <a:ea typeface="Times New Roman"/>
              </a:rPr>
              <a:t>*прежде всего,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  <a:ea typeface="Times New Roman"/>
              </a:rPr>
              <a:t> понять истинную причину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  <a:ea typeface="Times New Roman"/>
              </a:rPr>
              <a:t>проишедшего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  <a:ea typeface="Times New Roman"/>
              </a:rPr>
              <a:t>с ним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  <a:ea typeface="Times New Roman"/>
              </a:rPr>
              <a:t>*убедиться, что ваш ребёнок действительно стал жертвой школьного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  <a:ea typeface="Times New Roman"/>
              </a:rPr>
              <a:t>буллинг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  <a:ea typeface="Times New Roman"/>
              </a:rPr>
              <a:t>*сообщить об этом учителю и школьному психологу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  <a:ea typeface="Times New Roman"/>
              </a:rPr>
              <a:t>*сообща найти пути выхода из сложившийся ситуаци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  <a:ea typeface="Times New Roman"/>
              </a:rPr>
              <a:t>*если ребёнок был сильно напуган и потрясён случившимся, не отправлять его на следующий день в школу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  <a:ea typeface="Times New Roman"/>
              </a:rPr>
              <a:t>*при сильно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  <a:ea typeface="Times New Roman"/>
              </a:rPr>
              <a:t> пережитом стрессе попытаться перевести ребёнка в другой класс или даже в другую школу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Picture 2" descr="C:\Users\Наталия\Desktop\mother_child_talking_rex.jpg"/>
          <p:cNvPicPr/>
          <p:nvPr/>
        </p:nvPicPr>
        <p:blipFill>
          <a:blip r:embed="rId1"/>
          <a:stretch/>
        </p:blipFill>
        <p:spPr>
          <a:xfrm>
            <a:off x="2050920" y="2924280"/>
            <a:ext cx="5523120" cy="37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-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300"/>
                                        <p:tgtEl>
                                          <p:spTgt spid="-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Прямоугольник 4"/>
          <p:cNvSpPr/>
          <p:nvPr/>
        </p:nvSpPr>
        <p:spPr>
          <a:xfrm>
            <a:off x="1071720" y="4357800"/>
            <a:ext cx="700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Разрешение проблемы буллинга в наших руках. Удачи НАМ!!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Прямоугольник 5"/>
          <p:cNvSpPr/>
          <p:nvPr/>
        </p:nvSpPr>
        <p:spPr>
          <a:xfrm>
            <a:off x="5143680" y="214200"/>
            <a:ext cx="2571480" cy="39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Picture 2" descr="C:\Users\Наталия\Desktop\shutterstock_108383702-617x416.jpg"/>
          <p:cNvPicPr/>
          <p:nvPr/>
        </p:nvPicPr>
        <p:blipFill>
          <a:blip r:embed="rId1"/>
          <a:stretch/>
        </p:blipFill>
        <p:spPr>
          <a:xfrm>
            <a:off x="2050920" y="260280"/>
            <a:ext cx="5877000" cy="370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21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3)" transition="in">
                                      <p:cBhvr additive="repl">
                                        <p:cTn id="14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оугольник 3"/>
          <p:cNvSpPr/>
          <p:nvPr/>
        </p:nvSpPr>
        <p:spPr>
          <a:xfrm>
            <a:off x="357120" y="357120"/>
            <a:ext cx="81439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пы буллинг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Физическая агресс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Словесный буллин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Запугив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Изоля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Вымогательст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Повреждение имуще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2" descr="G:\ДОКУМЕНТЫ\НАСИЛИЕ В ШКОЛЕ\violence-300.jpg"/>
          <p:cNvPicPr/>
          <p:nvPr/>
        </p:nvPicPr>
        <p:blipFill>
          <a:blip r:embed="rId1"/>
          <a:stretch/>
        </p:blipFill>
        <p:spPr>
          <a:xfrm>
            <a:off x="1258920" y="3416400"/>
            <a:ext cx="5761080" cy="32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Times New Roman"/>
              </a:rPr>
              <a:t>Наиболее часто </a:t>
            </a:r>
            <a:r>
              <a:rPr b="1" i="1" lang="ru-RU" sz="3000" spc="-1" strike="noStrike" u="sng">
                <a:solidFill>
                  <a:srgbClr val="ff0000"/>
                </a:solidFill>
                <a:uFillTx/>
                <a:latin typeface="Times New Roman"/>
              </a:rPr>
              <a:t>жертвами </a:t>
            </a:r>
            <a:r>
              <a:rPr b="0" lang="ru-RU" sz="3000" spc="-1" strike="noStrike">
                <a:solidFill>
                  <a:srgbClr val="ff0000"/>
                </a:solidFill>
                <a:latin typeface="Times New Roman"/>
              </a:rPr>
              <a:t>школьного буллинга становятся дети, имеющие:</a:t>
            </a: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719000"/>
            <a:ext cx="8229600" cy="48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– 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физические недостатки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– носящие очки, со сниженным слухом или с двигательными нарушениями (например, при ДЦП), то есть те, кто не может защитить себя, физически слабее своих ровесников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особенности поведения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– замкнутые, чувствительные, застенчивые, тревожные дети или дети с импульсивным поведением, не уверены в себе, несчастны и имеют низкое самоуважение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особенности внешности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– рыжие волосы веснушки, оттопыренные уши, кривые ноги, особая форма головы, вес тела (полнота или худоба) и т.д.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2" name="Picture 4" descr="d6bcb062e4374edfb1ad0cf06a2b"/>
          <p:cNvPicPr/>
          <p:nvPr/>
        </p:nvPicPr>
        <p:blipFill>
          <a:blip r:embed="rId1"/>
          <a:stretch/>
        </p:blipFill>
        <p:spPr>
          <a:xfrm>
            <a:off x="5940360" y="4941720"/>
            <a:ext cx="302436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178920" y="259920"/>
            <a:ext cx="799308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imes New Roman"/>
              </a:rPr>
              <a:t>– </a:t>
            </a: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неразвитые социальные навыки</a:t>
            </a: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 – </a:t>
            </a:r>
            <a:r>
              <a:rPr b="0" lang="ru-RU" sz="2400" spc="-1" strike="noStrike">
                <a:solidFill>
                  <a:srgbClr val="191919"/>
                </a:solidFill>
                <a:latin typeface="Times New Roman"/>
              </a:rPr>
              <a:t>часто не имеют ни одного близкого друга и успешнее общаются со взрослыми, нежели со сверстниками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– </a:t>
            </a: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страх перед школой, </a:t>
            </a:r>
            <a:r>
              <a:rPr b="0" lang="ru-RU" sz="2400" spc="-1" strike="noStrike">
                <a:solidFill>
                  <a:srgbClr val="191919"/>
                </a:solidFill>
                <a:latin typeface="Times New Roman"/>
              </a:rPr>
              <a:t>неуспешность в учебе часто формирует у детей отрицательное отношение к школе в целом, страх посещения отдельных предметов, что воспринимается окружающими иногда как повышенная тревожность, неуверенность,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91919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191919"/>
                </a:solidFill>
                <a:latin typeface="Times New Roman"/>
              </a:rPr>
              <a:t>провоцируя агрессию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– </a:t>
            </a: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отсутствие опыта жизни в коллективе</a:t>
            </a: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(домашние дети)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– </a:t>
            </a: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болезни </a:t>
            </a:r>
            <a:r>
              <a:rPr b="0" lang="ru-RU" sz="2400" spc="-1" strike="noStrike">
                <a:solidFill>
                  <a:srgbClr val="191919"/>
                </a:solidFill>
                <a:latin typeface="Times New Roman"/>
              </a:rPr>
              <a:t>– эпилепсию, тики, заикание, энурез (недержание мочи), энкопрез (недержание кала), нарушения речи – дислалия (косноязычие), дисграфия (нарушение письменной речи), дислексия (нарушение чтения), дискалькулия (нарушение способности к счету) и т. д.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– </a:t>
            </a: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низкий интеллект</a:t>
            </a: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 и трудности в обучении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4" name="Picture 3" descr="14684744-izgoy"/>
          <p:cNvPicPr/>
          <p:nvPr/>
        </p:nvPicPr>
        <p:blipFill>
          <a:blip r:embed="rId1"/>
          <a:stretch/>
        </p:blipFill>
        <p:spPr>
          <a:xfrm>
            <a:off x="6084720" y="2781360"/>
            <a:ext cx="258948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Times New Roman"/>
              </a:rPr>
              <a:t>Поведение </a:t>
            </a:r>
            <a:r>
              <a:rPr b="1" i="1" lang="ru-RU" sz="3600" spc="-1" strike="noStrike">
                <a:solidFill>
                  <a:srgbClr val="c00000"/>
                </a:solidFill>
                <a:latin typeface="Times New Roman"/>
              </a:rPr>
              <a:t>жертвы</a:t>
            </a:r>
            <a:r>
              <a:rPr b="0" i="1" lang="ru-RU" sz="3600" spc="-1" strike="noStrike">
                <a:solidFill>
                  <a:srgbClr val="c00000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c00000"/>
                </a:solidFill>
                <a:latin typeface="Times New Roman"/>
              </a:rPr>
              <a:t>определяется по следующим показателям: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imes New Roman"/>
              </a:rPr>
              <a:t>его школьные принадлежности (учебники, тетради, личные вещи) часто бывают разбросаны по классу или спрятаны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imes New Roman"/>
              </a:rPr>
              <a:t>на уроках ведет себя скрытно, боязливо, когда отвечает, в классе начинают распространяться шум, помехи, комментарии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imes New Roman"/>
              </a:rPr>
              <a:t>во время перемены, в столовой, держится в стороне от других школьников, скрывается, убегает от сверстников и старших школьников, старается находиться недалеко от учителей, взрослых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457200" y="404640"/>
            <a:ext cx="8229600" cy="604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imes New Roman"/>
              </a:rPr>
              <a:t>его оскорбляют, дразнят, дают обидные прозвища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imes New Roman"/>
              </a:rPr>
              <a:t>на других детей он реагирует глупой улыбкой, старается отшутиться, убежать, плачет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imes New Roman"/>
              </a:rPr>
              <a:t>хорошо ладит с учителями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000099"/>
                </a:solidFill>
                <a:latin typeface="Times New Roman"/>
              </a:rPr>
              <a:t>и плохо со сверстниками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imes New Roman"/>
              </a:rPr>
              <a:t>опаздывает к началу занятий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000099"/>
                </a:solidFill>
                <a:latin typeface="Times New Roman"/>
              </a:rPr>
              <a:t>или поздно покидает школу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imes New Roman"/>
              </a:rPr>
              <a:t>во время групповых игр, занятий, его игнорируют или выбирают последним.</a:t>
            </a:r>
            <a:r>
              <a:rPr b="1" lang="ru-RU" sz="2800" spc="-1" strike="noStrike">
                <a:solidFill>
                  <a:srgbClr val="000099"/>
                </a:solidFill>
                <a:latin typeface="Constant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8" name="Picture 3" descr="bullying"/>
          <p:cNvPicPr/>
          <p:nvPr/>
        </p:nvPicPr>
        <p:blipFill>
          <a:blip r:embed="rId1"/>
          <a:stretch/>
        </p:blipFill>
        <p:spPr>
          <a:xfrm>
            <a:off x="5292720" y="4653000"/>
            <a:ext cx="2857680" cy="189540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stock-photo-young-school-boy-bullying-another-in-school-playground-1641910"/>
          <p:cNvPicPr/>
          <p:nvPr/>
        </p:nvPicPr>
        <p:blipFill>
          <a:blip r:embed="rId2"/>
          <a:stretch/>
        </p:blipFill>
        <p:spPr>
          <a:xfrm>
            <a:off x="5796000" y="1714680"/>
            <a:ext cx="2808360" cy="202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Прямоугольник 3"/>
          <p:cNvSpPr/>
          <p:nvPr/>
        </p:nvSpPr>
        <p:spPr>
          <a:xfrm>
            <a:off x="2505600" y="928800"/>
            <a:ext cx="3367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Статисти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Прямоугольник 4"/>
          <p:cNvSpPr/>
          <p:nvPr/>
        </p:nvSpPr>
        <p:spPr>
          <a:xfrm>
            <a:off x="785880" y="1996920"/>
            <a:ext cx="80010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данным зарубежных и отечественных психологов, буллинг — явление достаточно распространенное в школе. До 10% детей регулярно (раз в неделю и чаще) и 55% эпизодически (время от времени) подвергаются издевательствам со стороны одноклассников. 26% матерей считают своих детей жертвами таких издевательств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Прямоугольник 3"/>
          <p:cNvSpPr/>
          <p:nvPr/>
        </p:nvSpPr>
        <p:spPr>
          <a:xfrm>
            <a:off x="2090880" y="357120"/>
            <a:ext cx="574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иды школьного насилия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Прямоугольник 4"/>
          <p:cNvSpPr/>
          <p:nvPr/>
        </p:nvSpPr>
        <p:spPr>
          <a:xfrm>
            <a:off x="160920" y="1500120"/>
            <a:ext cx="3327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Эмоциональн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эмоциональное напряжение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нижение, снижение самооценки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4" name="Прямая со стрелкой 8"/>
          <p:cNvCxnSpPr/>
          <p:nvPr/>
        </p:nvCxnSpPr>
        <p:spPr>
          <a:xfrm flipV="1">
            <a:off x="3642840" y="1571760"/>
            <a:ext cx="786600" cy="643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25" name="Прямая со стрелкой 10"/>
          <p:cNvCxnSpPr/>
          <p:nvPr/>
        </p:nvCxnSpPr>
        <p:spPr>
          <a:xfrm>
            <a:off x="3642840" y="2428920"/>
            <a:ext cx="715320" cy="643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26" name="Прямоугольник 13"/>
          <p:cNvSpPr/>
          <p:nvPr/>
        </p:nvSpPr>
        <p:spPr>
          <a:xfrm>
            <a:off x="4572000" y="1285920"/>
            <a:ext cx="36432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мешки, присвоение кличек, бесконечные замечания и необъективные оценки, высмеивание, унижение в присутствии других детей и пр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Прямоугольник 14"/>
          <p:cNvSpPr/>
          <p:nvPr/>
        </p:nvSpPr>
        <p:spPr>
          <a:xfrm>
            <a:off x="4429080" y="2714760"/>
            <a:ext cx="40006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торжение, изоляция, отказ от общения с жертвой (с ребенком отказываются играть, заниматься, не хотят с ним сидеть за одной партой, не приглашают на дни рождения и т. д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Прямоугольник 15"/>
          <p:cNvSpPr/>
          <p:nvPr/>
        </p:nvSpPr>
        <p:spPr>
          <a:xfrm>
            <a:off x="214200" y="4286160"/>
            <a:ext cx="32860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Физическ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несение физической травмы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9" name="Прямая со стрелкой 16"/>
          <p:cNvCxnSpPr/>
          <p:nvPr/>
        </p:nvCxnSpPr>
        <p:spPr>
          <a:xfrm>
            <a:off x="3643200" y="4714920"/>
            <a:ext cx="12866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30" name="Прямоугольник 22"/>
          <p:cNvSpPr/>
          <p:nvPr/>
        </p:nvSpPr>
        <p:spPr>
          <a:xfrm>
            <a:off x="5000760" y="4357800"/>
            <a:ext cx="3786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биение, нанесение удара, шлепки, подзатыльники, порча и отнятие вещей и др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8T09:27:16Z</dcterms:created>
  <dc:creator>409-1-н</dc:creator>
  <dc:description/>
  <dc:language>en-US</dc:language>
  <cp:lastModifiedBy>Children</cp:lastModifiedBy>
  <dcterms:modified xsi:type="dcterms:W3CDTF">2013-04-17T06:58:07Z</dcterms:modified>
  <cp:revision>78</cp:revision>
  <dc:subject/>
  <dc:title>Психологическая безопасность образовательной среды в ДОЛ</dc:title>
</cp:coreProperties>
</file>