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ADA0-9AFB-4652-B4C6-927EE3EC9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17E7-E27E-4C8F-8B3E-8BDEE5D0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8825-0395-42BF-BAE2-D53DA0B3E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AC57-75CB-4905-9306-32EA80F53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FABD-E7E4-4BD6-AC31-7E6297E90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450F-6C70-415D-B26D-22D3D0AE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F3AD-D5D2-40E8-A6F4-12BF534F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006E-C43E-4A45-9378-E87897D8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A208-B5CC-4F1C-B4BE-E82910C3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9B67-FDBB-4B74-8206-03EFF641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A624-E5CD-43D8-AA18-1C3B89E3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6196-F2E5-4E05-B91B-52C9B5C7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B1B3-15E1-4169-8539-5BE68840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3E0E-A609-4D2A-8652-6ADE0A51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5FD4-3E24-4B18-B53A-EB64EE15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DB12-A2B0-40B9-BD81-9014C5EDB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9B57-20C7-43BB-A252-145678809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C589-D5B9-42C7-95B5-0271F99D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BA94-5778-474A-8C13-6F9D2843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5C99-E999-4C91-A348-067F649B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B049-D295-4CB4-A0EF-39CDDED0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5EC5-5DFA-47DA-BDBD-161D7345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E83F-B02D-44AD-90A7-F6DD803E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E012-E557-4B01-9C81-E0EE3A28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C1FC-FDAF-448E-9072-685A522C8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1C16-7D43-4166-BB7A-BFC13A87A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2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3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4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5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6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7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8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9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10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11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12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13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14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15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16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17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18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19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20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21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22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23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24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25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26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27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28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29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30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31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32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33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34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35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36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37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38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39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40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41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42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43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44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45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46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47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48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49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50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51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52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53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54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55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56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57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58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59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60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61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62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63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64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65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66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67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68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69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70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71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72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73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74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75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76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77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78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79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80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81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82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83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84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85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86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87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88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89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90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91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92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93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94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95" Type="http://schemas.openxmlformats.org/officeDocument/2006/relationships/hyperlink" Target="http://images.yandex.ru/yandsearch?text=&#1073;&#1077;&#1079;&#1086;&#1087;&#1072;&#1089;&#1085;&#1086;&#1089;&#1090;&#1100;%20&#1076;&#1086;&#1084;&#1072;%20&#1076;&#1083;&#1103;%20&#1076;&#1077;&#1090;&#1077;&#1081;" TargetMode="External"/><Relationship Id="rId9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11280" y="333360"/>
            <a:ext cx="4610160" cy="43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езопас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ет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м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148360" y="2492280"/>
            <a:ext cx="3200400" cy="370548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се эти опасные предметы должны лежать в недоступном для детей ме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281560" y="2143080"/>
            <a:ext cx="3200400" cy="3714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2050920" y="333360"/>
            <a:ext cx="4826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211280" y="2708280"/>
            <a:ext cx="460836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зентацию подготовила воспита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 квалификационной категории МБДОУ № 40 «Колокольчик» Аникина Н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. Фряново 201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42920" y="476280"/>
            <a:ext cx="676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тернет ресурсы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images.yandex.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ru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yandsearch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5"/>
              </a:rPr>
              <a:t>?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6"/>
              </a:rPr>
              <a:t>text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7"/>
              </a:rPr>
              <a:t>=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8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9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0"/>
              </a:rPr>
              <a:t>B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11"/>
              </a:rPr>
              <a:t>1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2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13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4"/>
              </a:rPr>
              <a:t>B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15"/>
              </a:rPr>
              <a:t>5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6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17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8"/>
              </a:rPr>
              <a:t>B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19"/>
              </a:rPr>
              <a:t>7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0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21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2"/>
              </a:rPr>
              <a:t>BE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23"/>
              </a:rPr>
              <a:t>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4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25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6"/>
              </a:rPr>
              <a:t>BF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27"/>
              </a:rPr>
              <a:t>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8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29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30"/>
              </a:rPr>
              <a:t>B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31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32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33"/>
              </a:rPr>
              <a:t>1%81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34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35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36"/>
              </a:rPr>
              <a:t>B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37"/>
              </a:rPr>
              <a:t>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38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39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40"/>
              </a:rPr>
              <a:t>BE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41"/>
              </a:rPr>
              <a:t>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42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43"/>
              </a:rPr>
              <a:t>1%81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44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45"/>
              </a:rPr>
              <a:t>1%82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46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47"/>
              </a:rPr>
              <a:t>1%8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48"/>
              </a:rPr>
              <a:t>C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49"/>
              </a:rPr>
              <a:t>%2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50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51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52"/>
              </a:rPr>
              <a:t>B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53"/>
              </a:rPr>
              <a:t>4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54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55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56"/>
              </a:rPr>
              <a:t>BE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57"/>
              </a:rPr>
              <a:t>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58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59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60"/>
              </a:rPr>
              <a:t>BC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61"/>
              </a:rPr>
              <a:t>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62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63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64"/>
              </a:rPr>
              <a:t>B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65"/>
              </a:rPr>
              <a:t>0%2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66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67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68"/>
              </a:rPr>
              <a:t>B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69"/>
              </a:rPr>
              <a:t>4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70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71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72"/>
              </a:rPr>
              <a:t>BB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73"/>
              </a:rPr>
              <a:t>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74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75"/>
              </a:rPr>
              <a:t>1%8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76"/>
              </a:rPr>
              <a:t>F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77"/>
              </a:rPr>
              <a:t>%2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78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79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80"/>
              </a:rPr>
              <a:t>B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81"/>
              </a:rPr>
              <a:t>4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82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83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84"/>
              </a:rPr>
              <a:t>B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85"/>
              </a:rPr>
              <a:t>5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86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87"/>
              </a:rPr>
              <a:t>1%82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88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89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90"/>
              </a:rPr>
              <a:t>B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91"/>
              </a:rPr>
              <a:t>5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92"/>
              </a:rPr>
              <a:t>D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93"/>
              </a:rPr>
              <a:t>0%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94"/>
              </a:rPr>
              <a:t>B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hlinkClick r:id="rId95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images.yandex.ru/yandsearch?text=%D0%B1%D0%B5%D0%B7%D0%BE%D0%BF%D0%B0%D1%81%D0%BD%D0%BE%D1%81%D1%82%D1%8C%D0%B4%D0%B5%D1%82%D0%B5%D0%B9%20%20%D0%B2%20%D0%B1%D1%8B%D1%82%D1%83%20%D0%BA%D0%B0%D1%80%D1%82%D0%B8%D0%BD%D0%BA%D0%B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26560" y="333360"/>
            <a:ext cx="80074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хранять жизнь детей - это просто проявлять здравый смысл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чень важно, чтобы Вы на шаг опережали ребёнка, тогда Вы сумеете предвидеть, что он может сделать, - ещё до того, как он это сделает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мните, что Ваш малыш взрослеет и забот, ответственности за его жизнь и здоровье с каждым днём прибавляется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могите ребёнку удовлетворить его познавательный интерес к окружающему миру, создав все необходимые условия безопасной жизне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9280" y="1341360"/>
            <a:ext cx="3157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скажите ребенку, почему нельзя баловаться со спичками, свечами, зажигалками, петардами и бенгальскими огнями. Не играй с этими предметами, это может привести к пожар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708360" y="1341360"/>
            <a:ext cx="505944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30859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гда вставляйте блокираторы в электророзетки во избежание засунуть отвёртку, шпильку, пальчик в одну из дырочек, какие он видит в сте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635280" y="981000"/>
            <a:ext cx="5148360" cy="511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23640" y="981000"/>
            <a:ext cx="392724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ъясните ребенку, почему ничего нельзя вставлять в розетку. Обратите внимание ребенка на то, что ни в  коем случае нельзя дотрагиваться до розетки мокрыми руками. Нельзя вставлять в розетку посторонние предмет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356000" y="1052640"/>
            <a:ext cx="4475160" cy="48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560" y="907560"/>
            <a:ext cx="39272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сегда надёжно запирайте лекарства и всё, что может оказаться ядовитым для ребён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284720" y="765000"/>
            <a:ext cx="4079880" cy="533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836280"/>
            <a:ext cx="30862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ъясните ребенку, почему нельзя открывать дверь незнакомым людям. Поиграйте с ним в игру «Дзинь! Кто за дверью?», перечисляя своих близких и знакомых и выясняя вместе с ребенком, кому он может открывать дверь, а кому нет.. Не открывай дверь незнакомым людя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51280" y="692280"/>
            <a:ext cx="5041800" cy="52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39272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ъясните ребенку, что забираться на подоконник, высовываться из окна, преклоняться через перила балкона очень опасно. Можно не бояться высоты, но можно упасть и сильно порани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помни, играть на высоте опас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788000" y="836640"/>
            <a:ext cx="356688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42145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кажите ребенку предметы в вашей квартире, которые могут быть горячими. Будь осторожен с этими предметами, они очень горячие – можно обжечь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ъясните ребенку, почему нельзя самостоятельно крутить рычажки и нажимать на кнопочки на плите и других приборах. Запомни, эти предметы тоже могут обжеч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708440" y="765000"/>
            <a:ext cx="3967200" cy="5904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10:16:58Z</dcterms:created>
  <dc:creator>Наталья</dc:creator>
  <dc:description/>
  <dc:language>en-US</dc:language>
  <cp:lastModifiedBy>Наталья</cp:lastModifiedBy>
  <dcterms:modified xsi:type="dcterms:W3CDTF">2013-02-12T11:59:20Z</dcterms:modified>
  <cp:revision>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