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F37D-2330-42AE-9C19-F1298825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0CE5-91F3-4421-9A78-85338C55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AFE-D74F-40B1-802C-7A9EAAC8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9CCD-CCEA-4F35-9CA4-09E7837D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EFA4-882C-4227-9824-AD23652F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4D70-C2BB-45FD-A654-F8E2D915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35A1-1607-4461-A6E2-3F7DB8A9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801E-52CF-44CE-BCAA-1CE44D5D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5DC7-156F-446F-8DEE-E1DE84E0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A64C-1F9C-4A2B-B056-CCEA9EE7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9E6E-39CB-4AD7-AF49-5CA5A3B4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55C-05A3-4AFA-A5B6-0AA138E6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8EBB-9EE7-41A5-8573-BCD7B376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7DD3-D9A7-490C-B40B-D7369C0C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0033-12CE-490F-849B-C5CF0FED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F251-03A4-4F4E-A6E0-A4CE4061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7890-33E2-4D1D-B280-2173FED2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DD8B-647E-4469-B20F-1E07BD5B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79DE-CD0B-4874-9FC8-0D7286D0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508-C1BB-4F68-927C-72D75103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E4BA-B3E3-42A7-8711-2B47F80B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B485-7F75-40E7-B051-4DB0A8F5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3BE-63C5-44E3-9951-7F26AA02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754-9070-495F-94EB-1AD3E95E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82AF-6D4C-486E-BBC7-D146F27AB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094B-AF8B-4289-B464-DF74DADA0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11280" y="333360"/>
            <a:ext cx="461016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езопас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е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м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48360" y="2492280"/>
            <a:ext cx="3200400" cy="370548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 эти опасные предметы должны лежать в недоступном для детей 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81560" y="2143080"/>
            <a:ext cx="3200400" cy="3714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050920" y="333360"/>
            <a:ext cx="4826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211280" y="2708280"/>
            <a:ext cx="460836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ю подготовила воспит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квалификационной категории МБДОУ № 40 «Колокольчик» Аникина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. Фряново 201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42920" y="476280"/>
            <a:ext cx="67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ернет ресурсы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images.yandex.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ru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yandsearch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?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text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=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0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11"/>
              </a:rPr>
              <a:t>1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2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13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4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15"/>
              </a:rPr>
              <a:t>5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6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17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8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19"/>
              </a:rPr>
              <a:t>7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0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21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2"/>
              </a:rPr>
              <a:t>BE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23"/>
              </a:rPr>
              <a:t>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4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25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6"/>
              </a:rPr>
              <a:t>BF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27"/>
              </a:rPr>
              <a:t>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8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29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0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31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2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33"/>
              </a:rPr>
              <a:t>1%81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4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35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6"/>
              </a:rPr>
              <a:t>B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37"/>
              </a:rPr>
              <a:t>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8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39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0"/>
              </a:rPr>
              <a:t>BE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41"/>
              </a:rPr>
              <a:t>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2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43"/>
              </a:rPr>
              <a:t>1%81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4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45"/>
              </a:rPr>
              <a:t>1%82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6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47"/>
              </a:rPr>
              <a:t>1%8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8"/>
              </a:rPr>
              <a:t>C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49"/>
              </a:rPr>
              <a:t>%2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50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51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52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53"/>
              </a:rPr>
              <a:t>4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54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55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56"/>
              </a:rPr>
              <a:t>BE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57"/>
              </a:rPr>
              <a:t>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58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59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0"/>
              </a:rPr>
              <a:t>BC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61"/>
              </a:rPr>
              <a:t>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2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63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4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65"/>
              </a:rPr>
              <a:t>0%2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6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67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8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69"/>
              </a:rPr>
              <a:t>4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70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71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72"/>
              </a:rPr>
              <a:t>B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73"/>
              </a:rPr>
              <a:t>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74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75"/>
              </a:rPr>
              <a:t>1%8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76"/>
              </a:rPr>
              <a:t>F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77"/>
              </a:rPr>
              <a:t>%2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78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79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80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81"/>
              </a:rPr>
              <a:t>4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82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83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84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85"/>
              </a:rPr>
              <a:t>5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86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87"/>
              </a:rPr>
              <a:t>1%82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88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89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90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91"/>
              </a:rPr>
              <a:t>5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92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93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94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95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images.yandex.ru/yandsearch?text=%D0%B1%D0%B5%D0%B7%D0%BE%D0%BF%D0%B0%D1%81%D0%BD%D0%BE%D1%81%D1%82%D1%8C%D0%B4%D0%B5%D1%82%D0%B5%D0%B9%20%20%D0%B2%20%D0%B1%D1%8B%D1%82%D1%83%20%D0%BA%D0%B0%D1%80%D1%82%D0%B8%D0%BD%D0%BA%D0%B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26560" y="333360"/>
            <a:ext cx="80074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хранять жизнь детей - это просто проявлять здравый смысл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чень важно, чтобы Вы на шаг опережали ребёнка, тогда Вы сумеете предвидеть, что он может сделать, - ещё до того, как он это сделае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мните, что Ваш малыш взрослеет и забот, ответственности за его жизнь и здоровье с каждым днём прибавляется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могите ребёнку удовлетворить его познавательный интерес к окружающему миру, создав все необходимые условия безопасной жизне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280" y="1341360"/>
            <a:ext cx="3157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скажите ребенку, почему нельзя баловаться со спичками, свечами, зажигалками, петардами и бенгальскими огнями. Не играй с этими предметами, это может привести к пожар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505944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30859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да вставляйте блокираторы в электророзетки во избежание засунуть отвёртку, шпильку, пальчик в одну из дырочек, какие он видит в сте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635280" y="981000"/>
            <a:ext cx="5148360" cy="51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3640" y="981000"/>
            <a:ext cx="39272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ясните ребенку, почему ничего нельзя вставлять в розетку. Обратите внимание ребенка на то, что ни в  коем случае нельзя дотрагиваться до розетки мокрыми руками. Нельзя вставлять в розетку посторонние предмет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56000" y="1052640"/>
            <a:ext cx="447516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907560"/>
            <a:ext cx="39272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гда надёжно запирайте лекарства и всё, что может оказаться ядовитым для ребён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284720" y="765000"/>
            <a:ext cx="4079880" cy="53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836280"/>
            <a:ext cx="30862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ясните ребенку, почему нельзя открывать дверь незнакомым людям. Поиграйте с ним в игру «Дзинь! Кто за дверью?», перечисляя своих близких и знакомых и выясняя вместе с ребенком, кому он может открывать дверь, а кому нет.. Не открывай дверь незнакомым людя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51280" y="692280"/>
            <a:ext cx="5041800" cy="52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39272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ясните ребенку, что забираться на подоконник, высовываться из окна, преклоняться через перила балкона очень опасно. Можно не бояться высоты, но можно упасть и сильно порани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помни, играть на высоте опа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88000" y="836640"/>
            <a:ext cx="35668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4214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кажите ребенку предметы в вашей квартире, которые могут быть горячими. Будь осторожен с этими предметами, они очень горячие – можно обжеч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ясните ребенку, почему нельзя самостоятельно крутить рычажки и нажимать на кнопочки на плите и других приборах. Запомни, эти предметы тоже могут обжеч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08440" y="765000"/>
            <a:ext cx="3967200" cy="590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0:16:58Z</dcterms:created>
  <dc:creator>Наталья</dc:creator>
  <dc:description/>
  <dc:language>en-US</dc:language>
  <cp:lastModifiedBy>Наталья</cp:lastModifiedBy>
  <dcterms:modified xsi:type="dcterms:W3CDTF">2013-02-12T11:59:20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