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C9F-FA5E-45AB-9546-09DC9C68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7D7-7A18-41B0-BAD4-E60F7991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F21-7AAC-49DA-BE8E-99BE5748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D77-7B9F-40D0-8DB3-BFA7C547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05CD-923C-4F46-911A-261D77EE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1E4A-C6CB-432F-9F81-3658052B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F665-CA81-4E26-BBDA-8AB990D2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F348-9357-4510-8220-72E81642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9E69-720D-4B98-849D-6CFB7570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D5F3-3A50-4B4A-9945-4CC951B3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1A4-875F-42E1-BD4B-2D23C167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404-3A32-4E41-BFB9-638B79E7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2657-B418-45FC-9FCC-02DCEFB4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CF6D-50C2-4351-9A83-301B19A8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5BF7-B8FF-428D-BFAA-711CBE1B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8956-6CBA-46EE-9F24-AF4866E7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2D02-A30E-4916-8C2C-36479BBA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73F-C9FA-43CE-BAD4-A3772A9A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5BA-D623-449E-A66A-5DAB25BF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DCE-4FCC-436B-9981-9968D3D0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4A7-9675-4B16-B912-A48D2C46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82D-7BF7-4AA2-8589-444002DD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5DA-0D71-4202-92AD-9CF2EDBF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8C6-A0DE-4930-9923-D0CF7BD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A9B3-F5E0-43A6-A7FC-E96FA01DD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1F97-B43F-4DC3-82B3-AD470CFA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333360"/>
            <a:ext cx="46101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зопас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м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200400" cy="37054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эти опасные предметы должны лежать в недоступном для детей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81560" y="2143080"/>
            <a:ext cx="3200400" cy="3714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050920" y="333360"/>
            <a:ext cx="4826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211280" y="2708280"/>
            <a:ext cx="460836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квалификационной категории МБДОУ № 40 «Колокольчик» Аникин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. Фряново 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42920" y="476280"/>
            <a:ext cx="67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нет ресурсы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images.yandex.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ru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yandsearch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?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text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=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1"/>
              </a:rPr>
              <a:t>1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5"/>
              </a:rPr>
              <a:t>5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7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8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9"/>
              </a:rPr>
              <a:t>7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0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2"/>
              </a:rPr>
              <a:t>BE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3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5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6"/>
              </a:rPr>
              <a:t>BF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7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3"/>
              </a:rPr>
              <a:t>1%81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5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6"/>
              </a:rPr>
              <a:t>B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7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0"/>
              </a:rPr>
              <a:t>BE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1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3"/>
              </a:rPr>
              <a:t>1%81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5"/>
              </a:rPr>
              <a:t>1%82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7"/>
              </a:rPr>
              <a:t>1%8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8"/>
              </a:rPr>
              <a:t>C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9"/>
              </a:rPr>
              <a:t>%2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0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2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3"/>
              </a:rPr>
              <a:t>4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5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6"/>
              </a:rPr>
              <a:t>BE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7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0"/>
              </a:rPr>
              <a:t>BC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1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5"/>
              </a:rPr>
              <a:t>0%2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7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8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9"/>
              </a:rPr>
              <a:t>4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0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2"/>
              </a:rPr>
              <a:t>B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3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5"/>
              </a:rPr>
              <a:t>1%8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6"/>
              </a:rPr>
              <a:t>F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7"/>
              </a:rPr>
              <a:t>%2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1"/>
              </a:rPr>
              <a:t>4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5"/>
              </a:rPr>
              <a:t>5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7"/>
              </a:rPr>
              <a:t>1%82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9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1"/>
              </a:rPr>
              <a:t>5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9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9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5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images.yandex.ru/yandsearch?text=%D0%B1%D0%B5%D0%B7%D0%BE%D0%BF%D0%B0%D1%81%D0%BD%D0%BE%D1%81%D1%82%D1%8C%D0%B4%D0%B5%D1%82%D0%B5%D0%B9%20%20%D0%B2%20%D0%B1%D1%8B%D1%82%D1%83%20%D0%BA%D0%B0%D1%80%D1%82%D0%B8%D0%BD%D0%BA%D0%B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8007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хранять жизнь детей - это просто проявлять здравый смыс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чень важно, чтобы Вы на шаг опережали ребёнка, тогда Вы сумеете предвидеть, что он может сделать, - ещё до того, как он это сделае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мните, что Ваш малыш взрослеет и забот, ответственности за его жизнь и здоровье с каждым днём прибавляетс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могите ребёнку удовлетворить его познавательный интерес к окружающему миру, создав все необходимые условия безопасной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3157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кажите ребенку, почему нельзя баловаться со спичками, свечами, зажигалками, петардами и бенгальскими огнями. Не играй с этими предметами, это может привести к пожа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05944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30859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вставляйте блокираторы в электророзетки во избежание засунуть отвёртку, шпильку, пальчик в одну из дырочек, какие он видит в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35280" y="981000"/>
            <a:ext cx="5148360" cy="51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39272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ичего нельзя вставлять в розетку. Обратите внимание ребенка на то, что ни в  коем случае нельзя дотрагиваться до розетки мокрыми руками. Нельзя вставлять в розетку посторонние предме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052640"/>
            <a:ext cx="44751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39272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надёжно запирайте лекарства и всё, что может оказаться ядовитым для ребё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4720" y="765000"/>
            <a:ext cx="407988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836280"/>
            <a:ext cx="3086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ельзя открывать дверь незнакомым людям. Поиграйте с ним в игру «Дзинь! Кто за дверью?», перечисляя своих близких и знакомых и выясняя вместе с ребенком, кому он может открывать дверь, а кому нет.. Не открывай дверь незнакомым люд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51280" y="692280"/>
            <a:ext cx="504180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39272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что забираться на подоконник, высовываться из окна, преклоняться через перила балкона очень опасно. Можно не бояться высоты, но можно упасть и сильно поран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омни, играть на высоте оп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836640"/>
            <a:ext cx="35668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4214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кажите ребенку предметы в вашей квартире, которые могут быть горячими. Будь осторожен с этими предметами, они очень горячие – можно обжеч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ельзя самостоятельно крутить рычажки и нажимать на кнопочки на плите и других приборах. Запомни, эти предметы тоже могут обжеч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08440" y="765000"/>
            <a:ext cx="39672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0:16:58Z</dcterms:created>
  <dc:creator>Наталья</dc:creator>
  <dc:description/>
  <dc:language>en-US</dc:language>
  <cp:lastModifiedBy>Наталья</cp:lastModifiedBy>
  <dcterms:modified xsi:type="dcterms:W3CDTF">2013-02-12T11:59:20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