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7DA-62CC-4238-A65E-1333588E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3AD-5654-48B0-B29D-BE5EE76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CBD-8FFC-4496-8DEE-AB2F03C5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A68-56A4-4D3F-95D3-99380D25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868-076C-4C9D-B8E6-0716CDD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235-5825-4945-96EA-D38D252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BB4-DBDC-4767-A051-004BF49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CA7-3B3F-469B-93D6-5277F95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785-EA18-4E8A-8FCA-39F7B1A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588-0ABD-4E73-8907-C90F853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F76-63F9-48EB-BEED-8F3ACF0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8E1-2B63-44A4-9332-7EC98F5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C8A-B02E-47DE-8EF7-83B52217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-380880"/>
            <a:ext cx="5333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52640" y="952560"/>
            <a:ext cx="523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519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579760" cy="403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3146400"/>
            <a:ext cx="4860720" cy="371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365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6:26:20Z</dcterms:created>
  <dc:creator>Andrei Sysoev</dc:creator>
  <dc:description/>
  <dc:language>en-US</dc:language>
  <cp:lastModifiedBy>Andrei Sysoev</cp:lastModifiedBy>
  <dcterms:modified xsi:type="dcterms:W3CDTF">2012-01-24T03:48:46Z</dcterms:modified>
  <cp:revision>4</cp:revision>
  <dc:subject/>
  <dc:title>Слайд 1</dc:title>
</cp:coreProperties>
</file>