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82D7-53AF-4080-8B08-E7087D31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D6A5-8D43-4706-8026-61E5CAE5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0FE0-E8B0-4161-9974-2C0BAE6D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1D2F-84ED-4F26-A8F6-33430673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98EA-5229-4E39-B519-115D7F34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BC4-1ECD-4995-B97F-AC6D1DA6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494-F70C-4394-9C66-19E4E7FB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7775-7DBB-4866-8F01-642E4309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2C35-3E2E-45FA-951A-E23442A9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048C-DF87-4E7A-A47B-1606C129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A936-F988-4CEA-9960-F856473A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F5EF-2222-4AD5-8DC6-2188C51D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F725-DD3E-4CD3-80F4-B55726A17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05120" y="-380880"/>
            <a:ext cx="5333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52640" y="952560"/>
            <a:ext cx="5238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5192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2579760" cy="4034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19640" y="3146400"/>
            <a:ext cx="4860720" cy="371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427640" y="0"/>
            <a:ext cx="3657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06:26:20Z</dcterms:created>
  <dc:creator>Andrei Sysoev</dc:creator>
  <dc:description/>
  <dc:language>en-US</dc:language>
  <cp:lastModifiedBy>Andrei Sysoev</cp:lastModifiedBy>
  <dcterms:modified xsi:type="dcterms:W3CDTF">2012-01-24T03:48:46Z</dcterms:modified>
  <cp:revision>4</cp:revision>
  <dc:subject/>
  <dc:title>Слайд 1</dc:title>
</cp:coreProperties>
</file>