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03D-73FA-4E9C-BCB1-2D76AA33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F1B-DB06-4D1A-90F8-9700EAC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C30-628F-458F-9A06-32EB1AD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4C8-ED93-4FEF-ABED-F90FFB96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7A2-E75C-4275-B6E7-FF4FBEF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745-63A5-4155-87E1-F72F07D3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51E-0A4D-4714-82AE-13BC751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CFE-2289-497E-AA75-B2CDEB4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E38-2390-4DB0-B516-C3DEC7F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E74-CC67-4BFC-98A3-A2D5707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7DF-6DD4-44E4-BEF1-30AFBA8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FA1-1189-44BB-91A0-9BD3E141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B20-4140-475E-ABD8-37127CAC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-380880"/>
            <a:ext cx="5333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52640" y="952560"/>
            <a:ext cx="523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519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579760" cy="403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3146400"/>
            <a:ext cx="4860720" cy="371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365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6:26:20Z</dcterms:created>
  <dc:creator>Andrei Sysoev</dc:creator>
  <dc:description/>
  <dc:language>en-US</dc:language>
  <cp:lastModifiedBy>Andrei Sysoev</cp:lastModifiedBy>
  <dcterms:modified xsi:type="dcterms:W3CDTF">2012-01-24T03:48:46Z</dcterms:modified>
  <cp:revision>4</cp:revision>
  <dc:subject/>
  <dc:title>Слайд 1</dc:title>
</cp:coreProperties>
</file>