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382250" cy="71278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18C-7E02-4F3B-AE32-DCFBFCD6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934560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" y="4119120"/>
            <a:ext cx="934560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DE8-CE94-4452-A8A7-1D86E856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7840" y="1662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120" y="4119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7840" y="4119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0C2-6317-4276-876F-6C9C83FF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30088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8840" y="1662120"/>
            <a:ext cx="30088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38560" y="1662120"/>
            <a:ext cx="30088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120" y="4119120"/>
            <a:ext cx="30088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8840" y="4119120"/>
            <a:ext cx="30088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38560" y="4119120"/>
            <a:ext cx="30088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A56-EF2C-47F8-A751-0B15C210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9120" y="1662120"/>
            <a:ext cx="934560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653-4EF5-4649-AC48-7478EE96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9345600" cy="4703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1BF-FF91-4600-B201-14DF6DCE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4560480" cy="4703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7840" y="1662120"/>
            <a:ext cx="4560480" cy="4703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4DE-ABFD-4075-9A1E-D3762E9A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771-F895-4CCE-8CC4-E9A9E7DD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9120" y="285840"/>
            <a:ext cx="934560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EC98-ECCD-4C0B-BCC9-4FFDE178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7840" y="1662120"/>
            <a:ext cx="4560480" cy="4703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9120" y="4119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726-905E-4886-B943-1128AE66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4560480" cy="4703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7840" y="1662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7840" y="4119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F91-085B-4ABC-9FB4-82ABFADC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7840" y="1662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" y="4119120"/>
            <a:ext cx="934560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E33-123D-4C4B-A78D-E594EFAE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9120" y="1662120"/>
            <a:ext cx="9345600" cy="4703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-3747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12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5100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510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5108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5108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5108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8760" y="6489720"/>
            <a:ext cx="2422440" cy="495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8160" y="6489720"/>
            <a:ext cx="3287520" cy="495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41920" y="6489720"/>
            <a:ext cx="2422440" cy="495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456D-4DFF-4C35-B6E8-BCB30FEA1850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9200" y="3059280"/>
            <a:ext cx="934596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7300" spc="-1" strike="noStrike">
                <a:solidFill>
                  <a:srgbClr val="0070c0"/>
                </a:solidFill>
                <a:latin typeface="Arial"/>
              </a:rPr>
              <a:t>ЗАРУБЕЖНЫЕ КОМПОЗИТОРЫ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5362200"/>
            <a:ext cx="9345600" cy="17636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ЛИСТ</a:t>
            </a:r>
            <a:br>
              <a:rPr sz="6000"/>
            </a:b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ФЕРЕНЦ (1811 – 1886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Лист Ф"/>
          <p:cNvPicPr/>
          <p:nvPr/>
        </p:nvPicPr>
        <p:blipFill>
          <a:blip r:embed="rId1"/>
          <a:stretch/>
        </p:blipFill>
        <p:spPr>
          <a:xfrm>
            <a:off x="0" y="0"/>
            <a:ext cx="5070600" cy="62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4280" y="5722560"/>
            <a:ext cx="9345600" cy="11876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100" spc="-1" strike="noStrike">
                <a:solidFill>
                  <a:srgbClr val="0070c0"/>
                </a:solidFill>
                <a:latin typeface="Arial"/>
              </a:rPr>
              <a:t>МЕНДЕЛЬСОН </a:t>
            </a:r>
            <a:br>
              <a:rPr sz="61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ФЕЛИКС (1809 – 1847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Мендельсон Ф"/>
          <p:cNvPicPr/>
          <p:nvPr/>
        </p:nvPicPr>
        <p:blipFill>
          <a:blip r:embed="rId1"/>
          <a:stretch/>
        </p:blipFill>
        <p:spPr>
          <a:xfrm>
            <a:off x="0" y="0"/>
            <a:ext cx="5478480" cy="55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5349960"/>
            <a:ext cx="9345600" cy="17762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100" spc="-1" strike="noStrike">
                <a:solidFill>
                  <a:srgbClr val="0070c0"/>
                </a:solidFill>
                <a:latin typeface="Arial"/>
              </a:rPr>
              <a:t>МОЦАРТ </a:t>
            </a:r>
            <a:br>
              <a:rPr sz="61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ЛЕОПОЛЬД (1719 – 1787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Моцарт Л"/>
          <p:cNvPicPr/>
          <p:nvPr/>
        </p:nvPicPr>
        <p:blipFill>
          <a:blip r:embed="rId1"/>
          <a:stretch/>
        </p:blipFill>
        <p:spPr>
          <a:xfrm>
            <a:off x="5119560" y="0"/>
            <a:ext cx="5264280" cy="61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0280" y="5579640"/>
            <a:ext cx="9345600" cy="11876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ШОПЕН </a:t>
            </a:r>
            <a:br>
              <a:rPr sz="57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ФРИДЕРИК (1810 – 1849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Шопен Ф"/>
          <p:cNvPicPr/>
          <p:nvPr/>
        </p:nvPicPr>
        <p:blipFill>
          <a:blip r:embed="rId1"/>
          <a:stretch/>
        </p:blipFill>
        <p:spPr>
          <a:xfrm>
            <a:off x="5549760" y="0"/>
            <a:ext cx="483408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1200" y="5435640"/>
            <a:ext cx="9345600" cy="1690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100" spc="-1" strike="noStrike">
                <a:solidFill>
                  <a:srgbClr val="0070c0"/>
                </a:solidFill>
                <a:latin typeface="Arial"/>
              </a:rPr>
              <a:t>ШТРАУС </a:t>
            </a:r>
            <a:br>
              <a:rPr sz="61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ИОГАНН (СЫН) (1825 – 1899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Штраус И"/>
          <p:cNvPicPr/>
          <p:nvPr/>
        </p:nvPicPr>
        <p:blipFill>
          <a:blip r:embed="rId1"/>
          <a:stretch/>
        </p:blipFill>
        <p:spPr>
          <a:xfrm>
            <a:off x="5478480" y="0"/>
            <a:ext cx="490536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5200" y="5362200"/>
            <a:ext cx="9345600" cy="11876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100" spc="-1" strike="noStrike">
                <a:solidFill>
                  <a:srgbClr val="0070c0"/>
                </a:solidFill>
                <a:latin typeface="Arial"/>
              </a:rPr>
              <a:t>ШУБЕРТ </a:t>
            </a:r>
            <a:br>
              <a:rPr sz="61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ФРАНЦ (1797 – 1828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Шуберт Ф"/>
          <p:cNvPicPr/>
          <p:nvPr/>
        </p:nvPicPr>
        <p:blipFill>
          <a:blip r:embed="rId1"/>
          <a:stretch/>
        </p:blipFill>
        <p:spPr>
          <a:xfrm>
            <a:off x="0" y="0"/>
            <a:ext cx="4832280" cy="57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4564080"/>
            <a:ext cx="13393800" cy="3155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100" spc="-1" strike="noStrike">
                <a:solidFill>
                  <a:srgbClr val="0070c0"/>
                </a:solidFill>
                <a:latin typeface="Arial"/>
              </a:rPr>
              <a:t>ШУМАН </a:t>
            </a:r>
            <a:br>
              <a:rPr sz="61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РОБЕРТ (1810 – 1856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Шуман Р"/>
          <p:cNvPicPr/>
          <p:nvPr/>
        </p:nvPicPr>
        <p:blipFill>
          <a:blip r:embed="rId1"/>
          <a:stretch/>
        </p:blipFill>
        <p:spPr>
          <a:xfrm>
            <a:off x="4111560" y="0"/>
            <a:ext cx="6272280" cy="59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564160"/>
            <a:ext cx="12203280" cy="1974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БАХ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ИОГАНН СЕБАСТЬЯН (1685 – 1750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5" descr="Бах И"/>
          <p:cNvPicPr/>
          <p:nvPr/>
        </p:nvPicPr>
        <p:blipFill>
          <a:blip r:embed="rId1"/>
          <a:stretch/>
        </p:blipFill>
        <p:spPr>
          <a:xfrm>
            <a:off x="5191200" y="0"/>
            <a:ext cx="5192640" cy="62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277960"/>
            <a:ext cx="12066480" cy="1847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БЕТХОВЕН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ЛЮДВИГ ВАН (1770 – 1827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4" descr="Бетховен Л"/>
          <p:cNvPicPr/>
          <p:nvPr/>
        </p:nvPicPr>
        <p:blipFill>
          <a:blip r:embed="rId1"/>
          <a:stretch/>
        </p:blipFill>
        <p:spPr>
          <a:xfrm>
            <a:off x="4832280" y="0"/>
            <a:ext cx="5551560" cy="63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5938920"/>
            <a:ext cx="964872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БИЗЕ</a:t>
            </a: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ЖОРЖ (1838 - 1875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Бизе Ж"/>
          <p:cNvPicPr/>
          <p:nvPr/>
        </p:nvPicPr>
        <p:blipFill>
          <a:blip r:embed="rId1"/>
          <a:stretch/>
        </p:blipFill>
        <p:spPr>
          <a:xfrm>
            <a:off x="4905360" y="0"/>
            <a:ext cx="54784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5200" y="5290920"/>
            <a:ext cx="9345600" cy="15476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БРАМС</a:t>
            </a:r>
            <a:br>
              <a:rPr sz="50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ИОГАННЕС (18</a:t>
            </a:r>
            <a:r>
              <a:rPr b="1" lang="en-US" sz="5000" spc="-1" strike="noStrike">
                <a:solidFill>
                  <a:srgbClr val="0070c0"/>
                </a:solidFill>
                <a:latin typeface="Arial"/>
              </a:rPr>
              <a:t>33</a:t>
            </a: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 – 18</a:t>
            </a:r>
            <a:r>
              <a:rPr b="1" lang="en-US" sz="5000" spc="-1" strike="noStrike">
                <a:solidFill>
                  <a:srgbClr val="0070c0"/>
                </a:solidFill>
                <a:latin typeface="Arial"/>
              </a:rPr>
              <a:t>9</a:t>
            </a: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7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Брамс И"/>
          <p:cNvPicPr/>
          <p:nvPr/>
        </p:nvPicPr>
        <p:blipFill>
          <a:blip r:embed="rId1"/>
          <a:stretch/>
        </p:blipFill>
        <p:spPr>
          <a:xfrm>
            <a:off x="0" y="0"/>
            <a:ext cx="4905360" cy="61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56516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ВЕРДИ</a:t>
            </a:r>
            <a:br>
              <a:rPr sz="6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ДЖУЗЕППЕ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(1813 – 1</a:t>
            </a:r>
            <a:r>
              <a:rPr b="1" lang="en-US" sz="5000" spc="-1" strike="noStrike">
                <a:solidFill>
                  <a:srgbClr val="0070c0"/>
                </a:solidFill>
                <a:latin typeface="Arial"/>
              </a:rPr>
              <a:t>901</a:t>
            </a: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Верди Д"/>
          <p:cNvPicPr/>
          <p:nvPr/>
        </p:nvPicPr>
        <p:blipFill>
          <a:blip r:embed="rId1"/>
          <a:stretch/>
        </p:blipFill>
        <p:spPr>
          <a:xfrm>
            <a:off x="0" y="0"/>
            <a:ext cx="562140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5200" y="529128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700" spc="-1" strike="noStrike">
                <a:solidFill>
                  <a:srgbClr val="0070c0"/>
                </a:solidFill>
                <a:latin typeface="Arial"/>
              </a:rPr>
              <a:t>ВИВАЛЬДИ </a:t>
            </a:r>
            <a:br>
              <a:rPr sz="67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АНТОНИО (1678 – 1741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Вивальди А"/>
          <p:cNvPicPr/>
          <p:nvPr/>
        </p:nvPicPr>
        <p:blipFill>
          <a:blip r:embed="rId1"/>
          <a:stretch/>
        </p:blipFill>
        <p:spPr>
          <a:xfrm>
            <a:off x="5313240" y="0"/>
            <a:ext cx="507060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579640"/>
            <a:ext cx="10693440" cy="15462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ГАЙДН </a:t>
            </a: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ФРАНЦ ЙОЗЕФ (1732 – 1809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Гайдн Ф"/>
          <p:cNvPicPr/>
          <p:nvPr/>
        </p:nvPicPr>
        <p:blipFill>
          <a:blip r:embed="rId1"/>
          <a:stretch/>
        </p:blipFill>
        <p:spPr>
          <a:xfrm>
            <a:off x="5764320" y="0"/>
            <a:ext cx="461952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9560" y="4678200"/>
            <a:ext cx="9344160" cy="2448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ГЕРШВИН  </a:t>
            </a:r>
            <a:br>
              <a:rPr sz="6000"/>
            </a:b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ДЖОРДЖ (1898 - 1937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Гершвин Д"/>
          <p:cNvPicPr/>
          <p:nvPr/>
        </p:nvPicPr>
        <p:blipFill>
          <a:blip r:embed="rId1"/>
          <a:stretch/>
        </p:blipFill>
        <p:spPr>
          <a:xfrm>
            <a:off x="0" y="0"/>
            <a:ext cx="54370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06:21:50Z</dcterms:created>
  <dc:creator>Zdobnova_NV</dc:creator>
  <dc:description/>
  <dc:language>en-US</dc:language>
  <cp:lastModifiedBy>1</cp:lastModifiedBy>
  <dcterms:modified xsi:type="dcterms:W3CDTF">2010-05-13T20:58:31Z</dcterms:modified>
  <cp:revision>31</cp:revision>
  <dc:subject/>
  <dc:title>Слайд 1</dc:title>
</cp:coreProperties>
</file>