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0382250" cy="7127875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8F70-855E-4B73-851B-CC7A7D5EA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9120" y="285840"/>
            <a:ext cx="9345600" cy="11872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9120" y="1662120"/>
            <a:ext cx="9345600" cy="22435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9120" y="4119120"/>
            <a:ext cx="9345600" cy="22435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7CB6-8BE5-4DA3-A4DA-CA9FC1F5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9120" y="285840"/>
            <a:ext cx="9345600" cy="11872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9120" y="1662120"/>
            <a:ext cx="4560480" cy="22435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7840" y="1662120"/>
            <a:ext cx="4560480" cy="22435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9120" y="4119120"/>
            <a:ext cx="4560480" cy="22435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07840" y="4119120"/>
            <a:ext cx="4560480" cy="22435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D953-A9F0-4307-A8F4-F3A1E3D73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9120" y="285840"/>
            <a:ext cx="9345600" cy="11872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9120" y="1662120"/>
            <a:ext cx="3008880" cy="22435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78840" y="1662120"/>
            <a:ext cx="3008880" cy="22435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38560" y="1662120"/>
            <a:ext cx="3008880" cy="22435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120" y="4119120"/>
            <a:ext cx="3008880" cy="22435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78840" y="4119120"/>
            <a:ext cx="3008880" cy="22435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38560" y="4119120"/>
            <a:ext cx="3008880" cy="22435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FD5B-D270-4B5F-9143-902788D3D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9120" y="285840"/>
            <a:ext cx="9345600" cy="11872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9120" y="1662120"/>
            <a:ext cx="934560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DE0B-CDEE-47DB-89EB-9141A1306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9120" y="285840"/>
            <a:ext cx="9345600" cy="11872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9120" y="1662120"/>
            <a:ext cx="9345600" cy="4703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8ABE-315C-42C3-B323-69ED34A5D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9120" y="285840"/>
            <a:ext cx="9345600" cy="11872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9120" y="1662120"/>
            <a:ext cx="4560480" cy="4703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07840" y="1662120"/>
            <a:ext cx="4560480" cy="4703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67B2-86BF-45AC-AD5E-CFEE34449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9120" y="285840"/>
            <a:ext cx="9345600" cy="11872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65FF-5B1D-48F9-A109-48CAF9E10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9120" y="285840"/>
            <a:ext cx="934560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D464-5356-4685-8EBA-0CC5984E1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9120" y="285840"/>
            <a:ext cx="9345600" cy="11872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9120" y="1662120"/>
            <a:ext cx="4560480" cy="22435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07840" y="1662120"/>
            <a:ext cx="4560480" cy="4703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9120" y="4119120"/>
            <a:ext cx="4560480" cy="22435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424A-C427-41E5-AC21-E89E8C36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9120" y="285840"/>
            <a:ext cx="9345600" cy="11872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9120" y="1662120"/>
            <a:ext cx="4560480" cy="4703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07840" y="1662120"/>
            <a:ext cx="4560480" cy="22435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07840" y="4119120"/>
            <a:ext cx="4560480" cy="22435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F7B6-619B-4DDE-941B-58DC77B2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9120" y="285840"/>
            <a:ext cx="9345600" cy="11872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9120" y="1662120"/>
            <a:ext cx="4560480" cy="22435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07840" y="1662120"/>
            <a:ext cx="4560480" cy="22435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9120" y="4119120"/>
            <a:ext cx="9345600" cy="22435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F355-145B-4C67-BE45-21EF69F8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9120" y="285840"/>
            <a:ext cx="9345600" cy="11872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9120" y="1662120"/>
            <a:ext cx="9345600" cy="4703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marL="374760" indent="-3747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1284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5100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51040" indent="-2509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51080" indent="-2491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51080" indent="-2491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51080" indent="-2491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8760" y="6489720"/>
            <a:ext cx="2422440" cy="4953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8160" y="6489720"/>
            <a:ext cx="3287520" cy="4953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441920" y="6489720"/>
            <a:ext cx="2422440" cy="4953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6DB73-174B-42D9-9918-23DB2AF123C6}" type="slidenum">
              <a:rPr b="0" lang="ru-RU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937aa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39200" y="3059280"/>
            <a:ext cx="9345960" cy="11872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ru-RU" sz="7300" spc="-1" strike="noStrike">
                <a:solidFill>
                  <a:srgbClr val="0070c0"/>
                </a:solidFill>
                <a:latin typeface="Arial"/>
              </a:rPr>
              <a:t>ЗАРУБЕЖНЫЕ КОМПОЗИТОРЫ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937aa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84280" y="5362200"/>
            <a:ext cx="9345600" cy="176364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Arial"/>
              </a:rPr>
              <a:t>ЛИСТ</a:t>
            </a:r>
            <a:br>
              <a:rPr sz="6000"/>
            </a:br>
            <a:r>
              <a:rPr b="1" lang="ru-RU" sz="6000" spc="-1" strike="noStrike">
                <a:solidFill>
                  <a:srgbClr val="0070c0"/>
                </a:solidFill>
                <a:latin typeface="Arial"/>
              </a:rPr>
              <a:t> ФЕРЕНЦ (1811 – 1886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Лист Ф"/>
          <p:cNvPicPr/>
          <p:nvPr/>
        </p:nvPicPr>
        <p:blipFill>
          <a:blip r:embed="rId1"/>
          <a:stretch/>
        </p:blipFill>
        <p:spPr>
          <a:xfrm>
            <a:off x="0" y="0"/>
            <a:ext cx="5070600" cy="627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937aa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84280" y="5722560"/>
            <a:ext cx="9345600" cy="118764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ru-RU" sz="6100" spc="-1" strike="noStrike">
                <a:solidFill>
                  <a:srgbClr val="0070c0"/>
                </a:solidFill>
                <a:latin typeface="Arial"/>
              </a:rPr>
              <a:t>МЕНДЕЛЬСОН </a:t>
            </a:r>
            <a:br>
              <a:rPr sz="6100"/>
            </a:br>
            <a:r>
              <a:rPr b="1" lang="ru-RU" sz="5000" spc="-1" strike="noStrike">
                <a:solidFill>
                  <a:srgbClr val="0070c0"/>
                </a:solidFill>
                <a:latin typeface="Arial"/>
              </a:rPr>
              <a:t>ФЕЛИКС (1809 – 1847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Мендельсон Ф"/>
          <p:cNvPicPr/>
          <p:nvPr/>
        </p:nvPicPr>
        <p:blipFill>
          <a:blip r:embed="rId1"/>
          <a:stretch/>
        </p:blipFill>
        <p:spPr>
          <a:xfrm>
            <a:off x="0" y="0"/>
            <a:ext cx="5478480" cy="559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gradFill rotWithShape="0">
          <a:gsLst>
            <a:gs pos="0">
              <a:srgbClr val="b937aa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6280" y="5349960"/>
            <a:ext cx="9345600" cy="177624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ru-RU" sz="6100" spc="-1" strike="noStrike">
                <a:solidFill>
                  <a:srgbClr val="0070c0"/>
                </a:solidFill>
                <a:latin typeface="Arial"/>
              </a:rPr>
              <a:t>МОЦАРТ </a:t>
            </a:r>
            <a:br>
              <a:rPr sz="6100"/>
            </a:br>
            <a:r>
              <a:rPr b="1" lang="ru-RU" sz="5000" spc="-1" strike="noStrike">
                <a:solidFill>
                  <a:srgbClr val="0070c0"/>
                </a:solidFill>
                <a:latin typeface="Arial"/>
              </a:rPr>
              <a:t>ЛЕОПОЛЬД (1719 – 1787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0" descr="Моцарт Л"/>
          <p:cNvPicPr/>
          <p:nvPr/>
        </p:nvPicPr>
        <p:blipFill>
          <a:blip r:embed="rId1"/>
          <a:stretch/>
        </p:blipFill>
        <p:spPr>
          <a:xfrm>
            <a:off x="5119560" y="0"/>
            <a:ext cx="5264280" cy="61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937aa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00280" y="5579640"/>
            <a:ext cx="9345600" cy="118764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Arial"/>
              </a:rPr>
              <a:t>ШОПЕН </a:t>
            </a:r>
            <a:br>
              <a:rPr sz="5700"/>
            </a:br>
            <a:r>
              <a:rPr b="1" lang="ru-RU" sz="5000" spc="-1" strike="noStrike">
                <a:solidFill>
                  <a:srgbClr val="0070c0"/>
                </a:solidFill>
                <a:latin typeface="Arial"/>
              </a:rPr>
              <a:t>ФРИДЕРИК (1810 – 1849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Шопен Ф"/>
          <p:cNvPicPr/>
          <p:nvPr/>
        </p:nvPicPr>
        <p:blipFill>
          <a:blip r:embed="rId1"/>
          <a:stretch/>
        </p:blipFill>
        <p:spPr>
          <a:xfrm>
            <a:off x="5549760" y="0"/>
            <a:ext cx="4834080" cy="610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937aa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11200" y="5435640"/>
            <a:ext cx="9345600" cy="16905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ru-RU" sz="6100" spc="-1" strike="noStrike">
                <a:solidFill>
                  <a:srgbClr val="0070c0"/>
                </a:solidFill>
                <a:latin typeface="Arial"/>
              </a:rPr>
              <a:t>ШТРАУС </a:t>
            </a:r>
            <a:br>
              <a:rPr sz="6100"/>
            </a:br>
            <a:r>
              <a:rPr b="1" lang="ru-RU" sz="5000" spc="-1" strike="noStrike">
                <a:solidFill>
                  <a:srgbClr val="0070c0"/>
                </a:solidFill>
                <a:latin typeface="Arial"/>
              </a:rPr>
              <a:t>ИОГАНН (СЫН) (1825 – 1899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Штраус И"/>
          <p:cNvPicPr/>
          <p:nvPr/>
        </p:nvPicPr>
        <p:blipFill>
          <a:blip r:embed="rId1"/>
          <a:stretch/>
        </p:blipFill>
        <p:spPr>
          <a:xfrm>
            <a:off x="5478480" y="0"/>
            <a:ext cx="4905360" cy="610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937aa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95200" y="5362200"/>
            <a:ext cx="9345600" cy="118764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ru-RU" sz="6100" spc="-1" strike="noStrike">
                <a:solidFill>
                  <a:srgbClr val="0070c0"/>
                </a:solidFill>
                <a:latin typeface="Arial"/>
              </a:rPr>
              <a:t>ШУБЕРТ </a:t>
            </a:r>
            <a:br>
              <a:rPr sz="6100"/>
            </a:br>
            <a:r>
              <a:rPr b="1" lang="ru-RU" sz="5000" spc="-1" strike="noStrike">
                <a:solidFill>
                  <a:srgbClr val="0070c0"/>
                </a:solidFill>
                <a:latin typeface="Arial"/>
              </a:rPr>
              <a:t>ФРАНЦ (1797 – 1828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Шуберт Ф"/>
          <p:cNvPicPr/>
          <p:nvPr/>
        </p:nvPicPr>
        <p:blipFill>
          <a:blip r:embed="rId1"/>
          <a:stretch/>
        </p:blipFill>
        <p:spPr>
          <a:xfrm>
            <a:off x="0" y="0"/>
            <a:ext cx="4832280" cy="570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937aa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4564080"/>
            <a:ext cx="13393800" cy="3155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ru-RU" sz="6100" spc="-1" strike="noStrike">
                <a:solidFill>
                  <a:srgbClr val="0070c0"/>
                </a:solidFill>
                <a:latin typeface="Arial"/>
              </a:rPr>
              <a:t>ШУМАН </a:t>
            </a:r>
            <a:br>
              <a:rPr sz="6100"/>
            </a:br>
            <a:r>
              <a:rPr b="1" lang="ru-RU" sz="5000" spc="-1" strike="noStrike">
                <a:solidFill>
                  <a:srgbClr val="0070c0"/>
                </a:solidFill>
                <a:latin typeface="Arial"/>
              </a:rPr>
              <a:t>РОБЕРТ (1810 – 1856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Шуман Р"/>
          <p:cNvPicPr/>
          <p:nvPr/>
        </p:nvPicPr>
        <p:blipFill>
          <a:blip r:embed="rId1"/>
          <a:stretch/>
        </p:blipFill>
        <p:spPr>
          <a:xfrm>
            <a:off x="4111560" y="0"/>
            <a:ext cx="6272280" cy="599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937aa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5564160"/>
            <a:ext cx="12203280" cy="19749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Arial"/>
              </a:rPr>
              <a:t>БАХ 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ИОГАНН СЕБАСТЬЯН (1685 – 1750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5" descr="Бах И"/>
          <p:cNvPicPr/>
          <p:nvPr/>
        </p:nvPicPr>
        <p:blipFill>
          <a:blip r:embed="rId1"/>
          <a:stretch/>
        </p:blipFill>
        <p:spPr>
          <a:xfrm>
            <a:off x="5191200" y="0"/>
            <a:ext cx="5192640" cy="623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937aa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5277960"/>
            <a:ext cx="12066480" cy="18478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Arial"/>
              </a:rPr>
              <a:t>БЕТХОВЕН</a:t>
            </a: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5000" spc="-1" strike="noStrike">
                <a:solidFill>
                  <a:srgbClr val="0070c0"/>
                </a:solidFill>
                <a:latin typeface="Arial"/>
              </a:rPr>
              <a:t>ЛЮДВИГ ВАН (1770 – 1827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4" descr="Бетховен Л"/>
          <p:cNvPicPr/>
          <p:nvPr/>
        </p:nvPicPr>
        <p:blipFill>
          <a:blip r:embed="rId1"/>
          <a:stretch/>
        </p:blipFill>
        <p:spPr>
          <a:xfrm>
            <a:off x="4832280" y="0"/>
            <a:ext cx="5551560" cy="631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937aa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5938920"/>
            <a:ext cx="9648720" cy="11872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Arial"/>
              </a:rPr>
              <a:t>БИЗЕ</a:t>
            </a:r>
            <a:r>
              <a:rPr b="1" lang="ru-RU" sz="5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70c0"/>
                </a:solidFill>
                <a:latin typeface="Arial"/>
              </a:rPr>
              <a:t>ЖОРЖ (1838 - 1875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2" descr="Бизе Ж"/>
          <p:cNvPicPr/>
          <p:nvPr/>
        </p:nvPicPr>
        <p:blipFill>
          <a:blip r:embed="rId1"/>
          <a:stretch/>
        </p:blipFill>
        <p:spPr>
          <a:xfrm>
            <a:off x="4905360" y="0"/>
            <a:ext cx="5478480" cy="58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937aa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95200" y="5290920"/>
            <a:ext cx="9345600" cy="154764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Arial"/>
              </a:rPr>
              <a:t>БРАМС</a:t>
            </a:r>
            <a:br>
              <a:rPr sz="5000"/>
            </a:br>
            <a:r>
              <a:rPr b="1" lang="ru-RU" sz="5000" spc="-1" strike="noStrike">
                <a:solidFill>
                  <a:srgbClr val="0070c0"/>
                </a:solidFill>
                <a:latin typeface="Arial"/>
              </a:rPr>
              <a:t>ИОГАННЕС (18</a:t>
            </a:r>
            <a:r>
              <a:rPr b="1" lang="en-US" sz="5000" spc="-1" strike="noStrike">
                <a:solidFill>
                  <a:srgbClr val="0070c0"/>
                </a:solidFill>
                <a:latin typeface="Arial"/>
              </a:rPr>
              <a:t>33</a:t>
            </a:r>
            <a:r>
              <a:rPr b="1" lang="ru-RU" sz="5000" spc="-1" strike="noStrike">
                <a:solidFill>
                  <a:srgbClr val="0070c0"/>
                </a:solidFill>
                <a:latin typeface="Arial"/>
              </a:rPr>
              <a:t> – 18</a:t>
            </a:r>
            <a:r>
              <a:rPr b="1" lang="en-US" sz="5000" spc="-1" strike="noStrike">
                <a:solidFill>
                  <a:srgbClr val="0070c0"/>
                </a:solidFill>
                <a:latin typeface="Arial"/>
              </a:rPr>
              <a:t>9</a:t>
            </a:r>
            <a:r>
              <a:rPr b="1" lang="ru-RU" sz="5000" spc="-1" strike="noStrike">
                <a:solidFill>
                  <a:srgbClr val="0070c0"/>
                </a:solidFill>
                <a:latin typeface="Arial"/>
              </a:rPr>
              <a:t>7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Брамс И"/>
          <p:cNvPicPr/>
          <p:nvPr/>
        </p:nvPicPr>
        <p:blipFill>
          <a:blip r:embed="rId1"/>
          <a:stretch/>
        </p:blipFill>
        <p:spPr>
          <a:xfrm>
            <a:off x="0" y="0"/>
            <a:ext cx="4905360" cy="61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937aa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84280" y="5651640"/>
            <a:ext cx="9345600" cy="11872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Arial"/>
              </a:rPr>
              <a:t>ВЕРДИ</a:t>
            </a:r>
            <a:br>
              <a:rPr sz="6000"/>
            </a:b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5000" spc="-1" strike="noStrike">
                <a:solidFill>
                  <a:srgbClr val="0070c0"/>
                </a:solidFill>
                <a:latin typeface="Arial"/>
              </a:rPr>
              <a:t>ДЖУЗЕППЕ</a:t>
            </a: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5000" spc="-1" strike="noStrike">
                <a:solidFill>
                  <a:srgbClr val="0070c0"/>
                </a:solidFill>
                <a:latin typeface="Arial"/>
              </a:rPr>
              <a:t>(1813 – 1</a:t>
            </a:r>
            <a:r>
              <a:rPr b="1" lang="en-US" sz="5000" spc="-1" strike="noStrike">
                <a:solidFill>
                  <a:srgbClr val="0070c0"/>
                </a:solidFill>
                <a:latin typeface="Arial"/>
              </a:rPr>
              <a:t>901</a:t>
            </a:r>
            <a:r>
              <a:rPr b="1" lang="ru-RU" sz="5000" spc="-1" strike="noStrike">
                <a:solidFill>
                  <a:srgbClr val="0070c0"/>
                </a:solidFill>
                <a:latin typeface="Arial"/>
              </a:rPr>
              <a:t>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Верди Д"/>
          <p:cNvPicPr/>
          <p:nvPr/>
        </p:nvPicPr>
        <p:blipFill>
          <a:blip r:embed="rId1"/>
          <a:stretch/>
        </p:blipFill>
        <p:spPr>
          <a:xfrm>
            <a:off x="0" y="0"/>
            <a:ext cx="5621400" cy="610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937aa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95200" y="5291280"/>
            <a:ext cx="9345600" cy="11872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ru-RU" sz="6700" spc="-1" strike="noStrike">
                <a:solidFill>
                  <a:srgbClr val="0070c0"/>
                </a:solidFill>
                <a:latin typeface="Arial"/>
              </a:rPr>
              <a:t>ВИВАЛЬДИ </a:t>
            </a:r>
            <a:br>
              <a:rPr sz="6700"/>
            </a:br>
            <a:r>
              <a:rPr b="1" lang="ru-RU" sz="5000" spc="-1" strike="noStrike">
                <a:solidFill>
                  <a:srgbClr val="0070c0"/>
                </a:solidFill>
                <a:latin typeface="Arial"/>
              </a:rPr>
              <a:t>АНТОНИО (1678 – 1741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2" descr="Вивальди А"/>
          <p:cNvPicPr/>
          <p:nvPr/>
        </p:nvPicPr>
        <p:blipFill>
          <a:blip r:embed="rId1"/>
          <a:stretch/>
        </p:blipFill>
        <p:spPr>
          <a:xfrm>
            <a:off x="5313240" y="0"/>
            <a:ext cx="5070600" cy="610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937aa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5579640"/>
            <a:ext cx="10693440" cy="15462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Arial"/>
              </a:rPr>
              <a:t>ГАЙДН </a:t>
            </a:r>
            <a:br>
              <a:rPr sz="5400"/>
            </a:br>
            <a:r>
              <a:rPr b="1" lang="ru-RU" sz="5400" spc="-1" strike="noStrike">
                <a:solidFill>
                  <a:srgbClr val="0070c0"/>
                </a:solidFill>
                <a:latin typeface="Arial"/>
              </a:rPr>
              <a:t>ФРАНЦ ЙОЗЕФ (1732 – 1809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Гайдн Ф"/>
          <p:cNvPicPr/>
          <p:nvPr/>
        </p:nvPicPr>
        <p:blipFill>
          <a:blip r:embed="rId1"/>
          <a:stretch/>
        </p:blipFill>
        <p:spPr>
          <a:xfrm>
            <a:off x="5764320" y="0"/>
            <a:ext cx="4619520" cy="58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937aa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39560" y="4678200"/>
            <a:ext cx="9344160" cy="24480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Arial"/>
              </a:rPr>
              <a:t>ГЕРШВИН  </a:t>
            </a:r>
            <a:br>
              <a:rPr sz="6000"/>
            </a:br>
            <a:r>
              <a:rPr b="1" lang="ru-RU" sz="6000" spc="-1" strike="noStrike">
                <a:solidFill>
                  <a:srgbClr val="0070c0"/>
                </a:solidFill>
                <a:latin typeface="Arial"/>
              </a:rPr>
              <a:t>ДЖОРДЖ (1898 - 1937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" descr="Гершвин Д"/>
          <p:cNvPicPr/>
          <p:nvPr/>
        </p:nvPicPr>
        <p:blipFill>
          <a:blip r:embed="rId1"/>
          <a:stretch/>
        </p:blipFill>
        <p:spPr>
          <a:xfrm>
            <a:off x="0" y="0"/>
            <a:ext cx="5437080" cy="585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7T06:21:50Z</dcterms:created>
  <dc:creator>Zdobnova_NV</dc:creator>
  <dc:description/>
  <dc:language>en-US</dc:language>
  <cp:lastModifiedBy>1</cp:lastModifiedBy>
  <dcterms:modified xsi:type="dcterms:W3CDTF">2010-05-13T20:58:31Z</dcterms:modified>
  <cp:revision>31</cp:revision>
  <dc:subject/>
  <dc:title>Слайд 1</dc:title>
</cp:coreProperties>
</file>