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382250" cy="71278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B54-ECD3-4147-B3A5-CC0D3050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572-7076-40E6-812E-EB969688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4DD-A6EE-4AC2-9977-A0372134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884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38560" y="1662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884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38560" y="4119120"/>
            <a:ext cx="30088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F3B-AB7D-4AD1-9EB8-F108606C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8ED-B76F-46D0-B6E7-CB08BBE8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075-5E16-4005-8341-B5BD997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AB9-4566-464D-8541-4A51E64E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9A9-FDE7-4FE0-9234-C833013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285840"/>
            <a:ext cx="93456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0E7-CBF4-4A93-A1A1-19E00128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0D6-3807-4AD2-8B5F-703F54B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7840" y="4119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F0A-C2E2-4951-931E-40BD0EE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7840" y="1662120"/>
            <a:ext cx="456048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4119120"/>
            <a:ext cx="9345600" cy="22435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4C7-6045-4B31-AE9E-5D7DDA0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2858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662120"/>
            <a:ext cx="9345600" cy="4703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rmAutofit/>
          </a:bodyPr>
          <a:p>
            <a:pPr marL="374760" indent="-3747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5108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876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8160" y="6489720"/>
            <a:ext cx="328752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41920" y="6489720"/>
            <a:ext cx="2422440" cy="4953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80F-1502-4885-A5AC-F6AA77EE9B60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9200" y="3059280"/>
            <a:ext cx="934596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7300" spc="-1" strike="noStrike">
                <a:solidFill>
                  <a:srgbClr val="0070c0"/>
                </a:solidFill>
                <a:latin typeface="Arial"/>
              </a:rPr>
              <a:t>ЗАРУБЕЖНЫЕ КОМПОЗИТОРЫ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5362200"/>
            <a:ext cx="9345600" cy="1763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ЛИСТ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 ФЕРЕНЦ (1811 – 1886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Лист Ф"/>
          <p:cNvPicPr/>
          <p:nvPr/>
        </p:nvPicPr>
        <p:blipFill>
          <a:blip r:embed="rId1"/>
          <a:stretch/>
        </p:blipFill>
        <p:spPr>
          <a:xfrm>
            <a:off x="0" y="0"/>
            <a:ext cx="50706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4280" y="572256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ЕНДЕЛЬСО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ЕЛИКС (1809 – 184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ендельсон Ф"/>
          <p:cNvPicPr/>
          <p:nvPr/>
        </p:nvPicPr>
        <p:blipFill>
          <a:blip r:embed="rId1"/>
          <a:stretch/>
        </p:blipFill>
        <p:spPr>
          <a:xfrm>
            <a:off x="0" y="0"/>
            <a:ext cx="547848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5349960"/>
            <a:ext cx="9345600" cy="17762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МОЦА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ЕОПОЛЬД (1719 – 178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Моцарт Л"/>
          <p:cNvPicPr/>
          <p:nvPr/>
        </p:nvPicPr>
        <p:blipFill>
          <a:blip r:embed="rId1"/>
          <a:stretch/>
        </p:blipFill>
        <p:spPr>
          <a:xfrm>
            <a:off x="5119560" y="0"/>
            <a:ext cx="526428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557964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ШОПЕН </a:t>
            </a:r>
            <a:br>
              <a:rPr sz="5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ИДЕРИК (1810 – 184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Шопен Ф"/>
          <p:cNvPicPr/>
          <p:nvPr/>
        </p:nvPicPr>
        <p:blipFill>
          <a:blip r:embed="rId1"/>
          <a:stretch/>
        </p:blipFill>
        <p:spPr>
          <a:xfrm>
            <a:off x="5549760" y="0"/>
            <a:ext cx="483408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5435640"/>
            <a:ext cx="9345600" cy="16905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ТРАУС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 (СЫН) (1825 – 1899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Штраус И"/>
          <p:cNvPicPr/>
          <p:nvPr/>
        </p:nvPicPr>
        <p:blipFill>
          <a:blip r:embed="rId1"/>
          <a:stretch/>
        </p:blipFill>
        <p:spPr>
          <a:xfrm>
            <a:off x="5478480" y="0"/>
            <a:ext cx="490536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5200" y="5362200"/>
            <a:ext cx="9345600" cy="118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БЕРТ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ФРАНЦ (1797 – 1828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Шуберт Ф"/>
          <p:cNvPicPr/>
          <p:nvPr/>
        </p:nvPicPr>
        <p:blipFill>
          <a:blip r:embed="rId1"/>
          <a:stretch/>
        </p:blipFill>
        <p:spPr>
          <a:xfrm>
            <a:off x="0" y="0"/>
            <a:ext cx="48322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4564080"/>
            <a:ext cx="13393800" cy="3155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100" spc="-1" strike="noStrike">
                <a:solidFill>
                  <a:srgbClr val="0070c0"/>
                </a:solidFill>
                <a:latin typeface="Arial"/>
              </a:rPr>
              <a:t>ШУМАН </a:t>
            </a:r>
            <a:br>
              <a:rPr sz="61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РОБЕРТ (1810 – 1856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Шуман Р"/>
          <p:cNvPicPr/>
          <p:nvPr/>
        </p:nvPicPr>
        <p:blipFill>
          <a:blip r:embed="rId1"/>
          <a:stretch/>
        </p:blipFill>
        <p:spPr>
          <a:xfrm>
            <a:off x="4111560" y="0"/>
            <a:ext cx="627228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564160"/>
            <a:ext cx="12203280" cy="1974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АХ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ИОГАНН СЕБАСТЬЯН (1685 – 175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5" descr="Бах И"/>
          <p:cNvPicPr/>
          <p:nvPr/>
        </p:nvPicPr>
        <p:blipFill>
          <a:blip r:embed="rId1"/>
          <a:stretch/>
        </p:blipFill>
        <p:spPr>
          <a:xfrm>
            <a:off x="5191200" y="0"/>
            <a:ext cx="519264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277960"/>
            <a:ext cx="12066480" cy="18478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ЕТХОВЕН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ЛЮДВИГ ВАН (1770 – 182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Бетховен Л"/>
          <p:cNvPicPr/>
          <p:nvPr/>
        </p:nvPicPr>
        <p:blipFill>
          <a:blip r:embed="rId1"/>
          <a:stretch/>
        </p:blipFill>
        <p:spPr>
          <a:xfrm>
            <a:off x="4832280" y="0"/>
            <a:ext cx="5551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5938920"/>
            <a:ext cx="964872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БИЗЕ</a:t>
            </a:r>
            <a:r>
              <a:rPr b="1" lang="ru-RU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ЖОРЖ (1838 - 187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Бизе Ж"/>
          <p:cNvPicPr/>
          <p:nvPr/>
        </p:nvPicPr>
        <p:blipFill>
          <a:blip r:embed="rId1"/>
          <a:stretch/>
        </p:blipFill>
        <p:spPr>
          <a:xfrm>
            <a:off x="4905360" y="0"/>
            <a:ext cx="54784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5200" y="5290920"/>
            <a:ext cx="9345600" cy="154764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БРАМС</a:t>
            </a:r>
            <a:br>
              <a:rPr sz="50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ИОГАННЕС (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33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 – 18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7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Брамс И"/>
          <p:cNvPicPr/>
          <p:nvPr/>
        </p:nvPicPr>
        <p:blipFill>
          <a:blip r:embed="rId1"/>
          <a:stretch/>
        </p:blipFill>
        <p:spPr>
          <a:xfrm>
            <a:off x="0" y="0"/>
            <a:ext cx="4905360" cy="61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565164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ВЕРДИ</a:t>
            </a:r>
            <a:br>
              <a:rPr sz="6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ДЖУЗЕППЕ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(1813 – 1</a:t>
            </a:r>
            <a:r>
              <a:rPr b="1" lang="en-US" sz="5000" spc="-1" strike="noStrike">
                <a:solidFill>
                  <a:srgbClr val="0070c0"/>
                </a:solidFill>
                <a:latin typeface="Arial"/>
              </a:rPr>
              <a:t>901</a:t>
            </a: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Верди Д"/>
          <p:cNvPicPr/>
          <p:nvPr/>
        </p:nvPicPr>
        <p:blipFill>
          <a:blip r:embed="rId1"/>
          <a:stretch/>
        </p:blipFill>
        <p:spPr>
          <a:xfrm>
            <a:off x="0" y="0"/>
            <a:ext cx="56214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5200" y="5291280"/>
            <a:ext cx="9345600" cy="118728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700" spc="-1" strike="noStrike">
                <a:solidFill>
                  <a:srgbClr val="0070c0"/>
                </a:solidFill>
                <a:latin typeface="Arial"/>
              </a:rPr>
              <a:t>ВИВАЛЬДИ </a:t>
            </a:r>
            <a:br>
              <a:rPr sz="6700"/>
            </a:br>
            <a:r>
              <a:rPr b="1" lang="ru-RU" sz="5000" spc="-1" strike="noStrike">
                <a:solidFill>
                  <a:srgbClr val="0070c0"/>
                </a:solidFill>
                <a:latin typeface="Arial"/>
              </a:rPr>
              <a:t>АНТОНИО (1678 – 1741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Вивальди А"/>
          <p:cNvPicPr/>
          <p:nvPr/>
        </p:nvPicPr>
        <p:blipFill>
          <a:blip r:embed="rId1"/>
          <a:stretch/>
        </p:blipFill>
        <p:spPr>
          <a:xfrm>
            <a:off x="5313240" y="0"/>
            <a:ext cx="507060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579640"/>
            <a:ext cx="10693440" cy="15462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ГАЙДН </a:t>
            </a:r>
            <a:br>
              <a:rPr sz="5400"/>
            </a:b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ФРАНЦ ЙОЗЕФ (1732 – 1809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Гайдн Ф"/>
          <p:cNvPicPr/>
          <p:nvPr/>
        </p:nvPicPr>
        <p:blipFill>
          <a:blip r:embed="rId1"/>
          <a:stretch/>
        </p:blipFill>
        <p:spPr>
          <a:xfrm>
            <a:off x="5764320" y="0"/>
            <a:ext cx="46195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937aa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9560" y="4678200"/>
            <a:ext cx="9344160" cy="2448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ГЕРШВИН  </a:t>
            </a:r>
            <a:br>
              <a:rPr sz="6000"/>
            </a:br>
            <a:r>
              <a:rPr b="1" lang="ru-RU" sz="6000" spc="-1" strike="noStrike">
                <a:solidFill>
                  <a:srgbClr val="0070c0"/>
                </a:solidFill>
                <a:latin typeface="Arial"/>
              </a:rPr>
              <a:t>ДЖОРДЖ (1898 - 193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Гершвин Д"/>
          <p:cNvPicPr/>
          <p:nvPr/>
        </p:nvPicPr>
        <p:blipFill>
          <a:blip r:embed="rId1"/>
          <a:stretch/>
        </p:blipFill>
        <p:spPr>
          <a:xfrm>
            <a:off x="0" y="0"/>
            <a:ext cx="54370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06:21:50Z</dcterms:created>
  <dc:creator>Zdobnova_NV</dc:creator>
  <dc:description/>
  <dc:language>en-US</dc:language>
  <cp:lastModifiedBy>1</cp:lastModifiedBy>
  <dcterms:modified xsi:type="dcterms:W3CDTF">2010-05-13T20:58:31Z</dcterms:modified>
  <cp:revision>31</cp:revision>
  <dc:subject/>
  <dc:title>Слайд 1</dc:title>
</cp:coreProperties>
</file>