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68C-BE8A-495E-9792-0FE1668F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4EE-A45F-4092-9700-F2D2297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2B1-B221-46F8-B75D-4F46E46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F01-A28C-49F6-BA22-D551E5F5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939-1B91-41A9-AEC2-162C890A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5C4-E216-4629-B8CC-C1AB40A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F81-4120-4A0A-86C0-81F0DA2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3CB-98E6-4423-B35A-657F337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63D-9262-4F87-ADFB-213BEF9C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D54-6DF4-4BA7-B3D9-852CE60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AD1-1964-4EE3-ABB2-E2E2C62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85E-5613-4A02-BE5A-976410F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916-61B8-433B-B4E5-73FB0838A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ния от бабы Я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готовила: воспитатель средней группы, Габидуллина Алена Пав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haveirr"/>
          <p:cNvPicPr/>
          <p:nvPr/>
        </p:nvPicPr>
        <p:blipFill>
          <a:blip r:embed="rId1"/>
          <a:stretch/>
        </p:blipFill>
        <p:spPr>
          <a:xfrm>
            <a:off x="0" y="0"/>
            <a:ext cx="961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48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600200" y="-25560"/>
            <a:ext cx="6324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4171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Покажи правильно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такое количество пальцев, которое соответствует количеству предметов показанных на картин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3320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38160"/>
            <a:ext cx="81532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08000"/>
            <a:ext cx="8991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женя</dc:creator>
  <dc:description/>
  <dc:language>en-US</dc:language>
  <cp:lastModifiedBy>женя</cp:lastModifiedBy>
  <dcterms:modified xsi:type="dcterms:W3CDTF">2013-05-04T07:3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