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98F-2F95-44C4-9478-C0381798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F66-1A5E-438F-BFAB-932BB99F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3E1-40B5-49F4-8444-1DB0BB0B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816-C7C5-4501-B834-F4EC1E8F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D51-9D61-44B4-B085-279897EA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4AE-D277-464D-9FC8-D40779F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B30-A955-4068-98E2-DEF8F6E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4E8-4199-4785-9664-585F526D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482-8713-4DD6-8F56-B0498C47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594-45F6-4BA8-B180-96300918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F4B-745D-4508-AD26-EF0F6D4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C06-6741-4757-8460-9330FE1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B319-19EE-4ABD-9C3B-9EE7A2EA4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ния от бабы Я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готовила: воспитатель средней группы, Габидуллина Алена Пав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haveirr"/>
          <p:cNvPicPr/>
          <p:nvPr/>
        </p:nvPicPr>
        <p:blipFill>
          <a:blip r:embed="rId1"/>
          <a:stretch/>
        </p:blipFill>
        <p:spPr>
          <a:xfrm>
            <a:off x="0" y="0"/>
            <a:ext cx="9619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48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600200" y="-25560"/>
            <a:ext cx="63244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4171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Покажи правильно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такое количество пальцев, которое соответствует количеству предметов показанных на картин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3320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38160"/>
            <a:ext cx="81532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08000"/>
            <a:ext cx="8991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женя</dc:creator>
  <dc:description/>
  <dc:language>en-US</dc:language>
  <cp:lastModifiedBy>женя</cp:lastModifiedBy>
  <dcterms:modified xsi:type="dcterms:W3CDTF">2013-05-04T07:32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