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0ED-A8F9-47CE-94C6-607F6C4C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DCD-BCE9-41DD-BED4-F3B192B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B7E-683B-4747-966F-7D491F3A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ECE-6D55-477F-9629-924541D7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392-C8D4-4E8D-9EA4-9AA351B9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3E8-D933-44E4-99BA-55760F9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ED0-B8BD-417C-A596-A25B6FB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B41-03CB-4953-9CC9-3CBCF34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F6B-6D5E-434A-B181-699221BD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116-99B3-42C6-8029-BB5A3EA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AE2-4E4A-4319-AD18-7398943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EE8-5B35-466C-8D27-A3C1CB4D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986A-EAFA-43D1-B920-17D32BC55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дания от бабы Я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готовила: воспитатель средней группы, Габидуллина Алена Пав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haveirr"/>
          <p:cNvPicPr/>
          <p:nvPr/>
        </p:nvPicPr>
        <p:blipFill>
          <a:blip r:embed="rId1"/>
          <a:stretch/>
        </p:blipFill>
        <p:spPr>
          <a:xfrm>
            <a:off x="0" y="0"/>
            <a:ext cx="9619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48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600200" y="-25560"/>
            <a:ext cx="6324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4171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Покажи правильно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такое количество пальцев, которое соответствует количеству предметов показанных на картинк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33200"/>
            <a:ext cx="89917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7200" y="38160"/>
            <a:ext cx="81532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08000"/>
            <a:ext cx="8991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женя</dc:creator>
  <dc:description/>
  <dc:language>en-US</dc:language>
  <cp:lastModifiedBy>женя</cp:lastModifiedBy>
  <dcterms:modified xsi:type="dcterms:W3CDTF">2013-05-04T07:32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