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12EE-8D3A-49B9-A672-1BC971DE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B7D9-720F-47CF-956F-7AD1235F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0B3-030F-4A02-BA67-DF3EAE7C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828-EF2E-447A-8390-E2C95A16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63A9-60EA-418B-908D-AD8A1102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F99B-0EA6-4383-9037-FF8A5A1B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BE5F-E53D-4D09-AA40-24C993D7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A9F7-D930-4236-9F0A-705988C3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E561-7548-4B67-8412-FF86486F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8180-42F8-4391-B09E-B467679E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5E5B-8039-4DBF-A663-FD709C61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450B-D75E-4859-B856-394B293A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2B17-EB4B-4D68-B8E1-142C20AB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19E9-DC23-48E7-BBD0-8E5FD33D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1B91-A5BD-41BD-BAFF-049CF07E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D7E7-1BD9-485A-B914-801DA9DB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B564-A9D4-4DBB-8C92-484007AD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339-6A28-4FAD-B091-FDC7D771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DF2E-3C78-4D20-85F2-E439480F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FCE-F851-465D-8FCD-EF51D66C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FDE-67A5-40BE-8146-F7C6AD88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F01-DF30-4452-8981-9998FC11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5BE-F68F-4589-A72D-0223B5D6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49E-BE02-44B8-BECF-E10AFC6D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957C-9730-491A-87AA-F1D5C84E9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AB9D-A659-4E3F-A7EB-7C733B51A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Прокат сортовой. ГОСТы, марки стали. Круглый прокат"/>
          <p:cNvPicPr/>
          <p:nvPr/>
        </p:nvPicPr>
        <p:blipFill>
          <a:blip r:embed="rId1"/>
          <a:stretch/>
        </p:blipFill>
        <p:spPr>
          <a:xfrm>
            <a:off x="3924360" y="2514600"/>
            <a:ext cx="5219640" cy="3479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СОДРУЖЕСТВО, ТОРГОВЫЙ ДОМ, ООО г. Днепропетровск, ул. Гаванская, 5 Каталог компаний Украины Бизнес Гид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52280" y="3657600"/>
            <a:ext cx="3733920" cy="2562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838080" y="380880"/>
            <a:ext cx="6934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ff99"/>
                    </a:gs>
                    <a:gs pos="100000">
                      <a:srgbClr val="f8fd1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ртовой прокат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ff99"/>
                  </a:gs>
                  <a:gs pos="100000">
                    <a:srgbClr val="f8fd1b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редн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— круглые диаметра 32-75 мм, квадратные со стороной 32-65 мм и шестигранные до № 70, стальной периодический арматурный профиль № 32-60, двутавровые балки высотой до 300 мм, швеллеры высотой от 100—300 мм, рельсы узкой колеи Р18-Р24, штрипсы сечением до 8×145 мм, разнообразные фасонные профили отраслевого назначения и д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мелки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— круглая сталь диаметром 10-30 мм, квадратная сталь со стороной 8-10 мм, периодический арматурный профиль № 6-28, угловая сталь с шириной полок 20-50 мм, швеллеры № 5-8, полосовая сталь шириной до 60 мм, шестигранная сталь до № 30 и разнообразные фасонные профили отраслевого назначения эквивалентных разме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Сортовой прокат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Сортовой прока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это совокупность прокатных профилей, отличающихся по форме и размера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офиль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 форма поперечного сечения прокатного издел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Листовой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(лист, полоса (рулон), штрипс)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рячекатаные тонкие (толщина до 4 мм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рячекатаные толстые (толщина свыше 4 мм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олоднокатан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Холоднокатаный листовой прокат Оптовые базы Корпорация.ру"/>
          <p:cNvPicPr/>
          <p:nvPr/>
        </p:nvPicPr>
        <p:blipFill>
          <a:blip r:embed="rId1"/>
          <a:stretch/>
        </p:blipFill>
        <p:spPr>
          <a:xfrm>
            <a:off x="4419720" y="380880"/>
            <a:ext cx="4267080" cy="2800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Лист г/к 14мм ст.20, купить в Минске - Пульс цен"/>
          <p:cNvPicPr/>
          <p:nvPr/>
        </p:nvPicPr>
        <p:blipFill>
          <a:blip r:embed="rId2"/>
          <a:stretch/>
        </p:blipFill>
        <p:spPr>
          <a:xfrm>
            <a:off x="2590920" y="2971800"/>
            <a:ext cx="5524560" cy="3514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Нижегородский завод наращивает объем производства оцинкованного проката &quot; .::Кочубеевское.RU::. молодежный информационно развлек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04920" y="22860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Сортовой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стой (круг, квадрат, шестигранник, полоса плоского сечени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матура — это изделие из металла, применяемое для армирования железобетонных конструкц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Сортовой и фасонный прокат - продам. Цена договорная купить Сортовой и фасонный прокат. Украина. Фото"/>
          <p:cNvPicPr/>
          <p:nvPr/>
        </p:nvPicPr>
        <p:blipFill>
          <a:blip r:embed="rId1"/>
          <a:stretch/>
        </p:blipFill>
        <p:spPr>
          <a:xfrm>
            <a:off x="4114800" y="228600"/>
            <a:ext cx="4762440" cy="4781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Статьи &quot; Страница 12 &quot; Запорная арматура, нержавейка, кран шаровый, 12х18н10т"/>
          <p:cNvPicPr/>
          <p:nvPr/>
        </p:nvPicPr>
        <p:blipFill>
          <a:blip r:embed="rId2"/>
          <a:stretch/>
        </p:blipFill>
        <p:spPr>
          <a:xfrm>
            <a:off x="380880" y="7621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Прайс-лист &quot;Центрсталь&quot;,ООО Екатеринбург: Цены на товары и услуги из рубрики Металл и металлические изделия / сортовой прокат, а"/>
          <p:cNvPicPr/>
          <p:nvPr/>
        </p:nvPicPr>
        <p:blipFill>
          <a:blip r:embed="rId3"/>
          <a:srcRect l="5256" t="15137" r="5256" b="16451"/>
          <a:stretch/>
        </p:blipFill>
        <p:spPr>
          <a:xfrm>
            <a:off x="304920" y="3886200"/>
            <a:ext cx="3200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Фасонный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его (массового) потребления (угловой профиль, швеллеры, двутавровые балки и другие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ального назначения (рельсы железнодорожные широкой и узкой колеи, рельсы трамвайные, профили с/х машиностроения, судостроения, нефтяной и электропромышлен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Металлопрокат Металлопрокат в Рязани по низким ценам с аккур…"/>
          <p:cNvPicPr/>
          <p:nvPr/>
        </p:nvPicPr>
        <p:blipFill>
          <a:blip r:embed="rId1"/>
          <a:srcRect l="15001" t="5002" r="16250" b="5002"/>
          <a:stretch/>
        </p:blipFill>
        <p:spPr>
          <a:xfrm>
            <a:off x="6248520" y="0"/>
            <a:ext cx="2895480" cy="2843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Рельсы крановые КР 100, купить в Минске - Пульс цен"/>
          <p:cNvPicPr/>
          <p:nvPr/>
        </p:nvPicPr>
        <p:blipFill>
          <a:blip r:embed="rId2"/>
          <a:stretch/>
        </p:blipFill>
        <p:spPr>
          <a:xfrm>
            <a:off x="0" y="2362320"/>
            <a:ext cx="6753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о размеру профиля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ортовой прокат делится на: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рупны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— круглая сталь диаметром 80-250 мм, квадратная сталь со стороной 70-200 мм, периодические арматурные профили № 70-80, угловая сталь с шириной полок 90-250 мм, швеллеры и двутавровые балки обычные и облегченные высотой 360—600 мм, специальные широкополочные двутавры и колонные профили высотой до 1000 мм, шестигранная сталь до № 100, рельсы железнодорожные длины 1 м с массой 43-75 кг, полосовая сталь шириной до 250 мм и др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15:15:05Z</dcterms:created>
  <dc:creator>АНАСТАСИЯ</dc:creator>
  <dc:description/>
  <dc:language>en-US</dc:language>
  <cp:lastModifiedBy>АНАСТАСИЯ</cp:lastModifiedBy>
  <dcterms:modified xsi:type="dcterms:W3CDTF">2015-01-29T15:32:3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