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03E-D80D-4CE0-8A73-DE220F2C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50C-BA3B-4A94-8E5B-E68E8C2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64F-C02F-4D2D-94F4-C75EAE0C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2C5-1449-40C2-842C-5B272C27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E5FB-D43C-4DA2-9892-F3FAF99A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853D-30B9-4A14-BDE6-CA7A74A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0A31-1C89-4BB8-8C62-0125FE5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4339-5ECC-4CA5-B281-9E75BE33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9D4-7281-4E5E-8D8F-82C5BEC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DCC-E2DB-488A-8A37-1DC4B2FF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32A7-42AD-4513-8245-50C1991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56C-EC61-4EBB-860E-93199CB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3564-5E44-4F10-AF68-B08AC9D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132-28C6-4398-9BBA-E862F38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D051-297B-470B-9EC7-A64532C7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B5A0-F7D6-4736-8100-DAAE8B2B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2891-4429-4676-A12D-2BD67B31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60A-064A-48A9-BAE2-E3B8BAD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291-8C3A-426D-B125-29F49AE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FFD-B5FB-4AF0-BEE8-15A62B5C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AFA-67D5-4299-A5FB-6E35A53E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D9F-3B3F-48FF-AF1E-3CF76E2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CFD-3C84-4834-8418-D93C350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F81-BE85-489D-B323-37C7232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4468-46CF-411F-B5DD-FA204AC9A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A28-B1CF-4C3C-B5AE-9B851C75C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Прокат сортовой. ГОСТы, марки стали. Круглый прокат"/>
          <p:cNvPicPr/>
          <p:nvPr/>
        </p:nvPicPr>
        <p:blipFill>
          <a:blip r:embed="rId1"/>
          <a:stretch/>
        </p:blipFill>
        <p:spPr>
          <a:xfrm>
            <a:off x="3924360" y="2514600"/>
            <a:ext cx="5219640" cy="347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СОДРУЖЕСТВО, ТОРГОВЫЙ ДОМ, ООО г. Днепропетровск, ул. Гаванская, 5 Каталог компаний Украины Бизнес Гид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52280" y="3657600"/>
            <a:ext cx="3733920" cy="2562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6934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f8fd1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ртовой прокат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ff99"/>
                  </a:gs>
                  <a:gs pos="100000">
                    <a:srgbClr val="f8fd1b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ред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круглые диаметра 32-75 мм, квадратные со стороной 32-65 мм и шестигранные до № 70, стальной периодический арматурный профиль № 32-60, двутавровые балки высотой до 300 мм, швеллеры высотой от 100—300 мм, рельсы узкой колеи Р18-Р24, штрипсы сечением до 8×145 мм, разнообразные фасонные профили отраслевого назначения и д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елк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— круглая сталь диаметром 10-30 мм, квадратная сталь со стороной 8-10 мм, периодический арматурный профиль № 6-28, угловая сталь с шириной полок 20-50 мм, швеллеры № 5-8, полосовая сталь шириной до 60 мм, шестигранная сталь до № 30 и разнообразные фасонные профили отраслевого назначения эквивалентных разм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ортовой прока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ртовой прока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совокупность прокатных профилей, отличающихся по форме и размер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офиль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 форма поперечного сечения прокатного издел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Листовой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(лист, полоса (рулон), штрипс)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ячекатаные тонкие (толщина до 4 м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ячекатаные толстые (толщина свыше 4 м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лодноката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Холоднокатаный листовой прокат Оптовые базы Корпорация.ру"/>
          <p:cNvPicPr/>
          <p:nvPr/>
        </p:nvPicPr>
        <p:blipFill>
          <a:blip r:embed="rId1"/>
          <a:stretch/>
        </p:blipFill>
        <p:spPr>
          <a:xfrm>
            <a:off x="4419720" y="380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Лист г/к 14мм ст.20, купить в Минске - Пульс цен"/>
          <p:cNvPicPr/>
          <p:nvPr/>
        </p:nvPicPr>
        <p:blipFill>
          <a:blip r:embed="rId2"/>
          <a:stretch/>
        </p:blipFill>
        <p:spPr>
          <a:xfrm>
            <a:off x="2590920" y="2971800"/>
            <a:ext cx="5524560" cy="3514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Нижегородский завод наращивает объем производства оцинкованного проката &quot; .::Кочубеевское.RU::. молодежный информационно развлек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04920" y="2286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ортово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ой (круг, квадрат, шестигранник, полоса плоского сеч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матура — это изделие из металла, применяемое для армирования железобетонных конструк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Сортовой и фасонный прокат - продам. Цена договорная купить Сортовой и фасонный прокат. Украина. Фото"/>
          <p:cNvPicPr/>
          <p:nvPr/>
        </p:nvPicPr>
        <p:blipFill>
          <a:blip r:embed="rId1"/>
          <a:stretch/>
        </p:blipFill>
        <p:spPr>
          <a:xfrm>
            <a:off x="4114800" y="228600"/>
            <a:ext cx="4762440" cy="4781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Статьи &quot; Страница 12 &quot; Запорная арматура, нержавейка, кран шаровый, 12х18н10т"/>
          <p:cNvPicPr/>
          <p:nvPr/>
        </p:nvPicPr>
        <p:blipFill>
          <a:blip r:embed="rId2"/>
          <a:stretch/>
        </p:blipFill>
        <p:spPr>
          <a:xfrm>
            <a:off x="380880" y="762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Прайс-лист &quot;Центрсталь&quot;,ООО Екатеринбург: Цены на товары и услуги из рубрики Металл и металлические изделия / сортовой прокат, а"/>
          <p:cNvPicPr/>
          <p:nvPr/>
        </p:nvPicPr>
        <p:blipFill>
          <a:blip r:embed="rId3"/>
          <a:srcRect l="5256" t="15137" r="5256" b="16451"/>
          <a:stretch/>
        </p:blipFill>
        <p:spPr>
          <a:xfrm>
            <a:off x="304920" y="3886200"/>
            <a:ext cx="320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Фасонны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го (массового) потребления (угловой профиль, швеллеры, двутавровые балки и друг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го назначения (рельсы железнодорожные широкой и узкой колеи, рельсы трамвайные, профили с/х машиностроения, судостроения, нефтяной и электропромышлен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Металлопрокат Металлопрокат в Рязани по низким ценам с аккур…"/>
          <p:cNvPicPr/>
          <p:nvPr/>
        </p:nvPicPr>
        <p:blipFill>
          <a:blip r:embed="rId1"/>
          <a:srcRect l="15001" t="5002" r="16250" b="5002"/>
          <a:stretch/>
        </p:blipFill>
        <p:spPr>
          <a:xfrm>
            <a:off x="6248520" y="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Рельсы крановые КР 100, купить в Минске - Пульс цен"/>
          <p:cNvPicPr/>
          <p:nvPr/>
        </p:nvPicPr>
        <p:blipFill>
          <a:blip r:embed="rId2"/>
          <a:stretch/>
        </p:blipFill>
        <p:spPr>
          <a:xfrm>
            <a:off x="0" y="2362320"/>
            <a:ext cx="6753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 размеру профил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ртовой прокат делится н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упн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круглая сталь диаметром 80-250 мм, квадратная сталь со стороной 70-200 мм, периодические арматурные профили № 70-80, угловая сталь с шириной полок 90-250 мм, швеллеры и двутавровые балки обычные и облегченные высотой 360—600 мм, специальные широкополочные двутавры и колонные профили высотой до 1000 мм, шестигранная сталь до № 100, рельсы железнодорожные длины 1 м с массой 43-75 кг, полосовая сталь шириной до 250 мм и д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5:15:05Z</dcterms:created>
  <dc:creator>АНАСТАСИЯ</dc:creator>
  <dc:description/>
  <dc:language>en-US</dc:language>
  <cp:lastModifiedBy>АНАСТАСИЯ</cp:lastModifiedBy>
  <dcterms:modified xsi:type="dcterms:W3CDTF">2015-01-29T15:3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