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B41-75EB-49BD-B3E2-0231CE2A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C47-600C-4901-9747-12D77093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E59-BDF5-4743-B82B-FA3821E4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90E-3BDF-4D37-956D-03FEC9E8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5E1-E2AE-40C6-97C5-DE467DF4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91B3-D930-4D5E-9767-7608A7D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E843-34A3-4318-8922-DE651C9B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91C-C3D9-4E69-8171-C56E20C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4244-82A2-45FD-A614-4466876F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2DFD-B4A8-466A-A0AF-24D137BD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DE3E-FDD0-41F1-A91A-98A02F6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5EE-CABC-4D53-819D-2AC6B9BB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2559-871F-42FD-BD4B-4B0E499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92D-ED3A-45EA-BC03-2BC8841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C761-1ED4-451C-959B-C517DEDB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16F8-1560-4AAE-883B-11EC0972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7A32-D2B1-4F81-B7A7-D16A09F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9E0-B42E-4F00-BC1D-7FA190C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B45-5A6A-4CF0-9246-1F9F2B3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F90-812B-454C-A6CD-D2E08541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532-4443-43A4-B508-3B903921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93D-1C3C-4DEB-83C2-2A42585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312-40FB-4B31-B125-D3CD4C9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680-7DC8-4322-B40A-ABB1BF6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7C0-D9A2-41A6-BE81-B56A718DB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DA6B-A986-478A-9AE0-4081B9BB5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Прокат сортовой. ГОСТы, марки стали. Круглый прокат"/>
          <p:cNvPicPr/>
          <p:nvPr/>
        </p:nvPicPr>
        <p:blipFill>
          <a:blip r:embed="rId1"/>
          <a:stretch/>
        </p:blipFill>
        <p:spPr>
          <a:xfrm>
            <a:off x="3924360" y="2514600"/>
            <a:ext cx="5219640" cy="347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СОДРУЖЕСТВО, ТОРГОВЫЙ ДОМ, ООО г. Днепропетровск, ул. Гаванская, 5 Каталог компаний Украины Бизнес Гид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52280" y="3657600"/>
            <a:ext cx="3733920" cy="2562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6934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f8fd1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ртовой прокат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ff99"/>
                  </a:gs>
                  <a:gs pos="100000">
                    <a:srgbClr val="f8fd1b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ред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круглые диаметра 32-75 мм, квадратные со стороной 32-65 мм и шестигранные до № 70, стальной периодический арматурный профиль № 32-60, двутавровые балки высотой до 300 мм, швеллеры высотой от 100—300 мм, рельсы узкой колеи Р18-Р24, штрипсы сечением до 8×145 мм, разнообразные фасонные профили отраслевого назначения и д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елк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— круглая сталь диаметром 10-30 мм, квадратная сталь со стороной 8-10 мм, периодический арматурный профиль № 6-28, угловая сталь с шириной полок 20-50 мм, швеллеры № 5-8, полосовая сталь шириной до 60 мм, шестигранная сталь до № 30 и разнообразные фасонные профили отраслевого назначения эквивалентных разм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ортовой прока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ртовой прока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совокупность прокатных профилей, отличающихся по форме и размер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офиль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 форма поперечного сечения прокатного издел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Листовой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(лист, полоса (рулон), штрипс)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ячекатаные тонкие (толщина до 4 м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ячекатаные толстые (толщина свыше 4 м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лодноката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Холоднокатаный листовой прокат Оптовые базы Корпорация.ру"/>
          <p:cNvPicPr/>
          <p:nvPr/>
        </p:nvPicPr>
        <p:blipFill>
          <a:blip r:embed="rId1"/>
          <a:stretch/>
        </p:blipFill>
        <p:spPr>
          <a:xfrm>
            <a:off x="4419720" y="380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Лист г/к 14мм ст.20, купить в Минске - Пульс цен"/>
          <p:cNvPicPr/>
          <p:nvPr/>
        </p:nvPicPr>
        <p:blipFill>
          <a:blip r:embed="rId2"/>
          <a:stretch/>
        </p:blipFill>
        <p:spPr>
          <a:xfrm>
            <a:off x="2590920" y="2971800"/>
            <a:ext cx="5524560" cy="3514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Нижегородский завод наращивает объем производства оцинкованного проката &quot; .::Кочубеевское.RU::. молодежный информационно развлек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04920" y="2286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ортово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ой (круг, квадрат, шестигранник, полоса плоского сеч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матура — это изделие из металла, применяемое для армирования железобетонных конструк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Сортовой и фасонный прокат - продам. Цена договорная купить Сортовой и фасонный прокат. Украина. Фото"/>
          <p:cNvPicPr/>
          <p:nvPr/>
        </p:nvPicPr>
        <p:blipFill>
          <a:blip r:embed="rId1"/>
          <a:stretch/>
        </p:blipFill>
        <p:spPr>
          <a:xfrm>
            <a:off x="4114800" y="228600"/>
            <a:ext cx="4762440" cy="4781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Статьи &quot; Страница 12 &quot; Запорная арматура, нержавейка, кран шаровый, 12х18н10т"/>
          <p:cNvPicPr/>
          <p:nvPr/>
        </p:nvPicPr>
        <p:blipFill>
          <a:blip r:embed="rId2"/>
          <a:stretch/>
        </p:blipFill>
        <p:spPr>
          <a:xfrm>
            <a:off x="380880" y="762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Прайс-лист &quot;Центрсталь&quot;,ООО Екатеринбург: Цены на товары и услуги из рубрики Металл и металлические изделия / сортовой прокат, а"/>
          <p:cNvPicPr/>
          <p:nvPr/>
        </p:nvPicPr>
        <p:blipFill>
          <a:blip r:embed="rId3"/>
          <a:srcRect l="5256" t="15137" r="5256" b="16451"/>
          <a:stretch/>
        </p:blipFill>
        <p:spPr>
          <a:xfrm>
            <a:off x="304920" y="3886200"/>
            <a:ext cx="320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Фасонны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го (массового) потребления (угловой профиль, швеллеры, двутавровые балки и друг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го назначения (рельсы железнодорожные широкой и узкой колеи, рельсы трамвайные, профили с/х машиностроения, судостроения, нефтяной и электропромышлен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Металлопрокат Металлопрокат в Рязани по низким ценам с аккур…"/>
          <p:cNvPicPr/>
          <p:nvPr/>
        </p:nvPicPr>
        <p:blipFill>
          <a:blip r:embed="rId1"/>
          <a:srcRect l="15001" t="5002" r="16250" b="5002"/>
          <a:stretch/>
        </p:blipFill>
        <p:spPr>
          <a:xfrm>
            <a:off x="6248520" y="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Рельсы крановые КР 100, купить в Минске - Пульс цен"/>
          <p:cNvPicPr/>
          <p:nvPr/>
        </p:nvPicPr>
        <p:blipFill>
          <a:blip r:embed="rId2"/>
          <a:stretch/>
        </p:blipFill>
        <p:spPr>
          <a:xfrm>
            <a:off x="0" y="2362320"/>
            <a:ext cx="6753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 размеру профил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ртовой прокат делится н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упн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круглая сталь диаметром 80-250 мм, квадратная сталь со стороной 70-200 мм, периодические арматурные профили № 70-80, угловая сталь с шириной полок 90-250 мм, швеллеры и двутавровые балки обычные и облегченные высотой 360—600 мм, специальные широкополочные двутавры и колонные профили высотой до 1000 мм, шестигранная сталь до № 100, рельсы железнодорожные длины 1 м с массой 43-75 кг, полосовая сталь шириной до 250 мм и д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5:15:05Z</dcterms:created>
  <dc:creator>АНАСТАСИЯ</dc:creator>
  <dc:description/>
  <dc:language>en-US</dc:language>
  <cp:lastModifiedBy>АНАСТАСИЯ</cp:lastModifiedBy>
  <dcterms:modified xsi:type="dcterms:W3CDTF">2015-01-29T15:3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