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FE95-74EE-47A5-BD4F-59B24D80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692-8F53-440F-80CC-81EAE7CC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6616-25CB-4143-9824-FDB4FB33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C299-0F05-4C07-9E89-0A960FD5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73E8-97F9-414D-9ED3-948437F1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4961-6FAB-406E-88BF-3EE59063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F64F-D052-4B4A-BE5F-64E29891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0E72-3D8A-4EEA-8779-B1C97887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F2D3-6992-42BA-BB1D-7539D574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828C-8B62-4898-AE0A-63ADBCA5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39C1-89F7-4648-A53B-E9D44FDE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ED4A-8223-4589-949B-922DE504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6A19-106D-4E7F-B83C-DFF7BE36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722D-4587-49F9-8720-F488E3B8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A46A-1001-4977-9530-8E299C12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B15F-3251-41A0-B78E-6D1CB402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AF50-48B5-441B-8DE6-35ACBFFA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7A0A-ECBD-4A66-B62D-858B3AC8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0370-89B3-4650-91AD-8BE0334A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CF5-D370-47F2-A286-4E28657E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36B3-B318-4545-8644-752BF440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C61-274F-4630-B2CC-A4CF742A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CDB-5A29-4033-97E8-10EA3930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BFF-74C0-4BDC-BA2B-0CDE9258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F984-DAB8-44F0-940C-5A839209BD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9507-43D6-4B14-9662-29D0F57F19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5181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Times New Roman"/>
              </a:rPr>
              <a:t>Скутер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792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готовила: Толстова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ный руководитель 8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У СОШ №6 г. Аткарска Сара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733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Что важнее: собственная безопасность или желание «покрасоваться» перед друзьями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55308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стория скуте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скутеров насчитывает уже более 100 лет. Перв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уте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явились в начале 20-го века, однако тогда их так ни кто не называл, именовались они просто – мотоцикл. Родиной скутера считается Германи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280040" cy="3673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638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у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учил свое название в США от сленгового глагола "to scoot" - смываться, срываться с места, стремительно бежать, удирать. Родился это глагол в начале 20 века. Тогда мальчишки из неблагополучных семей совершали набеги на уличных торговцах на скутерах-самокатах. Конструкция была проста, на самокаты ставили моторчики. Предприимчивые люди решили поставить на поток производство таких аппаратов. В 1910 году начали появляться первые серийные аналоги. Назывались они "автопед" или "мотопед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62720" y="114300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90720" y="0"/>
            <a:ext cx="7772400" cy="58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начала 20 века скутер много раз менялся конструкторами разных стран (англичанами, японцами, итальянца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146400" cy="2189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2943360" cy="2189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486400" y="4267080"/>
            <a:ext cx="2736720" cy="2189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85800" y="4267080"/>
            <a:ext cx="3603600" cy="218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еимущества скуте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Экономич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Маневренность и компактность (это преимущество важно для очень больших городов, где много пробо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Простота в использов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Легкость в управлении (масса скутера – 60-70 кг., что позволяет легко удерживать равновес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По сравнению с мотоциклом проще садиться и слезать, лучше защищает водителя от пы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варии с участием скутер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3 тысячи ДТП с участием мототранспорта зарегистрировано на территории России за первые полгода 2011 года. Причем число ДТП, произошедших по вине водителей мототранспорта, - почти 4,5 тысячи случаев. Без малого 80%! По вине «двухколесных» нарушителей погибли 457 человек, ранены 51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10240" cy="4190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к снизить риск аварии на скутер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1371240"/>
            <a:ext cx="4952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ая авария на скутере, даже мелкая – может стать причиной серьезной травмы, а то и гибели вод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д тем как садиться на скутер и рассекать по загруженному автомобилями городу, необходимо пару дней покататься по пустым дорогам, дворам, потренироваться в выполнении традиционных мотоциклетных упражнений – «змейки», «восьмерки»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2925720" cy="2189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943600" y="4267080"/>
            <a:ext cx="2736720" cy="218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Нельзя садиться за руль без шлема и хотя бы легкой экипиров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Расслабляться за рулем нельзя никогда, нужно быть бдите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Ездить лучше с включенным ближним светом фар или хотя бы габаритами. Это прописано в ПД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При езде на скутере надо постоянно смотреть в зеркала. В потоке ехать лучше всего на расстояние 1,5 метров от края тротуара – то есть не пускать автомобиль ехать рядом, а занимать полноценное место на полосе.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одителям мопеда запрещаетс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здить, не держась за ру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возить пассажиров, за исключением ребенка в возрасте до 7 лет на дополнительном переднем сиденье, оснащенном поднож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возить груз, выступающий более чем на 0,5 м по ширине или длине за габариты, или груз, который мешает управл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вигаться по дороге, если рядом есть специальная велосипедная дорож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орачивать налево или разворачиваться на дорогах с трамвайным движением и на дорогах, имеющих более одной полосы для движения в данном направл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ксировка мопедами и мопе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нерегулируемом пересечении велосипедной дорожки с дорогой, расположенной вне перекрестка, водители мопедов должны уступить дорогу транспортным средствам, движущимся по этой дорог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6:52:24Z</dcterms:created>
  <dc:creator>ЛЕХА</dc:creator>
  <dc:description/>
  <dc:language>en-US</dc:language>
  <cp:lastModifiedBy>ЛЕХА</cp:lastModifiedBy>
  <dcterms:modified xsi:type="dcterms:W3CDTF">2011-09-15T18:47:3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