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CE0-9480-47D3-A39F-5802D3A1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F0B-79AA-47E5-8227-1579D702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033-E660-4F2D-92DC-E2A2D989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A5F-CE29-4419-AB75-C0658A7B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4F0C-AF82-4FC8-9C16-F66395E6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7B9D-6DB9-45DC-AF55-F9B73DB2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F74D-0E68-4646-869B-21A68300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1E47-5CD8-4400-954F-610C3D1F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CF73-5937-424D-97A4-375321EB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F716-DD48-4520-9788-F5413BBF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A8E5-F0C8-4EF9-BF57-28D1B611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984-0574-400B-B999-227450A1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4FB1-DFA8-49AB-B412-DC9690C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D3C5-5619-463C-82CC-EB0397F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BC6D-3839-418E-AC2B-4EE64FE0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E5AB-DB25-429B-9599-BF740726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39A-6F5B-45E1-8CB4-D7DFD24B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8E5-2D82-43CE-BB97-4631C5E2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CFE-8AAF-4F21-A322-D101E82D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C5A-598E-4D7E-8B9E-B864C6A5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6F5-F825-4C67-8330-06D1C18F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924-A623-45BC-B701-DFB5A459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1E8-D94A-40A6-BDF3-7FDC1CA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C68-C89C-4AC5-8195-48B83A70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9BC4-31B4-4B7F-BADE-FC1A41B00B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5A6D-A13D-4483-A8E8-8E8CD66B25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5181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Скутер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92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ила: Толст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ный руководитель 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СОШ №6 г. Аткарска 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733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то важнее: собственная безопасность или желание «покрасоваться» перед друзьями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тория ску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скутеров насчитывает уже более 100 лет. Перв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т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ись в начале 20-го века, однако тогда их так ни кто не называл, именовались они просто – мотоцикл. Родиной скутера считается Германи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280040" cy="367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ил свое название в США от сленгового глагола "to scoot" - смываться, срываться с места, стремительно бежать, удирать. Родился это глагол в начале 20 века. Тогда мальчишки из неблагополучных семей совершали набеги на уличных торговцах на скутерах-самокатах. Конструкция была проста, на самокаты ставили моторчики. Предприимчивые люди решили поставить на поток производство таких аппаратов. В 1910 году начали появляться первые серийные аналоги. Назывались они "автопед" или "мотопед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90720" y="0"/>
            <a:ext cx="777240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чала 20 века скутер много раз менялся конструкторами разных стран (англичанами, японцами, итальянц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146400" cy="218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43360" cy="2189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85800" y="4267080"/>
            <a:ext cx="360360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еимущества ску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Эконом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Маневренность и компактность (это преимущество важно для очень больших городов, где много проб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ростота в использо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Легкость в управлении (масса скутера – 60-70 кг., что позволяет легко удерживать равновес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По сравнению с мотоциклом проще садиться и слезать, лучше защищает водителя от п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варии с участием скутер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3 тысячи ДТП с участием мототранспорта зарегистрировано на территории России за первые полгода 2011 года. Причем число ДТП, произошедших по вине водителей мототранспорта, - почти 4,5 тысячи случаев. Без малого 80%! По вине «двухколесных» нарушителей погибли 457 человек, ранены 5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4190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к снизить риск аварии на скутер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3712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ая авария на скутере, даже мелкая – может стать причиной серьезной травмы, а то и гибели вод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тем как садиться на скутер и рассекать по загруженному автомобилями городу, необходимо пару дней покататься по пустым дорогам, дворам, потренироваться в выполнении традиционных мотоциклетных упражнений – «змейки», «восьмерки»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925720" cy="2189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3600" y="4267080"/>
            <a:ext cx="273672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ельзя садиться за руль без шлема и хотя бы легкой экипир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Расслабляться за рулем нельзя никогда, нужно быть бд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Ездить лучше с включенным ближним светом фар или хотя бы габаритами. Это прописано в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При езде на скутере надо постоянно смотреть в зеркала. В потоке ехать лучше всего на расстояние 1,5 метров от края тротуара – то есть не пускать автомобиль ехать рядом, а занимать полноценное место на полосе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одителям мопеда запрещае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здить, не держась за ру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возить пассажиров, за исключением ребенка в возрасте до 7 лет на дополнительном переднем сиденье, оснащенном поднож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возить груз, выступающий более чем на 0,5 м по ширине или длине за габариты, или груз, который мешает управ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игаться по дороге, если рядом есть специальная велосипедная дорож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ксировка мопедами и мопе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регулируемом пересечении велосипедной дорожки с дорогой, расположенной вне перекрестка, водители мопедов должны уступить дорогу транспортным средствам, движущимся по этой дорог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6:52:24Z</dcterms:created>
  <dc:creator>ЛЕХА</dc:creator>
  <dc:description/>
  <dc:language>en-US</dc:language>
  <cp:lastModifiedBy>ЛЕХА</cp:lastModifiedBy>
  <dcterms:modified xsi:type="dcterms:W3CDTF">2011-09-15T18:47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