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430-8514-494B-98C1-A6243D0D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EEA-9F97-4891-B427-D540155B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70A-C5BA-4470-BF37-25441743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1AE-EA9F-4845-BFB4-F2FA4569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CC5E-F341-4692-BE2D-93F87A4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C1EC-6838-4C20-B93D-8BB05AA2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773-AB77-4370-9C8B-36B86EF6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5366-B8E4-4DC4-B3F3-3D0FC92E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5E4F-DB2E-4FC3-A68A-EA9C5D8A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CB10-E5F4-4E19-AC02-B76AB307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7326-D14E-4DAB-9176-DDC8E14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29B-FC2B-4F62-A72E-BEABC60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E86D-2907-4376-A75B-F1B33EA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B45D-927A-4CC3-A11C-AD166E8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70DA-4C2F-4E08-99C0-6EE6303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60B-2EF4-4E94-BF82-D9092E65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6F2E-555A-4BAA-A79A-4ADAAA60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2BA-E722-44CC-96A4-7D3E7BF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A04-B2CE-4338-8804-59A0D1A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934-0724-4D9C-B692-DDE457C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C75-38B1-4AF3-A09D-C60C71A6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7B6-C16C-4854-8013-A2B36A29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AEA-34FB-4929-83CF-55C80494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23E-6678-4CD0-B7EB-3834516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715-1848-4D40-9C62-AB4B4F4070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BC3B-E2B4-49BD-AA78-9B6FE8560D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518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Скутер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792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готовила: Толст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ный руководитель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СОШ №6 г. Аткарск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733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Что важнее: собственная безопасность или желание «покрасоваться» перед друзьями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тория ску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скутеров насчитывает уже более 100 лет. Перв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т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лись в начале 20-го века, однако тогда их так ни кто не называл, именовались они просто – мотоцикл. Родиной скутера считается Германи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280040" cy="367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у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ил свое название в США от сленгового глагола "to scoot" - смываться, срываться с места, стремительно бежать, удирать. Родился это глагол в начале 20 века. Тогда мальчишки из неблагополучных семей совершали набеги на уличных торговцах на скутерах-самокатах. Конструкция была проста, на самокаты ставили моторчики. Предприимчивые люди решили поставить на поток производство таких аппаратов. В 1910 году начали появляться первые серийные аналоги. Назывались они "автопед" или "мотопед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777240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чала 20 века скутер много раз менялся конструкторами разных стран (англичанами, японцами, итальянц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14640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4336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86400" y="426708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85800" y="4267080"/>
            <a:ext cx="360360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еимущества скуте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Экономи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Маневренность и компактность (это преимущество важно для очень больших городов, где много проб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ростота в использо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Легкость в управлении (масса скутера – 60-70 кг., что позволяет легко удерживать равновес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По сравнению с мотоциклом проще садиться и слезать, лучше защищает водителя от п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варии с участием скутер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3 тысячи ДТП с участием мототранспорта зарегистрировано на территории России за первые полгода 2011 года. Причем число ДТП, произошедших по вине водителей мототранспорта, - почти 4,5 тысячи случаев. Без малого 80%! По вине «двухколесных» нарушителей погибли 457 человек, ранены 5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419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к снизить риск аварии на скуте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3712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ая авария на скутере, даже мелкая – может стать причиной серьезной травмы, а то и гибели вод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тем как садиться на скутер и рассекать по загруженному автомобилями городу, необходимо пару дней покататься по пустым дорогам, дворам, потренироваться в выполнении традиционных мотоциклетных упражнений – «змейки», «восьмерки»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925720" cy="218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3600" y="4267080"/>
            <a:ext cx="273672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ельзя садиться за руль без шлема и хотя бы легкой экипир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асслабляться за рулем нельзя никогда, нужно быть бд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Ездить лучше с включенным ближним светом фар или хотя бы габаритами. Это прописано в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При езде на скутере надо постоянно смотреть в зеркала. В потоке ехать лучше всего на расстояние 1,5 метров от края тротуара – то есть не пускать автомобиль ехать рядом, а занимать полноценное место на полосе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одителям мопеда запрещает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здить, не держась за ру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возить пассажиров, за исключением ребенка в возрасте до 7 лет на дополнительном переднем сиденье, оснащенном поднож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возить груз, выступающий более чем на 0,5 м по ширине или длине за габариты, или груз, который мешает управ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гаться по дороге, если рядом есть специальная велосипедная дорож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ксировка мопедами и мопе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регулируемом пересечении велосипедной дорожки с дорогой, расположенной вне перекрестка, водители мопедов должны уступить дорогу транспортным средствам, движущимся по этой дорог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6:52:24Z</dcterms:created>
  <dc:creator>ЛЕХА</dc:creator>
  <dc:description/>
  <dc:language>en-US</dc:language>
  <cp:lastModifiedBy>ЛЕХА</cp:lastModifiedBy>
  <dcterms:modified xsi:type="dcterms:W3CDTF">2011-09-15T18:47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