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3CA-CA4B-4342-B251-B1383296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C9F-80B6-46ED-A5FE-68BD3CB5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963-4161-4F65-B17E-6D960B06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818-6CE0-427A-AA9E-29F95E59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BA25-7B5B-48ED-8EA7-DDAA14A4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38A-C3E2-4F97-B7EE-E3CA94A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13A-4B56-45FA-9566-DB247C9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D24B-E77D-4D9A-B2CA-183F112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AEA-318A-468B-9246-09FF1BC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D94-4AAB-49F2-8B71-8391FC3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135-D6FF-4615-ACE8-5905FBF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2DB-DCE4-4686-9412-81BC3CE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FA6D-4F3B-435C-B505-AAE5F2D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A26-4D5E-403A-AB34-6C071B2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B57-EA2C-4433-A9D8-993FF46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24E8-A39C-4780-A773-284ADECB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20B9-2E8B-4AB3-8AEE-3C3AEE80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FC5-26BF-41B5-A59B-DD6F2D7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1C6-3C7C-40F6-8D38-2F8E1B8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AA1-8E51-428B-A774-F054C92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DCA-4E26-4D06-BBB2-5F9F591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D02-C5B9-4207-AD59-B6FF8E1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79B-62B8-4397-9306-8E4A7F8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81A-0130-46A0-9E60-98D0226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2FF8-1A5B-4986-83B4-14F3A2CF1A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AB86-61E0-4B4E-B2CC-E581C3018F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7;&#1080;&#1076;&#1085;&#1077;&#1081;" TargetMode="External"/><Relationship Id="rId3" Type="http://schemas.openxmlformats.org/officeDocument/2006/relationships/hyperlink" Target="http://ru.wikipedia.org/wiki/&#1040;&#1074;&#1089;&#1090;&#1088;&#1072;&#1083;&#1080;&#1103;" TargetMode="External"/><Relationship Id="rId4" Type="http://schemas.openxmlformats.org/officeDocument/2006/relationships/hyperlink" Target="http://ru.wikipedia.org/wiki/&#1044;&#1086;&#1089;&#1090;&#1086;&#1087;&#1088;&#1080;&#1084;&#1077;&#1095;&#1072;&#1090;&#1077;&#1083;&#1100;&#1085;&#1086;&#1089;&#1090;&#1100;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344000" cy="1377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400500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Романова В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241200"/>
            <a:ext cx="6413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Сидней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- крупнейший город Австралии площадью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12144,6 км², население которого по оценкам составляет примерно 4,50 миллиона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человек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702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идней является столицей штата Новый Южный Уэльс. Город был основан в 1788 г. и был назван колонистами в честь лорда Сиднея - бывшего на тот момент министра колоний Великобритании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65530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68000" y="333000"/>
            <a:ext cx="6875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ней располагается на юго-восточном побережье Австрал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е строилось на берегу красивой круглой маленькой бухточки -Сиднейской, расположенной в средней части уникальной протяжённой бухты Сидней-Харбор -южного ответвления залива Порт-Джексон, отделённого узким проливом от Тасманова моря. В дальнейшем город строился к югу от бухты Сидней-Харбор а затем и вокруг неё. Это послужило причиной того, что Сидней часто называют «Город возле бухты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651672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днейский оперный теа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Sydney Opera Hou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музыкальный театр в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Сид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дно из наиболее известных и легко узнаваемых зданий мира, являющееся символом крупнейшего города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Австрал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одной из главных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достопримечатель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конти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715000" y="397512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9:53Z</dcterms:created>
  <dc:creator>User</dc:creator>
  <dc:description/>
  <dc:language>en-US</dc:language>
  <cp:lastModifiedBy>User</cp:lastModifiedBy>
  <dcterms:modified xsi:type="dcterms:W3CDTF">2013-01-15T16:02:27Z</dcterms:modified>
  <cp:revision>2</cp:revision>
  <dc:subject/>
  <dc:title> Сидней</dc:title>
</cp:coreProperties>
</file>