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086-71AB-491E-8779-A8AFBD49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C5A-0616-4906-9837-4F76A470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98F-755B-4F14-82F1-BB5B57AC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981-0EB5-4FBA-B1D2-110808A6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9C30-F262-4D82-999E-93A4218C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7BD5-2A22-4714-8741-26F85339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D3DC-63C2-461C-A349-7A076FA7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307D-5867-46D7-B45F-EAB7E9BB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F93E-ECFE-479E-A873-9B5FDAAB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7FDB-6EAC-41C1-A386-953D7081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412B-DE5E-427B-813F-FE610254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212-EE2C-4E71-980C-6092A196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90AB-18BD-4857-AB38-F45E64AE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D6BB-3E7F-4319-A563-EB8D6E30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ACDC-F8C2-42C1-AB54-38E627CF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1DDF-49EE-411D-B9C4-4901F786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3A9E-0BF2-47FE-B8FE-E05ABF13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B24-3C0C-4435-9800-7BD68691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2AF-ED77-46D4-A5E7-B3BECEA9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B50-9006-49E7-AF61-522F5A90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D06-C6B9-492F-B112-11F2E2F1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C3E-93CF-4C6A-94F1-36CD52BB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650-2D8C-4184-B657-88E95ACB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790-AA68-494B-828F-94C4C2F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6065-8ACA-4372-9812-E69189E2BE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1F7-DB47-4A6D-879B-4C9DA7ED55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7;&#1080;&#1076;&#1085;&#1077;&#1081;" TargetMode="External"/><Relationship Id="rId3" Type="http://schemas.openxmlformats.org/officeDocument/2006/relationships/hyperlink" Target="http://ru.wikipedia.org/wiki/&#1040;&#1074;&#1089;&#1090;&#1088;&#1072;&#1083;&#1080;&#1103;" TargetMode="External"/><Relationship Id="rId4" Type="http://schemas.openxmlformats.org/officeDocument/2006/relationships/hyperlink" Target="http://ru.wikipedia.org/wiki/&#1044;&#1086;&#1089;&#1090;&#1086;&#1087;&#1088;&#1080;&#1084;&#1077;&#1095;&#1072;&#1090;&#1077;&#1083;&#1100;&#1085;&#1086;&#1089;&#1090;&#1100;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20640"/>
            <a:ext cx="7344000" cy="1377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идн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920" y="400500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: Романова В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9640" y="241200"/>
            <a:ext cx="6413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39"/>
                </a:solidFill>
                <a:latin typeface="Arial"/>
              </a:rPr>
              <a:t>Сидней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- крупнейший город Австралии площадью</a:t>
            </a:r>
            <a:r>
              <a:rPr b="0" lang="en-US" sz="14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12144,6 км², население которого по оценкам составляет примерно 4,50 миллиона</a:t>
            </a:r>
            <a:r>
              <a:rPr b="0" lang="en-US" sz="14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человек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7020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Сидней является столицей штата Новый Южный Уэльс. Город был основан в 1788 г. и был назван колонистами в честь лорда Сиднея - бывшего на тот момент министра колоний Великобритании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655308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268000" y="333000"/>
            <a:ext cx="68756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ней располагается на юго-восточном побережье Австрал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ение строилось на берегу красивой круглой маленькой бухточки -Сиднейской, расположенной в средней части уникальной протяжённой бухты Сидней-Харбор -южного ответвления залива Порт-Джексон, отделённого узким проливом от Тасманова моря. В дальнейшем город строился к югу от бухты Сидней-Харбор а затем и вокруг неё. Это послужило причиной того, что Сидней часто называют «Город возле бухты»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651672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днейский оперный теа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" sz="2000" spc="-1" strike="noStrike">
                <a:solidFill>
                  <a:srgbClr val="000000"/>
                </a:solidFill>
                <a:latin typeface="Arial"/>
              </a:rPr>
              <a:t>Sydney Opera Hou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 — музыкальный театр в 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Сидн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дно из наиболее известных и легко узнаваемых зданий мира, являющееся символом крупнейшего города 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Австрал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одной из главных 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достопримечательно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контин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715000" y="3975120"/>
            <a:ext cx="3124080" cy="206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3:59:53Z</dcterms:created>
  <dc:creator>User</dc:creator>
  <dc:description/>
  <dc:language>en-US</dc:language>
  <cp:lastModifiedBy>User</cp:lastModifiedBy>
  <dcterms:modified xsi:type="dcterms:W3CDTF">2013-01-15T16:02:27Z</dcterms:modified>
  <cp:revision>2</cp:revision>
  <dc:subject/>
  <dc:title> Сидней</dc:title>
</cp:coreProperties>
</file>