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D59-C245-4AF0-ADC2-B095255B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28D-5855-4623-8C3C-AED5E0C5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043-F651-4A1B-9826-2E2522F1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7D5-A0A3-4FB3-BE74-5C716259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7326-61E7-4D01-9564-70F993DF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F31C-9EA5-47FF-8CAB-A5B91C35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074B-1796-48FE-ACA6-559AEC2D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7010-BBF9-4460-969D-83F95995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B78F-F46A-447F-A2CF-B1125123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F1B1-E203-4CE6-BFFE-917E17E9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1D65-7E82-4E14-8ADB-043CB166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A9F-8CF8-45D8-9D47-0493BEB7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AED6-58E5-4188-AFF1-8CE0166A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1982-4A35-4CC7-9E33-391C39B1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7E4A-10E5-4E6F-B704-E5774FFB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D229-5717-4380-A30D-BB210959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072D-D023-4BC2-AA2B-B3ED43D8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C8C-BE12-4B11-8F87-959DC56C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0FB-4E68-4F3E-B9E1-FFC25257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37E-243E-4481-9DCF-75F569AA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F4E-714C-4A0E-81F4-BE0B07E6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0CC-4BFF-4CD9-A890-25C09330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603-32D8-42AB-8CA0-E04B1611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6C5-8127-4830-B2D1-A317CAAF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543C-C5F1-4DAF-8AAE-5CDA09E192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4F29-0CBB-494B-BF4D-B8A67CC23F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7;&#1080;&#1076;&#1085;&#1077;&#1081;" TargetMode="External"/><Relationship Id="rId3" Type="http://schemas.openxmlformats.org/officeDocument/2006/relationships/hyperlink" Target="http://ru.wikipedia.org/wiki/&#1040;&#1074;&#1089;&#1090;&#1088;&#1072;&#1083;&#1080;&#1103;" TargetMode="External"/><Relationship Id="rId4" Type="http://schemas.openxmlformats.org/officeDocument/2006/relationships/hyperlink" Target="http://ru.wikipedia.org/wiki/&#1044;&#1086;&#1089;&#1090;&#1086;&#1087;&#1088;&#1080;&#1084;&#1077;&#1095;&#1072;&#1090;&#1077;&#1083;&#1100;&#1085;&#1086;&#1089;&#1090;&#1100;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20640"/>
            <a:ext cx="7344000" cy="1377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идн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920" y="400500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: Романова В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9640" y="241200"/>
            <a:ext cx="6413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39"/>
                </a:solidFill>
                <a:latin typeface="Arial"/>
              </a:rPr>
              <a:t>Сидней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- крупнейший город Австралии площадью</a:t>
            </a:r>
            <a:r>
              <a:rPr b="0" lang="en-US" sz="14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12144,6 км², население которого по оценкам составляет примерно 4,50 миллиона</a:t>
            </a:r>
            <a:r>
              <a:rPr b="0" lang="en-US" sz="14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человек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7020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Сидней является столицей штата Новый Южный Уэльс. Город был основан в 1788 г. и был назван колонистами в честь лорда Сиднея - бывшего на тот момент министра колоний Великобритании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655308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268000" y="333000"/>
            <a:ext cx="68756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ней располагается на юго-восточном побережье Австрал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ение строилось на берегу красивой круглой маленькой бухточки -Сиднейской, расположенной в средней части уникальной протяжённой бухты Сидней-Харбор -южного ответвления залива Порт-Джексон, отделённого узким проливом от Тасманова моря. В дальнейшем город строился к югу от бухты Сидней-Харбор а затем и вокруг неё. Это послужило причиной того, что Сидней часто называют «Город возле бухты»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651672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днейский оперный теа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Sydney Opera Hou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 — музыкальный театр в 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Сидн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дно из наиболее известных и легко узнаваемых зданий мира, являющееся символом крупнейшего города 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Австрал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одной из главных 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достопримечательно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контин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715000" y="3975120"/>
            <a:ext cx="3124080" cy="206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3:59:53Z</dcterms:created>
  <dc:creator>User</dc:creator>
  <dc:description/>
  <dc:language>en-US</dc:language>
  <cp:lastModifiedBy>User</cp:lastModifiedBy>
  <dcterms:modified xsi:type="dcterms:W3CDTF">2013-01-15T16:02:27Z</dcterms:modified>
  <cp:revision>2</cp:revision>
  <dc:subject/>
  <dc:title> Сидней</dc:title>
</cp:coreProperties>
</file>