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C68-D017-4FE2-B1A0-A4F8EC2E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A5F-33C3-4A23-874C-690DCF78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FA6F-F1DF-4B6E-B7FC-61ACC5BE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E814-EE42-4E87-B3F8-8E0355AD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6452-44DE-4510-864D-61491D3E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E692-1197-41F4-8053-58659C55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E67E-F8C9-4427-A01E-0DA289EE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DC66-0511-4AD7-AEE6-3780177D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486D-B66E-444B-A616-F3BB14BC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7216-8D76-48D2-A5AB-B1481F88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7358-71A0-4FEB-B09B-736EF68A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C4F-B7BE-48E6-860E-898FE65C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6B39-CC47-4786-B043-C94D3524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6D24-2F05-41D9-991B-17AABB46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AD81-DCE3-40E7-B9BD-A2CF7B08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F56A-2AB0-4074-8DBA-FB8895E9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803C-4233-41FE-83AD-29FA9960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0C18-73BC-48CC-A8B0-52354848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567D-BAF4-491D-B9A5-C5DD127F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470-D207-42BC-9961-AC13B86F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2A5-983D-4B9A-BA5C-CA38B4EF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E58-D9C2-4881-B6E7-81D97B22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0A2-E005-44B9-960C-49CBFD09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95C-2E03-43B5-898E-5599C38F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A8C6-F7F7-4C1E-8632-91860F9BE9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052F-574A-4C1E-9D31-1329C79AB2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Тема урока:</a:t>
            </a:r>
            <a:r>
              <a:rPr b="1" i="1" lang="en-US" sz="3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«Решение уравнений с помощью разложения на множители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2636640"/>
            <a:ext cx="8028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cc3300"/>
                </a:solidFill>
                <a:latin typeface="Verdana"/>
              </a:rPr>
              <a:t>Имя урока: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Verdana"/>
              </a:rPr>
              <a:t>«Уравнение- ключ к изучению точных наук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Учитель МОУ Гимназия №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г.Похвистнево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Самарской област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Антонова Г.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Ответы к самостоятельной работ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773360"/>
            <a:ext cx="357804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 вариан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Verdana"/>
              </a:rPr>
              <a:t>-1; 0; 1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-0,5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3/13; 1/13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4.  </a:t>
            </a: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х=5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3а</a:t>
            </a: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|</a:t>
            </a: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30-41</a:t>
            </a: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|</a:t>
            </a: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+3=14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3а</a:t>
            </a: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·</a:t>
            </a: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11=1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а= 1</a:t>
            </a: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/</a:t>
            </a: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76360" y="1844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 вариан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-0,5; 0; 0,5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2/3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2/9; 8/9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4.  x=7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a|14-1|-4=5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a·13=9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Verdana"/>
              </a:rPr>
              <a:t>а=</a:t>
            </a:r>
            <a:r>
              <a:rPr b="1" i="1" lang="en-US" sz="2400" spc="-1" strike="noStrike">
                <a:solidFill>
                  <a:srgbClr val="a50021"/>
                </a:solidFill>
                <a:latin typeface="Verdana"/>
              </a:rPr>
              <a:t>9/1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77119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Тема урока:</a:t>
            </a:r>
            <a:r>
              <a:rPr b="1" i="1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«Решение уравнений с помощью разложения на множители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920" y="2781360"/>
            <a:ext cx="785664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- Я сегодня на уроке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- Самым трудным  на уроке для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меня было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- На уроке мне понравилось…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Arial"/>
              </a:rPr>
              <a:t>Цель урок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8920" y="1557000"/>
            <a:ext cx="73137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Verdana"/>
              </a:rPr>
              <a:t>  </a:t>
            </a:r>
            <a:r>
              <a:rPr b="1" i="1" lang="en-US" sz="3600" spc="-1" strike="noStrike">
                <a:solidFill>
                  <a:srgbClr val="003399"/>
                </a:solidFill>
                <a:latin typeface="Verdana"/>
              </a:rPr>
              <a:t>Формирование навыков решения уравнений с помощью разложения на множит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Эпиграф к уроку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900" spc="-1" strike="noStrike">
                <a:solidFill>
                  <a:srgbClr val="800080"/>
                </a:solidFill>
                <a:latin typeface="Verdana"/>
              </a:rPr>
              <a:t>Не всегда уравненья           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800080"/>
                </a:solidFill>
                <a:latin typeface="Verdana"/>
              </a:rPr>
              <a:t>                                </a:t>
            </a:r>
            <a:r>
              <a:rPr b="1" i="1" lang="en-US" sz="2900" spc="-1" strike="noStrike">
                <a:solidFill>
                  <a:srgbClr val="800080"/>
                </a:solidFill>
                <a:latin typeface="Verdana"/>
              </a:rPr>
              <a:t>разрешают сомненья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1" i="1" lang="en-US" sz="2900" spc="-1" strike="noStrike">
                <a:solidFill>
                  <a:srgbClr val="800080"/>
                </a:solidFill>
                <a:latin typeface="Verdana"/>
              </a:rPr>
              <a:t>Но итогом сомнень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800080"/>
                </a:solidFill>
                <a:latin typeface="Verdana"/>
              </a:rPr>
              <a:t>                               </a:t>
            </a:r>
            <a:r>
              <a:rPr b="1" i="1" lang="en-US" sz="2900" spc="-1" strike="noStrike">
                <a:solidFill>
                  <a:srgbClr val="800080"/>
                </a:solidFill>
                <a:latin typeface="Verdana"/>
              </a:rPr>
              <a:t>может быть озарень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А.Н.Колмогоро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77777"/>
                </a:solidFill>
                <a:latin typeface="Arial"/>
              </a:rPr>
              <a:t>Задание 1.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 Найдите уравн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99640" y="1827360"/>
            <a:ext cx="309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2у-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3х-5=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7у+2х+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14а -7а+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8х=-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5,8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·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10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3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(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5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-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7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)=2-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471240">
              <a:spcBef>
                <a:spcPts val="700"/>
              </a:spcBef>
              <a:buClr>
                <a:srgbClr val="99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m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-7=-4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m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-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95640" y="1827360"/>
            <a:ext cx="489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Уравнение-это </a:t>
            </a:r>
            <a:r>
              <a:rPr b="1" i="1" lang="en-US" sz="2100" spc="-1" strike="noStrike">
                <a:solidFill>
                  <a:srgbClr val="ff3300"/>
                </a:solidFill>
                <a:latin typeface="Verdana"/>
              </a:rPr>
              <a:t>…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, содержащее </a:t>
            </a:r>
            <a:r>
              <a:rPr b="1" i="1" lang="en-US" sz="2100" spc="-1" strike="noStrike">
                <a:solidFill>
                  <a:srgbClr val="ff3300"/>
                </a:solidFill>
                <a:latin typeface="Verdana"/>
              </a:rPr>
              <a:t>…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,значение которой надо найт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Решить уравнение- значит найти все его </a:t>
            </a:r>
            <a:r>
              <a:rPr b="1" i="1" lang="en-US" sz="2100" spc="-1" strike="noStrike">
                <a:solidFill>
                  <a:srgbClr val="ff3300"/>
                </a:solidFill>
                <a:latin typeface="Verdana"/>
              </a:rPr>
              <a:t>…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 или доказать, что</a:t>
            </a:r>
            <a:r>
              <a:rPr b="1" i="1" lang="en-US" sz="2100" spc="-1" strike="noStrike">
                <a:solidFill>
                  <a:srgbClr val="ff3300"/>
                </a:solidFill>
                <a:latin typeface="Verdana"/>
              </a:rPr>
              <a:t>…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Корень уравнения- значение </a:t>
            </a:r>
            <a:r>
              <a:rPr b="1" i="1" lang="en-US" sz="2100" spc="-1" strike="noStrike">
                <a:solidFill>
                  <a:srgbClr val="ff3300"/>
                </a:solidFill>
                <a:latin typeface="Verdana"/>
              </a:rPr>
              <a:t>…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,при котором уравнение обращается в верное </a:t>
            </a:r>
            <a:r>
              <a:rPr b="1" i="1" lang="en-US" sz="2100" spc="-1" strike="noStrike">
                <a:solidFill>
                  <a:srgbClr val="ff3300"/>
                </a:solidFill>
                <a:latin typeface="Verdana"/>
              </a:rPr>
              <a:t>…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195640" y="3284640"/>
                <a:ext cx="2761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</a:rPr>
              <a:t>Задание 2.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Уравнения, имеющие одни и те же корни, называются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… 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63640" y="1844640"/>
            <a:ext cx="324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|b|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=4         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-15=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  - 16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=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х=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19640" y="1844280"/>
            <a:ext cx="338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66"/>
                </a:solidFill>
                <a:latin typeface="Verdana"/>
              </a:rPr>
              <a:t>b</a:t>
            </a:r>
            <a:r>
              <a:rPr b="1" lang="ru-RU" sz="2500" spc="-1" strike="noStrike">
                <a:solidFill>
                  <a:srgbClr val="cc0066"/>
                </a:solidFill>
                <a:latin typeface="Verdana"/>
              </a:rPr>
              <a:t>=4, </a:t>
            </a:r>
            <a:r>
              <a:rPr b="1" lang="en-US" sz="2500" spc="-1" strike="noStrike">
                <a:solidFill>
                  <a:srgbClr val="cc0066"/>
                </a:solidFill>
                <a:latin typeface="Verdana"/>
              </a:rPr>
              <a:t>b</a:t>
            </a:r>
            <a:r>
              <a:rPr b="1" lang="ru-RU" sz="2500" spc="-1" strike="noStrike">
                <a:solidFill>
                  <a:srgbClr val="cc0066"/>
                </a:solidFill>
                <a:latin typeface="Verdana"/>
              </a:rPr>
              <a:t>=-4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66"/>
                </a:solidFill>
                <a:latin typeface="Verdana"/>
              </a:rPr>
              <a:t>y</a:t>
            </a:r>
            <a:r>
              <a:rPr b="1" lang="ru-RU" sz="2500" spc="-1" strike="noStrike">
                <a:solidFill>
                  <a:srgbClr val="cc0066"/>
                </a:solidFill>
                <a:latin typeface="Verdana"/>
              </a:rPr>
              <a:t>=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66"/>
                </a:solidFill>
                <a:latin typeface="Verdana"/>
              </a:rPr>
              <a:t>c</a:t>
            </a:r>
            <a:r>
              <a:rPr b="1" lang="ru-RU" sz="2500" spc="-1" strike="noStrike">
                <a:solidFill>
                  <a:srgbClr val="cc0066"/>
                </a:solidFill>
                <a:latin typeface="Verdana"/>
              </a:rPr>
              <a:t>=-4, </a:t>
            </a:r>
            <a:r>
              <a:rPr b="1" lang="en-US" sz="2500" spc="-1" strike="noStrike">
                <a:solidFill>
                  <a:srgbClr val="cc0066"/>
                </a:solidFill>
                <a:latin typeface="Verdana"/>
              </a:rPr>
              <a:t>c</a:t>
            </a:r>
            <a:r>
              <a:rPr b="1" lang="ru-RU" sz="2500" spc="-1" strike="noStrike">
                <a:solidFill>
                  <a:srgbClr val="cc0066"/>
                </a:solidFill>
                <a:latin typeface="Verdana"/>
              </a:rPr>
              <a:t>=4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0066"/>
                </a:solidFill>
                <a:latin typeface="Verdana"/>
              </a:rPr>
              <a:t>х=2</a:t>
            </a:r>
            <a:r>
              <a:rPr b="1" lang="en-US" sz="2500" spc="-1" strike="noStrike">
                <a:solidFill>
                  <a:srgbClr val="cc0066"/>
                </a:solidFill>
                <a:latin typeface="Verdana"/>
              </a:rPr>
              <a:t>/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556000" y="3141720"/>
                <a:ext cx="2206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Свойства равносильности уравнен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810108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200" spc="-1" strike="noStrike">
                <a:solidFill>
                  <a:srgbClr val="990000"/>
                </a:solidFill>
                <a:latin typeface="Verdana"/>
              </a:rPr>
              <a:t>- Если в уравнении перенести слагаемое из одной части в другую, изменив его знак, то получится уравнение, равносильное данном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2200" spc="-1" strike="noStrike">
                <a:solidFill>
                  <a:srgbClr val="990000"/>
                </a:solidFill>
                <a:latin typeface="Verdana"/>
              </a:rPr>
              <a:t>- Если обе части уравнения умножить или разделить на одно и то же </a:t>
            </a:r>
            <a:r>
              <a:rPr b="1" i="1" lang="en-US" sz="2200" spc="-1" strike="noStrike" u="sng">
                <a:solidFill>
                  <a:srgbClr val="990000"/>
                </a:solidFill>
                <a:uFillTx/>
                <a:latin typeface="Verdana"/>
              </a:rPr>
              <a:t>отличное от нуля число,</a:t>
            </a:r>
            <a:r>
              <a:rPr b="1" i="1" lang="en-US" sz="2200" spc="-1" strike="noStrike">
                <a:solidFill>
                  <a:srgbClr val="990000"/>
                </a:solidFill>
                <a:latin typeface="Verdana"/>
              </a:rPr>
              <a:t> то получится уравнение, равносильное данном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2200" spc="-1" strike="noStrike">
                <a:solidFill>
                  <a:srgbClr val="990000"/>
                </a:solidFill>
                <a:latin typeface="Verdana"/>
              </a:rPr>
              <a:t>- Если в какой-либо части или в обеих частях уравнения выполнить тождественное преобразование, не меняющее области определения уравнения, то получится уравнение, равносильное данно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90000"/>
                </a:solidFill>
                <a:latin typeface="Verdana"/>
              </a:rPr>
              <a:t>- Произведение двух множителей равно нулю,…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115640" y="5950080"/>
            <a:ext cx="7542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Verdana"/>
              </a:rPr>
              <a:t>если хотя бы один из них равен нулю, а другой при этом имеет смыс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Задание 3.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Найдите ошибк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700280"/>
            <a:ext cx="64418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1)При раскрытии скобок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9(2а-3)-4(а+2)=18а-27-4а+2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(а-2в)(а+2в)=а²-4ав+4в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2) В решении уравнения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-1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=0,4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-1=-0,4  или   2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-1=0,4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=0,6       или   2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=1,4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=0,3         или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=7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Ответ:0,3.            Ответ:7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3) В разложении на множител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8х²-12х=4х(2х+4х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25у²-81=(5у-9)(5у+9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16+9с²=(4-3с)(4+3с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х²-6х+9=(х-81)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6165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7640" y="429264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</a:rPr>
              <a:t>Задание 4.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 Решите уравнения . Решив уравнения1-4 вы выясните, какие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яды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 попадают в организм человека вместе с вдыхаемым дымом сигарет: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827360"/>
            <a:ext cx="475272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5х²+х=0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х²-144=0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(х-1)²-25=0;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4)4х²+12х+9=0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)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|(7х+1)(3х-1)-21х²| = 3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6)а³-3а²-4а= - 1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7)11х²+88х+176=0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8)8а³+12а²-18а=27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) При каких значениях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равнение 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ах=а²-5а+6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ме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единственн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корень;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не имеет корне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 име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бесконечно м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корней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80000" y="1844640"/>
            <a:ext cx="356400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;6-никотин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,5-фтор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0;-0,2-свинец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1,5-рту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кадм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,25-кал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9900"/>
                </a:solidFill>
                <a:latin typeface="Verdana"/>
              </a:rPr>
              <a:t>Никотин в 2 раза более ядовит, чем стрихнин, вдыхание паров ртути смертельно опас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Задание 5.</a:t>
            </a:r>
            <a:r>
              <a:rPr b="1" i="1" lang="en-US" sz="3600" spc="-1" strike="noStrike">
                <a:solidFill>
                  <a:srgbClr val="a50021"/>
                </a:solidFill>
                <a:latin typeface="Arial"/>
              </a:rPr>
              <a:t> Решите уравнения самостоятельно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32108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336600"/>
                </a:solidFill>
                <a:latin typeface="Verdana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Verdana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х - х³ = 0;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Verdana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4х² + 4х + 1 = 0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.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|4у(2у+2)-(8у-1)(у+6)| = 3</a:t>
            </a: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4.</a:t>
            </a:r>
            <a:r>
              <a:rPr b="1" i="1" lang="ru-RU" sz="2000" spc="-1" strike="noStrike">
                <a:solidFill>
                  <a:srgbClr val="006600"/>
                </a:solidFill>
                <a:latin typeface="Verdana"/>
              </a:rPr>
              <a:t>Найдите, при каких значениях а</a:t>
            </a: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1" i="1" lang="ru-RU" sz="2000" spc="-1" strike="noStrike">
                <a:solidFill>
                  <a:srgbClr val="006600"/>
                </a:solidFill>
                <a:latin typeface="Verdana"/>
              </a:rPr>
              <a:t>корнем</a:t>
            </a:r>
            <a:r>
              <a:rPr b="1" i="1" lang="ru-RU" sz="21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6600"/>
                </a:solidFill>
                <a:latin typeface="Verdana"/>
              </a:rPr>
              <a:t>уравн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Verdana"/>
              </a:rPr>
              <a:t>3а|6х-41|+3=14</a:t>
            </a:r>
            <a:r>
              <a:rPr b="1" lang="ru-RU" sz="21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1" i="1" lang="ru-RU" sz="2000" spc="-1" strike="noStrike">
                <a:solidFill>
                  <a:srgbClr val="006600"/>
                </a:solidFill>
                <a:latin typeface="Verdana"/>
              </a:rPr>
              <a:t>является число 5</a:t>
            </a: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1640" y="1773360"/>
            <a:ext cx="4753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800080"/>
                </a:solidFill>
                <a:latin typeface="Verdana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4у³ - у = 0;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9у² - 12у + 4 = 0;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3.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|(1-с)(4-6с)-(2с-1)(3с+1)| = 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Verdana"/>
              </a:rPr>
              <a:t>4.Найдите, при каких значениях </a:t>
            </a:r>
            <a:r>
              <a:rPr b="1" i="1" lang="en-US" sz="2000" spc="-1" strike="noStrike" u="sng">
                <a:solidFill>
                  <a:srgbClr val="5f5f5f"/>
                </a:solidFill>
                <a:uFillTx/>
                <a:latin typeface="Verdana"/>
              </a:rPr>
              <a:t>a</a:t>
            </a:r>
            <a:r>
              <a:rPr b="1" i="1" lang="ru-RU" sz="20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800080"/>
                </a:solidFill>
                <a:latin typeface="Verdana"/>
              </a:rPr>
              <a:t>корнем уравн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5f5f"/>
                </a:solidFill>
                <a:latin typeface="Verdana"/>
              </a:rPr>
              <a:t>a|</a:t>
            </a:r>
            <a:r>
              <a:rPr b="1" i="1" lang="ru-RU" sz="2000" spc="-1" strike="noStrike">
                <a:solidFill>
                  <a:srgbClr val="5f5f5f"/>
                </a:solidFill>
                <a:latin typeface="Verdana"/>
              </a:rPr>
              <a:t>2х-1</a:t>
            </a:r>
            <a:r>
              <a:rPr b="1" i="1" lang="en-US" sz="2000" spc="-1" strike="noStrike">
                <a:solidFill>
                  <a:srgbClr val="5f5f5f"/>
                </a:solidFill>
                <a:latin typeface="Verdana"/>
              </a:rPr>
              <a:t>|</a:t>
            </a:r>
            <a:r>
              <a:rPr b="1" i="1" lang="ru-RU" sz="2000" spc="-1" strike="noStrike">
                <a:solidFill>
                  <a:srgbClr val="5f5f5f"/>
                </a:solidFill>
                <a:latin typeface="Verdana"/>
              </a:rPr>
              <a:t>-4=5</a:t>
            </a:r>
            <a:r>
              <a:rPr b="1" i="1" lang="ru-RU" sz="2000" spc="-1" strike="noStrike">
                <a:solidFill>
                  <a:srgbClr val="800080"/>
                </a:solidFill>
                <a:latin typeface="Verdana"/>
              </a:rPr>
              <a:t> является число 7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060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20:03:16Z</dcterms:created>
  <dc:creator>Наталья</dc:creator>
  <dc:description/>
  <dc:language>en-US</dc:language>
  <cp:lastModifiedBy>Admin</cp:lastModifiedBy>
  <dcterms:modified xsi:type="dcterms:W3CDTF">2011-01-10T12:13:25Z</dcterms:modified>
  <cp:revision>62</cp:revision>
  <dc:subject/>
  <dc:title>Тема урока «Решение линейных уравнений»</dc:title>
</cp:coreProperties>
</file>