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BA0-7B81-45B1-8DE5-715E44CA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A34-CF84-410C-B02C-02921604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67E-43B0-48DB-A369-FE042E41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38A-0C17-49ED-ABB1-504F857F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2587-B742-4188-A6DF-D5EB9CD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BC1A-1804-48F2-B2FC-EE86061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E030-4BD2-432A-AC88-A45EF4EE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0619-8072-4880-BC1E-DE48B7A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312-B224-4C87-8D9B-C986C2F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A348-9009-4CD2-B817-CBEF5459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79B2-A0C5-4F1F-A976-396D17C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258-2E9C-4015-BED9-0E173B9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782A-B2DD-4143-A010-501D24F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9804-258E-4071-8BD2-0C1C28C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384-0F1E-4C70-A7F5-1FAC845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E616-9968-4ABE-841D-F255969F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1C4-9E60-4A81-8F9E-2B5D570E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755-A7D5-4119-B76F-17AD9DE7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913-2951-4996-BA42-E6838B07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B16-8871-42A7-9F81-5BC23CB5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661-039E-47C5-B914-C3ED52D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142-FC5B-48AD-A2F5-A028DA7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CC2-AE85-45F6-B3BE-D0520FF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C7-DFA8-4A06-A2D7-7A0305F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691-8234-481C-BF73-0178E16C58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6C4B-E760-4927-85C2-9C3E7303D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802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cc3300"/>
                </a:solidFill>
                <a:latin typeface="Verdana"/>
              </a:rPr>
              <a:t>Имя урока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Verdana"/>
              </a:rPr>
              <a:t>«Уравнение- ключ к изучению точных наук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Учитель МОУ Гимназия №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.Похвистнев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Антонова Г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Ответы к самостоятельной работ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35780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-1; 0; 1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3/13; 1/1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х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0-4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+3=1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·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11=1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 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/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; 0; 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9; 8/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x=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|14-1|-4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·13=9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9/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119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78566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Я сегодня на уроке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Самым трудным  на уроке дл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меня был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На уроке мне понравилось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313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Verdana"/>
              </a:rPr>
              <a:t>Формирование навыков решения уравнений с помощью разложения на множит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Эпиграф к уроку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е всегда уравненья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разрешают сомнень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о итогом сомнень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может быть озарень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А.Н.Колмогор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Arial"/>
              </a:rPr>
              <a:t>Задание 1.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 Найдите уравн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2у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3х-5=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7у+2х+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4а -7а+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8х=-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5,8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·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0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3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7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)=2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7=-4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95640" y="1827360"/>
            <a:ext cx="489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Уравнение-эт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 содержаще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значение которой надо най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Решить уравнение- значит найти все ег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или доказать, что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Корень уравнения- значени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при котором уравнение обращается в верно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95640" y="3284640"/>
                <a:ext cx="276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2.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Уравнения, имеющие одни и те же корни, называютс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… 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1844640"/>
            <a:ext cx="32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|b|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4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-15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  - 16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х=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19640" y="1844280"/>
            <a:ext cx="33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х=2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/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56000" y="3141720"/>
                <a:ext cx="220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войства равносильности уравн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810108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уравнении перенести слагаемое из одной части в другую, изменив его знак,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обе части уравнения умножить или разделить на одно и то же </a:t>
            </a:r>
            <a:r>
              <a:rPr b="1" i="1" lang="en-US" sz="2200" spc="-1" strike="noStrike" u="sng">
                <a:solidFill>
                  <a:srgbClr val="990000"/>
                </a:solidFill>
                <a:uFillTx/>
                <a:latin typeface="Verdana"/>
              </a:rPr>
              <a:t>отличное от нуля число,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какой-либо части или в обеих частях уравнения выполнить тождественное преобразование, не меняющее области определения уравнения, то получится уравнение, равносильное данно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Произведение двух множителей равно нулю,…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15640" y="5950080"/>
            <a:ext cx="7542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Verdana"/>
              </a:rPr>
              <a:t>если хотя бы один из них равен нулю, а другой при этом имеет смыс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Задание 3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Найдите ошибк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700280"/>
            <a:ext cx="6441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1)При раскрытии скобок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9(2а-3)-4(а+2)=18а-27-4а+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а-2в)(а+2в)=а²-4ав+4в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2) В решении уравнения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-0,4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6     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1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3         или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Ответ:0,3.            Ответ: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3) В разложении на множите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8х²-12х=4х(2х+4х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5у²-81=(5у-9)(5у+9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16+9с²=(4-3с)(4+3с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х²-6х+9=(х-81)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165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4292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4.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Решите уравнения . Решив уравнения1-4 вы выясните, какие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яды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попадают в организм человека вместе с вдыхаемым дымом сигарет: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827360"/>
            <a:ext cx="4752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5х²+х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х²-144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х-1)²-25=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)4х²+12х+9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7х+1)(3х-1)-21х²| = 3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6)а³-3а²-4а= -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7)11х²+88х+176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8)8а³+12а²-18а=27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) При каких значениях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внение 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х=а²-5а+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единствен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ень;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 имеет корне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бесконечно м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не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80000" y="1844640"/>
            <a:ext cx="356400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;6-никоти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,5-фто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;-0,2-свине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1,5-рту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кадм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,25-кал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Verdana"/>
              </a:rPr>
              <a:t>Никотин в 2 раза более ядовит, чем стрихнин, вдыхание паров ртути смертельно опас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Задание 5.</a:t>
            </a: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 Решите уравнения самостоятельно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321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336600"/>
                </a:solidFill>
                <a:latin typeface="Verdana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 - х³ = 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х² + 4х + 1 =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4у(2у+2)-(8у-1)(у+6)| = 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4.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Найдите, при каких значениях а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корнем</a:t>
            </a:r>
            <a:r>
              <a:rPr b="1" i="1" lang="ru-RU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3а|6х-41|+3=14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является число 5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Verdana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4у³ - у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9у² - 12у + 4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1-с)(4-6с)-(2с-1)(3с+1)| =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4.Найдите, при каких значениях </a:t>
            </a:r>
            <a:r>
              <a:rPr b="1" i="1" lang="en-US" sz="2000" spc="-1" strike="noStrike" u="sng">
                <a:solidFill>
                  <a:srgbClr val="5f5f5f"/>
                </a:solidFill>
                <a:uFillTx/>
                <a:latin typeface="Verdana"/>
              </a:rPr>
              <a:t>a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корнем 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a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2х-1</a:t>
            </a: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-4=5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 является число 7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20:03:16Z</dcterms:created>
  <dc:creator>Наталья</dc:creator>
  <dc:description/>
  <dc:language>en-US</dc:language>
  <cp:lastModifiedBy>Admin</cp:lastModifiedBy>
  <dcterms:modified xsi:type="dcterms:W3CDTF">2011-01-10T12:13:25Z</dcterms:modified>
  <cp:revision>62</cp:revision>
  <dc:subject/>
  <dc:title>Тема урока «Решение линейных уравнений»</dc:title>
</cp:coreProperties>
</file>