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17D-0153-43E6-B766-D28DD069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FA4-7D1A-4C14-94EE-43614ED2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BAC-BDBA-49F8-8409-62B88B2B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25E-14C2-41BD-9477-4C1213B5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BFA1-3AF5-42A6-96D6-195D9D03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D4C5-9C41-4014-8A2B-9354FFC2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0C06-2769-48D0-B8E4-D921104E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9FE3-991C-40D0-B02B-59F71E25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6B9C-C184-4BE1-AD5C-3FF6914B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6099-CD9B-4000-9702-24B68F7F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C209-690A-4EEA-9608-001762FB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791-A3CF-4350-A665-048B0DC8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6E93-BD31-4634-9334-5AED7E3A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6607-1AB3-4F8A-AF97-4CBA8C3A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5B8A-84B2-492F-96F3-0E8F0F7D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9FCA-C941-4FA8-B33B-4AAC165C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3495-F6E5-4EAA-ADFC-47A2E874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968-C479-44E6-8060-A5379C3D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F1C-007A-4749-B39B-1DBB8362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6F0-29A3-402A-993E-FAB84DAB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57D-4DD1-4F60-90EE-D6420EE6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4F7-4072-45A9-81B7-69BA7ECC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D45-A25D-47A9-AF77-25886C7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78A-3F5E-46C6-A53A-9974027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8232-B497-4D33-9B6E-FB47C724BC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CBDF-8125-40E5-8DDE-C87CFCE4A4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r>
              <a:rPr b="1" i="1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«Решение уравнений с помощью разложения на множители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2636640"/>
            <a:ext cx="802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cc3300"/>
                </a:solidFill>
                <a:latin typeface="Verdana"/>
              </a:rPr>
              <a:t>Имя урока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Verdana"/>
              </a:rPr>
              <a:t>«Уравнение- ключ к изучению точных наук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Учитель МОУ Гимназия №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г.Похвистнев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Самарской обла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Антонова Г.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Ответы к самостоятельной работ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773360"/>
            <a:ext cx="357804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 вариан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-1; 0; 1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-0,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3/13; 1/13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4.  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х=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а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|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0-41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|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+3=14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а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·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11=1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а= 1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/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76360" y="1844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 вариан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-0,5; 0; 0,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2/3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2/9; 8/9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4.  x=7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a|14-1|-4=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a·13=9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а=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9/1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119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r>
              <a:rPr b="1" i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«Решение уравнений с помощью разложения на множители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2781360"/>
            <a:ext cx="785664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- Я сегодня на уроке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- Самым трудным  на уроке дл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меня был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- На уроке мне понравилось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1557000"/>
            <a:ext cx="73137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Verdana"/>
              </a:rPr>
              <a:t>  </a:t>
            </a:r>
            <a:r>
              <a:rPr b="1" i="1" lang="en-US" sz="3600" spc="-1" strike="noStrike">
                <a:solidFill>
                  <a:srgbClr val="003399"/>
                </a:solidFill>
                <a:latin typeface="Verdana"/>
              </a:rPr>
              <a:t>Формирование навыков решения уравнений с помощью разложения на множит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Эпиграф к уроку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Не всегда уравненья 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                               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разрешают сомнень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Но итогом сомнень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                              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может быть озарень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А.Н.Колмогор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77777"/>
                </a:solidFill>
                <a:latin typeface="Arial"/>
              </a:rPr>
              <a:t>Задание 1.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 Найдите уравн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30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2у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3х-5=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7у+2х+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14а -7а+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8х=-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5,8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·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10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3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5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7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)=2-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m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-7=-4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m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-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95640" y="1827360"/>
            <a:ext cx="489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Уравнение-это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, содержащее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,значение которой надо най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Решить уравнение- значит найти все его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 или доказать, что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Корень уравнения- значение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,при котором уравнение обращается в верное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195640" y="3284640"/>
                <a:ext cx="276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Задание 2.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Уравнения, имеющие одни и те же корни, называются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… 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640" y="1844640"/>
            <a:ext cx="324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|b|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=4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-15=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  - 16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х=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19640" y="1844280"/>
            <a:ext cx="338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b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4, </a:t>
            </a: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b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-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y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c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-4, </a:t>
            </a: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c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х=2</a:t>
            </a: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/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56000" y="3141720"/>
                <a:ext cx="2206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Свойства равносильности уравнен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810108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Если в уравнении перенести слагаемое из одной части в другую, изменив его знак, то получится уравнение, равносильное данном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Если обе части уравнения умножить или разделить на одно и то же </a:t>
            </a:r>
            <a:r>
              <a:rPr b="1" i="1" lang="en-US" sz="2200" spc="-1" strike="noStrike" u="sng">
                <a:solidFill>
                  <a:srgbClr val="990000"/>
                </a:solidFill>
                <a:uFillTx/>
                <a:latin typeface="Verdana"/>
              </a:rPr>
              <a:t>отличное от нуля число,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 то получится уравнение, равносильное данном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Если в какой-либо части или в обеих частях уравнения выполнить тождественное преобразование, не меняющее области определения уравнения, то получится уравнение, равносильное данно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Произведение двух множителей равно нулю,…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15640" y="5950080"/>
            <a:ext cx="7542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Verdana"/>
              </a:rPr>
              <a:t>если хотя бы один из них равен нулю, а другой при этом имеет смыс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Задание 3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Найдите ошибк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700280"/>
            <a:ext cx="64418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1)При раскрытии скобок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9(2а-3)-4(а+2)=18а-27-4а+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(а-2в)(а+2в)=а²-4ав+4в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2) В решении уравнения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-1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0,4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-1=-0,4  или   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-1=0,4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0,6       или   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1,4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0,3         или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7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Ответ:0,3.            Ответ:7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3) В разложении на множите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8х²-12х=4х(2х+4х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5у²-81=(5у-9)(5у+9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16+9с²=(4-3с)(4+3с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х²-6х+9=(х-81)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6165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429264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Задание 4.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 Решите уравнения . Решив уравнения1-4 вы выясните, какие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яды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 попадают в организм человека вместе с вдыхаемым дымом сигарет: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827360"/>
            <a:ext cx="47527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5х²+х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х²-144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х-1)²-25=0;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4)4х²+12х+9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|(7х+1)(3х-1)-21х²| = 3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6)а³-3а²-4а= -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7)11х²+88х+176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8)8а³+12а²-18а=27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) При каких значениях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авнение 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х=а²-5а+6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ме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единствен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орень;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 имеет корне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име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бесконечно м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орне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80000" y="1844640"/>
            <a:ext cx="356400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;6-никоти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,5-фтор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0;-0,2-свине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1,5-рту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кадм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,25-кал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00"/>
                </a:solidFill>
                <a:latin typeface="Verdana"/>
              </a:rPr>
              <a:t>Никотин в 2 раза более ядовит, чем стрихнин, вдыхание паров ртути смертельно опас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Задание 5.</a:t>
            </a: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 Решите уравнения самостоятельно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3210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336600"/>
                </a:solidFill>
                <a:latin typeface="Verdana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Verdana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 - х³ = 0;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Verdana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4х² + 4х + 1 =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|4у(2у+2)-(8у-1)(у+6)| = 3</a:t>
            </a: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4.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Найдите, при каких значениях а</a:t>
            </a: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корнем</a:t>
            </a:r>
            <a:r>
              <a:rPr b="1" i="1" lang="ru-RU" sz="21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уравн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3а|6х-41|+3=14</a:t>
            </a: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является число 5</a:t>
            </a: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800080"/>
                </a:solidFill>
                <a:latin typeface="Verdana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4у³ - у = 0;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9у² - 12у + 4 = 0;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3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|(1-с)(4-6с)-(2с-1)(3с+1)| =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Verdana"/>
              </a:rPr>
              <a:t>4.Найдите, при каких значениях </a:t>
            </a:r>
            <a:r>
              <a:rPr b="1" i="1" lang="en-US" sz="2000" spc="-1" strike="noStrike" u="sng">
                <a:solidFill>
                  <a:srgbClr val="5f5f5f"/>
                </a:solidFill>
                <a:uFillTx/>
                <a:latin typeface="Verdana"/>
              </a:rPr>
              <a:t>a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800080"/>
                </a:solidFill>
                <a:latin typeface="Verdana"/>
              </a:rPr>
              <a:t>корнем уравн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Verdana"/>
              </a:rPr>
              <a:t>a|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2х-1</a:t>
            </a:r>
            <a:r>
              <a:rPr b="1" i="1" lang="en-US" sz="2000" spc="-1" strike="noStrike">
                <a:solidFill>
                  <a:srgbClr val="5f5f5f"/>
                </a:solidFill>
                <a:latin typeface="Verdana"/>
              </a:rPr>
              <a:t>|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-4=5</a:t>
            </a:r>
            <a:r>
              <a:rPr b="1" i="1" lang="ru-RU" sz="2000" spc="-1" strike="noStrike">
                <a:solidFill>
                  <a:srgbClr val="800080"/>
                </a:solidFill>
                <a:latin typeface="Verdana"/>
              </a:rPr>
              <a:t> является число 7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060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20:03:16Z</dcterms:created>
  <dc:creator>Наталья</dc:creator>
  <dc:description/>
  <dc:language>en-US</dc:language>
  <cp:lastModifiedBy>Admin</cp:lastModifiedBy>
  <dcterms:modified xsi:type="dcterms:W3CDTF">2011-01-10T12:13:25Z</dcterms:modified>
  <cp:revision>62</cp:revision>
  <dc:subject/>
  <dc:title>Тема урока «Решение линейных уравнений»</dc:title>
</cp:coreProperties>
</file>