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DC67D-A439-4A6E-AA9B-6E764310B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F3BC3-8384-4A6F-A52E-261131314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D7205-94C3-41A3-9674-3E0B8EB40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FBF8F-E349-483A-809E-651795BBD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2D0BE-E96D-4DEA-8396-E6D6047F4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90D9E-94F8-454B-A4BE-55F616E91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2592F-8086-43EA-9AEE-99045840C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A474D-54E4-4867-8449-A6EE22C13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027FC-3872-49AD-99BF-F7663272E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7E5C8-588A-492E-9A1B-EE5ED7D6C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591F5-3D65-4058-9604-3347BF390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C4213-A492-470F-B876-DAC6C24AA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3B752-EFC6-44DC-AFB2-7E3063417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621D5-F06F-4A73-B850-CC6AEC0ED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A5D23-21AE-4045-84A3-A1DDBD937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E1C3D-578B-4104-A12A-F354089E2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A42FD-1E01-4CD9-AFB3-4D7627AD0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EBE5D-F38A-48FD-B0A7-D7B864FD0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C4C02-6ED5-43E5-9B32-92A3341D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86E83-263A-4F7A-AA49-8E1874D6B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A037F-568A-4396-BD8E-6A5F092FD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392FB-67DB-42DC-99B9-526B1DF47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69E78-D20C-434B-B883-FA412A243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A0EB8-D54D-463B-9140-F15819AD7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1d45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d4577"/>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1d45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413F-001F-4220-8F6B-AF28619C0AB9}" type="slidenum">
              <a:rPr b="0" lang="ru-RU" sz="1200" spc="-1" strike="noStrike">
                <a:solidFill>
                  <a:srgbClr val="1d4577"/>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1d45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d4577"/>
                </a:solidFill>
                <a:latin typeface="Arial"/>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1d45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FB2F-67FB-49FE-80C0-E1C4F0E06F59}" type="slidenum">
              <a:rPr b="0" lang="ru-RU" sz="1200" spc="-1" strike="noStrike">
                <a:solidFill>
                  <a:srgbClr val="1d457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vse-krugom.ru/wp-content/uploads/2014/05/&#1043;&#1072;&#1088;&#1087;&#1080;&#1103;-&#1086;&#1073;&#1077;&#1079;&#1100;&#1103;&#1085;&#1086;&#1077;&#1076;.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vse-krugom.ru/wp-content/uploads/2014/05/&#1043;&#1080;&#1075;&#1072;&#1085;&#1090;&#1089;&#1082;&#1080;&#1081;-&#1080;&#1073;&#1080;&#1089;.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vse-krugom.ru/wp-content/uploads/2014/05/&#1063;&#1077;&#1088;&#1085;&#1086;&#1089;&#1087;&#1080;&#1085;&#1085;&#1099;&#1081;-&#1089;&#1086;&#1074;&#1080;&#1085;&#1099;&#1081;-&#1083;&#1103;&#1075;&#1091;&#1096;&#1082;&#1086;&#1088;&#1086;&#1090;.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vse-krugom.ru/wp-content/uploads/2014/05/&#1050;&#1072;&#1083;&#1080;&#1092;&#1086;&#1088;&#1085;&#1080;&#1081;&#1089;&#1082;&#1080;&#1081;-&#1082;&#1086;&#1085;&#1076;&#1086;&#1088;.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vse-krugom.ru/wp-content/uploads/2014/05/&#1057;&#1086;&#1074;&#1080;&#1085;&#1099;&#1081;-&#1087;&#1086;&#1087;&#1091;&#1075;&#1072;&#1081;.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vse-krugom.ru/wp-content/uploads/2014/05/&#1050;&#1072;&#1075;&#1091;-Rhynochetos-jubatus.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vse-krugom.ru/wp-content/uploads/2014/05/&#1057;&#1091;&#1084;&#1072;&#1090;&#1088;&#1072;&#1085;&#1089;&#1082;&#1072;&#1103;-&#1079;&#1077;&#1084;&#1083;&#1103;&#1085;&#1072;&#1103;-&#1082;&#1091;&#1082;&#1091;&#1096;&#1082;&#1072;.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Заголовок 1" descr=""/>
          <p:cNvPicPr/>
          <p:nvPr/>
        </p:nvPicPr>
        <p:blipFill>
          <a:blip r:embed="rId1"/>
          <a:stretch/>
        </p:blipFill>
        <p:spPr>
          <a:xfrm>
            <a:off x="-506520" y="-6480"/>
            <a:ext cx="8461440" cy="1901880"/>
          </a:xfrm>
          <a:prstGeom prst="rect">
            <a:avLst/>
          </a:prstGeom>
          <a:ln w="0">
            <a:noFill/>
          </a:ln>
        </p:spPr>
      </p:pic>
      <p:sp>
        <p:nvSpPr>
          <p:cNvPr id="96"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000000"/>
              </a:solidFill>
              <a:latin typeface="Constantia"/>
            </a:endParaRPr>
          </a:p>
        </p:txBody>
      </p:sp>
      <p:pic>
        <p:nvPicPr>
          <p:cNvPr id="97" name="Рисунок 3" descr="Гарпия-обезьяноед">
            <a:hlinkClick r:id="rId2"/>
          </p:cNvPr>
          <p:cNvPicPr/>
          <p:nvPr/>
        </p:nvPicPr>
        <p:blipFill>
          <a:blip r:embed="rId3"/>
          <a:stretch/>
        </p:blipFill>
        <p:spPr>
          <a:xfrm>
            <a:off x="1428840" y="1857240"/>
            <a:ext cx="6143400" cy="44294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071800" y="4284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Times New Roman"/>
                <a:ea typeface="Calibri"/>
              </a:rPr>
              <a:t>Гигантский ибис </a:t>
            </a:r>
            <a:endParaRPr b="0" lang="en-US" sz="5000" spc="-1" strike="noStrike">
              <a:solidFill>
                <a:srgbClr val="1f497d"/>
              </a:solidFill>
              <a:latin typeface="Calibri"/>
            </a:endParaRPr>
          </a:p>
        </p:txBody>
      </p:sp>
      <p:pic>
        <p:nvPicPr>
          <p:cNvPr id="121" name="Содержимое 3" descr="Гигантский ибис">
            <a:hlinkClick r:id="rId1"/>
          </p:cNvPr>
          <p:cNvPicPr/>
          <p:nvPr/>
        </p:nvPicPr>
        <p:blipFill>
          <a:blip r:embed="rId2"/>
          <a:stretch/>
        </p:blipFill>
        <p:spPr>
          <a:xfrm>
            <a:off x="1270080" y="1935000"/>
            <a:ext cx="6603840" cy="4389480"/>
          </a:xfrm>
          <a:prstGeom prst="rect">
            <a:avLst/>
          </a:prstGeom>
          <a:ln w="0">
            <a:noFill/>
          </a:ln>
          <a:effectLst>
            <a:outerShdw dist="139498" dir="2700000" blurRad="0" rotWithShape="0">
              <a:srgbClr val="333333">
                <a:alpha val="65000"/>
              </a:srgbClr>
            </a:outerShdw>
          </a:effectLst>
        </p:spPr>
      </p:pic>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23" name=""/>
          <p:cNvSpPr txBox="1"/>
          <p:nvPr/>
        </p:nvSpPr>
        <p:spPr>
          <a:xfrm>
            <a:off x="357120" y="857160"/>
            <a:ext cx="8229600" cy="5143680"/>
          </a:xfrm>
          <a:prstGeom prst="rect">
            <a:avLst/>
          </a:prstGeom>
          <a:noFill/>
          <a:ln w="0">
            <a:noFill/>
          </a:ln>
        </p:spPr>
        <p:txBody>
          <a:bodyPr anchor="t">
            <a:normAutofit/>
          </a:bodyPr>
          <a:p>
            <a:pPr marL="272880" indent="-272880">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амый крупный представитель семейства ибисовых, отличающихся длинным, тонким, изящно изогнутым клювом. Гигантский ибис достигает длины более метра. Он живет в северной Камбодже, изредка отмечался также в сопредельных районах Лаоса и Вьетнама. Его порой причисляют к национальным символам Камбоджи, однако это не сказывается положительно на его шансах на выживание. В данный момент насчитывают менее 230 пар птиц. Сокращение численности гигантского ибиса связано с сушением болот под сельскохозяйственные угодья и массовой вырубки лесов, на месте которых возникают плантации гевеи, маниоки и тикового дерева. Число лесных водоемов падает, где могли бы кормиться ибисы, из-за постепенного исчезновения диких буйволов, которые сами могли создавать небольшие водоемы. Гнезда ибисов разоряют небольшие хищники: пальмовая циветта и харза.</a:t>
            </a:r>
            <a:endParaRPr b="0" lang="en-US" sz="2400" spc="-1" strike="noStrike">
              <a:solidFill>
                <a:srgbClr val="000000"/>
              </a:solidFill>
              <a:latin typeface="Constantia"/>
            </a:endParaRPr>
          </a:p>
          <a:p>
            <a:pPr marL="272880" indent="-272880">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14240" y="6426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5968"/>
                </a:solidFill>
                <a:latin typeface="Times New Roman"/>
                <a:ea typeface="Calibri"/>
              </a:rPr>
              <a:t>Новокаледонский совиный козодой, или черноспинный совиный лягушкорот </a:t>
            </a:r>
            <a:endParaRPr b="0" lang="en-US" sz="3600" spc="-1" strike="noStrike">
              <a:solidFill>
                <a:srgbClr val="1f497d"/>
              </a:solidFill>
              <a:latin typeface="Calibri"/>
            </a:endParaRPr>
          </a:p>
        </p:txBody>
      </p:sp>
      <p:pic>
        <p:nvPicPr>
          <p:cNvPr id="125" name="Содержимое 3" descr="Черноспинный совиный лягушкорот">
            <a:hlinkClick r:id="rId1"/>
          </p:cNvPr>
          <p:cNvPicPr/>
          <p:nvPr/>
        </p:nvPicPr>
        <p:blipFill>
          <a:blip r:embed="rId2"/>
          <a:stretch/>
        </p:blipFill>
        <p:spPr>
          <a:xfrm>
            <a:off x="1969920" y="1935000"/>
            <a:ext cx="5204160" cy="438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27" name=""/>
          <p:cNvSpPr txBox="1"/>
          <p:nvPr/>
        </p:nvSpPr>
        <p:spPr>
          <a:xfrm>
            <a:off x="500040" y="856800"/>
            <a:ext cx="8229600" cy="4389480"/>
          </a:xfrm>
          <a:prstGeom prst="rect">
            <a:avLst/>
          </a:prstGeom>
          <a:noFill/>
          <a:ln w="0">
            <a:noFill/>
          </a:ln>
        </p:spPr>
        <p:txBody>
          <a:bodyPr anchor="t">
            <a:normAutofit/>
          </a:bodyPr>
          <a:p>
            <a:pPr marL="272880" indent="-272880">
              <a:lnSpc>
                <a:spcPct val="90000"/>
              </a:lnSpc>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б этой птице известно настолько мало, что ее иногда называют загадочным совиным козодоем. Живет она на острове Новая Каледония в лесах из так называемого «чайного дерева» (Melaleuca). Орнитологами было добыто всего два экземпляра, в 1880 и 1915 годах, причем одна из птиц попалась совершенно случайно, залетев ненароком в окно комнаты. В дальнейшем птицу несколько раз наблюдали в природе. В последний раз ее видели в 1998 году. По оценке исследователей численность этого вида не превышает 50 особей.</a:t>
            </a:r>
            <a:endParaRPr b="0" lang="en-US" sz="2800" spc="-1" strike="noStrike">
              <a:solidFill>
                <a:srgbClr val="000000"/>
              </a:solidFill>
              <a:latin typeface="Constantia"/>
            </a:endParaRPr>
          </a:p>
          <a:p>
            <a:pPr marL="272880" indent="-272880">
              <a:lnSpc>
                <a:spcPct val="90000"/>
              </a:lnSpc>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14240" y="4284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Times New Roman"/>
                <a:ea typeface="Calibri"/>
              </a:rPr>
              <a:t>Калифорнийский кондор </a:t>
            </a:r>
            <a:endParaRPr b="0" lang="en-US" sz="5000" spc="-1" strike="noStrike">
              <a:solidFill>
                <a:srgbClr val="1f497d"/>
              </a:solidFill>
              <a:latin typeface="Calibri"/>
            </a:endParaRPr>
          </a:p>
        </p:txBody>
      </p:sp>
      <p:pic>
        <p:nvPicPr>
          <p:cNvPr id="129" name="Содержимое 3" descr="Калифорнийский кондор">
            <a:hlinkClick r:id="rId1"/>
          </p:cNvPr>
          <p:cNvPicPr/>
          <p:nvPr/>
        </p:nvPicPr>
        <p:blipFill>
          <a:blip r:embed="rId2"/>
          <a:stretch/>
        </p:blipFill>
        <p:spPr>
          <a:xfrm>
            <a:off x="1428840" y="1785960"/>
            <a:ext cx="6594480" cy="4389480"/>
          </a:xfrm>
          <a:prstGeom prst="rect">
            <a:avLst/>
          </a:prstGeom>
          <a:ln w="0">
            <a:noFill/>
          </a:ln>
          <a:effectLst>
            <a:outerShdw dist="139498" dir="2700000" blurRad="0" rotWithShape="0">
              <a:srgbClr val="333333">
                <a:alpha val="65000"/>
              </a:srgbClr>
            </a:outerShdw>
          </a:effectLst>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31" name=""/>
          <p:cNvSpPr txBox="1"/>
          <p:nvPr/>
        </p:nvSpPr>
        <p:spPr>
          <a:xfrm>
            <a:off x="428760" y="428400"/>
            <a:ext cx="8286480" cy="6072120"/>
          </a:xfrm>
          <a:prstGeom prst="rect">
            <a:avLst/>
          </a:prstGeom>
          <a:noFill/>
          <a:ln w="0">
            <a:noFill/>
          </a:ln>
        </p:spPr>
        <p:txBody>
          <a:bodyPr anchor="t">
            <a:normAutofit/>
          </a:bodyPr>
          <a:p>
            <a:pPr marL="272880" indent="-272880">
              <a:lnSpc>
                <a:spcPts val="1947"/>
              </a:lnSpc>
              <a:spcBef>
                <a:spcPts val="400"/>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упная птица, размах крыльев которой достигает трех метров, а вес – 14 килограмм, когда-то была широко распространена в западной части современной территории США. Кондор одна из самых долгоживущих птиц, ее продолжительность жизни может достигать 60 лет. Гибельным для калифорнийского кондора стало то, что его считали престижным охотничьим трофеем. Сказались и другие факторы: наличие только одного птенца в выводке, позднее наступление половой зрелости, отравление свинцом (от пуль в трупах животных, которыми кондор питается), отравление ДДТ, линии электропередач. К тому же, среди фермеров, видевших кондоров на трупах домашних животных, распространилось поверье, будто эти птицы убивают маленьких ягнят и телят. Оно настолько укоренилось у населения штата Аризона, что, когда началась программа по восстановлению популяции кондора, это вызвало протесты местных скотоводов.</a:t>
            </a:r>
            <a:endParaRPr b="0" lang="en-US" sz="1600" spc="-1" strike="noStrike">
              <a:solidFill>
                <a:srgbClr val="000000"/>
              </a:solidFill>
              <a:latin typeface="Constantia"/>
            </a:endParaRPr>
          </a:p>
          <a:p>
            <a:pPr marL="272880" indent="-272880">
              <a:lnSpc>
                <a:spcPts val="1947"/>
              </a:lnSpc>
              <a:spcBef>
                <a:spcPts val="400"/>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1981 году насчитывался всего 21 кондор. Все птицы были выловлены и разводились в неволе. Потом их постепенно стали вновь выпускать в дикую природу. Процесс этот был долгим из-за медленных темпов размножения кондоров. К тому же птиц пришлось обучать избегать линий электропередач и людей. Первое рождение птенца кондора в дикой природе было отмечено в 2003 году. На данный момент насчитывается чуть более 400 птиц, из которых примерно половина содержится в неволе. В качестве меры по защите кондоров в штате Калифорния был принят особый закон (Ridley-TreeCondorPreservationAct), который обязал охотников в ареале распространения кондоров не использовать свинцовые пули, ядовитые для этих птиц.</a:t>
            </a:r>
            <a:endParaRPr b="0" lang="en-US" sz="1600" spc="-1" strike="noStrike">
              <a:solidFill>
                <a:srgbClr val="000000"/>
              </a:solidFill>
              <a:latin typeface="Constantia"/>
            </a:endParaRPr>
          </a:p>
          <a:p>
            <a:pPr marL="272880" indent="-272880">
              <a:lnSpc>
                <a:spcPct val="80000"/>
              </a:lnSpc>
              <a:spcBef>
                <a:spcPts val="4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00040" y="6426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Times New Roman"/>
                <a:ea typeface="Calibri"/>
              </a:rPr>
              <a:t>Какапо, или совиный попугай </a:t>
            </a:r>
            <a:endParaRPr b="0" lang="en-US" sz="5000" spc="-1" strike="noStrike">
              <a:solidFill>
                <a:srgbClr val="1f497d"/>
              </a:solidFill>
              <a:latin typeface="Calibri"/>
            </a:endParaRPr>
          </a:p>
        </p:txBody>
      </p:sp>
      <p:pic>
        <p:nvPicPr>
          <p:cNvPr id="133" name="Содержимое 3" descr="Совиный попугай">
            <a:hlinkClick r:id="rId1"/>
          </p:cNvPr>
          <p:cNvPicPr/>
          <p:nvPr/>
        </p:nvPicPr>
        <p:blipFill>
          <a:blip r:embed="rId2"/>
          <a:stretch/>
        </p:blipFill>
        <p:spPr>
          <a:xfrm>
            <a:off x="2000160" y="2214720"/>
            <a:ext cx="5581800" cy="3958920"/>
          </a:xfrm>
          <a:prstGeom prst="rect">
            <a:avLst/>
          </a:prstGeom>
          <a:ln w="0">
            <a:noFill/>
          </a:ln>
          <a:effectLst>
            <a:outerShdw dist="139498" dir="2700000" blurRad="0" rotWithShape="0">
              <a:srgbClr val="333333">
                <a:alpha val="65000"/>
              </a:srgbClr>
            </a:outerShdw>
          </a:effectLst>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35" name=""/>
          <p:cNvSpPr txBox="1"/>
          <p:nvPr/>
        </p:nvSpPr>
        <p:spPr>
          <a:xfrm>
            <a:off x="285480" y="-360"/>
            <a:ext cx="8429400" cy="5643720"/>
          </a:xfrm>
          <a:prstGeom prst="rect">
            <a:avLst/>
          </a:prstGeom>
          <a:noFill/>
          <a:ln w="0">
            <a:noFill/>
          </a:ln>
        </p:spPr>
        <p:txBody>
          <a:bodyPr anchor="t">
            <a:normAutofit fontScale="93000"/>
          </a:bodyPr>
          <a:p>
            <a:pPr marL="253440" indent="-253440">
              <a:lnSpc>
                <a:spcPct val="100000"/>
              </a:lnSpc>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овозеландская нелетающая птица отряда попугаеобразных. Крупная (вес до 6 кг), круглоголовая, зеленая с черными полосами. Живет в норах, активна по ночам. Название kākāpō на языке маори состоит из слов kākā «попугай» и pō «ночь». Снижение численности началось после появления в Новой Зеландии европейцев. Причиной этого были не столько прямое уничтожение птиц человеком (ради вкусного мяса на какапо охотились и маори), сколько завезенные на острова млекопитающие: крысы, кошки и даже овцы, которые могли затоптать нору, где гнездятся какапо. Уже во второй половине XIX века птица стала редкой, и коллекционеры стремились заполучить экземпляр, прежде, чем она совсем исчезнет. В 1880-х в Новой Зеландии было выпущено большое число куньих: горностаи, хорьки и ласки – они должны были бороться с завезенными ранее и расплодившимися кроликами, но нанесли удар и по совиному попугаю. В результате к началу 1920-х годов на Северном острове какапо исчезли совсем, а их популяция на острове Южный резко уменьшилась.</a:t>
            </a:r>
            <a:endParaRPr b="0" lang="en-US" sz="1800" spc="-1" strike="noStrike">
              <a:solidFill>
                <a:srgbClr val="000000"/>
              </a:solidFill>
              <a:latin typeface="Constantia"/>
            </a:endParaRPr>
          </a:p>
          <a:p>
            <a:pPr marL="253440" indent="-253440">
              <a:lnSpc>
                <a:spcPct val="100000"/>
              </a:lnSpc>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1891 года правительство Новой Зеландии решило выделить остров Резольюшен, где не было хищных млекопитающих, в качестве резервации для какапо. Небольшой остров, примыкающей к острову Южный, стал первой в истории Новой Зеландии охраняемой природной территорией. Натуралист Ричард Генри возглавил программу сохранения какапо. Он выловил около 200 птиц и переселил их на остров Резольюшен. Однако в 1900 году на остров, переплыв пролив, проникли горностаи. Они уничтожили всю популяцию за шесть лет. Были сделаны попытки устроить заповедники для какапо еще на двух островах, но там птицы были уничтожены дикими кошками.</a:t>
            </a:r>
            <a:endParaRPr b="0" lang="en-US" sz="1800" spc="-1" strike="noStrike">
              <a:solidFill>
                <a:srgbClr val="000000"/>
              </a:solidFill>
              <a:latin typeface="Constanti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37" name=""/>
          <p:cNvSpPr txBox="1"/>
          <p:nvPr/>
        </p:nvSpPr>
        <p:spPr>
          <a:xfrm>
            <a:off x="356760" y="642960"/>
            <a:ext cx="8286840" cy="5286240"/>
          </a:xfrm>
          <a:prstGeom prst="rect">
            <a:avLst/>
          </a:prstGeom>
          <a:noFill/>
          <a:ln w="0">
            <a:noFill/>
          </a:ln>
        </p:spPr>
        <p:txBody>
          <a:bodyPr anchor="t">
            <a:normAutofit/>
          </a:bodyPr>
          <a:p>
            <a:pPr marL="272880" indent="-272880">
              <a:lnSpc>
                <a:spcPts val="1947"/>
              </a:lnSpc>
              <a:spcBef>
                <a:spcPts val="499"/>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ктивные усилия по поиску оставшихся попугаев в дикой природе и переселению их в безопасные места начались в 1970-х. Дело осложнялось тем, что самцы попадались куда чаще самок. Самая большая группа в несколько десятков птиц жила на острове Стюарт. Его отделяет от Южного острова около 30 километров, поэтому горностаи проникнуть туда не могли. Но одичавшие кошки там жили, и уничтожали, по оценке орнитологов, 56% какапо в год. Пришлось специально отлавливать всех кошек. Правда, в дальнейшем птиц всё-таки переселили на ряд более мелких островов, где легче контролировать наличие хищников.</a:t>
            </a:r>
            <a:endParaRPr b="0" lang="en-US" sz="2000" spc="-1" strike="noStrike">
              <a:solidFill>
                <a:srgbClr val="000000"/>
              </a:solidFill>
              <a:latin typeface="Constantia"/>
            </a:endParaRPr>
          </a:p>
          <a:p>
            <a:pPr marL="272880" indent="-272880">
              <a:lnSpc>
                <a:spcPts val="1947"/>
              </a:lnSpc>
              <a:spcBef>
                <a:spcPts val="499"/>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грамма по сохранению какапо продолжается и сейчас. Работники заповедников лично знают каждую птицу. Самая старая из известных птиц, которую звали Ричард Генри, умерла в декабре 2010 года в возрасте 80 лет. Все птицы и гнезда снабжены датчиками. Инфракрасные камеры, следящие за гнездами, позволяют вовремя отпугнуть крыс (применение камер позволило поднять выживаемость птенцов с с 29% до 75%). В 2009 году численность какапо впервые перевалила за сотню, а сейчас составляет 126 птиц.</a:t>
            </a:r>
            <a:endParaRPr b="0" lang="en-US" sz="2000" spc="-1" strike="noStrike">
              <a:solidFill>
                <a:srgbClr val="000000"/>
              </a:solidFill>
              <a:latin typeface="Constantia"/>
            </a:endParaRPr>
          </a:p>
          <a:p>
            <a:pPr marL="272880" indent="-272880">
              <a:lnSpc>
                <a:spcPct val="80000"/>
              </a:lnSpc>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71880" y="6426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Arial"/>
                <a:ea typeface="Calibri"/>
              </a:rPr>
              <a:t>Кагу</a:t>
            </a:r>
            <a:endParaRPr b="0" lang="en-US" sz="5000" spc="-1" strike="noStrike">
              <a:solidFill>
                <a:srgbClr val="1f497d"/>
              </a:solidFill>
              <a:latin typeface="Calibri"/>
            </a:endParaRPr>
          </a:p>
        </p:txBody>
      </p:sp>
      <p:pic>
        <p:nvPicPr>
          <p:cNvPr id="139" name="Содержимое 3" descr="Кагу Rhynochetos jubatus">
            <a:hlinkClick r:id="rId1"/>
          </p:cNvPr>
          <p:cNvPicPr/>
          <p:nvPr/>
        </p:nvPicPr>
        <p:blipFill>
          <a:blip r:embed="rId2"/>
          <a:stretch/>
        </p:blipFill>
        <p:spPr>
          <a:xfrm>
            <a:off x="1357200" y="1785960"/>
            <a:ext cx="585324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3880" y="428400"/>
            <a:ext cx="3100680" cy="1128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Орёл-беркут</a:t>
            </a:r>
            <a:endParaRPr b="0" lang="en-US" sz="4400" spc="-1" strike="noStrike">
              <a:solidFill>
                <a:srgbClr val="1f497d"/>
              </a:solidFill>
              <a:latin typeface="Calibri"/>
            </a:endParaRPr>
          </a:p>
        </p:txBody>
      </p:sp>
      <p:sp>
        <p:nvSpPr>
          <p:cNvPr id="99" name="PlaceHolder 2"/>
          <p:cNvSpPr>
            <a:spLocks noGrp="1"/>
          </p:cNvSpPr>
          <p:nvPr>
            <p:ph/>
          </p:nvPr>
        </p:nvSpPr>
        <p:spPr>
          <a:xfrm>
            <a:off x="571680" y="1571760"/>
            <a:ext cx="3008160" cy="4697280"/>
          </a:xfrm>
          <a:prstGeom prst="rect">
            <a:avLst/>
          </a:prstGeom>
          <a:noFill/>
          <a:ln w="0">
            <a:noFill/>
          </a:ln>
        </p:spPr>
        <p:txBody>
          <a:bodyPr lIns="18360" rIns="1836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рёл-беркут – большая, величественная птица. Размах её крыльев  - до 2  метров. Свои гнёзда беркуты обычно строят на большой высоте. Беркут может подолгу парить высоко в небе, высматривая добычу.</a:t>
            </a:r>
            <a:endParaRPr b="0" lang="en-US" sz="2400" spc="-1" strike="noStrike">
              <a:solidFill>
                <a:srgbClr val="000000"/>
              </a:solidFill>
              <a:latin typeface="Constantia"/>
            </a:endParaRPr>
          </a:p>
        </p:txBody>
      </p:sp>
      <p:pic>
        <p:nvPicPr>
          <p:cNvPr id="100" name="Объект 1" descr=""/>
          <p:cNvPicPr/>
          <p:nvPr/>
        </p:nvPicPr>
        <p:blipFill>
          <a:blip r:embed="rId1"/>
          <a:stretch/>
        </p:blipFill>
        <p:spPr>
          <a:xfrm>
            <a:off x="5143680" y="928800"/>
            <a:ext cx="3100320" cy="4572000"/>
          </a:xfrm>
          <a:prstGeom prst="rect">
            <a:avLst/>
          </a:prstGeom>
          <a:ln w="0">
            <a:noFill/>
          </a:ln>
          <a:effectLst>
            <a:outerShdw dist="139498" dir="2700000" blurRad="0" rotWithShape="0">
              <a:srgbClr val="333333">
                <a:alpha val="65000"/>
              </a:srgbClr>
            </a:outerShdw>
          </a:effectLst>
        </p:spPr>
      </p:pic>
    </p:spTree>
  </p:cSld>
  <p:transition spd="slow">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4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Еще один представитель Новой Каледонии. Сравнительно крупная (с курицу) нелетающая птица с серым оперением. Причинами сокращения численности стали завезенные на остров собаки, кошки и крысы. Охотились на кагу и люди, ее мясо считалось деликатесом. Программа сохранения вида начата в 1970-х. Сейчас популяция насчитывает 250-1000 птиц. Крик кагу используется в качестве звуковой заставки на новокаледоском телевидении.</a:t>
            </a:r>
            <a:endParaRPr b="0" lang="en-US" sz="2600" spc="-1" strike="noStrike">
              <a:solidFill>
                <a:srgbClr val="000000"/>
              </a:solidFill>
              <a:latin typeface="Constantia"/>
            </a:endParaRPr>
          </a:p>
          <a:p>
            <a:pPr marL="272880" indent="-272880">
              <a:lnSpc>
                <a:spcPct val="10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6426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5968"/>
                </a:solidFill>
                <a:latin typeface="Times New Roman"/>
                <a:ea typeface="Calibri"/>
              </a:rPr>
              <a:t>Филиппинский обезьяноед, или Гарпия-обезьяноед, Филиппинский орел </a:t>
            </a:r>
            <a:br>
              <a:rPr sz="4500"/>
            </a:br>
            <a:endParaRPr b="0" lang="en-US" sz="3200" spc="-1" strike="noStrike">
              <a:solidFill>
                <a:srgbClr val="1f497d"/>
              </a:solidFill>
              <a:latin typeface="Calibri"/>
            </a:endParaRPr>
          </a:p>
        </p:txBody>
      </p:sp>
      <p:pic>
        <p:nvPicPr>
          <p:cNvPr id="143" name="Содержимое 3" descr="Филиппинский обезьяноед"/>
          <p:cNvPicPr/>
          <p:nvPr/>
        </p:nvPicPr>
        <p:blipFill>
          <a:blip r:embed="rId1"/>
          <a:stretch/>
        </p:blipFill>
        <p:spPr>
          <a:xfrm>
            <a:off x="1447920" y="1454040"/>
            <a:ext cx="6027480" cy="4389480"/>
          </a:xfrm>
          <a:prstGeom prst="rect">
            <a:avLst/>
          </a:prstGeom>
          <a:ln w="0">
            <a:noFill/>
          </a:ln>
        </p:spPr>
      </p:pic>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45" name=""/>
          <p:cNvSpPr txBox="1"/>
          <p:nvPr/>
        </p:nvSpPr>
        <p:spPr>
          <a:xfrm>
            <a:off x="457200" y="499680"/>
            <a:ext cx="8229600" cy="5824440"/>
          </a:xfrm>
          <a:prstGeom prst="rect">
            <a:avLst/>
          </a:prstGeom>
          <a:noFill/>
          <a:ln w="0">
            <a:noFill/>
          </a:ln>
        </p:spPr>
        <p:txBody>
          <a:bodyPr anchor="t">
            <a:normAutofit/>
          </a:bodyPr>
          <a:p>
            <a:pPr marL="272880" indent="-272880">
              <a:lnSpc>
                <a:spcPts val="1947"/>
              </a:lnSpc>
              <a:spcBef>
                <a:spcPts val="451"/>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упный орел, с 1995 года считающийся национальным символом Филиппин. Действительно способен охотиться на макак, но питается и более мелкими млекопитающими, а также птицами. На тагальском языке называется háribon от haringibón «король-птица». Был открыт в 1894 году. Обезьяноед всегда была малочислен, размножается медленно. Основной причиной критического снижения численности стали охота и отлов птиц для зоопарков. Сыграли свою роль активность лесозаготовительных компаний, применение пестицидов, а также гибель птиц вловушка, которые местные жители использовали для охоты на оленей. Уже в 1966 году насчитывалось не более сотни птиц.</a:t>
            </a:r>
            <a:endParaRPr b="0" lang="en-US" sz="1800" spc="-1" strike="noStrike">
              <a:solidFill>
                <a:srgbClr val="000000"/>
              </a:solidFill>
              <a:latin typeface="Constantia"/>
            </a:endParaRPr>
          </a:p>
          <a:p>
            <a:pPr marL="272880" indent="-272880">
              <a:lnSpc>
                <a:spcPts val="1947"/>
              </a:lnSpc>
              <a:spcBef>
                <a:spcPts val="451"/>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судьбе филиппинского обезьяноеда впервые привлекли широкое внимание общественности в 1965 году местный орнитолог ДиоскороРабор (Dioscoro S.Rabor) и директор управления парков и дикой природы ХесусАльварес (Jesus A. Alvarez). Посетивший Филиппины знаменитый летчик Чарльз Линдберг был поражен красотой птицы. Именно он, присоединившись к аргументам ученых, сумел убедить правительство страны принять программу спасения орла. Были приняты законы, защищающие этих орлов. Обезьяноедов начали пытаться разводить в неволе, чтобы потом выпустить в природу. В 1992 году с помощью искусственного оплодотворения был рожден первый орленок в неволе. Естественного размножения птиц добились в 1999 году.</a:t>
            </a:r>
            <a:endParaRPr b="0" lang="en-US" sz="1800" spc="-1" strike="noStrike">
              <a:solidFill>
                <a:srgbClr val="000000"/>
              </a:solidFill>
              <a:latin typeface="Constantia"/>
            </a:endParaRPr>
          </a:p>
          <a:p>
            <a:pPr marL="272880" indent="-272880">
              <a:lnSpc>
                <a:spcPct val="80000"/>
              </a:lnSpc>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47" name=""/>
          <p:cNvSpPr txBox="1"/>
          <p:nvPr/>
        </p:nvSpPr>
        <p:spPr>
          <a:xfrm>
            <a:off x="500040" y="856800"/>
            <a:ext cx="8229600" cy="4389480"/>
          </a:xfrm>
          <a:prstGeom prst="rect">
            <a:avLst/>
          </a:prstGeom>
          <a:noFill/>
          <a:ln w="0">
            <a:noFill/>
          </a:ln>
        </p:spPr>
        <p:txBody>
          <a:bodyPr anchor="t">
            <a:normAutofit/>
          </a:bodyPr>
          <a:p>
            <a:pPr marL="272880" indent="-272880">
              <a:lnSpc>
                <a:spcPct val="100000"/>
              </a:lnSpc>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2004 году первая птица по имени Кабаян была выпущена на волю, но в январе 2005 погибла из-за случайного удара электрическим током. Другой орел по имени Кагсабуа был выпущен 6 марта 2008 года, но был застрелен и съеден местным фермером. Следует отметить, что убийство этой птицы карается на Филлипинах 12 годами заключения и большим денежным штрафом. Сейчас в дикой природе, по разным оценкам, живет от 180 до 500 обезьяноедов. В городе Давао расположен центр по разведению филиппинских орлов. В нем живут 35 птиц, 18 из которых рождены в неволе.</a:t>
            </a:r>
            <a:endParaRPr b="0" lang="en-US" sz="2000" spc="-1" strike="noStrike">
              <a:solidFill>
                <a:srgbClr val="000000"/>
              </a:solidFill>
              <a:latin typeface="Constantia"/>
            </a:endParaRPr>
          </a:p>
          <a:p>
            <a:pPr marL="272880" indent="-272880">
              <a:lnSpc>
                <a:spcPct val="100000"/>
              </a:lnSpc>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85920" y="7138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4e5968"/>
                </a:solidFill>
                <a:latin typeface="Arial"/>
                <a:ea typeface="Calibri"/>
              </a:rPr>
              <a:t>Рождественский фрегат </a:t>
            </a:r>
            <a:endParaRPr b="0" lang="en-US" sz="5000" spc="-1" strike="noStrike">
              <a:solidFill>
                <a:srgbClr val="1f497d"/>
              </a:solidFill>
              <a:latin typeface="Calibri"/>
            </a:endParaRPr>
          </a:p>
        </p:txBody>
      </p:sp>
      <p:pic>
        <p:nvPicPr>
          <p:cNvPr id="149" name="Содержимое 3" descr="Рождественский фрегат"/>
          <p:cNvPicPr/>
          <p:nvPr/>
        </p:nvPicPr>
        <p:blipFill>
          <a:blip r:embed="rId1"/>
          <a:stretch/>
        </p:blipFill>
        <p:spPr>
          <a:xfrm>
            <a:off x="1500120" y="1928880"/>
            <a:ext cx="6615360" cy="4389480"/>
          </a:xfrm>
          <a:prstGeom prst="rect">
            <a:avLst/>
          </a:prstGeom>
          <a:ln w="0">
            <a:noFill/>
          </a:ln>
          <a:effectLst>
            <a:outerShdw dist="139498" dir="2700000" blurRad="0" rotWithShape="0">
              <a:srgbClr val="333333">
                <a:alpha val="65000"/>
              </a:srgbClr>
            </a:outerShdw>
          </a:effectLst>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51" name=""/>
          <p:cNvSpPr txBox="1"/>
          <p:nvPr/>
        </p:nvSpPr>
        <p:spPr>
          <a:xfrm>
            <a:off x="285840" y="642600"/>
            <a:ext cx="8215200" cy="6072120"/>
          </a:xfrm>
          <a:prstGeom prst="rect">
            <a:avLst/>
          </a:prstGeom>
          <a:noFill/>
          <a:ln w="0">
            <a:noFill/>
          </a:ln>
        </p:spPr>
        <p:txBody>
          <a:bodyPr anchor="t">
            <a:normAutofit/>
          </a:bodyPr>
          <a:p>
            <a:pPr marL="272880" indent="-272880">
              <a:lnSpc>
                <a:spcPts val="1947"/>
              </a:lnSpc>
              <a:spcBef>
                <a:spcPts val="451"/>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упная темная птица с длинными узкими крыльями и раздвоенным хвостом. Как и прочие фрегаты неуклюжа на земле и неспособна плавать, зато чрезвычайно умелый летун. Хватает добычу с прибрежных пляжей или с поверхности воды, способен поймать в воздухе летучую рыбу. Оправдывая английское название птиц-фрегатов ManofWarbirds или Piratebirds, атакует возвращающихся с рыбной ловли олушей, крачек, чаек, бакланов, преследует их и бьет клювом. Когда жертва атаки отрыгнет добытую рыбу, фрегат ловко подхватывает ее в воздухе, не давая упасть в воду. Живет эта птица на острове Рождества в Индийском океане.</a:t>
            </a:r>
            <a:endParaRPr b="0" lang="en-US" sz="1800" spc="-1" strike="noStrike">
              <a:solidFill>
                <a:srgbClr val="000000"/>
              </a:solidFill>
              <a:latin typeface="Constantia"/>
            </a:endParaRPr>
          </a:p>
          <a:p>
            <a:pPr marL="272880" indent="-272880">
              <a:lnSpc>
                <a:spcPts val="1947"/>
              </a:lnSpc>
              <a:spcBef>
                <a:spcPts val="451"/>
              </a:spcBef>
              <a:spcAft>
                <a:spcPts val="1125"/>
              </a:spcAft>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 угрозой исчезновения рождественский фрегат оказался из-за муравья. В первой половине XX века на остров Рождества был случайно завезен вид муравьев – Anoplolepisgracilipes, получивший название «сумасшедший желтый муравей» (Yellowcrazyant). Он также попал и на ряд других островов Индийского и Тихого океанов. Эти муравьи интенсивно размножаются и способны поедать почти любых беспозвоночных. В частности на острове Рождества они уничтожили до 20 миллионов местных красных земляных крабов (Gecarcoideanatalis). Красный земляной краб важен для экосистемы острова, резкое снижение их численности приводит к изменению структуры лесов. Пока до конца не понятно, атакуют ли муравьи напрямую птенцов в гнездах, но с их появлением численность рождественских фрегатов, а также ряда других видов птиц острова Рождества стала интенсивно снижаться.</a:t>
            </a:r>
            <a:endParaRPr b="0" lang="en-US" sz="1800" spc="-1" strike="noStrike">
              <a:solidFill>
                <a:srgbClr val="000000"/>
              </a:solidFill>
              <a:latin typeface="Constantia"/>
            </a:endParaRPr>
          </a:p>
          <a:p>
            <a:pPr marL="272880" indent="-272880">
              <a:lnSpc>
                <a:spcPct val="80000"/>
              </a:lnSpc>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1f497d"/>
                </a:solidFill>
                <a:latin typeface="Calibri"/>
              </a:rPr>
              <a:t>      </a:t>
            </a:r>
            <a:r>
              <a:rPr b="1" i="1" lang="ru-RU" sz="5000" spc="-1" strike="noStrike">
                <a:solidFill>
                  <a:srgbClr val="1f497d"/>
                </a:solidFill>
                <a:latin typeface="Calibri"/>
              </a:rPr>
              <a:t>Спасибо за внимание!</a:t>
            </a:r>
            <a:endParaRPr b="0" lang="en-US" sz="5000" spc="-1" strike="noStrike">
              <a:solidFill>
                <a:srgbClr val="1f497d"/>
              </a:solidFill>
              <a:latin typeface="Calibri"/>
            </a:endParaRPr>
          </a:p>
        </p:txBody>
      </p:sp>
      <p:pic>
        <p:nvPicPr>
          <p:cNvPr id="153" name="Содержимое 3" descr="Лесной сыч Heteroglaux blewitti"/>
          <p:cNvPicPr/>
          <p:nvPr/>
        </p:nvPicPr>
        <p:blipFill>
          <a:blip r:embed="rId1"/>
          <a:stretch/>
        </p:blipFill>
        <p:spPr>
          <a:xfrm>
            <a:off x="1857240" y="1928880"/>
            <a:ext cx="5248440" cy="438948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85880" y="-2858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Чёрный аист.</a:t>
            </a:r>
            <a:endParaRPr b="0" lang="en-US" sz="3600" spc="-1" strike="noStrike">
              <a:solidFill>
                <a:srgbClr val="1f497d"/>
              </a:solidFill>
              <a:latin typeface="Calibri"/>
            </a:endParaRPr>
          </a:p>
        </p:txBody>
      </p:sp>
      <p:sp>
        <p:nvSpPr>
          <p:cNvPr id="102" name="PlaceHolder 2"/>
          <p:cNvSpPr>
            <a:spLocks noGrp="1"/>
          </p:cNvSpPr>
          <p:nvPr>
            <p:ph/>
          </p:nvPr>
        </p:nvSpPr>
        <p:spPr>
          <a:xfrm>
            <a:off x="571320" y="928440"/>
            <a:ext cx="3314520" cy="5033880"/>
          </a:xfrm>
          <a:prstGeom prst="rect">
            <a:avLst/>
          </a:prstGeom>
          <a:noFill/>
          <a:ln w="0">
            <a:noFill/>
          </a:ln>
        </p:spPr>
        <p:txBody>
          <a:bodyPr lIns="18360" rIns="1836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 </a:t>
            </a:r>
            <a:r>
              <a:rPr b="0" lang="ru-RU" sz="2400" spc="-1" strike="noStrike">
                <a:solidFill>
                  <a:srgbClr val="000000"/>
                </a:solidFill>
                <a:latin typeface="Times New Roman"/>
                <a:ea typeface="Times New Roman"/>
              </a:rPr>
              <a:t>Всем нам знакомы белые аисты, но в природе также встречаются и другие виды, например черные аисты. Это очень редкие и скрытные птицы, обитают в заросших старых  лесах, в предгорьях, у водоёмов.</a:t>
            </a:r>
            <a:endParaRPr b="0" lang="en-US" sz="2400" spc="-1" strike="noStrike">
              <a:solidFill>
                <a:srgbClr val="000000"/>
              </a:solidFill>
              <a:latin typeface="Constant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ёрный  аист – одна из самых редких  птиц  в мире. По некоторым данным количество  аистов с каждым годом сокращается.</a:t>
            </a:r>
            <a:endParaRPr b="0" lang="en-US" sz="2400" spc="-1" strike="noStrike">
              <a:solidFill>
                <a:srgbClr val="000000"/>
              </a:solidFill>
              <a:latin typeface="Constantia"/>
            </a:endParaRPr>
          </a:p>
        </p:txBody>
      </p:sp>
      <p:pic>
        <p:nvPicPr>
          <p:cNvPr id="103" name="Объект 1" descr=""/>
          <p:cNvPicPr/>
          <p:nvPr/>
        </p:nvPicPr>
        <p:blipFill>
          <a:blip r:embed="rId1"/>
          <a:stretch/>
        </p:blipFill>
        <p:spPr>
          <a:xfrm>
            <a:off x="4203720" y="1676520"/>
            <a:ext cx="3854520" cy="4572000"/>
          </a:xfrm>
          <a:prstGeom prst="rect">
            <a:avLst/>
          </a:prstGeom>
          <a:ln w="0">
            <a:noFill/>
          </a:ln>
          <a:effectLst>
            <a:outerShdw dist="139498" dir="2700000" blurRad="0" rotWithShape="0">
              <a:srgbClr val="333333">
                <a:alpha val="65000"/>
              </a:srgbClr>
            </a:outerShdw>
          </a:effectLst>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14240" y="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cc"/>
                </a:solidFill>
                <a:latin typeface="Calibri"/>
              </a:rPr>
              <a:t>Розовый  пеликан.</a:t>
            </a:r>
            <a:endParaRPr b="0" lang="en-US" sz="3200" spc="-1" strike="noStrike">
              <a:solidFill>
                <a:srgbClr val="1f497d"/>
              </a:solidFill>
              <a:latin typeface="Calibri"/>
            </a:endParaRPr>
          </a:p>
        </p:txBody>
      </p:sp>
      <p:sp>
        <p:nvSpPr>
          <p:cNvPr id="105" name="PlaceHolder 2"/>
          <p:cNvSpPr>
            <a:spLocks noGrp="1"/>
          </p:cNvSpPr>
          <p:nvPr>
            <p:ph/>
          </p:nvPr>
        </p:nvSpPr>
        <p:spPr>
          <a:xfrm>
            <a:off x="785880" y="1071720"/>
            <a:ext cx="2743200" cy="4572000"/>
          </a:xfrm>
          <a:prstGeom prst="rect">
            <a:avLst/>
          </a:prstGeom>
          <a:noFill/>
          <a:ln w="0">
            <a:noFill/>
          </a:ln>
        </p:spPr>
        <p:txBody>
          <a:bodyPr lIns="18360" rIns="18360" anchor="t">
            <a:normAutofit fontScale="96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озовый  пеликан – крупная  птица, весит  10-11 кг. Оперение  взрослой птицы белое с бледно- розовым  оттенком. Пеликаны питаются  рыбой. Нырять  они не могут и, добывая рыбу, только погружают  под  воду  шею или  переднюю  часть  туловища. </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настоящее  время это  малочисленная, местами  исчезающая  птица. Наибольшая  её  численность  наблюдается  в Астраханском  заповеднике.</a:t>
            </a:r>
            <a:endParaRPr b="0" lang="en-US" sz="1800" spc="-1" strike="noStrike">
              <a:solidFill>
                <a:srgbClr val="000000"/>
              </a:solidFill>
              <a:latin typeface="Constantia"/>
            </a:endParaRPr>
          </a:p>
        </p:txBody>
      </p:sp>
      <p:pic>
        <p:nvPicPr>
          <p:cNvPr id="106" name="Объект 1" descr=""/>
          <p:cNvPicPr/>
          <p:nvPr/>
        </p:nvPicPr>
        <p:blipFill>
          <a:blip r:embed="rId1"/>
          <a:stretch/>
        </p:blipFill>
        <p:spPr>
          <a:xfrm>
            <a:off x="3714840" y="857160"/>
            <a:ext cx="5111640" cy="3834000"/>
          </a:xfrm>
          <a:prstGeom prst="rect">
            <a:avLst/>
          </a:prstGeom>
          <a:ln w="0">
            <a:noFill/>
          </a:ln>
        </p:spPr>
      </p:pic>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43160" y="21420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Дрофа.</a:t>
            </a:r>
            <a:endParaRPr b="0" lang="en-US" sz="4000" spc="-1" strike="noStrike">
              <a:solidFill>
                <a:srgbClr val="1f497d"/>
              </a:solidFill>
              <a:latin typeface="Calibri"/>
            </a:endParaRPr>
          </a:p>
        </p:txBody>
      </p:sp>
      <p:sp>
        <p:nvSpPr>
          <p:cNvPr id="108" name="PlaceHolder 2"/>
          <p:cNvSpPr>
            <a:spLocks noGrp="1"/>
          </p:cNvSpPr>
          <p:nvPr>
            <p:ph/>
          </p:nvPr>
        </p:nvSpPr>
        <p:spPr>
          <a:xfrm>
            <a:off x="428760" y="1214280"/>
            <a:ext cx="2743200" cy="4572000"/>
          </a:xfrm>
          <a:prstGeom prst="rect">
            <a:avLst/>
          </a:prstGeom>
          <a:noFill/>
          <a:ln w="0">
            <a:noFill/>
          </a:ln>
        </p:spPr>
        <p:txBody>
          <a:bodyPr lIns="18360" rIns="18360" anchor="t">
            <a:normAutofit fontScale="90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рофа- крупная птица, внешним видом несколько  напоминает  небольшого  страуса. В 19 веке эта птица считалась  популярным объектом охоты. В 20 веке дрофа стала очень редким, исчезающим в дикой природе видом.</a:t>
            </a:r>
            <a:endParaRPr b="0" lang="en-US" sz="2000" spc="-1" strike="noStrike">
              <a:solidFill>
                <a:srgbClr val="000000"/>
              </a:solidFill>
              <a:latin typeface="Constanti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этой причине в настоящее  время дрофа находится под охраной Красной книги Международного союза  охраны природы.</a:t>
            </a:r>
            <a:endParaRPr b="0" lang="en-US" sz="2000" spc="-1" strike="noStrike">
              <a:solidFill>
                <a:srgbClr val="000000"/>
              </a:solidFill>
              <a:latin typeface="Constantia"/>
            </a:endParaRPr>
          </a:p>
        </p:txBody>
      </p:sp>
      <p:pic>
        <p:nvPicPr>
          <p:cNvPr id="109" name="Объект 1" descr=""/>
          <p:cNvPicPr/>
          <p:nvPr/>
        </p:nvPicPr>
        <p:blipFill>
          <a:blip r:embed="rId1"/>
          <a:stretch/>
        </p:blipFill>
        <p:spPr>
          <a:xfrm>
            <a:off x="3844800" y="2343240"/>
            <a:ext cx="4572000" cy="3238560"/>
          </a:xfrm>
          <a:prstGeom prst="rect">
            <a:avLst/>
          </a:prstGeom>
          <a:ln w="0">
            <a:noFill/>
          </a:ln>
        </p:spPr>
      </p:pic>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Фламинго.</a:t>
            </a:r>
            <a:endParaRPr b="0" lang="en-US" sz="3600" spc="-1" strike="noStrike">
              <a:solidFill>
                <a:srgbClr val="1f497d"/>
              </a:solidFill>
              <a:latin typeface="Calibri"/>
            </a:endParaRPr>
          </a:p>
        </p:txBody>
      </p:sp>
      <p:sp>
        <p:nvSpPr>
          <p:cNvPr id="111" name="PlaceHolder 2"/>
          <p:cNvSpPr>
            <a:spLocks noGrp="1"/>
          </p:cNvSpPr>
          <p:nvPr>
            <p:ph/>
          </p:nvPr>
        </p:nvSpPr>
        <p:spPr>
          <a:xfrm>
            <a:off x="685800" y="1676520"/>
            <a:ext cx="2743200" cy="4572000"/>
          </a:xfrm>
          <a:prstGeom prst="rect">
            <a:avLst/>
          </a:prstGeom>
          <a:noFill/>
          <a:ln w="0">
            <a:noFill/>
          </a:ln>
        </p:spPr>
        <p:txBody>
          <a:bodyPr lIns="18360" rIns="1836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Эти удивительно красивые  птицы с нежно-розовым  оперением  живут по берегам мелких  водоёмов  или лагун. Питаются  рачками, насекомыми, семенами водных растений. Стояние  на одной ноге фламинго, аисты и другие длинноногие птицы используют, чтобы уменьшить потерю тепла при ветре. </a:t>
            </a:r>
            <a:endParaRPr b="0" lang="en-US" sz="2000" spc="-1" strike="noStrike">
              <a:solidFill>
                <a:srgbClr val="000000"/>
              </a:solidFill>
              <a:latin typeface="Constantia"/>
            </a:endParaRPr>
          </a:p>
        </p:txBody>
      </p:sp>
      <p:pic>
        <p:nvPicPr>
          <p:cNvPr id="112" name="Объект 1" descr=""/>
          <p:cNvPicPr/>
          <p:nvPr/>
        </p:nvPicPr>
        <p:blipFill>
          <a:blip r:embed="rId1"/>
          <a:stretch/>
        </p:blipFill>
        <p:spPr>
          <a:xfrm>
            <a:off x="3575160" y="1268280"/>
            <a:ext cx="5111640" cy="3816360"/>
          </a:xfrm>
          <a:prstGeom prst="rect">
            <a:avLst/>
          </a:prstGeom>
          <a:ln w="0">
            <a:noFill/>
          </a:ln>
        </p:spPr>
      </p:pic>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286160" y="642600"/>
            <a:ext cx="2743200" cy="785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Мандаринка.</a:t>
            </a:r>
            <a:endParaRPr b="0" lang="en-US" sz="3200" spc="-1" strike="noStrike">
              <a:solidFill>
                <a:srgbClr val="1f497d"/>
              </a:solidFill>
              <a:latin typeface="Calibri"/>
            </a:endParaRPr>
          </a:p>
        </p:txBody>
      </p:sp>
      <p:sp>
        <p:nvSpPr>
          <p:cNvPr id="114" name="PlaceHolder 2"/>
          <p:cNvSpPr>
            <a:spLocks noGrp="1"/>
          </p:cNvSpPr>
          <p:nvPr>
            <p:ph/>
          </p:nvPr>
        </p:nvSpPr>
        <p:spPr>
          <a:xfrm>
            <a:off x="714240" y="928800"/>
            <a:ext cx="2743200" cy="4572000"/>
          </a:xfrm>
          <a:prstGeom prst="rect">
            <a:avLst/>
          </a:prstGeom>
          <a:noFill/>
          <a:ln w="0">
            <a:noFill/>
          </a:ln>
        </p:spPr>
        <p:txBody>
          <a:bodyPr lIns="18360" rIns="1836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Мандаринка- небольшая, ярко раскрашенная утка. Размер этих уточек небольшой: длина тела 40-48 см. Благодаря красоте и плодовитости они стали одними из самых  распространённых  декоративных уток, их часто можно увидеть на прудах парков. В результате селекционной работы выведена очень красивая белая форма.</a:t>
            </a:r>
            <a:endParaRPr b="0" lang="en-US" sz="2000" spc="-1" strike="noStrike">
              <a:solidFill>
                <a:srgbClr val="000000"/>
              </a:solidFill>
              <a:latin typeface="Constantia"/>
            </a:endParaRPr>
          </a:p>
        </p:txBody>
      </p:sp>
      <p:pic>
        <p:nvPicPr>
          <p:cNvPr id="115" name="Объект 1" descr=""/>
          <p:cNvPicPr/>
          <p:nvPr/>
        </p:nvPicPr>
        <p:blipFill>
          <a:blip r:embed="rId1"/>
          <a:stretch/>
        </p:blipFill>
        <p:spPr>
          <a:xfrm>
            <a:off x="3575160" y="2260440"/>
            <a:ext cx="5111640" cy="34038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Times New Roman"/>
                <a:ea typeface="Calibri"/>
              </a:rPr>
              <a:t>Суматранская земляная кукушка</a:t>
            </a:r>
            <a:endParaRPr b="0" lang="en-US" sz="4500" spc="-1" strike="noStrike">
              <a:solidFill>
                <a:srgbClr val="1f497d"/>
              </a:solidFill>
              <a:latin typeface="Calibri"/>
            </a:endParaRPr>
          </a:p>
        </p:txBody>
      </p:sp>
      <p:pic>
        <p:nvPicPr>
          <p:cNvPr id="117" name="Содержимое 3" descr="Суматранская земляная кукушка">
            <a:hlinkClick r:id="rId1"/>
          </p:cNvPr>
          <p:cNvPicPr/>
          <p:nvPr/>
        </p:nvPicPr>
        <p:blipFill>
          <a:blip r:embed="rId2"/>
          <a:stretch/>
        </p:blipFill>
        <p:spPr>
          <a:xfrm>
            <a:off x="1428840" y="1857240"/>
            <a:ext cx="6143400" cy="435780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1f497d"/>
              </a:solidFill>
              <a:latin typeface="Calibri"/>
            </a:endParaRPr>
          </a:p>
        </p:txBody>
      </p:sp>
      <p:sp>
        <p:nvSpPr>
          <p:cNvPr id="119" name=""/>
          <p:cNvSpPr txBox="1"/>
          <p:nvPr/>
        </p:nvSpPr>
        <p:spPr>
          <a:xfrm>
            <a:off x="428760" y="642600"/>
            <a:ext cx="8215200" cy="5429160"/>
          </a:xfrm>
          <a:prstGeom prst="rect">
            <a:avLst/>
          </a:prstGeom>
          <a:noFill/>
          <a:ln w="0">
            <a:noFill/>
          </a:ln>
        </p:spPr>
        <p:txBody>
          <a:bodyPr anchor="t">
            <a:normAutofit/>
          </a:bodyPr>
          <a:p>
            <a:pPr marL="272880" indent="-272880">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Крупная, длиной до 55 сантиметров, наземная птица, обитающая в тропических лесах южной Суматры. Была открыта в 1879 году, и с этого момента было отмечено всего восемь экземпляров этой птицы до тех пор, пока в 1997 году АнджарРафлиастанто сумел вновь открыть этот вид, сделав фотографию земляной кукушки. Вторая фотография была получена в 2006 году, когда сработала автоматическая камера, предназначенная для фотосъемки тигров в окрестностях национального парка Керинчи-Себлат. В 2007 году удалось записать крик этой птицы. Вот, пожалуй, и всё, что известно о суматранской земляной кукушке. Ее численность специалисты оценивают приблизительно в 250 особой.</a:t>
            </a:r>
            <a:endParaRPr b="0" lang="en-US" sz="2600" spc="-1" strike="noStrike">
              <a:solidFill>
                <a:srgbClr val="000000"/>
              </a:solidFill>
              <a:latin typeface="Constantia"/>
            </a:endParaRPr>
          </a:p>
          <a:p>
            <a:pPr marL="272880" indent="-272880">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8:52:38Z</dcterms:created>
  <dc:creator>user</dc:creator>
  <dc:description/>
  <dc:language>en-US</dc:language>
  <cp:lastModifiedBy>Админ</cp:lastModifiedBy>
  <dcterms:modified xsi:type="dcterms:W3CDTF">2015-04-15T13:37:22Z</dcterms:modified>
  <cp:revision>106</cp:revision>
  <dc:subject/>
  <dc:title>Проект  «Изчезающие  виды  семейства  кошачьих  под  защитой Красной книги»</dc:title>
</cp:coreProperties>
</file>