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E1F-AA12-4D71-BFE4-207DDC45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0DE-1DDD-4BE3-A1E0-5E418366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2D5-4881-4207-8C8C-4730764E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0EE-D32E-47B7-A117-018FE00E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486-4754-4BF2-BDCB-7EA78A66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FB7-2C4D-4FF7-9EAC-0BC95298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3EC-1FE1-4A3D-998A-3A378B4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5604-0EDF-40E5-AEC8-CC60965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E00-E944-4FCB-842F-7E60382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9601-7664-49AB-9C03-DBCE4CB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5CF0-45C1-4015-A63C-E63D58D9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B05-763D-423E-A5AF-376134D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9D2-ED64-4A58-A883-96A8333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789-B5C3-4C3F-875F-9764C660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14CB-EF83-43B9-8C11-6DC90D6C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C40D-1789-4057-8B49-4EAAAA1A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A0A-C409-45BB-9A11-5531E05C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1FE77-67FF-4404-92D4-8C68FF5D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73086-1B03-42F0-A31F-972C0EA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8BD9E-6EF6-4C66-AFDD-277AD432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92C9D-592C-4042-9712-9121ADC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980F8-84C6-4573-A184-874EE99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4C7-E007-4038-96A7-24E1B523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69A0B-FA55-44C6-A825-5B238824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62098-46C4-4093-B233-72AE6B9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9974B-AFAF-4B6A-8E04-5400099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5A818-0788-4D2E-9A97-11A2B8D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34FD7-2BF3-4847-87CA-F106E7D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A57CF-59A0-42FF-A1ED-42BEAD4C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126F3-6DF8-4D2D-9A8B-799C5717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D447-FD01-4A55-83CF-E2ADF0BE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5BE1-7396-4162-9179-8EF0829A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EC67-6BD8-4746-A61C-E47011E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A02-42D1-4305-8B5B-2FB78D7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F857-A2E7-438A-8913-06E4A5C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5A1B-F09B-4395-A540-3D6075E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12E2-6248-45E4-9BE7-67A9092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4C10-827A-49F8-9587-C951F1C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8465-7B1C-48E5-877B-A5F9BA6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28C9-9D89-44DE-94C1-8FF08AE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76D3-AF7C-4BE4-9513-292E3FE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9A3E-B714-436F-BA7F-16FE2F83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25BD-8DE6-462F-86CB-A740C455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5E24D-7861-4ABE-A59B-262A33AE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521-DE9E-4D84-8178-BB5E55BA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E2BE5-58F0-4BFC-8421-E95084B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08E1B-4FDC-46B6-B994-EEE7C25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2597A-F75D-4FAE-9763-FEFFC1DB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E587E-6D56-4B45-924F-9865216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D3080-4E92-41A4-A157-ABCB69A5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4D139-9BC2-4DA0-97E3-7DBB223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5196E-E601-43DF-B1A0-2E3D195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146AD-F040-4AF3-BE18-03B63B5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67DC1-F534-4796-BBA4-3A2CAA25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4F889-782D-4A79-A75B-1EFE003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780-948F-46E1-B290-42EACBA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0C984-3D6A-4BDF-BFC1-090D26DE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1491B-0D60-400F-8BC7-0AC57A4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0EF1E-7E8E-4324-ABA3-633B1A38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0A212-A604-49C6-8C33-1E6C7CD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DC56E-80B0-438B-BC98-3F7EFD4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D0FB3-4856-4905-9446-1D89A933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23511-C9E0-41D7-9E1A-952AF67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2D653-46FE-48CE-A293-24015E5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CD4A5-A3D9-406D-9B07-0FADFAC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D7747-D950-4AB0-B02B-137B01A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00B-C41F-40B8-B5F3-D6EA35D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E359D-E2FB-4C19-909C-A1AB1EA7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C5AAE-AB11-4DFA-889D-3ED40E8C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CC7DA-BD84-4CED-A383-5A825249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7A631-C4DA-4DEB-88AE-BEC46DC3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B5779-7275-417C-954B-8B0C218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43FD5-6899-450E-B8A3-B48220F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433D3-4764-4EEA-8CD6-4460C859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CF89C-808C-4887-8523-13CE75BD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C7686-FE94-4C4B-B4C1-1DC1EC1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DF20A-2E0C-4263-9B58-A9D1DBE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D98-C336-429D-AFA4-91BF132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3AF59-06AB-4BA9-832D-402C5574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2ECA8-B0E3-499B-951B-8A5043E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73549-9B99-4299-B84B-8ADE227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79EE7-C875-4B2C-89CF-FD87259B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78EAB-E345-4D62-8DCB-ECDC96D0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BEA-BB60-4D47-873C-D13A441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B4F-AD3B-4BA9-8DAB-A13F3072FA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963-9738-46AF-9630-D8EDA3455A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9BF-5177-470C-978D-CFEEEEF004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9EF-34AE-431D-AD42-E06CC149E3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6CCA-0E97-47F3-9102-D2785ACDD6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7358-A657-4291-B6C5-DC24CCAB1F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1B4-A8F5-453F-BBBD-166DA11BFC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508/teodor-volga.0/0_29992_d9d8c7dc_XL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motto.net.ua/img/winter/1295192037_E2E5F2EAE020E8E720EBE5F1E0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sarssp.ru/img/gr_oreh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g-fotki.yandex.ru/get/4905/viktor-yarkov.22/0_3d20c_362f141f_XL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907640" y="1413000"/>
            <a:ext cx="6696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Борисова Любовь Дмитриевн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Учитель начальных классов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МБОУ гимназия №12 г. Липецк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ЗАХОТЕЛОС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СИМПАТИЧНЫЙ  СУВЕНИР,  ТОГДА ПОСПЕШИТЕ ПРИГОТОВИТЬ К РАБОТЕ СЛЕДУЮЩИЕ МАТЕРИАЛЫ И ИНСТРУМЕНТЫ: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едровая и сосновая шиш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половинки грецкого ор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жёлудя с плюскам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семени кабач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о пёрышко.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Лист жёлтого картона и цветная бумаг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олпачок от пузырь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м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жи или дермат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плотной красной и бел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зелёные пает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ричневого пластил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а пуговиц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олоска лёгкой зелён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ожниц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лей «Момент»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итка с иголкой.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 творческих  успехов</a:t>
            </a: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арандаш и линей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:\фото 1\Изображение\CIMG0348.JPG"/>
          <p:cNvPicPr/>
          <p:nvPr/>
        </p:nvPicPr>
        <p:blipFill>
          <a:blip r:embed="rId1"/>
          <a:stretch/>
        </p:blipFill>
        <p:spPr>
          <a:xfrm rot="426600">
            <a:off x="4698720" y="199836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5520" y="-357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НИР    «КОТ УЧЕНЫЙ»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СКАЯ РАБОТА)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3" descr="H:\фото 1\Изображение\вфф.jpg"/>
          <p:cNvPicPr/>
          <p:nvPr/>
        </p:nvPicPr>
        <p:blipFill>
          <a:blip r:embed="rId1"/>
          <a:stretch/>
        </p:blipFill>
        <p:spPr>
          <a:xfrm>
            <a:off x="2143080" y="100008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Картинка 73 из 6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15120" y="214200"/>
            <a:ext cx="1357560" cy="1214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Картинка 10 из 1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50007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Картинка 8 из 15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250020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артинка 26 из 16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285840"/>
            <a:ext cx="135756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Картинка 1 из 2410"/>
          <p:cNvPicPr/>
          <p:nvPr/>
        </p:nvPicPr>
        <p:blipFill>
          <a:blip r:embed="rId10"/>
          <a:stretch/>
        </p:blipFill>
        <p:spPr>
          <a:xfrm>
            <a:off x="7358040" y="4643280"/>
            <a:ext cx="107172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Картинка 77 из 3623"/>
          <p:cNvPicPr/>
          <p:nvPr/>
        </p:nvPicPr>
        <p:blipFill>
          <a:blip r:embed="rId11"/>
          <a:stretch/>
        </p:blipFill>
        <p:spPr>
          <a:xfrm rot="1493400">
            <a:off x="7448400" y="2180880"/>
            <a:ext cx="885960" cy="1643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Картинка 23 из 20872"/>
          <p:cNvPicPr/>
          <p:nvPr/>
        </p:nvPicPr>
        <p:blipFill>
          <a:blip r:embed="rId12"/>
          <a:stretch/>
        </p:blipFill>
        <p:spPr>
          <a:xfrm rot="1181400">
            <a:off x="2295000" y="6173280"/>
            <a:ext cx="642960" cy="59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Картинка 10 из 4862"/>
          <p:cNvPicPr/>
          <p:nvPr/>
        </p:nvPicPr>
        <p:blipFill>
          <a:blip r:embed="rId13"/>
          <a:stretch/>
        </p:blipFill>
        <p:spPr>
          <a:xfrm rot="21081600">
            <a:off x="6846840" y="5965560"/>
            <a:ext cx="689040" cy="844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Картинка 2 из 1373"/>
          <p:cNvPicPr/>
          <p:nvPr/>
        </p:nvPicPr>
        <p:blipFill>
          <a:blip r:embed="rId14"/>
          <a:stretch/>
        </p:blipFill>
        <p:spPr>
          <a:xfrm>
            <a:off x="3857760" y="62150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Картинка 22 из 126139"/>
          <p:cNvPicPr/>
          <p:nvPr/>
        </p:nvPicPr>
        <p:blipFill>
          <a:blip r:embed="rId15"/>
          <a:stretch/>
        </p:blipFill>
        <p:spPr>
          <a:xfrm>
            <a:off x="5357880" y="61437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Картинка 159 из 11862"/>
          <p:cNvPicPr/>
          <p:nvPr/>
        </p:nvPicPr>
        <p:blipFill>
          <a:blip r:embed="rId16"/>
          <a:stretch/>
        </p:blipFill>
        <p:spPr>
          <a:xfrm>
            <a:off x="7143840" y="214200"/>
            <a:ext cx="15001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  НАЧНЁМ    МАСТЕРИТЬ?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С  ХОРОШЕГО  НАСТРОЕ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85960" y="5786280"/>
          <a:ext cx="5500800" cy="731880"/>
        </p:xfrm>
        <a:graphic>
          <a:graphicData uri="http://schemas.openxmlformats.org/drawingml/2006/table">
            <a:tbl>
              <a:tblPr/>
              <a:tblGrid>
                <a:gridCol w="1374840"/>
                <a:gridCol w="1376280"/>
                <a:gridCol w="1374840"/>
                <a:gridCol w="1374840"/>
              </a:tblGrid>
              <a:tr h="36612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←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ртинк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8" name="Picture 1" descr="Картинка 53 из 3495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ПЬЮТЕРНЫЙ ДИСК ОБКЛЕИТЬ  КАРТОНОМ (ПОДСТАВ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ПРИКЛЕИТЬ НА ДИСК ДВЕ ПОЛОВИНКИ ГРЕЦКОГО ОРЕХА (ЗАДНИЕ ЛАПЫ КОТА)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H:\фото 1\Изображение\CIMG0364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 КЕДРОВУЮ  ШИШКУ  (ТУЛОВИЩЕ КОТА)  ВСТАВИТЬ  С ДВУХ СТОРОН  НАМАЗАННЫЕ КЛЕЕМ  ДВА ЖЕЛУДЯ  ПЛЮСКАМИ  ВВЕРХ  (ПЕРЕДНИЕ ЛАПЫ КОТ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РЕЗАТЬ  ПОЛОСКУ МЕХА ДЛЯ ХВОСТА И С ПОМОЩЬЮ КЛЕЯ ЗАКРЕПИТЬ ЕГО НА КЕДРОВОЙ  ШИШКЕ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H:\фото 1\Изображение\CIMG0365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:\фото 1\Изображение\CIMG0366.JPG"/>
          <p:cNvPicPr/>
          <p:nvPr/>
        </p:nvPicPr>
        <p:blipFill>
          <a:blip r:embed="rId1"/>
          <a:stretch/>
        </p:blipFill>
        <p:spPr>
          <a:xfrm>
            <a:off x="428760" y="1643040"/>
            <a:ext cx="7500960" cy="5037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ЕДРОВУЮ ШИШКУ ПРИКЛЕИТЬ  К  ДИСКУ ВПЛОТНУЮ К ПОЛОВИНКАМ ГРЕЦКОГО ОРЕХА.  РЯДОМ    ЗАКРЕПИТЬ КЛЕЕМ   К ДИСКУ  ЗАКРУЧИВАЮЩУЮСЯ КРЫШКУ, КОТОРАЯ  ПОСЛУЖИТ ПОДСТАВКОЙ ДЛЯ РУЧКИ.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СТАВИТЬ   ПЛОТНО  СВЕРХУ В  СОСНОВУЮ  ШИШКУ  ДВА   СЕМЕНИ   КАБАЧКА. ВЫРЕЗАТЬ  ИЗ ДЕРМАТИНА  ПО ДВЕ ТОНКИХ ПОЛОСКИ  (РЕСНИЧКИ) И С ПОМОЩЬЮ КЛЕЯ И НОЖНИЦ ЗАКРЕПИТЬ  ИХ НА ШИШКЕ. ЗАГОТОВКИ ДЛЯ ГЛАЗ  СДЕЛАТЬ  ИЗ ПЛОТНОЙ БЕЛОЙ ТКАНИ И ДВУХ  ЗЕЛЕНЫХ ПАЕТОК.  ЗАГОТОВКИ ДЛЯ  УСОВ ОТРЕЗАТЬ  ОТ МЕХА И ЗАКРЕПИТЬ   НА ШИШКЕ С ПОМОЩЬЮ  КОРИЧНЕВОГО ПЛАСТИЛИНА. УЛЫБКУ КОТИКУ ИЗОБРАЗИТЬ  ИЗ  КУСОЧКА  КРАСНОЙ ТКАНИ С ПОМОЩЬЮ НОЖНИЦ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1" descr="H:\фото 1\Изображение\CIMG0368.JPG"/>
          <p:cNvPicPr/>
          <p:nvPr/>
        </p:nvPicPr>
        <p:blipFill>
          <a:blip r:embed="rId1"/>
          <a:stretch/>
        </p:blipFill>
        <p:spPr>
          <a:xfrm>
            <a:off x="500040" y="1643040"/>
            <a:ext cx="74296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9320" y="28548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ЛЯПКУ  КРУГЛОЙ ФОРМЫ  ВЫРЕЗАТЬ  ИЗ ТОГО  ЖЕ МАТЕРИАЛА, ЧТО И РЕСНИЦЫ. ПРИШИТЬ  ПОСЕРЕДИНЕ  ГОЛОВНОГО УБОРА ПУГОВИЦУ, КОНЦЫ НИТОК ОСТАВИТЬ СВОБОДНЫМИ, ЧТОБЫ ЗАВЯЗАТЬ ИХ НА  ГОЛОВЕ КОТА, ВСТАВИТЬ  ПЕРЫШКО В ШЛЯПУ. 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H:\фото 1\Изображение\CIMG0369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НИЖКУ МОЖНО СДЕЛАТЬ ИЗ РАЗНОЦВЕТНЫХ ЛИСТОЧКОВ И ОБЛОЖКИ (ЗАБАВНАЯ НАШИВКА ОТ ДЕТСКИХ ВЕЩЕЙ). С ПОМОЩЬЮ ИГОЛКИ С НИТКОЙ СКРЕПИТЬ   ОБЛОЖКУ,  РАЗНОЦВЕТНЫЕ ЛИСТОЧКИ И  ГОТОВАЯ МИНИ КНИЖКА   ВЕШАЕТСЯ НА ЛАПУ КО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 ПОМОЩЬЮ КЛЕЯ ПЛОТНО СКРЕПИТЬ  СОСНОВУЮ ШИШКУ  С  КЕДРОВОЙ. ЗАВЯЗЫВАТЬ НА МЕСТЕ СКРЕПЛЕНИЯ  БАНТ ИЗ  ПОЛОСКИ ЗЕЛЕНОЙ ТКАНИ, ВСТАВИТЬ  РУЧКУ В ПОДСТАВКУ И СУВЕНИР ГОТОВ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H:\фото 1\Изображение\CIMG0370.JPG"/>
          <p:cNvPicPr/>
          <p:nvPr/>
        </p:nvPicPr>
        <p:blipFill>
          <a:blip r:embed="rId1"/>
          <a:stretch/>
        </p:blipFill>
        <p:spPr>
          <a:xfrm>
            <a:off x="357120" y="1643040"/>
            <a:ext cx="7500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2-09-13T18:09:01Z</dcterms:modified>
  <cp:revision>24</cp:revision>
  <dc:subject/>
  <dc:title>Конкурс «Чудеса своими руками» Сообщества взаимопомощи учителей http://pedsovet.su».   </dc:title>
</cp:coreProperties>
</file>