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F50A-4FF1-4275-8012-26DFDB6DD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623B-3BE2-4145-BE56-87E02B2C9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51DD-0760-4649-ABEC-846062C30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B217-DC4B-4D80-8FE9-9DB407343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8EC58-672E-413A-BC72-FB37E202B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1232A-E3F5-4202-BCAF-ABDAFE5FC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DD3F4-EFAB-4D95-AD76-85948BDEA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44D3E-44CC-4D8C-B967-FBDAB392F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40FEA-F1B4-49F6-9B62-2E26F272D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EE277-7A5E-4B99-84B9-3A154BE22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8170C-E919-4E48-97F7-E95E3B8F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C6BD-AA79-4EE5-9741-3AC8F0ABA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069A4-0AB8-4026-9CB6-D5D85990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6E3D9-3895-42EB-9F5F-FD6C3B73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35231-4CFC-4420-A6DF-A0DA9FC8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9D226-4260-4514-8B10-2D54A5886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CE520-20C3-4B04-A47D-8948623EF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15C67E-5A69-4379-A2A5-447182351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6F3FD1-6F37-4444-997E-EC4BD7580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FAED01-BE2F-41F3-8844-DFAD02CDC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963B91-8C0C-4D63-BF9C-01BE477B9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82E671-A66C-486C-9C06-FE9C0CF3C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4D84-ABBB-4FE1-A9D3-1C82C63BA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53F0A2-04C5-4BA7-821D-A25587AFB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F5DC32-2E4F-464B-BD60-163CFC4F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04E148-7389-47B8-B853-806D397E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7A1FB2-50EF-4B8D-B68D-44E5D948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EBEC37-5A4B-4D1D-AB5E-BC392D84F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D29FCD-272D-499B-9CE0-6005D1577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C782C3-C19F-4BED-8D42-F5F8B9A64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0D688-CF58-48C6-813D-43586BF7C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7BC71-50E0-4179-B619-6C392E1F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A5B91-8501-452D-9D20-F0E03B434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3E94-2245-4EF7-8486-A88CCFA02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A59EC-F4AB-4B40-829B-E7AC497E8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A5C78-856C-41E4-AD29-0FA6B792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F102F-B031-481D-B8ED-4B010F91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AC014-D6B5-429F-A6A6-B30CDE86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C8DC7-076D-4F02-83D5-BACF61EB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848F1-FCE8-43EA-9353-B7078049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5F83B-627C-4B12-831E-3DEEEACD6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300B7-83C2-4496-976F-9C27BB489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04243-FCD0-4599-BEA0-BF1D452A3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CCB901-5E2F-47A5-8456-B782229F8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00D9-86FF-4539-8580-5D6DF651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B4CDE2-7808-4B89-9D0E-7165BEE02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7CAFAB-9970-4C4E-BB9D-9C0A27B31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E33FA7-45BD-4372-AFDD-36D73AC72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0C1969-8C1A-4865-8731-0EE67F44F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F7C909-43EA-4359-9B09-E11250DA4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8E02BB-2B92-4DC6-A0A8-81D52BC0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B9FEAD-C781-4E27-BD0C-C26F3B10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BE9EB2-6B68-4E3E-9730-C81B8D29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8E91B1-216A-47C9-A659-2A2594550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74181E-5466-499A-82A7-6F3EB9CD3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6A1F-7C1B-42DD-9D67-6AC1C8D57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270584-E795-4699-B9DB-27D3E0CAB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A3DA3F-D45D-4C48-B188-45A104001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01245F-8093-42BA-9A30-694155162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02BF1E-A961-4175-8E25-3AD7BD6BD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60D2AD-9EA5-4953-B505-9FB5D500E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7DF8C5-BE53-4227-99DB-AB68FDBAE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F59191-ED3B-41B3-AA1C-CDF48E2F9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C0EC74-CCF6-4191-8D05-30BAF4F0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FBC073-F895-4265-9DDA-B7529A94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CA8032-37D3-4574-81F8-8E43C9C9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79A1-20B8-415D-A28F-5184D6EE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8D3703-BA01-46CE-AA40-6FCB6EDAF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9A366E-B15A-4538-BCA9-68FFF93F7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FD1100-7676-4B2C-8B18-63576FE7F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7B825E-FC6D-4A75-8242-E49A69A10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C5DE63-51D3-456A-9E61-B829E5694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DA544D-1875-4CBB-B685-00413E008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23B161-3433-4DC8-BD06-0CCA34F38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2C8095-6792-4598-8785-72C8430D2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5BB603-ADC5-40B2-A579-D2B019754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3C20C0-6C5E-44A8-B470-DDFC4649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97E2-8684-42C9-863D-985C9288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B7E543-3BF1-438E-BDD8-9BCC515D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BC6E06-76A5-403F-9EFB-E221CA6E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E42C47-0A2E-4B2F-93D6-F7AD0148E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B925DA-D239-4F47-BF52-02DCDF784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3B77D4-E3A8-427F-BD69-D6F059BC1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2674-5846-4747-A983-6F7EBED0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C28A2-CE4A-4783-AB45-24A627B51E1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462C8-B490-4178-A8A2-94041580CC6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7BB96-B53D-4D46-A34F-25B40FC6D51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99CEB-19BB-4144-9CE3-2BAD8D7E482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25E93-9D97-4A9C-A7FD-20544CB8FED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EE91B-9D4F-40CA-9F26-67257B97E46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DAD2B-2C53-463C-B7A8-F9FD0A9E79A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g-fotki.yandex.ru/get/3508/teodor-volga.0/0_29992_d9d8c7dc_XL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www.motto.net.ua/img/winter/1295192037_E2E5F2EAE020E8E720EBE5F1E0.jpg" TargetMode="External"/><Relationship Id="rId5" Type="http://schemas.openxmlformats.org/officeDocument/2006/relationships/image" Target="../media/image3.jpeg"/><Relationship Id="rId6" Type="http://schemas.openxmlformats.org/officeDocument/2006/relationships/hyperlink" Target="http://www.sarssp.ru/img/gr_oreh.jpg" TargetMode="External"/><Relationship Id="rId7" Type="http://schemas.openxmlformats.org/officeDocument/2006/relationships/image" Target="../media/image4.jpeg"/><Relationship Id="rId8" Type="http://schemas.openxmlformats.org/officeDocument/2006/relationships/hyperlink" Target="http://img-fotki.yandex.ru/get/4905/viktor-yarkov.22/0_3d20c_362f141f_XL" TargetMode="External"/><Relationship Id="rId9" Type="http://schemas.openxmlformats.org/officeDocument/2006/relationships/image" Target="../media/image5.jpeg"/><Relationship Id="rId10" Type="http://schemas.openxmlformats.org/officeDocument/2006/relationships/image" Target="../media/image6.jpeg"/><Relationship Id="rId11" Type="http://schemas.openxmlformats.org/officeDocument/2006/relationships/image" Target="../media/image7.jpeg"/><Relationship Id="rId12" Type="http://schemas.openxmlformats.org/officeDocument/2006/relationships/image" Target="../media/image8.jpeg"/><Relationship Id="rId13" Type="http://schemas.openxmlformats.org/officeDocument/2006/relationships/image" Target="../media/image9.jpeg"/><Relationship Id="rId14" Type="http://schemas.openxmlformats.org/officeDocument/2006/relationships/image" Target="../media/image10.jpeg"/><Relationship Id="rId15" Type="http://schemas.openxmlformats.org/officeDocument/2006/relationships/image" Target="../media/image11.png"/><Relationship Id="rId16" Type="http://schemas.openxmlformats.org/officeDocument/2006/relationships/image" Target="../media/image12.jpeg"/><Relationship Id="rId1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1907640" y="1413000"/>
            <a:ext cx="669636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ff0000"/>
                </a:solidFill>
                <a:latin typeface="Gabriola"/>
              </a:rPr>
              <a:t>Борисова Любовь Дмитриевна</a:t>
            </a:r>
            <a:endParaRPr b="0" lang="en-US" sz="49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ff0000"/>
                </a:solidFill>
                <a:latin typeface="Gabriola"/>
              </a:rPr>
              <a:t>Учитель начальных классов</a:t>
            </a:r>
            <a:endParaRPr b="0" lang="en-US" sz="49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ff0000"/>
                </a:solidFill>
                <a:latin typeface="Gabriola"/>
              </a:rPr>
              <a:t>МБОУ гимназия №12 г. Липецка</a:t>
            </a:r>
            <a:endParaRPr b="0" lang="en-US" sz="49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ff0000"/>
                </a:solidFill>
                <a:latin typeface="Gabriola"/>
              </a:rPr>
              <a:t> </a:t>
            </a:r>
            <a:endParaRPr b="0" lang="en-US" sz="49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АМ ЗАХОТЕЛОСЬ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ТЬ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Й СИМПАТИЧНЫЙ  СУВЕНИР,  ТОГДА ПОСПЕШИТЕ ПРИГОТОВИТЬ К РАБОТЕ СЛЕДУЮЩИЕ МАТЕРИАЛЫ И ИНСТРУМЕНТЫ:</a:t>
            </a:r>
            <a:endParaRPr b="0" lang="en-US" sz="1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Кедровая и сосновая шишки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Две половинки грецкого ореха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Два жёлудя с плюсками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Два семени кабачка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Одно пёрышко.</a:t>
            </a: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Лист жёлтого картона и цветная бумага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Колпачок от пузырька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Кусочек меха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Кусочек кожи или дерматина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Кусочек плотной красной и белой ткани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Две зелёные паетки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Кусочек коричневого пластилина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Одна пуговица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Полоска лёгкой зелёной ткани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Ножницы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Клей «Момент»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Нитка с иголкой.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аем вам  творческих  успехов</a:t>
            </a:r>
            <a:r>
              <a:rPr b="1" lang="ru-RU" sz="1300" spc="-1" strike="noStrike">
                <a:solidFill>
                  <a:srgbClr val="000000"/>
                </a:solidFill>
                <a:latin typeface="Century Schoolbook"/>
              </a:rPr>
              <a:t>!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Карандаш и линейка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9" name="Picture 2" descr="H:\фото 1\Изображение\CIMG0348.JPG"/>
          <p:cNvPicPr/>
          <p:nvPr/>
        </p:nvPicPr>
        <p:blipFill>
          <a:blip r:embed="rId1"/>
          <a:stretch/>
        </p:blipFill>
        <p:spPr>
          <a:xfrm rot="426600">
            <a:off x="4698720" y="1998360"/>
            <a:ext cx="36432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85520" y="-3574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ВЕНИР    «КОТ УЧЕНЫЙ»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ВТОРСКАЯ РАБОТА) </a:t>
            </a: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3" name="Picture 3" descr="H:\фото 1\Изображение\вфф.jpg"/>
          <p:cNvPicPr/>
          <p:nvPr/>
        </p:nvPicPr>
        <p:blipFill>
          <a:blip r:embed="rId1"/>
          <a:stretch/>
        </p:blipFill>
        <p:spPr>
          <a:xfrm>
            <a:off x="2143080" y="1000080"/>
            <a:ext cx="4429080" cy="50720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Картинка 73 из 66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215120" y="214200"/>
            <a:ext cx="1357560" cy="12146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" descr="Картинка 10 из 118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85840" y="500076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6" descr="Картинка 8 из 1539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14200" y="2500200"/>
            <a:ext cx="1571760" cy="10717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8" descr="Картинка 26 из 166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14200" y="285840"/>
            <a:ext cx="1357560" cy="12859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0" descr="Картинка 1 из 2410"/>
          <p:cNvPicPr/>
          <p:nvPr/>
        </p:nvPicPr>
        <p:blipFill>
          <a:blip r:embed="rId10"/>
          <a:stretch/>
        </p:blipFill>
        <p:spPr>
          <a:xfrm>
            <a:off x="7358040" y="4643280"/>
            <a:ext cx="1071720" cy="8002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2" descr="Картинка 77 из 3623"/>
          <p:cNvPicPr/>
          <p:nvPr/>
        </p:nvPicPr>
        <p:blipFill>
          <a:blip r:embed="rId11"/>
          <a:stretch/>
        </p:blipFill>
        <p:spPr>
          <a:xfrm rot="1493400">
            <a:off x="7448400" y="2180880"/>
            <a:ext cx="885960" cy="16430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4" descr="Картинка 23 из 20872"/>
          <p:cNvPicPr/>
          <p:nvPr/>
        </p:nvPicPr>
        <p:blipFill>
          <a:blip r:embed="rId12"/>
          <a:stretch/>
        </p:blipFill>
        <p:spPr>
          <a:xfrm rot="1181400">
            <a:off x="2295000" y="6173280"/>
            <a:ext cx="642960" cy="5940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6" descr="Картинка 10 из 4862"/>
          <p:cNvPicPr/>
          <p:nvPr/>
        </p:nvPicPr>
        <p:blipFill>
          <a:blip r:embed="rId13"/>
          <a:stretch/>
        </p:blipFill>
        <p:spPr>
          <a:xfrm rot="21081600">
            <a:off x="6846840" y="5965560"/>
            <a:ext cx="689040" cy="84456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8" descr="Картинка 2 из 1373"/>
          <p:cNvPicPr/>
          <p:nvPr/>
        </p:nvPicPr>
        <p:blipFill>
          <a:blip r:embed="rId14"/>
          <a:stretch/>
        </p:blipFill>
        <p:spPr>
          <a:xfrm>
            <a:off x="3857760" y="6215040"/>
            <a:ext cx="857160" cy="6429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20" descr="Картинка 22 из 126139"/>
          <p:cNvPicPr/>
          <p:nvPr/>
        </p:nvPicPr>
        <p:blipFill>
          <a:blip r:embed="rId15"/>
          <a:stretch/>
        </p:blipFill>
        <p:spPr>
          <a:xfrm>
            <a:off x="5357880" y="6143760"/>
            <a:ext cx="1000080" cy="5713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2" descr="Картинка 159 из 11862"/>
          <p:cNvPicPr/>
          <p:nvPr/>
        </p:nvPicPr>
        <p:blipFill>
          <a:blip r:embed="rId16"/>
          <a:stretch/>
        </p:blipFill>
        <p:spPr>
          <a:xfrm>
            <a:off x="7143840" y="214200"/>
            <a:ext cx="150012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71320" y="785520"/>
            <a:ext cx="746748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ЧЕГО   НАЧНЁМ    МАСТЕРИТЬ?  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С  ХОРОШЕГО  НАСТРОЕНИЯ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!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1785960" y="5786280"/>
          <a:ext cx="5500800" cy="731880"/>
        </p:xfrm>
        <a:graphic>
          <a:graphicData uri="http://schemas.openxmlformats.org/drawingml/2006/table">
            <a:tbl>
              <a:tblPr/>
              <a:tblGrid>
                <a:gridCol w="1374840"/>
                <a:gridCol w="1376280"/>
                <a:gridCol w="1374840"/>
                <a:gridCol w="1374840"/>
              </a:tblGrid>
              <a:tr h="366120">
                <a:tc gridSpan="4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←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артинка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3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из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68" name="Picture 1" descr="Картинка 53 из 3495"/>
          <p:cNvPicPr/>
          <p:nvPr/>
        </p:nvPicPr>
        <p:blipFill>
          <a:blip r:embed="rId1"/>
          <a:stretch/>
        </p:blipFill>
        <p:spPr>
          <a:xfrm>
            <a:off x="1857240" y="2286000"/>
            <a:ext cx="55008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КОМПЬЮТЕРНЫЙ ДИСК ОБКЛЕИТЬ  КАРТОНОМ (ПОДСТАВКА)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. ПРИКЛЕИТЬ НА ДИСК ДВЕ ПОЛОВИНКИ ГРЕЦКОГО ОРЕХА (ЗАДНИЕ ЛАПЫ КОТА). </a:t>
            </a:r>
            <a:br>
              <a:rPr sz="1400"/>
            </a:br>
            <a:endParaRPr b="0" lang="en-US" sz="1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1" name="Picture 4" descr="H:\фото 1\Изображение\CIMG0364.JPG"/>
          <p:cNvPicPr/>
          <p:nvPr/>
        </p:nvPicPr>
        <p:blipFill>
          <a:blip r:embed="rId1"/>
          <a:stretch/>
        </p:blipFill>
        <p:spPr>
          <a:xfrm>
            <a:off x="428760" y="1571760"/>
            <a:ext cx="7500960" cy="4929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28400" y="3567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В КЕДРОВУЮ  ШИШКУ  (ТУЛОВИЩЕ КОТА)  ВСТАВИТЬ  С ДВУХ СТОРОН  НАМАЗАННЫЕ КЛЕЕМ  ДВА ЖЕЛУДЯ  ПЛЮСКАМИ  ВВЕРХ  (ПЕРЕДНИЕ ЛАПЫ КОТА)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ОТРЕЗАТЬ  ПОЛОСКУ МЕХА ДЛЯ ХВОСТА И С ПОМОЩЬЮ КЛЕЯ ЗАКРЕПИТЬ ЕГО НА КЕДРОВОЙ  ШИШКЕ. </a:t>
            </a:r>
            <a:br>
              <a:rPr sz="1400"/>
            </a:br>
            <a:endParaRPr b="0" lang="en-US" sz="1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4" name="Picture 2" descr="H:\фото 1\Изображение\CIMG0365.JPG"/>
          <p:cNvPicPr/>
          <p:nvPr/>
        </p:nvPicPr>
        <p:blipFill>
          <a:blip r:embed="rId1"/>
          <a:stretch/>
        </p:blipFill>
        <p:spPr>
          <a:xfrm>
            <a:off x="428760" y="1571760"/>
            <a:ext cx="75009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6" name="Picture 2" descr="H:\фото 1\Изображение\CIMG0366.JPG"/>
          <p:cNvPicPr/>
          <p:nvPr/>
        </p:nvPicPr>
        <p:blipFill>
          <a:blip r:embed="rId1"/>
          <a:stretch/>
        </p:blipFill>
        <p:spPr>
          <a:xfrm>
            <a:off x="428760" y="1643040"/>
            <a:ext cx="7500960" cy="503712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КЕДРОВУЮ ШИШКУ ПРИКЛЕИТЬ  К  ДИСКУ ВПЛОТНУЮ К ПОЛОВИНКАМ ГРЕЦКОГО ОРЕХА.  РЯДОМ    ЗАКРЕПИТЬ КЛЕЕМ   К ДИСКУ  ЗАКРУЧИВАЮЩУЮСЯ КРЫШКУ, КОТОРАЯ  ПОСЛУЖИТ ПОДСТАВКОЙ ДЛЯ РУЧКИ.</a:t>
            </a:r>
            <a:br>
              <a:rPr sz="1400"/>
            </a:br>
            <a:endParaRPr b="0" lang="en-US" sz="1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99680" y="213840"/>
            <a:ext cx="7467480" cy="13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ВСТАВИТЬ   ПЛОТНО  СВЕРХУ В  СОСНОВУЮ  ШИШКУ  ДВА   СЕМЕНИ   КАБАЧКА. ВЫРЕЗАТЬ  ИЗ ДЕРМАТИНА  ПО ДВЕ ТОНКИХ ПОЛОСКИ  (РЕСНИЧКИ) И С ПОМОЩЬЮ КЛЕЯ И НОЖНИЦ ЗАКРЕПИТЬ  ИХ НА ШИШКЕ. ЗАГОТОВКИ ДЛЯ ГЛАЗ  СДЕЛАТЬ  ИЗ ПЛОТНОЙ БЕЛОЙ ТКАНИ И ДВУХ  ЗЕЛЕНЫХ ПАЕТОК.  ЗАГОТОВКИ ДЛЯ  УСОВ ОТРЕЗАТЬ  ОТ МЕХА И ЗАКРЕПИТЬ   НА ШИШКЕ С ПОМОЩЬЮ  КОРИЧНЕВОГО ПЛАСТИЛИНА. УЛЫБКУ КОТИКУ ИЗОБРАЗИТЬ  ИЗ  КУСОЧКА  КРАСНОЙ ТКАНИ С ПОМОЩЬЮ НОЖНИЦ.</a:t>
            </a:r>
            <a:endParaRPr b="0" lang="en-US" sz="1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0" name="Picture 1" descr="H:\фото 1\Изображение\CIMG0368.JPG"/>
          <p:cNvPicPr/>
          <p:nvPr/>
        </p:nvPicPr>
        <p:blipFill>
          <a:blip r:embed="rId1"/>
          <a:stretch/>
        </p:blipFill>
        <p:spPr>
          <a:xfrm>
            <a:off x="500040" y="1643040"/>
            <a:ext cx="7429680" cy="48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09320" y="285480"/>
            <a:ext cx="74674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ШЛЯПКУ  КРУГЛОЙ ФОРМЫ  ВЫРЕЗАТЬ  ИЗ ТОГО  ЖЕ МАТЕРИАЛА, ЧТО И РЕСНИЦЫ. ПРИШИТЬ  ПОСЕРЕДИНЕ  ГОЛОВНОГО УБОРА ПУГОВИЦУ, КОНЦЫ НИТОК ОСТАВИТЬ СВОБОДНЫМИ, ЧТОБЫ ЗАВЯЗАТЬ ИХ НА  ГОЛОВЕ КОТА, ВСТАВИТЬ  ПЕРЫШКО В ШЛЯПУ. </a:t>
            </a:r>
            <a:endParaRPr b="0" lang="en-US" sz="1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3" name="Picture 2" descr="H:\фото 1\Изображение\CIMG0369.JPG"/>
          <p:cNvPicPr/>
          <p:nvPr/>
        </p:nvPicPr>
        <p:blipFill>
          <a:blip r:embed="rId1"/>
          <a:stretch/>
        </p:blipFill>
        <p:spPr>
          <a:xfrm>
            <a:off x="428760" y="1571760"/>
            <a:ext cx="75009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28400" y="0"/>
            <a:ext cx="7467480" cy="19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КНИЖКУ МОЖНО СДЕЛАТЬ ИЗ РАЗНОЦВЕТНЫХ ЛИСТОЧКОВ И ОБЛОЖКИ (ЗАБАВНАЯ НАШИВКА ОТ ДЕТСКИХ ВЕЩЕЙ). С ПОМОЩЬЮ ИГОЛКИ С НИТКОЙ СКРЕПИТЬ   ОБЛОЖКУ,  РАЗНОЦВЕТНЫЕ ЛИСТОЧКИ И  ГОТОВАЯ МИНИ КНИЖКА   ВЕШАЕТСЯ НА ЛАПУ КОТА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С ПОМОЩЬЮ КЛЕЯ ПЛОТНО СКРЕПИТЬ  СОСНОВУЮ ШИШКУ  С  КЕДРОВОЙ. ЗАВЯЗЫВАТЬ НА МЕСТЕ СКРЕПЛЕНИЯ  БАНТ ИЗ  ПОЛОСКИ ЗЕЛЕНОЙ ТКАНИ, ВСТАВИТЬ  РУЧКУ В ПОДСТАВКУ И СУВЕНИР ГОТОВ!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300"/>
            </a:br>
            <a:endParaRPr b="0" lang="en-US" sz="1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6" name="Picture 2" descr="H:\фото 1\Изображение\CIMG0370.JPG"/>
          <p:cNvPicPr/>
          <p:nvPr/>
        </p:nvPicPr>
        <p:blipFill>
          <a:blip r:embed="rId1"/>
          <a:stretch/>
        </p:blipFill>
        <p:spPr>
          <a:xfrm>
            <a:off x="357120" y="1643040"/>
            <a:ext cx="75009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италий</cp:lastModifiedBy>
  <dcterms:modified xsi:type="dcterms:W3CDTF">2012-09-13T18:09:01Z</dcterms:modified>
  <cp:revision>24</cp:revision>
  <dc:subject/>
  <dc:title>Конкурс «Чудеса своими руками» Сообщества взаимопомощи учителей http://pedsovet.su».   </dc:title>
</cp:coreProperties>
</file>