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B87-3297-4925-9D46-3C9D8BD9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2DD-E2DD-478F-AB0B-3AB150C5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134-C8CB-4C75-A75A-D2D43F0D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048-4689-4BDD-B601-D019164D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C8B9-B0CE-4A0E-B4A3-249EC0F3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99B6-61E4-4653-B52D-B192DAAE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4EB3-3283-457C-AD93-9556DC3A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A1E0-BC4E-474E-B72C-F4F34D56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B9EA-200F-44DD-8431-22626606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7528-FC09-4930-B851-10DFDD13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E725-586D-49F7-A114-9931C721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C53-E070-424C-83E0-247BD31F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40A8-D775-4EBD-A9E7-48C06D27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D7B9-DC0F-4B38-A28E-538CA314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BE62-D963-44F5-8A24-3148D452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B2C6-F667-4EA0-A37D-757FF7CD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290F-8618-4C8F-8ADE-79041BDB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4FEE0-49F4-4BF6-A715-D1EFCE02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BF2F6-5FED-4FD8-B3C4-D0000983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4D3A2-1DB9-4B9E-8000-4FBD6184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BA5C3-E27A-417C-B88D-5AC7AA1A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16C4F-D6E1-42A5-8358-7CF91633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8A5-D99B-401E-9677-4CE2D5F0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EB3D8-4703-45A6-B2C9-EEA4E0EF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56C0F-88A2-4429-9EDD-2523ACFC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63BEC-1BC7-4451-B28F-7A12DAC8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95BF8-51D4-4465-B552-7A65075B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4B8A2-5487-4CC1-9C61-705A0FA9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C157C-1F5D-4146-A90F-E788E507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F692A-E614-4928-A7E2-D1AF5A11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36379-697E-4AC4-867D-EDEF8CDC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F4CFB-4DCE-4952-82DB-28B6AB55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9814C-D4E0-4E85-8BE1-B2C38529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8E2-6E74-4500-A351-B6EBCA36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F180D-E4D8-4884-914E-0361532F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F673E-F90A-48DF-95C1-DBA5BDF4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7D825-0C9B-4C5D-B19F-550E5855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26E0B-BC25-41E5-A5B3-53D3D574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B6B51-6613-476C-A5B5-9AB67457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64551-D152-413D-B06B-C8337EDE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F2295-F623-4E59-9253-6FD98E25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C9979-92B3-4DFC-827D-141E2F5B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91C6E-32FC-40FD-B426-CA091F9B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D281D-0F46-468B-9855-43F79D3E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30E-DEB4-4CCE-8274-84931C86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27453-4C9C-4C87-9FD0-73127686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BC52C-80BC-4D69-AF04-EC239F7B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4BFC2-63DD-4FB3-B904-C978A364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297E3-5ED1-4004-8F54-AB97ACF9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2C1E92-6533-487C-B10C-603ABE9B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CCADE5-081A-47E1-8B27-7A990924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26973-D2FF-496F-B380-2AD84829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D6442B-E611-49A8-91E7-C631745B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AC8C1-3F76-4374-9625-A54243D0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A8F2B6-E441-4019-8C6A-4155EACF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5F9-B21B-42E4-BF82-8DA37AE5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63023-82E7-4F41-BCA6-FF9F3E06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EEB7A-1594-4AF0-B304-CFDD6DBA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1741F-FAC6-4600-8A87-A901FF9D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90BA50-C16B-4AB2-88E1-41A788DF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A32E9-BDC2-428D-9876-41069131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CC8745-909A-46D1-8E46-51104504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545147-80C5-4BEF-9EEC-2BD5581D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8F7FD-AEBC-4A32-A10E-A838205B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265E58-BE92-46D5-B922-90FDD050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118AE-2B21-4187-9BDA-BDC6D93C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451-4060-41B1-B6E7-9E384D11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44967-C24D-4318-97F8-3C3C0980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A1785-4014-46FC-A353-2E9B6DA5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8B4A47-FBE6-4270-AB10-AAA59F03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2337A1-0C7D-4321-81A1-462AE6D5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7F34F7-5971-49EB-8759-B0833F98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A0BC58-EA00-4FDF-9D1B-0BCC2E3E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A2C1B3-4004-4D62-A533-6928F9CF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C9DC4-10A7-426F-9CE0-75160890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B3F310-34C9-48E4-84F5-465D927B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95081-6B6A-458F-93BF-96DB2B7A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3115-9B26-4F50-BCB6-EBC6B038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CBD359-CC81-4632-B55D-F75025A6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1CA5C-9C28-46E3-A056-013A2CE2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F8F34-9B25-410E-978D-F2DA6368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31DE59-580F-45CA-A3B3-A490D10C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B08101-61A8-412A-B336-31EA9377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E44-9FB5-4919-82AE-05416D56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6FC7-426C-4F2D-B28F-3461F40DA6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4682-87A0-45ED-93B6-E6727D9C180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204A-8AB0-4228-A438-C32F6FAA9DA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33ED-FA2E-4675-8566-22021B66DE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22C2-70BD-4A5B-9AB8-0F99C9BB5F9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A90F-BD21-4983-B793-EDA3941739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1C07-7AE2-4E12-9B48-2C3B4B18171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508/teodor-volga.0/0_29992_d9d8c7dc_XL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motto.net.ua/img/winter/1295192037_E2E5F2EAE020E8E720EBE5F1E0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sarssp.ru/img/gr_oreh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img-fotki.yandex.ru/get/4905/viktor-yarkov.22/0_3d20c_362f141f_XL" TargetMode="External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907640" y="1413000"/>
            <a:ext cx="6696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Gabriola"/>
              </a:rPr>
              <a:t>Борисова Любовь Дмитриевна</a:t>
            </a:r>
            <a:endParaRPr b="0" lang="en-US" sz="49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Gabriola"/>
              </a:rPr>
              <a:t>Учитель начальных классов</a:t>
            </a:r>
            <a:endParaRPr b="0" lang="en-US" sz="49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Gabriola"/>
              </a:rPr>
              <a:t>МБОУ гимназия №12 г. Липецка</a:t>
            </a:r>
            <a:endParaRPr b="0" lang="en-US" sz="49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Gabriola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М ЗАХОТЕЛОСЬ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СИМПАТИЧНЫЙ  СУВЕНИР,  ТОГДА ПОСПЕШИТЕ ПРИГОТОВИТЬ К РАБОТЕ СЛЕДУЮЩИЕ МАТЕРИАЛЫ И ИНСТРУМЕНТЫ: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едровая и сосновая шишк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Две половинки грецкого орех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Два жёлудя с плюскам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Два семени кабачк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Одно пёрышко.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Лист жёлтого картона и цветная бумаг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олпачок от пузырьк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усочек мех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усочек кожи или дерматин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усочек плотной красной и белой ткан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Две зелёные паетк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усочек коричневого пластилин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Одна пуговиц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Полоска лёгкой зелёной ткани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Ножницы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лей «Момент»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Нитка с иголкой.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ем вам  творческих  успехов</a:t>
            </a:r>
            <a:r>
              <a:rPr b="1" lang="ru-RU" sz="1300" spc="-1" strike="noStrike">
                <a:solidFill>
                  <a:srgbClr val="000000"/>
                </a:solidFill>
                <a:latin typeface="Century Schoolbook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Карандаш и линейка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H:\фото 1\Изображение\CIMG0348.JPG"/>
          <p:cNvPicPr/>
          <p:nvPr/>
        </p:nvPicPr>
        <p:blipFill>
          <a:blip r:embed="rId1"/>
          <a:stretch/>
        </p:blipFill>
        <p:spPr>
          <a:xfrm rot="426600">
            <a:off x="4698720" y="199836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85520" y="-357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ЕНИР    «КОТ УЧЕНЫЙ»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СКАЯ РАБОТА) 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3" descr="H:\фото 1\Изображение\вфф.jpg"/>
          <p:cNvPicPr/>
          <p:nvPr/>
        </p:nvPicPr>
        <p:blipFill>
          <a:blip r:embed="rId1"/>
          <a:stretch/>
        </p:blipFill>
        <p:spPr>
          <a:xfrm>
            <a:off x="2143080" y="1000080"/>
            <a:ext cx="4429080" cy="5072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Картинка 73 из 6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15120" y="214200"/>
            <a:ext cx="1357560" cy="1214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Картинка 10 из 11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50007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Картинка 8 из 153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4200" y="2500200"/>
            <a:ext cx="1571760" cy="1071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Картинка 26 из 16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4200" y="285840"/>
            <a:ext cx="1357560" cy="1285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Картинка 1 из 2410"/>
          <p:cNvPicPr/>
          <p:nvPr/>
        </p:nvPicPr>
        <p:blipFill>
          <a:blip r:embed="rId10"/>
          <a:stretch/>
        </p:blipFill>
        <p:spPr>
          <a:xfrm>
            <a:off x="7358040" y="4643280"/>
            <a:ext cx="107172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Картинка 77 из 3623"/>
          <p:cNvPicPr/>
          <p:nvPr/>
        </p:nvPicPr>
        <p:blipFill>
          <a:blip r:embed="rId11"/>
          <a:stretch/>
        </p:blipFill>
        <p:spPr>
          <a:xfrm rot="1493400">
            <a:off x="7448400" y="2180880"/>
            <a:ext cx="885960" cy="16430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4" descr="Картинка 23 из 20872"/>
          <p:cNvPicPr/>
          <p:nvPr/>
        </p:nvPicPr>
        <p:blipFill>
          <a:blip r:embed="rId12"/>
          <a:stretch/>
        </p:blipFill>
        <p:spPr>
          <a:xfrm rot="1181400">
            <a:off x="2295000" y="6173280"/>
            <a:ext cx="642960" cy="594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6" descr="Картинка 10 из 4862"/>
          <p:cNvPicPr/>
          <p:nvPr/>
        </p:nvPicPr>
        <p:blipFill>
          <a:blip r:embed="rId13"/>
          <a:stretch/>
        </p:blipFill>
        <p:spPr>
          <a:xfrm rot="21081600">
            <a:off x="6846840" y="5965560"/>
            <a:ext cx="689040" cy="844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8" descr="Картинка 2 из 1373"/>
          <p:cNvPicPr/>
          <p:nvPr/>
        </p:nvPicPr>
        <p:blipFill>
          <a:blip r:embed="rId14"/>
          <a:stretch/>
        </p:blipFill>
        <p:spPr>
          <a:xfrm>
            <a:off x="3857760" y="621504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0" descr="Картинка 22 из 126139"/>
          <p:cNvPicPr/>
          <p:nvPr/>
        </p:nvPicPr>
        <p:blipFill>
          <a:blip r:embed="rId15"/>
          <a:stretch/>
        </p:blipFill>
        <p:spPr>
          <a:xfrm>
            <a:off x="5357880" y="6143760"/>
            <a:ext cx="1000080" cy="571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Картинка 159 из 11862"/>
          <p:cNvPicPr/>
          <p:nvPr/>
        </p:nvPicPr>
        <p:blipFill>
          <a:blip r:embed="rId16"/>
          <a:stretch/>
        </p:blipFill>
        <p:spPr>
          <a:xfrm>
            <a:off x="7143840" y="214200"/>
            <a:ext cx="15001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ГО   НАЧНЁМ    МАСТЕРИТЬ?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С  ХОРОШЕГО  НАСТРОЕ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!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85960" y="5786280"/>
          <a:ext cx="5500800" cy="731880"/>
        </p:xfrm>
        <a:graphic>
          <a:graphicData uri="http://schemas.openxmlformats.org/drawingml/2006/table">
            <a:tbl>
              <a:tblPr/>
              <a:tblGrid>
                <a:gridCol w="1374840"/>
                <a:gridCol w="1376280"/>
                <a:gridCol w="1374840"/>
                <a:gridCol w="1374840"/>
              </a:tblGrid>
              <a:tr h="366120"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←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ртинка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из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8" name="Picture 1" descr="Картинка 53 из 3495"/>
          <p:cNvPicPr/>
          <p:nvPr/>
        </p:nvPicPr>
        <p:blipFill>
          <a:blip r:embed="rId1"/>
          <a:stretch/>
        </p:blipFill>
        <p:spPr>
          <a:xfrm>
            <a:off x="1857240" y="2286000"/>
            <a:ext cx="5500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МПЬЮТЕРНЫЙ ДИСК ОБКЛЕИТЬ  КАРТОНОМ (ПОДСТАВК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ПРИКЛЕИТЬ НА ДИСК ДВЕ ПОЛОВИНКИ ГРЕЦКОГО ОРЕХА (ЗАДНИЕ ЛАПЫ КОТА). </a:t>
            </a:r>
            <a:br>
              <a:rPr sz="14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4" descr="H:\фото 1\Изображение\CIMG0364.JPG"/>
          <p:cNvPicPr/>
          <p:nvPr/>
        </p:nvPicPr>
        <p:blipFill>
          <a:blip r:embed="rId1"/>
          <a:stretch/>
        </p:blipFill>
        <p:spPr>
          <a:xfrm>
            <a:off x="428760" y="1571760"/>
            <a:ext cx="750096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 КЕДРОВУЮ  ШИШКУ  (ТУЛОВИЩЕ КОТА)  ВСТАВИТЬ  С ДВУХ СТОРОН  НАМАЗАННЫЕ КЛЕЕМ  ДВА ЖЕЛУДЯ  ПЛЮСКАМИ  ВВЕРХ  (ПЕРЕДНИЕ ЛАПЫ КОТ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ТРЕЗАТЬ  ПОЛОСКУ МЕХА ДЛЯ ХВОСТА И С ПОМОЩЬЮ КЛЕЯ ЗАКРЕПИТЬ ЕГО НА КЕДРОВОЙ  ШИШКЕ. </a:t>
            </a:r>
            <a:br>
              <a:rPr sz="14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2" descr="H:\фото 1\Изображение\CIMG0365.JPG"/>
          <p:cNvPicPr/>
          <p:nvPr/>
        </p:nvPicPr>
        <p:blipFill>
          <a:blip r:embed="rId1"/>
          <a:stretch/>
        </p:blipFill>
        <p:spPr>
          <a:xfrm>
            <a:off x="428760" y="1571760"/>
            <a:ext cx="7500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H:\фото 1\Изображение\CIMG0366.JPG"/>
          <p:cNvPicPr/>
          <p:nvPr/>
        </p:nvPicPr>
        <p:blipFill>
          <a:blip r:embed="rId1"/>
          <a:stretch/>
        </p:blipFill>
        <p:spPr>
          <a:xfrm>
            <a:off x="428760" y="1643040"/>
            <a:ext cx="7500960" cy="50371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ЕДРОВУЮ ШИШКУ ПРИКЛЕИТЬ  К  ДИСКУ ВПЛОТНУЮ К ПОЛОВИНКАМ ГРЕЦКОГО ОРЕХА.  РЯДОМ    ЗАКРЕПИТЬ КЛЕЕМ   К ДИСКУ  ЗАКРУЧИВАЮЩУЮСЯ КРЫШКУ, КОТОРАЯ  ПОСЛУЖИТ ПОДСТАВКОЙ ДЛЯ РУЧКИ.</a:t>
            </a:r>
            <a:br>
              <a:rPr sz="14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СТАВИТЬ   ПЛОТНО  СВЕРХУ В  СОСНОВУЮ  ШИШКУ  ДВА   СЕМЕНИ   КАБАЧКА. ВЫРЕЗАТЬ  ИЗ ДЕРМАТИНА  ПО ДВЕ ТОНКИХ ПОЛОСКИ  (РЕСНИЧКИ) И С ПОМОЩЬЮ КЛЕЯ И НОЖНИЦ ЗАКРЕПИТЬ  ИХ НА ШИШКЕ. ЗАГОТОВКИ ДЛЯ ГЛАЗ  СДЕЛАТЬ  ИЗ ПЛОТНОЙ БЕЛОЙ ТКАНИ И ДВУХ  ЗЕЛЕНЫХ ПАЕТОК.  ЗАГОТОВКИ ДЛЯ  УСОВ ОТРЕЗАТЬ  ОТ МЕХА И ЗАКРЕПИТЬ   НА ШИШКЕ С ПОМОЩЬЮ  КОРИЧНЕВОГО ПЛАСТИЛИНА. УЛЫБКУ КОТИКУ ИЗОБРАЗИТЬ  ИЗ  КУСОЧКА  КРАСНОЙ ТКАНИ С ПОМОЩЬЮ НОЖНИЦ.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1" descr="H:\фото 1\Изображение\CIMG0368.JPG"/>
          <p:cNvPicPr/>
          <p:nvPr/>
        </p:nvPicPr>
        <p:blipFill>
          <a:blip r:embed="rId1"/>
          <a:stretch/>
        </p:blipFill>
        <p:spPr>
          <a:xfrm>
            <a:off x="500040" y="1643040"/>
            <a:ext cx="742968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09320" y="285480"/>
            <a:ext cx="74674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ШЛЯПКУ  КРУГЛОЙ ФОРМЫ  ВЫРЕЗАТЬ  ИЗ ТОГО  ЖЕ МАТЕРИАЛА, ЧТО И РЕСНИЦЫ. ПРИШИТЬ  ПОСЕРЕДИНЕ  ГОЛОВНОГО УБОРА ПУГОВИЦУ, КОНЦЫ НИТОК ОСТАВИТЬ СВОБОДНЫМИ, ЧТОБЫ ЗАВЯЗАТЬ ИХ НА  ГОЛОВЕ КОТА, ВСТАВИТЬ  ПЕРЫШКО В ШЛЯПУ. 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H:\фото 1\Изображение\CIMG0369.JPG"/>
          <p:cNvPicPr/>
          <p:nvPr/>
        </p:nvPicPr>
        <p:blipFill>
          <a:blip r:embed="rId1"/>
          <a:stretch/>
        </p:blipFill>
        <p:spPr>
          <a:xfrm>
            <a:off x="428760" y="1571760"/>
            <a:ext cx="7500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746748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НИЖКУ МОЖНО СДЕЛАТЬ ИЗ РАЗНОЦВЕТНЫХ ЛИСТОЧКОВ И ОБЛОЖКИ (ЗАБАВНАЯ НАШИВКА ОТ ДЕТСКИХ ВЕЩЕЙ). С ПОМОЩЬЮ ИГОЛКИ С НИТКОЙ СКРЕПИТЬ   ОБЛОЖКУ,  РАЗНОЦВЕТНЫЕ ЛИСТОЧКИ И  ГОТОВАЯ МИНИ КНИЖКА   ВЕШАЕТСЯ НА ЛАПУ КОТ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 ПОМОЩЬЮ КЛЕЯ ПЛОТНО СКРЕПИТЬ  СОСНОВУЮ ШИШКУ  С  КЕДРОВОЙ. ЗАВЯЗЫВАТЬ НА МЕСТЕ СКРЕПЛЕНИЯ  БАНТ ИЗ  ПОЛОСКИ ЗЕЛЕНОЙ ТКАНИ, ВСТАВИТЬ  РУЧКУ В ПОДСТАВКУ И СУВЕНИР ГОТОВ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3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2" descr="H:\фото 1\Изображение\CIMG0370.JPG"/>
          <p:cNvPicPr/>
          <p:nvPr/>
        </p:nvPicPr>
        <p:blipFill>
          <a:blip r:embed="rId1"/>
          <a:stretch/>
        </p:blipFill>
        <p:spPr>
          <a:xfrm>
            <a:off x="357120" y="1643040"/>
            <a:ext cx="75009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талий</cp:lastModifiedBy>
  <dcterms:modified xsi:type="dcterms:W3CDTF">2012-09-13T18:09:01Z</dcterms:modified>
  <cp:revision>24</cp:revision>
  <dc:subject/>
  <dc:title>Конкурс «Чудеса своими руками» Сообщества взаимопомощи учителей http://pedsovet.su».   </dc:title>
</cp:coreProperties>
</file>