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png" ContentType="image/png"/>
  <Override PartName="/ppt/media/image7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2D7E-A91C-41C7-BCF1-3733E84E4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201C-737C-442E-822A-1A86620B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EC43-51CA-4F50-82A4-8CAEED1A4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5794-D503-4F57-8BEE-74B96A91D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D5E4-ECA4-4C23-9913-3E041E05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7265-2AA3-4B35-8D26-7407CFC9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DEF4-D190-44C2-9676-52988B6E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8AC3-32B5-4C2E-8F86-96B68CE3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6805-AEA5-4A68-A4C5-8907E903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158B-E0DC-4327-B830-7B7DCAF7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B153-4EAA-49AA-8E48-199D2875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8971-FFF1-4401-B35B-69F3D5F6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AC41-3488-4776-9CA6-49CAEB71C8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1258026666_ju-a"/>
          <p:cNvPicPr/>
          <p:nvPr/>
        </p:nvPicPr>
        <p:blipFill>
          <a:blip r:embed="rId1"/>
          <a:srcRect l="0" t="0" r="0" b="22617"/>
          <a:stretch/>
        </p:blipFill>
        <p:spPr>
          <a:xfrm>
            <a:off x="0" y="-133200"/>
            <a:ext cx="9144000" cy="6991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656320" y="1413000"/>
            <a:ext cx="34876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Рок-оп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1258026666_ju-a"/>
          <p:cNvPicPr/>
          <p:nvPr/>
        </p:nvPicPr>
        <p:blipFill>
          <a:blip r:embed="rId2"/>
          <a:srcRect l="13342" t="48477" r="5632" b="13091"/>
          <a:stretch/>
        </p:blipFill>
        <p:spPr>
          <a:xfrm>
            <a:off x="2195640" y="4219560"/>
            <a:ext cx="56880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13107"/>
          <p:cNvPicPr/>
          <p:nvPr/>
        </p:nvPicPr>
        <p:blipFill>
          <a:blip r:embed="rId1"/>
          <a:stretch/>
        </p:blipFill>
        <p:spPr>
          <a:xfrm>
            <a:off x="4905360" y="3284640"/>
            <a:ext cx="4059360" cy="3044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14036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История 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любв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file42560442_5d46b7da"/>
          <p:cNvPicPr/>
          <p:nvPr/>
        </p:nvPicPr>
        <p:blipFill>
          <a:blip r:embed="rId2"/>
          <a:stretch/>
        </p:blipFill>
        <p:spPr>
          <a:xfrm>
            <a:off x="4859280" y="227160"/>
            <a:ext cx="4103640" cy="28414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604836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раф Резанов очарован красотой девушки, Кончита отвечает ему взаимно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корбленный Фернандо, жених Кончиты, вызывает Резанова на поединок и погиб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ая экспедиция спешно покидает Калифорни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занов тайно обручается с любимой, но для венчания ему необходимо исхлопотать в Петербурге разрешение от Папы, чтобы жениться на католич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днако им не суждено больше увидеться. По пути Резанов тяжело заболевает и умирает под Красноярск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чита отказывается верить страшным известиям и ждет возлюбленного больше тридцати лет, после чего постригается в монахини и заканчивает свои дни затворницей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medium_d12ee5f088ac1ddce8f986bea1d05fbe"/>
          <p:cNvPicPr/>
          <p:nvPr/>
        </p:nvPicPr>
        <p:blipFill>
          <a:blip r:embed="rId1"/>
          <a:stretch/>
        </p:blipFill>
        <p:spPr>
          <a:xfrm>
            <a:off x="4427640" y="3429000"/>
            <a:ext cx="4537080" cy="3065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3"/>
          <p:cNvPicPr/>
          <p:nvPr/>
        </p:nvPicPr>
        <p:blipFill>
          <a:blip r:embed="rId2"/>
          <a:stretch/>
        </p:blipFill>
        <p:spPr>
          <a:xfrm>
            <a:off x="4427640" y="189000"/>
            <a:ext cx="4537080" cy="3016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0"/>
            <a:ext cx="5580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олее чем за четверть века спектакль выдержал более сотни представлений и до сих пор идет с неизменным аншлаг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полнители главных ролей несколько раз менялись. В настоящее время роль графа Резанова исполняют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митрий Певцов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иктор Раков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амя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чита Аргуэльо (в постриге Мария Доминго) умерла в 1857 году в возрасте 67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раф Николай Петрович Резанов в 1807 году был похоронен на кладбище городского собора Красноярс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устя почти два века, в 2000 году, на его могиле был установлен беломраморный крест, на котором с одной стороны читается: «Я тебя никогда не забуду», а на другой написано: «Я тебя никогда не увиж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19800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мориальный комплекс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Камергер Николай Петрович Резанов»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городе Красноярс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2" descr="http://derjava.pskov.ru/images/material-images/rrrr/2rez_pam2.jpg"/>
          <p:cNvPicPr/>
          <p:nvPr/>
        </p:nvPicPr>
        <p:blipFill>
          <a:blip r:embed="rId1"/>
          <a:stretch/>
        </p:blipFill>
        <p:spPr>
          <a:xfrm>
            <a:off x="73080" y="1584360"/>
            <a:ext cx="7400880" cy="4700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C:\Documents and Settings\User\Рабочий стол\ФОТО РЯЗАНОВ\grave2l.jpg"/>
          <p:cNvPicPr/>
          <p:nvPr/>
        </p:nvPicPr>
        <p:blipFill>
          <a:blip r:embed="rId2"/>
          <a:stretch/>
        </p:blipFill>
        <p:spPr>
          <a:xfrm>
            <a:off x="5599080" y="1989000"/>
            <a:ext cx="3365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i00YTQxLT"/>
          <p:cNvPicPr/>
          <p:nvPr/>
        </p:nvPicPr>
        <p:blipFill>
          <a:blip r:embed="rId1"/>
          <a:srcRect l="0" t="0" r="0" b="22362"/>
          <a:stretch/>
        </p:blipFill>
        <p:spPr>
          <a:xfrm>
            <a:off x="0" y="-27000"/>
            <a:ext cx="9144000" cy="70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1258026666_ju-a"/>
          <p:cNvPicPr/>
          <p:nvPr/>
        </p:nvPicPr>
        <p:blipFill>
          <a:blip r:embed="rId1"/>
          <a:srcRect l="13342" t="48477" r="5632" b="13091"/>
          <a:stretch/>
        </p:blipFill>
        <p:spPr>
          <a:xfrm>
            <a:off x="0" y="0"/>
            <a:ext cx="4788000" cy="22431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0" y="2205000"/>
            <a:ext cx="414036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дна из известных советских       рок-опер композитора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лексея Рыбников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на стихи поэта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ндрея Вознесенског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509210_245478_5_Aleksej_Rybnikov"/>
          <p:cNvPicPr/>
          <p:nvPr/>
        </p:nvPicPr>
        <p:blipFill>
          <a:blip r:embed="rId2"/>
          <a:stretch/>
        </p:blipFill>
        <p:spPr>
          <a:xfrm>
            <a:off x="4932360" y="231840"/>
            <a:ext cx="4103640" cy="2981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241337777"/>
          <p:cNvPicPr/>
          <p:nvPr/>
        </p:nvPicPr>
        <p:blipFill>
          <a:blip r:embed="rId3"/>
          <a:stretch/>
        </p:blipFill>
        <p:spPr>
          <a:xfrm>
            <a:off x="4932360" y="3429000"/>
            <a:ext cx="410364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360" y="502920"/>
            <a:ext cx="414036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основу либретто спектакля положена поэма «Авось» (197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лово «рок-опера» в то время было запрещено, как и рок-музыка вообще, поэтому авторы написали: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овременная опер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248341"/>
          <p:cNvPicPr/>
          <p:nvPr/>
        </p:nvPicPr>
        <p:blipFill>
          <a:blip r:embed="rId1"/>
          <a:srcRect l="17849" t="0" r="19057" b="0"/>
          <a:stretch/>
        </p:blipFill>
        <p:spPr>
          <a:xfrm>
            <a:off x="4516560" y="477720"/>
            <a:ext cx="4230720" cy="59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2204640"/>
            <a:ext cx="45720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емьера состоялас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9 июля 1981 год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в Московском театре имени Ленинского комсомола,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режиссер Марк Заха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medium_1f51b8c84f915495ddf778e5eb32558c"/>
          <p:cNvPicPr/>
          <p:nvPr/>
        </p:nvPicPr>
        <p:blipFill>
          <a:blip r:embed="rId1"/>
          <a:stretch/>
        </p:blipFill>
        <p:spPr>
          <a:xfrm>
            <a:off x="4960800" y="260280"/>
            <a:ext cx="3936960" cy="5905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1258026666_ju-a"/>
          <p:cNvPicPr/>
          <p:nvPr/>
        </p:nvPicPr>
        <p:blipFill>
          <a:blip r:embed="rId2"/>
          <a:srcRect l="13342" t="48477" r="5632" b="13091"/>
          <a:stretch/>
        </p:blipFill>
        <p:spPr>
          <a:xfrm>
            <a:off x="0" y="-27000"/>
            <a:ext cx="478800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378310a0359c"/>
          <p:cNvPicPr/>
          <p:nvPr/>
        </p:nvPicPr>
        <p:blipFill>
          <a:blip r:embed="rId1"/>
          <a:srcRect l="9597" t="0" r="9821" b="14047"/>
          <a:stretch/>
        </p:blipFill>
        <p:spPr>
          <a:xfrm>
            <a:off x="4716360" y="3716280"/>
            <a:ext cx="4248360" cy="3398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70994552_yunona_i_avos"/>
          <p:cNvPicPr/>
          <p:nvPr/>
        </p:nvPicPr>
        <p:blipFill>
          <a:blip r:embed="rId2"/>
          <a:stretch/>
        </p:blipFill>
        <p:spPr>
          <a:xfrm>
            <a:off x="4643280" y="115920"/>
            <a:ext cx="4321440" cy="3456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06728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ремьера 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оп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главных ролях были задействованы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иколай Караченцев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(граф Резанов),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Елена Шанин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(Кончита) и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лександр Абдулов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(Фернандо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427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ектакль на удивление был разрешен сразу. При этом, по воспоминаниям Вознесенского, перед прохождением комиссии Захаров вместе с ним поехал в Елоховский собор и поставил свечу у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иконы Казанской Божьей матери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60_big"/>
          <p:cNvPicPr/>
          <p:nvPr/>
        </p:nvPicPr>
        <p:blipFill>
          <a:blip r:embed="rId1"/>
          <a:stretch/>
        </p:blipFill>
        <p:spPr>
          <a:xfrm>
            <a:off x="4579920" y="476280"/>
            <a:ext cx="43689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988640"/>
            <a:ext cx="464328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названии спектакля использованы имена двух парусников, «Юнона» и «Авось», на которых совершала свое плавание экспедиция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иколая Петровича Резанов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258026666_ju-a"/>
          <p:cNvPicPr/>
          <p:nvPr/>
        </p:nvPicPr>
        <p:blipFill>
          <a:blip r:embed="rId1"/>
          <a:srcRect l="13342" t="48477" r="5632" b="13091"/>
          <a:stretch/>
        </p:blipFill>
        <p:spPr>
          <a:xfrm>
            <a:off x="0" y="-38160"/>
            <a:ext cx="4427640" cy="2075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97382109_pic4659507359x500"/>
          <p:cNvPicPr/>
          <p:nvPr/>
        </p:nvPicPr>
        <p:blipFill>
          <a:blip r:embed="rId2"/>
          <a:stretch/>
        </p:blipFill>
        <p:spPr>
          <a:xfrm>
            <a:off x="4621320" y="189000"/>
            <a:ext cx="43434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9" descr="C:\Documents and Settings\User\Рабочий стол\Рисунок1.gif"/>
          <p:cNvPicPr/>
          <p:nvPr/>
        </p:nvPicPr>
        <p:blipFill>
          <a:blip r:embed="rId1"/>
          <a:stretch/>
        </p:blipFill>
        <p:spPr>
          <a:xfrm>
            <a:off x="5796000" y="549360"/>
            <a:ext cx="2987640" cy="25606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87480" y="404640"/>
            <a:ext cx="628488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2-летний государственный деятель и флотоводец, вдовец и отец двоих детей, он мечтал о плавании к берегам Северной Амер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иколай Резанов являлся одним из основателей Российско-Американской компании, осуществлявшей освоение Аляски, был первым чрезвычайным и полномочным посланником Российской Империи в Япо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10" descr="http://rezanov.krasu.ru/commander/img/ship.gif"/>
          <p:cNvPicPr/>
          <p:nvPr/>
        </p:nvPicPr>
        <p:blipFill>
          <a:blip r:embed="rId2"/>
          <a:stretch/>
        </p:blipFill>
        <p:spPr>
          <a:xfrm>
            <a:off x="6267600" y="3340080"/>
            <a:ext cx="2766960" cy="238428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3"/>
          <p:cNvSpPr/>
          <p:nvPr/>
        </p:nvSpPr>
        <p:spPr>
          <a:xfrm>
            <a:off x="6084720" y="2492280"/>
            <a:ext cx="30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Флаг  Русско-Американской комп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Прямоугольник 8" descr=""/>
          <p:cNvPicPr/>
          <p:nvPr/>
        </p:nvPicPr>
        <p:blipFill>
          <a:blip r:embed="rId3"/>
          <a:stretch/>
        </p:blipFill>
        <p:spPr>
          <a:xfrm>
            <a:off x="6492960" y="5815080"/>
            <a:ext cx="26510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занов получает от императорского двора высочайшее повеление отправляться к берегам Калифорнии, чтобы доставить продовольствие к русским колониям на Аляске.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ConchitaA"/>
          <p:cNvPicPr/>
          <p:nvPr/>
        </p:nvPicPr>
        <p:blipFill>
          <a:blip r:embed="rId1"/>
          <a:stretch/>
        </p:blipFill>
        <p:spPr>
          <a:xfrm>
            <a:off x="5435640" y="2347920"/>
            <a:ext cx="3463920" cy="42498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7"/>
          <p:cNvSpPr/>
          <p:nvPr/>
        </p:nvSpPr>
        <p:spPr>
          <a:xfrm>
            <a:off x="0" y="2349360"/>
            <a:ext cx="540072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806 году в заливе Сан-Франциско бросают якорь русские корабли «Юнона» и «Авось».  На балу граф знакомится с 16-летней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онсепсией Аргуэл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— дочерью коменданта Сан-Франциско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0T16:17:19Z</dcterms:created>
  <dc:creator>Пользователь</dc:creator>
  <dc:description/>
  <dc:language>en-US</dc:language>
  <cp:lastModifiedBy>Наталья</cp:lastModifiedBy>
  <dcterms:modified xsi:type="dcterms:W3CDTF">2016-01-31T14:10:59Z</dcterms:modified>
  <cp:revision>10</cp:revision>
  <dc:subject/>
  <dc:title>Рок-опера 1981 год театр  «Ленком»</dc:title>
</cp:coreProperties>
</file>