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D29-9F8F-4481-BFD9-10189FED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A34-F22F-4029-9D3B-9DC02CE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2E1-DC29-4ED1-97C4-F5E05783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467-4366-4157-9A88-3D2EA2E6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1DC02-4EAD-44FC-9812-445CC76F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E315D-D4C3-4DF3-9369-76F9101F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3D155-5EA5-4593-A833-9B44CBD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04D1-A3B0-4A37-8AB3-4185D276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5AA58-19BB-4E8D-953A-F700CB8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B5626-E9D5-4027-9096-02DABDE9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96CBC-FB47-4BB6-8D07-521682E0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E10-2099-4950-A49F-97A9FC8C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01DD3-8C98-49AA-9FED-890A3F5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14DD1-8CBA-4EA9-83D3-CB6B58A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02C78-569D-4403-9DF7-25EEEA5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D9CA-692A-4A1C-93D0-310E9CEF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944D-67DC-4561-AA55-1E4D0A12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2C6-8441-48AC-B71B-73ACB80B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90B-60F7-4632-B795-D591A04C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5E5-CD07-4C57-9B1F-3CB30E5F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262-A72B-4B19-9939-3496E044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924-6B1F-4656-B36B-9A1EA61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016-E718-4DC4-8823-94B871C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F1C-BB5A-4953-A29E-ACCCAA2F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2679-8280-4683-B7C8-0C4DD78ED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5FE4-41BA-458E-8934-861AEDFA9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Христофо́р Колу́мб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1451-1506гг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367344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амое известное открытие               Х.Колум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3827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492г. Х. Колумб положил начало открытию материка Южной Америки и перешейков Центральной Америки. Он открыл все Большие Антильские острова — центральную часть Багамского архипелага, но увидев местных жителей он подумал что он в Индии.(Первым, кто донёс до людей, что существует Америка был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мериго Веспуччи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34000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4199040" cy="32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торая экспеди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3394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ая флотилия Колумба состояла уже из 17 судов. Флагман — «Мария-Галанте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ным данным, экспедиция состояла из 1500—2500 челове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й везли лошадей и ослов, крупный рогатый скот и свиней, виноградные лозы, семена сельскохозяйственных культур, для организации постоянной колони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60684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етья экспеди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251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ретью экспедицию средств удалось найти немного, и с Колумбом отправилось лишь шесть небольших кораблей и около 300 человек команды, причём в команду принимали уголовников из испанских тюр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3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3141720"/>
            <a:ext cx="4500720" cy="371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Четвёртая экспедиц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ристофор Колумб всё же хотел найти новый путь от открытых им земель в Южную Азию, к источнику пряностей. Он был уверен, что такой путь существует, так как наблюдал у берегов Кубы сильное морское течение, идущее на запад через Карибское море. Король в конце концов дал Колумбу разрешение на новую экспеди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четвёртую экспедицию Колумб взял с собой брата Бартоломе и 13-летнего сына Эрнандо. Во время четвёртого плавания Колумб открыл материк к югу от Кубы — берег Центральной Америки — и доказал, что Атлантический океан отделяет от Южного моря, о котором он слышал от индейцев, непреодолимый барьер. Он также первым сообщил об индейских народах, живущих у Южного мор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692280"/>
            <a:ext cx="7705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08000" y="6021360"/>
            <a:ext cx="8542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51:09Z</dcterms:created>
  <dc:creator>john</dc:creator>
  <dc:description/>
  <dc:language>en-US</dc:language>
  <cp:lastModifiedBy>john</cp:lastModifiedBy>
  <dcterms:modified xsi:type="dcterms:W3CDTF">2011-09-07T16:53:49Z</dcterms:modified>
  <cp:revision>4</cp:revision>
  <dc:subject/>
  <dc:title>Христофо́р Колу́мб  (1451-1506гг)</dc:title>
</cp:coreProperties>
</file>