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401-8948-4451-A065-758D8AEC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66B-CB4F-40E6-9F15-1A6A2006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1C31-0B5F-4571-B621-582FD169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27A-6376-40D9-95A2-F4FAC985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A710B-BA83-4E0F-9A83-7A27D480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B404D-5E91-4CF2-9516-614BA1C9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93BFD-EAC6-443B-8C6F-E3A5129F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32238-A213-45A0-8B95-0982C3EA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B1047-6107-453C-B446-634F6723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54D09-D579-4254-B95A-44C04BE3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1840F-CB8E-4953-A848-E6DA533D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C4B-90E6-4E95-A476-3D517458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0FB63-DC82-4986-82E3-D862D2CA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35F53-F777-4047-9919-9C51B66B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CA56C-8EDD-406B-91B2-9CCAA5A4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636F1-7D79-4DC0-84DE-67CB180F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35767-DAC4-4F09-950E-6702EE9A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3D2-B4B3-456E-BFDD-D8D188AC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1DF7-9F17-4E5D-AD08-F02F6A2A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357-6E56-493F-8D10-BD0F6FDA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72D-E628-48AD-9913-9103054D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0B6-AE3F-4909-87A0-E1CB0356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277-5B1A-4F75-8710-72414742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204-2B91-4CF0-9DBF-7EFA739D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7230-65EE-4686-9667-5BC5915BD0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6B14-8652-4641-A5AB-46EE121A51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Христофо́р Колу́мб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(1451-1506гг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700360" y="1413000"/>
            <a:ext cx="3673440" cy="544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амое известное открытие               Х.Колумб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3827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1492г. Х. Колумб положил начало открытию материка Южной Америки и перешейков Центральной Америки. Он открыл все Большие Антильские острова — центральную часть Багамского архипелага, но увидев местных жителей он подумал что он в Индии.(Первым, кто донёс до людей, что существует Америка был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Америго Веспуччи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156360" y="1052640"/>
            <a:ext cx="2340000" cy="25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356000" y="3645000"/>
            <a:ext cx="4199040" cy="321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торая экспедиц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3394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торая флотилия Колумба состояла уже из 17 судов. Флагман — «Мария-Галанте»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разным данным, экспедиция состояла из 1500—2500 человек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бой везли лошадей и ослов, крупный рогатый скот и свиней, виноградные лозы, семена сельскохозяйственных культур, для организации постоянной колонии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3606840" cy="46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ретья экспеди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3251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третью экспедицию средств удалось найти немного, и с Колумбом отправилось лишь шесть небольших кораблей и около 300 человек команды, причём в команду принимали уголовников из испанских тюрем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2300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3141720"/>
            <a:ext cx="4500720" cy="371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Четвёртая экспедиц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356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ристофор Колумб всё же хотел найти новый путь от открытых им земель в Южную Азию, к источнику пряностей. Он был уверен, что такой путь существует, так как наблюдал у берегов Кубы сильное морское течение, идущее на запад через Карибское море. Король в конце концов дал Колумбу разрешение на новую экспедиц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четвёртую экспедицию Колумб взял с собой брата Бартоломе и 13-летнего сына Эрнандо. Во время четвёртого плавания Колумб открыл материк к югу от Кубы — берег Центральной Америки — и доказал, что Атлантический океан отделяет от Южного моря, о котором он слышал от индейцев, непреодолимый барьер. Он также первым сообщил об индейских народах, живущих у Южного мор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500720" cy="352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26920" y="692280"/>
            <a:ext cx="770580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708000" y="6021360"/>
            <a:ext cx="8542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51:09Z</dcterms:created>
  <dc:creator>john</dc:creator>
  <dc:description/>
  <dc:language>en-US</dc:language>
  <cp:lastModifiedBy>john</cp:lastModifiedBy>
  <dcterms:modified xsi:type="dcterms:W3CDTF">2011-09-07T16:53:49Z</dcterms:modified>
  <cp:revision>4</cp:revision>
  <dc:subject/>
  <dc:title>Христофо́р Колу́мб  (1451-1506гг)</dc:title>
</cp:coreProperties>
</file>