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8B0-FD57-4516-941A-2E5FAB96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E06-7858-48DE-B031-4351AE64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B0D1-3763-4D71-84A7-CCA28BFD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654-19E3-4419-997A-74542E65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B1B94-EE64-4013-BF72-3CAA9584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992C1-F1F5-483E-9AC6-51A0A1E5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236BB-F94F-41B3-B369-BC68F7CC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633E0-6483-456B-AF6E-AEDF34D5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D9D5A-DA2A-48E7-A36C-D09D232A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6DA09-5B6B-4C2A-938F-2D7FE3C3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EBA5D-FF96-401E-BCDF-F71DF070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901-3E26-4608-ADC0-EBF50CFA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CBC02-89FF-4CA8-B562-D1F196EC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F02A2-C5D5-4E99-9A91-D91D48B6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12F1F-158A-47B1-9C9B-3FEDF40D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17B7B-BDE4-45B6-AF46-61C9E5CE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68A79-81AD-480E-A74D-3709261C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B976-6D4D-49B8-8ABC-B1D58A1A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817F-93F2-45D0-9A5D-F9CD6410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992-D7EB-4A77-A5F2-66E62827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506B-1FC7-46CD-A61B-AAF4324C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3188-2CE2-4EAA-81AC-23C7BE3B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2CC-BC12-450A-972E-787CC47F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F0C-82DA-4044-B3AD-0668C136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0F24-2448-44B2-AC38-106300575E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D5C7-F483-4246-9F2A-899D631C2A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Христофо́р Колу́мб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(1451-1506гг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700360" y="1413000"/>
            <a:ext cx="3673440" cy="544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амое известное открытие               Х.Колумб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3827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1492г. Х. Колумб положил начало открытию материка Южной Америки и перешейков Центральной Америки. Он открыл все Большие Антильские острова — центральную часть Багамского архипелага, но увидев местных жителей он подумал что он в Индии.(Первым, кто донёс до людей, что существует Америка был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Америго Веспуччи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156360" y="1052640"/>
            <a:ext cx="2340000" cy="25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356000" y="3645000"/>
            <a:ext cx="4199040" cy="321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торая экспедиц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3394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торая флотилия Колумба состояла уже из 17 судов. Флагман — «Мария-Галанте»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разным данным, экспедиция состояла из 1500—2500 человек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бой везли лошадей и ослов, крупный рогатый скот и свиней, виноградные лозы, семена сельскохозяйственных культур, для организации постоянной колонии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3606840" cy="46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ретья экспеди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3251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третью экспедицию средств удалось найти немного, и с Колумбом отправилось лишь шесть небольших кораблей и около 300 человек команды, причём в команду принимали уголовников из испанских тюрем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2300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3141720"/>
            <a:ext cx="4500720" cy="371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Четвёртая экспедиц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356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ристофор Колумб всё же хотел найти новый путь от открытых им земель в Южную Азию, к источнику пряностей. Он был уверен, что такой путь существует, так как наблюдал у берегов Кубы сильное морское течение, идущее на запад через Карибское море. Король в конце концов дал Колумбу разрешение на новую экспедиц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четвёртую экспедицию Колумб взял с собой брата Бартоломе и 13-летнего сына Эрнандо. Во время четвёртого плавания Колумб открыл материк к югу от Кубы — берег Центральной Америки — и доказал, что Атлантический океан отделяет от Южного моря, о котором он слышал от индейцев, непреодолимый барьер. Он также первым сообщил об индейских народах, живущих у Южного мор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500720" cy="352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26920" y="692280"/>
            <a:ext cx="770580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708000" y="6021360"/>
            <a:ext cx="8542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51:09Z</dcterms:created>
  <dc:creator>john</dc:creator>
  <dc:description/>
  <dc:language>en-US</dc:language>
  <cp:lastModifiedBy>john</cp:lastModifiedBy>
  <dcterms:modified xsi:type="dcterms:W3CDTF">2011-09-07T16:53:49Z</dcterms:modified>
  <cp:revision>4</cp:revision>
  <dc:subject/>
  <dc:title>Христофо́р Колу́мб  (1451-1506гг)</dc:title>
</cp:coreProperties>
</file>