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B74-5761-4EB0-9637-72F0F1C9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BF2-1D45-4AA6-9D4F-B942A2F0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FA6-8010-4063-B0FE-EDA514FD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315-3264-46C3-976A-0640B4FF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CEAA-B582-464F-A4F9-9949BEA9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B30C-3EFE-4B72-9C38-8D8EB3B8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A61B-B060-4861-8B8E-4A708E7E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154D-490E-4B9E-A504-7C559BFC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C134-C019-4111-9A7C-230D6BB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D194-51C5-4C09-A47D-8BD80CE8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4BDF-110A-464B-8B77-C59E71C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462-5F56-4386-9B4F-207ACAF8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6D22-DA68-4C65-9EF1-AB00387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EEEB-B99F-4348-866B-0128D53F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D843-6566-4C39-AE2C-0CC129C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4835-F02E-4A28-96D0-30774C59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2045-A921-4C0D-B984-58222AB5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F92-AD25-4D2E-9008-29123C1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68A-3390-43E6-8EED-6EF30D2C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C72-3F7E-4B13-B9D6-77009F8F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407-7298-4DEB-A9B3-53C841CD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C5A-05C5-41DB-8DE0-C1B47DA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B89-94A5-4139-AD5B-9CE12889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A63-6A54-44CA-A1EA-294DDAFC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768F16-EE73-463C-B78B-E70A3DB75158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0A8F8B-8BA4-4059-9EFD-3FABF736664E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Безопасность на водных объектах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2500200"/>
            <a:ext cx="8715240" cy="4142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7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Цель  урока: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формировать представление об опасностях на водоем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адачи урок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учиться определять опасности на водоемах в разное время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накомиться с правилам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купания в оборудованных и необорудованных ме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знать о мерах предосторожности при движении по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накомиться с действиями по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казанию само- и взаимо­помощи терпящим бедствие на воде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Киреев\к презентациям\к презентациям\Безопасность на воде\пляж www.gorod63.ru.jpg"/>
          <p:cNvPicPr/>
          <p:nvPr/>
        </p:nvPicPr>
        <p:blipFill>
          <a:blip r:embed="rId1"/>
          <a:stretch/>
        </p:blipFill>
        <p:spPr>
          <a:xfrm>
            <a:off x="6715080" y="1071720"/>
            <a:ext cx="2285640" cy="14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9" name="Picture 7" descr="SS850825"/>
          <p:cNvPicPr/>
          <p:nvPr/>
        </p:nvPicPr>
        <p:blipFill>
          <a:blip r:embed="rId1"/>
          <a:srcRect l="15583" t="0" r="0" b="15546"/>
          <a:stretch/>
        </p:blipFill>
        <p:spPr>
          <a:xfrm>
            <a:off x="3000240" y="2143080"/>
            <a:ext cx="5902560" cy="442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19_07_2006 150"/>
          <p:cNvPicPr/>
          <p:nvPr/>
        </p:nvPicPr>
        <p:blipFill>
          <a:blip r:embed="rId2"/>
          <a:stretch/>
        </p:blipFill>
        <p:spPr>
          <a:xfrm>
            <a:off x="285840" y="285840"/>
            <a:ext cx="5141160" cy="3857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214200" y="5429160"/>
            <a:ext cx="2428560" cy="400680"/>
          </a:xfrm>
          <a:prstGeom prst="rect">
            <a:avLst/>
          </a:prstGeom>
          <a:solidFill>
            <a:schemeClr val="tx2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" action="ppaction://hlinkshowjump?jump=lastslideviewed"/>
              </a:rPr>
              <a:t>С  ТЕЧ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7030a0"/>
                </a:solidFill>
                <a:latin typeface="Calibri"/>
              </a:rPr>
              <a:t>Водоемы – это…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96" name="Содержимое 3"/>
          <p:cNvGraphicFramePr/>
          <p:nvPr/>
        </p:nvGraphicFramePr>
        <p:xfrm>
          <a:off x="457200" y="1935000"/>
          <a:ext cx="8229240" cy="2539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ВИД ВОДО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ЧЕМ ОПА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ЛЕ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И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зеро  (пруд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е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chemeClr val="dk1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97" name="TextBox 4"/>
          <p:cNvSpPr/>
          <p:nvPr/>
        </p:nvSpPr>
        <p:spPr>
          <a:xfrm>
            <a:off x="428760" y="1071720"/>
            <a:ext cx="81435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состоянию воды водоемы бывают: </a:t>
            </a:r>
            <a:r>
              <a:rPr b="1" lang="ru-RU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onstantia"/>
                <a:hlinkClick r:id="rId1" action="ppaction://hlinksldjump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500040" y="4500720"/>
            <a:ext cx="8000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сновные опасности на водоемах: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мся определять опасности на водоемах в разное время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упаться или не купаться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071800" y="0"/>
            <a:ext cx="707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авила купания в оборудованных и необорудованных мес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Киреев\к презентациям\к презентациям\Безопасность на воде\прыжок в воду www.mchs-yug.ru.jpg"/>
          <p:cNvPicPr/>
          <p:nvPr/>
        </p:nvPicPr>
        <p:blipFill>
          <a:blip r:embed="rId1"/>
          <a:stretch/>
        </p:blipFill>
        <p:spPr>
          <a:xfrm>
            <a:off x="6715080" y="1143000"/>
            <a:ext cx="2209320" cy="3200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428760" y="1428840"/>
            <a:ext cx="5214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9900"/>
                </a:solidFill>
                <a:latin typeface="Constantia"/>
              </a:rPr>
              <a:t>МОЖНО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28760" y="4071960"/>
            <a:ext cx="4714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НЕЛЬЗЯ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8" descr="D:\Киреев\к презентациям\к презентациям\Безопасность на воде\измерение льда  www.i-ola.ru.JPG"/>
          <p:cNvPicPr/>
          <p:nvPr/>
        </p:nvPicPr>
        <p:blipFill>
          <a:blip r:embed="rId1"/>
          <a:stretch/>
        </p:blipFill>
        <p:spPr>
          <a:xfrm>
            <a:off x="1357200" y="1285920"/>
            <a:ext cx="6500520" cy="4877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320" y="5643720"/>
            <a:ext cx="442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Мониторинг состояния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357200" y="1285920"/>
            <a:ext cx="6500520" cy="487512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1357200" y="1214280"/>
            <a:ext cx="6643440" cy="4902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428920" y="0"/>
            <a:ext cx="671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досторожности при движении по ль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0" y="5380560"/>
            <a:ext cx="9143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Помните!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ез крайней необходимости не следует выходить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есенний пористый л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 время оттепели, изморози, дожд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сли он становится более белым и мат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 flipV="1" rot="10800000">
            <a:off x="360" y="1237320"/>
            <a:ext cx="6071760" cy="39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роламывании льда необходим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Избавиться от тяжелых, сковывающих движение вещ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Не терять времени на освобождение от одежды, т.к. в первые минуты, до полного намокания, она удерживает человека на поверхнос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Выбираться на лед в месте где произошло пад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Выползать на лет методом «вкручивания», т.е. перекатываясь со спины на живо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Втыкать в лед острые предметы, подтягивая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Удаляться от полыньи ползком, по собственным следам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помни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Наиболее продуктивны первые минуты пребывания в холодной воде, пока еще не намокла одежда, не замерзли руки, не развились характерные для переохлаждения слабость и безразлич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Оказывать помощь провалившемуся под лед человеку следует только одному, в крайней мере двум его товарищам. Скапливаться на краю полыньи всем не только бесполезно, но и опас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После извлечения пострадавшего из ледяной воды его необходимо незамедлительно отогре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576680" y="-22035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D:\Киреев\к презентациям\к презентациям\Безопасность на воде\провалившийся под лед vestivrn.ru.jpg"/>
          <p:cNvPicPr/>
          <p:nvPr/>
        </p:nvPicPr>
        <p:blipFill>
          <a:blip r:embed="rId1"/>
          <a:stretch/>
        </p:blipFill>
        <p:spPr>
          <a:xfrm>
            <a:off x="5929200" y="1285920"/>
            <a:ext cx="2952360" cy="22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D:\Киреев\к презентациям\к презентациям\Безопасность на воде\спас на воде www.govoritmoskva.ru.jpg"/>
          <p:cNvPicPr/>
          <p:nvPr/>
        </p:nvPicPr>
        <p:blipFill>
          <a:blip r:embed="rId2"/>
          <a:stretch/>
        </p:blipFill>
        <p:spPr>
          <a:xfrm>
            <a:off x="5929200" y="114300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5929200" y="1214280"/>
            <a:ext cx="2976120" cy="22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ение – чьих рук дело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571320" y="0"/>
            <a:ext cx="8572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йствия по  оказанию само- и взаимо­помощи терпящим бедствие на 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8" descr="{ECBF9BD_0.tmp"/>
          <p:cNvPicPr/>
          <p:nvPr/>
        </p:nvPicPr>
        <p:blipFill>
          <a:blip r:embed="rId1"/>
          <a:srcRect l="4998" t="7496" r="5938" b="7496"/>
          <a:stretch/>
        </p:blipFill>
        <p:spPr>
          <a:xfrm>
            <a:off x="642960" y="1214280"/>
            <a:ext cx="7500600" cy="53686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{DE0632F_0.tmp"/>
          <p:cNvPicPr/>
          <p:nvPr/>
        </p:nvPicPr>
        <p:blipFill>
          <a:blip r:embed="rId2"/>
          <a:srcRect l="13280" t="10413" r="13280" b="10413"/>
          <a:stretch/>
        </p:blipFill>
        <p:spPr>
          <a:xfrm>
            <a:off x="642960" y="1214280"/>
            <a:ext cx="2571480" cy="2079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642960" y="3643200"/>
            <a:ext cx="685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По рисунку опишите порядок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делать?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071880" y="0"/>
            <a:ext cx="607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ая помощь при утоп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rcRect l="3368" t="15717" r="-2731" b="-10028"/>
          <a:stretch/>
        </p:blipFill>
        <p:spPr>
          <a:xfrm>
            <a:off x="3786120" y="1214280"/>
            <a:ext cx="5418720" cy="38574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1" descr="C:\Users\Учитель\Desktop\C&amp;M\ELVT\Files\0A\{0A30B3BF-B8AD-488B-BFEE-FC6F37A37E27}.JPG"/>
          <p:cNvPicPr/>
          <p:nvPr/>
        </p:nvPicPr>
        <p:blipFill>
          <a:blip r:embed="rId2"/>
          <a:srcRect l="26806" t="22639" r="23145" b="9002"/>
          <a:stretch/>
        </p:blipFill>
        <p:spPr>
          <a:xfrm>
            <a:off x="285840" y="1214280"/>
            <a:ext cx="3346920" cy="342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Учитель\Desktop\C&amp;M\ELVT\Files\1D\{1D92560A-75A6-4FAB-80CB-3A4887BFF5FB}.jpg"/>
          <p:cNvPicPr/>
          <p:nvPr/>
        </p:nvPicPr>
        <p:blipFill>
          <a:blip r:embed="rId3"/>
          <a:srcRect l="8153" t="4346" r="11955" b="4346"/>
          <a:stretch/>
        </p:blipFill>
        <p:spPr>
          <a:xfrm>
            <a:off x="-357120" y="1214280"/>
            <a:ext cx="4000320" cy="342864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право 8"/>
          <p:cNvSpPr/>
          <p:nvPr/>
        </p:nvSpPr>
        <p:spPr>
          <a:xfrm>
            <a:off x="3357720" y="1857240"/>
            <a:ext cx="499680" cy="642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000080" y="5000760"/>
            <a:ext cx="142848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ТАК…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2920" y="1214280"/>
            <a:ext cx="9000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nstantia"/>
              </a:rPr>
              <a:t>Сегодня на уроке мы узн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Какие бывают опасности на водоемах в разное время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авилами купания в оборудованных и необорудованных мес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ерах предосторожности при движении по ль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Действия при спасении н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рядок оказания первой помощи при утоп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nstantia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ИВ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З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428920" y="373680"/>
            <a:ext cx="3357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onstantia"/>
              </a:rPr>
              <a:t>главно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C:\Users\Учитель\Desktop\5.jpg"/>
          <p:cNvPicPr/>
          <p:nvPr/>
        </p:nvPicPr>
        <p:blipFill>
          <a:blip r:embed="rId1"/>
          <a:stretch/>
        </p:blipFill>
        <p:spPr>
          <a:xfrm>
            <a:off x="0" y="1071720"/>
            <a:ext cx="914364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Picture 2" descr="D:\Киреев\к презентациям\к презентациям\Безопасность на воде\купание в лесу www.aquaexpert.ru.jpg"/>
          <p:cNvPicPr/>
          <p:nvPr/>
        </p:nvPicPr>
        <p:blipFill>
          <a:blip r:embed="rId1"/>
          <a:stretch/>
        </p:blipFill>
        <p:spPr>
          <a:xfrm>
            <a:off x="357120" y="1857240"/>
            <a:ext cx="5604480" cy="42145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57120" y="6286680"/>
            <a:ext cx="2285640" cy="400680"/>
          </a:xfrm>
          <a:prstGeom prst="rect">
            <a:avLst/>
          </a:prstGeom>
          <a:solidFill>
            <a:schemeClr val="tx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" action="ppaction://hlinkshowjump?jump=lastslideviewed"/>
              </a:rPr>
              <a:t>БЕЗ ТЕЧ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D:\Киреев\фото\эксп2 показ\PICT3528.JPG"/>
          <p:cNvPicPr/>
          <p:nvPr/>
        </p:nvPicPr>
        <p:blipFill>
          <a:blip r:embed="rId2"/>
          <a:stretch/>
        </p:blipFill>
        <p:spPr>
          <a:xfrm>
            <a:off x="3071880" y="214200"/>
            <a:ext cx="585756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23</TotalTime>
  <Application>LibreOffice/7.4.7.2$Linux_X86_64 LibreOffice_project/40$Build-2</Application>
  <AppVersion>15.0000</AppVersion>
  <Words>275</Word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1:18:02Z</dcterms:created>
  <dc:creator>Учитель</dc:creator>
  <dc:description/>
  <dc:language>en-US</dc:language>
  <cp:lastModifiedBy>COMP</cp:lastModifiedBy>
  <dcterms:modified xsi:type="dcterms:W3CDTF">2011-11-24T06:12:05Z</dcterms:modified>
  <cp:revision>97</cp:revision>
  <dc:subject/>
  <dc:title>Безопасность на водных объек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