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DFC-C839-4F94-8D18-A38091E2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A61-8781-4433-8523-FD76ACF3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DA9-C241-4720-A30A-5E4B29FB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19D-2E8C-4FD0-AA41-2CB921D6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1A1-AD45-47AF-A43C-181CAF9B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D4B-404A-4BFD-A3E0-AFE13300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E21-D653-48B1-92DB-15B2899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19C-0693-4AD9-B36F-514F0FE7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50A-B1C9-4AA7-A3E8-910A3DB0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AE7-CA9B-48EF-9644-6925210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B35-FC07-49AE-829F-BA323E7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061-1A65-492A-B7B6-380ED99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05E-14ED-4DF5-9BEB-2072580C17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9360000" cy="71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857160" y="792000"/>
            <a:ext cx="389412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"Бабочк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пал цв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п.: сидя на корточках, вместе под щекой, глаза закрыты, голова наклоне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вдруг просну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едленно открыть глаза, опустить руки через стороны, вс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ольше спать не захо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. Повороты головы вправо-влево, показать пальчиком «не захотел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янулся, улыбнул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звился вверх и поле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Дети выполняют движения по тексту. (2-3 раз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480000" y="1079640"/>
            <a:ext cx="35625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«Заинька – зайчиш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Заинька, подбодрись, серенький, потя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вдоль туловища. Приподняться на носки, руки через стороны ввер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Заинька, повернись, серенький, повер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на поясе. Повороты туловища вправо-влево, затем в и. п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Заинька, попляши, серенький, попляш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ягкая пружи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4. «Заинька, поклонись, серенький, покло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Наклоны туловища впере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5. «Заинька, походи, серенький, поход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Ходьба на мест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6. «Пошел зайка по мосточку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бристой дос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7. «Да по кочкам, да по кочкам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зиновым коврикам. 3 прито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9791640" cy="7270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624720" y="863640"/>
            <a:ext cx="351000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Ветер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Ветерок» - и. п.: лежа на животе, руки вдоль туловища. Повороты головы вправо, опустить правую щеку на подушку, затем тоже влево. Звукоподражание «фу-у-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Полет ветерка» - и. п.: то же. Развести руки в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Ветерок играет» - и. п.: то же, упор руками на лок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863640" y="1008000"/>
            <a:ext cx="475308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Хлопают в ладошки (хлоп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ружные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ногах сапожки (прито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опают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лево, вправо наклонись (наклоны вправо – вле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м знакомым поклон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вчонки озорные, (руки на поя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 расписные. (пружин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арафанах ваших пестрых, (повороты с притоп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ы похожи, словно сест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Ладушки, ладушки (хлопок перед соб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408720" y="647640"/>
            <a:ext cx="302256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 мы наш пойдем (ходьб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овощей там набер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орога коротка, у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дем, ступая мы с носка (ходьба на носка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о бордюру мы идем, (приставной ш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иседаем мы на нем. (боком с пружинк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ом обходим дерев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обежимся мы слегка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 огорода отдох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мотрим, что растет на нем. (приседа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31640" y="720720"/>
            <a:ext cx="4969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, (ходьба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а и в сад скорей бегите,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саду моем родном, (развести руки в сторон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ши, сливы, абрикос, (загибать пальц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ишня, ягода, м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 скорее мы польем (имитация поли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потом, а потом (наклоны вперед, имитация сб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рожай мы соберем! (потягиваю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0:47:23Z</dcterms:created>
  <dc:creator>стек</dc:creator>
  <dc:description/>
  <dc:language>en-US</dc:language>
  <cp:lastModifiedBy>Иващенко</cp:lastModifiedBy>
  <dcterms:modified xsi:type="dcterms:W3CDTF">2015-09-27T03:55:05Z</dcterms:modified>
  <cp:revision>2</cp:revision>
  <dc:subject/>
  <dc:title>Слайд 1</dc:title>
</cp:coreProperties>
</file>