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584-D166-4CB8-A37E-667E5968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1A6-2DD7-4C20-83F3-1083DAE3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2C3-1E6D-4C0C-B31D-D189BA66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E49-312F-4D65-BF54-8287473D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7F4-8349-4DE2-9EEC-52E1A25C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872-C182-4D59-A857-DF0283D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72D-1816-4C49-B733-7B48C96A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029-A8BA-4AC7-8934-ACC7EEE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797-F3AD-49CA-8389-094C1C79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A95-E425-42B9-9B84-F318FF6D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A3B-1C8B-42F6-96CA-00F5B5E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FFF-23AC-4229-AF23-46CE571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0294-3051-4F56-AD87-4244104EEC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60360" y="216000"/>
            <a:ext cx="9360000" cy="71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857160" y="792000"/>
            <a:ext cx="389412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"Бабочка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пал цв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п.: сидя на корточках, вместе под щекой, глаза закрыты, голова наклоне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вдруг просну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Медленно открыть глаза, опустить руки через стороны, вс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ольше спать не захо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. Повороты головы вправо-влево, показать пальчиком «не захотел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тянулся, улыбнул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звился вверх и поле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Дети выполняют движения по тексту. (2-3 раз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480000" y="1079640"/>
            <a:ext cx="35625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«Заинька – зайчиш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1. «Заинька, подбодрись, серенький, потя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, руки вдоль туловища. Приподняться на носки, руки через стороны ввер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2. «Заинька, повернись, серенький, повер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, руки на поясе. Повороты туловища вправо-влево, затем в и. п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3. «Заинька, попляши, серенький, попляш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Мягкая пружи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4. «Заинька, поклонись, серенький, покло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Наклоны туловища впере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5. «Заинька, походи, серенький, поход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Ходьба на мест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6. «Пошел зайка по мосточку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Ходьба по ребристой дос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7. «Да по кочкам, да по кочкам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Ходьба по резиновым коврикам. 3 прито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9791640" cy="7270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624720" y="863640"/>
            <a:ext cx="351000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Ветер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. «Ветерок» - и. п.: лежа на животе, руки вдоль туловища. Повороты головы вправо, опустить правую щеку на подушку, затем тоже влево. Звукоподражание «фу-у-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. «Полет ветерка» - и. п.: то же. Развести руки в стор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 «Ветерок играет» - и. п.: то же, упор руками на лок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863640" y="1008000"/>
            <a:ext cx="475308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реш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Хлопают в ладошки (хлоп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ружные матре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ногах сапожки (притоп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опают матре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лево, вправо наклонись (наклоны вправо – вле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м знакомым поклон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вчонки озорные, (руки на поя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решки расписные. (пружин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арафанах ваших пестрых, (повороты с притоп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ы похожи, словно сест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Ладушки, ладушки (хлопок перед соб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408720" y="647640"/>
            <a:ext cx="302256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огор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огород мы наш пойдем (ходьб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овощей там набер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орога коротка, уз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дем, ступая мы с носка (ходьба на носка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о бордюру мы идем, (приставной ш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риседаем мы на нем. (боком с пружинк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том обходим дерев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робежимся мы слегка (бег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У огорода отдох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мотрим, что растет на нем. (приседа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31640" y="720720"/>
            <a:ext cx="4969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Эй, ребята выходи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Эй, ребята выходите, (ходьба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а и в сад скорей бегите, (бег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в саду моем родном, (развести руки в сторон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уши, сливы, абрикос, (загибать пальц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ишня, ягода, ма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 скорее мы польем (имитация поли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потом, а потом (наклоны вперед, имитация сб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Урожай мы соберем! (потягиваю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0:47:23Z</dcterms:created>
  <dc:creator>стек</dc:creator>
  <dc:description/>
  <dc:language>en-US</dc:language>
  <cp:lastModifiedBy>Иващенко</cp:lastModifiedBy>
  <dcterms:modified xsi:type="dcterms:W3CDTF">2015-09-27T03:55:05Z</dcterms:modified>
  <cp:revision>2</cp:revision>
  <dc:subject/>
  <dc:title>Слайд 1</dc:title>
</cp:coreProperties>
</file>