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whoosh.wav" ContentType="audio/x-wav"/>
  <Override PartName="/ppt/media/image9.png" ContentType="image/png"/>
  <Override PartName="/ppt/media/image14.png" ContentType="image/png"/>
  <Override PartName="/ppt/media/image12.png" ContentType="image/png"/>
  <Override PartName="/ppt/media/image7.png" ContentType="image/png"/>
  <Override PartName="/ppt/media/image1.png" ContentType="image/png"/>
  <Override PartName="/ppt/media/image2.png" ContentType="image/png"/>
  <Override PartName="/ppt/media/image3.png" ContentType="image/png"/>
  <Override PartName="/ppt/media/laser.wav" ContentType="audio/x-wav"/>
  <Override PartName="/ppt/media/image4.png" ContentType="image/png"/>
  <Override PartName="/ppt/media/image6.jpeg" ContentType="image/jpeg"/>
  <Override PartName="/ppt/media/image13.gif" ContentType="image/gif"/>
  <Override PartName="/ppt/media/chimes.wav" ContentType="audio/x-wav"/>
  <Override PartName="/ppt/media/wind.wav" ContentType="audio/x-wav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DAFB-1B80-4C23-BFF6-3EB2602B6A0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комендации </a:t>
            </a: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Dale Carnegie Training®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могут вам управлять различными изменениями на рабочих местах. В настоящее время организациям нужны руководители, хорошо осведомленные в проведении структурных изменений. Такие специалисты могут играть жизненно важную роль в поддержании конкурентоспособности организ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уя нашим рекомендациям, вы сможете более эффективно выполнять структурные измен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 должны быть уверены в том, что заслужили право распространения этой программы, что вас волнует эта тема и вы стремитесь поделиться ей с аудиторией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ступайте с позиций личного опыта.  Приведите хороший пример.  Покажите аудитории преимущества, которые вы получили после изучения правил управления структурными изменения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чните с четкой формулировки вашего представления о структурных изменениях. Объясните, почему именно такой подход важен для вашей организ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ключите рисунок, показывающий какие качества руководителя потребуются для реализации этого подхода (глобальное мышление, стратегическое партнерство и т. д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и помогают сфокусировать внимание на конкретных делах.  Цели должны быть многообещающими, но реалистичными.  Изложите цели так, чтобы можно было оценить, когда они будут достигнуты.  Чтобы разъяснить цели четко и ясно, используйте несколько слай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 должны заставить других поверить в то, что они смогут выполнить изменения и побудить их к действиям.  Подчеркните важность постоянного прогресса в достижении цели при проведении структурных измен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значив направление, оцените, как близко вы находитесь от цели.  Укажите сильные стороны организации.  Перечислите также области, которые требуют улучш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черкните необходимость опыта руководства для решения задач.  Меняются не организации, а люд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ланируйте работу, чтобы можно было оценить ход ее продвижения.  Разбейте большие части планов на отдельные этап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дый план предполагает затраты (финансовые, временные и связанные с участием сотрудников).  Оцените как можно точнее затраты и сравните их с получаемыми преимуществ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95C0-CF4E-4997-9C2F-756E9103E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87CB-07EE-4335-8894-F134D09C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D8B5-5439-45A1-8B20-725B957A6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4BAD-B454-42E8-84F2-CEE5D1A92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98B8F-79BA-4F11-A0B6-F3766ECB1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4C69-51A2-4C19-8F80-3CC58932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181E-709B-4634-86BA-B291F36F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C5601-BCD6-4308-B2ED-FB5A9EB7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25277-62E9-46E6-BBD6-0A7FF742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3C33-3B26-41A9-8927-2CF51AA5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F2E7-86A2-40EC-82C1-E5AA0F9F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23D3-0695-492F-BFD1-CE269611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D890-38DA-4F94-AFD1-46070C4B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EC06-3DD8-4EE4-80D1-AC127A34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C270-0D4D-4587-8B0F-5F0D7F54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7E14-BB1E-4BF0-AD71-7BDC5BF93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5727-4499-48EA-B69A-D7C5B4BD3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3153-574A-4DB6-9818-D6BADAB1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2844-1F3C-419B-BA20-5A91C45D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9E7D-460B-455F-8D89-A1ADCB40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1B11-A80F-4041-9884-A8F6CC32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0ADB-485F-4D11-90B5-10F33B8E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92F4-7F03-4E64-854A-087BAE63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6663-D74D-4065-AD27-2E99C317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602B-6B23-4A4A-B217-A9BCB36BF6A6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E4F7-E9BF-400C-A820-C90FD2E55D55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4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4.png"/><Relationship Id="rId21" Type="http://schemas.openxmlformats.org/officeDocument/2006/relationships/audio" Target="../media/laser.wav"/><Relationship Id="rId22" Type="http://schemas.openxmlformats.org/officeDocument/2006/relationships/audio" Target="../media/wind.wav"/><Relationship Id="rId23" Type="http://schemas.openxmlformats.org/officeDocument/2006/relationships/audio" Target="../media/wind.wav"/><Relationship Id="rId24" Type="http://schemas.openxmlformats.org/officeDocument/2006/relationships/audio" Target="../media/wind.wav"/><Relationship Id="rId25" Type="http://schemas.openxmlformats.org/officeDocument/2006/relationships/audio" Target="../media/wind.wav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41;&#1091;&#1082;&#1083;&#1077;&#1090;%20&#1043;&#1077;&#1086;&#1084;&#1077;&#1090;&#1088;&#1080;&#1103;%20&#1087;&#1086;&#1084;&#1086;&#1075;&#1072;&#1077;&#1090;%20&#1088;&#1077;&#1096;&#1072;&#1090;&#1100;%20&#1082;&#1074;&#1072;&#1076;&#1088;&#1072;&#1090;&#1085;&#1099;&#1077;%20&#1091;&#1088;&#1072;&#1074;&#1085;&#1077;&#1085;&#1080;&#1103;.pub" TargetMode="External"/><Relationship Id="rId2" Type="http://schemas.openxmlformats.org/officeDocument/2006/relationships/hyperlink" Target="file:///&#1057;&#1057;&#1067;&#1051;&#1050;&#1048;/&#1041;&#1102;&#1083;&#1083;&#1077;&#1090;&#1077;&#1085;&#1100;%20&#1043;&#1088;&#1072;&#1092;&#1080;&#1095;&#1077;&#1089;&#1082;&#1086;&#1077;%20&#1088;&#1077;&#1096;&#1077;&#1085;&#1080;&#1077;%20&#1082;&#1074;&#1072;&#1076;&#1088;&#1072;&#1090;&#1085;&#1086;&#1075;&#1086;%20&#1091;&#1088;&#1072;&#1074;&#1085;&#1077;&#1085;&#1080;&#1103;.pub" TargetMode="External"/><Relationship Id="rId3" Type="http://schemas.openxmlformats.org/officeDocument/2006/relationships/image" Target="../media/image10.jpeg"/><Relationship Id="rId4" Type="http://schemas.openxmlformats.org/officeDocument/2006/relationships/hyperlink" Target="file:///&#1053;&#1077;&#1087;&#1086;&#1083;&#1085;&#1099;&#1077;%20&#1082;&#1074;&#1072;&#1076;&#1088;&#1072;&#1090;&#1085;&#1099;&#1077;%20&#1091;&#1088;&#1072;&#1074;&#1085;&#1077;&#1085;&#1080;&#1103;.pub" TargetMode="External"/><Relationship Id="rId5" Type="http://schemas.openxmlformats.org/officeDocument/2006/relationships/hyperlink" Target="file:///&#1053;&#1077;&#1087;&#1086;&#1083;&#1085;&#1099;&#1077;%20&#1082;&#1074;&#1072;&#1076;&#1088;&#1072;&#1090;&#1085;&#1099;&#1077;%20&#1091;&#1088;&#1072;&#1074;&#1085;&#1077;&#1085;&#1080;&#1103;.pub" TargetMode="External"/><Relationship Id="rId6" Type="http://schemas.openxmlformats.org/officeDocument/2006/relationships/image" Target="../media/image11.png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pn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13.gif"/><Relationship Id="rId5" Type="http://schemas.openxmlformats.org/officeDocument/2006/relationships/audio" Target="../media/chimes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57;&#1057;&#1067;&#1051;&#1050;&#1048;/&#1057;&#1086;&#1086;&#1073;&#1097;&#1077;&#1085;&#1080;&#1077;%20&#1050;&#1074;&#1072;&#1076;&#1088;&#1072;&#1090;&#1085;&#1099;&#1077;%20&#1091;&#1088;&#1072;&#1074;&#1085;&#1077;&#1085;&#1080;&#1103;.doc" TargetMode="External"/><Relationship Id="rId2" Type="http://schemas.openxmlformats.org/officeDocument/2006/relationships/hyperlink" Target="file:///&#1057;&#1057;&#1067;&#1051;&#1050;&#1048;/&#1057;&#1086;&#1086;&#1073;&#1097;&#1077;&#1085;&#1080;&#1077;%20&#1050;&#1074;&#1072;&#1076;&#1088;&#1072;&#1090;&#1085;&#1099;&#1077;%20&#1091;&#1088;&#1072;&#1074;&#1085;&#1077;&#1085;&#1080;&#1103;.doc" TargetMode="External"/><Relationship Id="rId3" Type="http://schemas.openxmlformats.org/officeDocument/2006/relationships/image" Target="../media/image14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403280" y="3715920"/>
            <a:ext cx="70200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eaeaea"/>
                </a:solidFill>
                <a:latin typeface="Comic Sans MS"/>
              </a:rPr>
              <a:t>Козак Татьяна Ивановна,</a:t>
            </a:r>
            <a:endParaRPr b="0" lang="en-US" sz="41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Comic Sans MS"/>
              </a:rPr>
              <a:t>учитель математики высшей категори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d1cc00"/>
                </a:solidFill>
                <a:latin typeface="Comic Sans MS"/>
              </a:rPr>
              <a:t>Участники:</a:t>
            </a:r>
            <a:endParaRPr b="0" lang="en-US" sz="3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aeaea"/>
                </a:solidFill>
                <a:latin typeface="Comic Sans MS"/>
              </a:rPr>
              <a:t>учащиеся 8 класса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87280" y="0"/>
            <a:ext cx="694872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d1cc00"/>
                </a:solidFill>
                <a:effectLst>
                  <a:outerShdw dist="144798" dir="4483193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Фундамент алгебры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d1cc00"/>
              </a:solidFill>
              <a:effectLst>
                <a:outerShdw dist="144798" dir="4483193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700360" y="-458640"/>
            <a:ext cx="626436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04688" dir="20752092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Как найти корни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04688" dir="20752092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4688" dir="20752092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квадратного уравнения?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04688" dir="20752092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91040" y="4278960"/>
            <a:ext cx="3598920" cy="2467080"/>
            <a:chOff x="491040" y="4278960"/>
            <a:chExt cx="3598920" cy="2467080"/>
          </a:xfrm>
        </p:grpSpPr>
        <p:sp>
          <p:nvSpPr>
            <p:cNvPr id="125" name=""/>
            <p:cNvSpPr txBox="1"/>
            <p:nvPr/>
          </p:nvSpPr>
          <p:spPr>
            <a:xfrm rot="1164000">
              <a:off x="600840" y="4629600"/>
              <a:ext cx="643680" cy="77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blipFill rotWithShape="0">
                    <a:blip r:embed="rId5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808080">
                        <a:alpha val="80000"/>
                      </a:srgbClr>
                    </a:outerShdw>
                  </a:effectLst>
                  <a:latin typeface="Bookman Old Style"/>
                </a:rPr>
                <a:t>ах</a:t>
              </a:r>
              <a:endParaRPr b="1" i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  <a:ea typeface="Bookman Old Style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 rot="1482600">
              <a:off x="1530000" y="4304160"/>
              <a:ext cx="296640" cy="801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blipFill rotWithShape="0">
                    <a:blip r:embed="rId7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808080">
                        <a:alpha val="80000"/>
                      </a:srgbClr>
                    </a:outerShdw>
                  </a:effectLst>
                  <a:latin typeface="Bookman Old Style"/>
                </a:rPr>
                <a:t>2</a:t>
              </a:r>
              <a:endParaRPr b="1" i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  <a:ea typeface="Bookman Old Style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 rot="1482600">
              <a:off x="1657800" y="5096880"/>
              <a:ext cx="2279520" cy="1229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blipFill rotWithShape="0">
                    <a:blip r:embed="rId9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808080">
                        <a:alpha val="80000"/>
                      </a:srgbClr>
                    </a:outerShdw>
                  </a:effectLst>
                  <a:latin typeface="Bookman Old Style"/>
                </a:rPr>
                <a:t>+ вх + с = 0</a:t>
              </a:r>
              <a:endParaRPr b="1" i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  <a:ea typeface="Bookman Old Style"/>
              </a:endParaRPr>
            </a:p>
          </p:txBody>
        </p:sp>
      </p:grpSp>
      <p:sp>
        <p:nvSpPr>
          <p:cNvPr id="128" name=""/>
          <p:cNvSpPr txBox="1"/>
          <p:nvPr/>
        </p:nvSpPr>
        <p:spPr>
          <a:xfrm rot="437400">
            <a:off x="5508720" y="5516640"/>
            <a:ext cx="180000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44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Bookman Old Style"/>
              </a:rPr>
              <a:t>D &gt; 0</a:t>
            </a:r>
            <a:endParaRPr b="1" i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Bookman Old Style"/>
              <a:ea typeface="Bookman Old Style"/>
            </a:endParaRPr>
          </a:p>
        </p:txBody>
      </p:sp>
      <p:sp>
        <p:nvSpPr>
          <p:cNvPr id="129" name=""/>
          <p:cNvSpPr txBox="1"/>
          <p:nvPr/>
        </p:nvSpPr>
        <p:spPr>
          <a:xfrm rot="437400">
            <a:off x="611280" y="2565000"/>
            <a:ext cx="1728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Bookman Old Style"/>
              </a:rPr>
              <a:t>D &lt; 0</a:t>
            </a:r>
            <a:endParaRPr b="1" i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latin typeface="Bookman Old Style"/>
              <a:ea typeface="Bookman Old Style"/>
            </a:endParaRPr>
          </a:p>
        </p:txBody>
      </p:sp>
      <p:sp>
        <p:nvSpPr>
          <p:cNvPr id="130" name=""/>
          <p:cNvSpPr txBox="1"/>
          <p:nvPr/>
        </p:nvSpPr>
        <p:spPr>
          <a:xfrm rot="20830200">
            <a:off x="468000" y="0"/>
            <a:ext cx="172872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latin typeface="Bookman Old Style"/>
              </a:rPr>
              <a:t>D = 0</a:t>
            </a:r>
            <a:endParaRPr b="1" i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latin typeface="Bookman Old Style"/>
              <a:ea typeface="Bookman Old Style"/>
            </a:endParaRPr>
          </a:p>
        </p:txBody>
      </p:sp>
      <p:sp>
        <p:nvSpPr>
          <p:cNvPr id="131" name=""/>
          <p:cNvSpPr/>
          <p:nvPr/>
        </p:nvSpPr>
        <p:spPr>
          <a:xfrm>
            <a:off x="2662200" y="2205000"/>
            <a:ext cx="64818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1cc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d1cc00"/>
                </a:solidFill>
                <a:latin typeface="Comic Sans MS"/>
              </a:rPr>
              <a:t>Общая формула корней квадратного уравнения – это «подарок судьбы»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Comic Sans MS"/>
              </a:rPr>
              <a:t>Можно ли решить квадратное уравнение, не зная формулы корней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Comic Sans MS"/>
              </a:rPr>
              <a:t>Если «да», то при каких условиях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1cc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d1cc00"/>
                </a:solidFill>
                <a:latin typeface="Comic Sans MS"/>
              </a:rPr>
              <a:t>Существуют ли другие способы решения квадратных уравнений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77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770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635"/>
                            </p:stCondLst>
                            <p:childTnLst>
                              <p:par>
                                <p:cTn id="7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8995"/>
                            </p:stCondLst>
                            <p:childTnLst>
                              <p:par>
                                <p:cTn id="8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980"/>
                            </p:stCondLst>
                            <p:childTnLst>
                              <p:par>
                                <p:cTn id="9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547280" y="1628640"/>
            <a:ext cx="6409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ирование компетентности в сфере самостоятельной познавательной деятельност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63600" indent="-363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ирование навыков самостоятельной и групповой работы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63600" indent="-363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ирование умений увидеть проблему и наметить пути её решени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63600" indent="-363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оружение учащихся средствами рефлексии, управления своим мышлением и практическими действиям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63600" indent="-363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учение умению слушая слушать, видеть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763640" y="333360"/>
            <a:ext cx="6120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9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aa8456"/>
                  </a:solidFill>
                  <a:miter/>
                </a:ln>
                <a:solidFill>
                  <a:srgbClr val="990099"/>
                </a:solidFill>
                <a:latin typeface="Comic Sans MS"/>
              </a:rPr>
              <a:t>Дидактические цели</a:t>
            </a:r>
            <a:endParaRPr b="1" lang="en-US" sz="2400" spc="1" strike="noStrike">
              <a:ln w="28440">
                <a:solidFill>
                  <a:srgbClr val="aa8456"/>
                </a:solidFill>
                <a:miter/>
              </a:ln>
              <a:solidFill>
                <a:srgbClr val="990099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650"/>
                            </p:stCondLst>
                            <p:childTnLst>
                              <p:par>
                                <p:cTn id="13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7650"/>
                            </p:stCondLst>
                            <p:childTnLst>
                              <p:par>
                                <p:cTn id="14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900"/>
                            </p:stCondLst>
                            <p:childTnLst>
                              <p:par>
                                <p:cTn id="14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700"/>
                            </p:stCondLst>
                            <p:childTnLst>
                              <p:par>
                                <p:cTn id="1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692360" y="765000"/>
            <a:ext cx="6119640" cy="112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241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етодические задачи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990099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63640" y="1546560"/>
            <a:ext cx="5904000" cy="38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казать значение способов решения квадратных уравнений; учить умению выбирать нужный, рациональный способ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собствовать выработке у школьников умения обобщать изучаемые факты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полученную информацию; учить обрабатывать их</a:t>
            </a:r>
            <a:r>
              <a:rPr b="1" lang="ru-RU" sz="3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95280" y="333360"/>
            <a:ext cx="842472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6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28440">
                  <a:solidFill>
                    <a:srgbClr val="eaeaea"/>
                  </a:solidFill>
                  <a:miter/>
                </a:ln>
                <a:solidFill>
                  <a:srgbClr val="0a3303"/>
                </a:solidFill>
                <a:latin typeface="Comic Sans MS"/>
              </a:rPr>
              <a:t>Результаты представления исследований</a:t>
            </a:r>
            <a:endParaRPr b="1" lang="en-US" sz="2400" spc="1" strike="noStrike">
              <a:ln cap="sq" w="28440">
                <a:solidFill>
                  <a:srgbClr val="eaeaea"/>
                </a:solidFill>
                <a:miter/>
              </a:ln>
              <a:solidFill>
                <a:srgbClr val="0a3303"/>
              </a:solidFill>
              <a:latin typeface="Comic Sans MS"/>
              <a:ea typeface="Comic Sans MS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03280" y="1773360"/>
            <a:ext cx="8640360" cy="3388680"/>
            <a:chOff x="503280" y="1773360"/>
            <a:chExt cx="8640360" cy="3388680"/>
          </a:xfrm>
        </p:grpSpPr>
        <p:sp>
          <p:nvSpPr>
            <p:cNvPr id="138" name=""/>
            <p:cNvSpPr/>
            <p:nvPr/>
          </p:nvSpPr>
          <p:spPr>
            <a:xfrm>
              <a:off x="1383480" y="2338920"/>
              <a:ext cx="755928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3501"/>
                </a:spcBef>
                <a:buSzPct val="10280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600" spc="-1" strike="noStrike">
                  <a:solidFill>
                    <a:srgbClr val="990099"/>
                  </a:solidFill>
                  <a:latin typeface="Comic Sans MS"/>
                </a:rPr>
                <a:t> </a:t>
              </a:r>
              <a:r>
                <a:rPr b="1" lang="ru-RU" sz="5600" spc="-1" strike="noStrike">
                  <a:solidFill>
                    <a:srgbClr val="990099"/>
                  </a:solidFill>
                  <a:latin typeface="Comic Sans MS"/>
                </a:rPr>
                <a:t>Презентация</a:t>
              </a:r>
              <a:endParaRPr b="0" lang="en-US" sz="5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3280" y="1773360"/>
              <a:ext cx="864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001"/>
                </a:spcBef>
                <a:buSzPct val="10280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99"/>
                  </a:solidFill>
                  <a:latin typeface="Comic Sans MS"/>
                </a:rPr>
                <a:t> </a:t>
              </a:r>
              <a:r>
                <a:rPr b="1" lang="ru-RU" sz="3200" spc="-1" strike="noStrike">
                  <a:solidFill>
                    <a:srgbClr val="990099"/>
                  </a:solidFill>
                  <a:latin typeface="Comic Sans MS"/>
                </a:rPr>
                <a:t>Информационные бюллетени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82960" y="3324600"/>
              <a:ext cx="520164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999"/>
                </a:spcBef>
                <a:buSzPct val="102851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0" spc="-1" strike="noStrike">
                  <a:solidFill>
                    <a:srgbClr val="990099"/>
                  </a:solidFill>
                  <a:latin typeface="Comic Sans MS"/>
                </a:rPr>
                <a:t> </a:t>
              </a:r>
              <a:r>
                <a:rPr b="1" lang="ru-RU" sz="4800" spc="-1" strike="noStrike">
                  <a:solidFill>
                    <a:srgbClr val="990099"/>
                  </a:solidFill>
                  <a:latin typeface="Comic Sans MS"/>
                </a:rPr>
                <a:t>Веб-сайт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63160" y="4734720"/>
              <a:ext cx="34408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04080" y="4311720"/>
              <a:ext cx="479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25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990099"/>
                  </a:solidFill>
                  <a:latin typeface="Comic Sans MS"/>
                </a:rPr>
                <a:t>Буклеты</a:t>
              </a:r>
              <a:endParaRPr b="0" lang="en-US" sz="3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635280" y="0"/>
            <a:ext cx="5219640" cy="270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27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89808" dir="483908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Вопросы для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89808" dir="483908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89808" dir="483908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самостоятельны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89808" dir="483908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89808" dir="483908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исследований 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89808" dir="483908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6227640" y="4653000"/>
            <a:ext cx="2592360" cy="1944720"/>
          </a:xfrm>
          <a:prstGeom prst="wedgeRectCallout">
            <a:avLst>
              <a:gd name="adj1" fmla="val -35120"/>
              <a:gd name="adj2" fmla="val -1514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Comic Sans MS"/>
              </a:rPr>
              <a:t>VI. </a:t>
            </a:r>
            <a:r>
              <a:rPr b="1" lang="ru-RU" sz="2400" spc="-1" strike="noStrike">
                <a:solidFill>
                  <a:srgbClr val="339966"/>
                </a:solidFill>
                <a:latin typeface="Comic Sans MS"/>
              </a:rPr>
              <a:t>Способ «переброски» при решении квадратных уравнений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47640" y="5921280"/>
            <a:ext cx="4896000" cy="936720"/>
          </a:xfrm>
          <a:prstGeom prst="wedgeRectCallout">
            <a:avLst>
              <a:gd name="adj1" fmla="val -12648"/>
              <a:gd name="adj2" fmla="val -7677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mic Sans MS"/>
              </a:rPr>
              <a:t>IV.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Comic Sans MS"/>
                <a:hlinkClick r:id="rId1"/>
              </a:rPr>
              <a:t>Геометрия</a:t>
            </a:r>
            <a:r>
              <a:rPr b="1" lang="ru-RU" sz="2400" spc="-1" strike="noStrike">
                <a:solidFill>
                  <a:srgbClr val="eaeaea"/>
                </a:solidFill>
                <a:latin typeface="Comic Sans MS"/>
              </a:rPr>
              <a:t> помогает решать квадратные уравнен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860640"/>
            <a:ext cx="3132000" cy="1729080"/>
          </a:xfrm>
          <a:prstGeom prst="wedgeRectCallout">
            <a:avLst>
              <a:gd name="adj1" fmla="val 19435"/>
              <a:gd name="adj2" fmla="val 1271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33"/>
                </a:solidFill>
                <a:latin typeface="Comic Sans MS"/>
              </a:rPr>
              <a:t>III. </a:t>
            </a:r>
            <a:r>
              <a:rPr b="1" lang="ru-RU" sz="2600" spc="-1" strike="noStrike">
                <a:solidFill>
                  <a:srgbClr val="990033"/>
                </a:solidFill>
                <a:latin typeface="Comic Sans MS"/>
              </a:rPr>
              <a:t>Графическое</a:t>
            </a:r>
            <a:r>
              <a:rPr b="0" lang="ru-RU" sz="2600" spc="-1" strike="noStrike" u="sng">
                <a:solidFill>
                  <a:srgbClr val="eec85e"/>
                </a:solidFill>
                <a:uFillTx/>
                <a:latin typeface="Comic Sans MS"/>
                <a:hlinkClick r:id="rId2"/>
              </a:rPr>
              <a:t> </a:t>
            </a:r>
            <a:r>
              <a:rPr b="1" lang="ru-RU" sz="2600" spc="-1" strike="noStrike">
                <a:solidFill>
                  <a:srgbClr val="990033"/>
                </a:solidFill>
                <a:latin typeface="Comic Sans MS"/>
              </a:rPr>
              <a:t>решение квадратного уравнения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88000" y="2852640"/>
            <a:ext cx="3456000" cy="1656000"/>
          </a:xfrm>
          <a:prstGeom prst="wedgeRectCallout">
            <a:avLst>
              <a:gd name="adj1" fmla="val -25791"/>
              <a:gd name="adj2" fmla="val 1318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mic Sans MS"/>
              </a:rPr>
              <a:t>V. </a:t>
            </a:r>
            <a:r>
              <a:rPr b="1" lang="ru-RU" sz="2400" spc="-1" strike="noStrike">
                <a:solidFill>
                  <a:srgbClr val="eaeaea"/>
                </a:solidFill>
                <a:latin typeface="Comic Sans MS"/>
              </a:rPr>
              <a:t>Циркуль и линейка – это 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50920" y="189000"/>
            <a:ext cx="3025440" cy="1439280"/>
            <a:chOff x="250920" y="189000"/>
            <a:chExt cx="3025440" cy="1439280"/>
          </a:xfrm>
        </p:grpSpPr>
        <p:sp>
          <p:nvSpPr>
            <p:cNvPr id="149" name=""/>
            <p:cNvSpPr/>
            <p:nvPr/>
          </p:nvSpPr>
          <p:spPr>
            <a:xfrm>
              <a:off x="250920" y="189000"/>
              <a:ext cx="2180520" cy="910080"/>
            </a:xfrm>
            <a:prstGeom prst="wedgeRectCallout">
              <a:avLst>
                <a:gd name="adj1" fmla="val -26245"/>
                <a:gd name="adj2" fmla="val 3862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a8456"/>
                  </a:solidFill>
                  <a:latin typeface="Comic Sans MS"/>
                </a:rPr>
                <a:t>I. </a:t>
              </a:r>
              <a:r>
                <a:rPr b="1" lang="ru-RU" sz="2400" spc="-1" strike="noStrike">
                  <a:solidFill>
                    <a:srgbClr val="aa8456"/>
                  </a:solidFill>
                  <a:latin typeface="Comic Sans MS"/>
                </a:rPr>
                <a:t>Франсуа Виет и его теорема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3"/>
            <a:stretch/>
          </p:blipFill>
          <p:spPr>
            <a:xfrm>
              <a:off x="2431440" y="265680"/>
              <a:ext cx="844920" cy="136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1" name=""/>
          <p:cNvGrpSpPr/>
          <p:nvPr/>
        </p:nvGrpSpPr>
        <p:grpSpPr>
          <a:xfrm>
            <a:off x="179280" y="1557360"/>
            <a:ext cx="3384360" cy="2015640"/>
            <a:chOff x="179280" y="1557360"/>
            <a:chExt cx="3384360" cy="2015640"/>
          </a:xfrm>
        </p:grpSpPr>
        <p:sp>
          <p:nvSpPr>
            <p:cNvPr id="152" name=""/>
            <p:cNvSpPr/>
            <p:nvPr/>
          </p:nvSpPr>
          <p:spPr>
            <a:xfrm>
              <a:off x="578880" y="2113200"/>
              <a:ext cx="2685960" cy="1459800"/>
            </a:xfrm>
            <a:prstGeom prst="wedgeRectCallout">
              <a:avLst>
                <a:gd name="adj1" fmla="val -40277"/>
                <a:gd name="adj2" fmla="val 5461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eec85e"/>
                  </a:solidFill>
                  <a:uFillTx/>
                  <a:latin typeface="Comic Sans MS"/>
                  <a:hlinkClick r:id="rId4"/>
                </a:rPr>
                <a:t> </a:t>
              </a:r>
              <a:r>
                <a:rPr b="0" lang="ru-RU" sz="2400" spc="-1" strike="noStrike" u="sng">
                  <a:solidFill>
                    <a:srgbClr val="eec85e"/>
                  </a:solidFill>
                  <a:uFillTx/>
                  <a:latin typeface="Comic Sans MS"/>
                  <a:hlinkClick r:id="rId5"/>
                </a:rPr>
                <a:t>Неполные </a:t>
              </a:r>
              <a:r>
                <a:rPr b="1" lang="ru-RU" sz="2400" spc="-1" strike="noStrike">
                  <a:solidFill>
                    <a:srgbClr val="eaeaea"/>
                  </a:solidFill>
                  <a:latin typeface="Comic Sans MS"/>
                </a:rPr>
                <a:t>квадратные уравнения и их решение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9280" y="1557360"/>
              <a:ext cx="3384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d1cc00"/>
                  </a:solidFill>
                  <a:latin typeface="Comic Sans MS"/>
                </a:rPr>
                <a:t>II.</a:t>
              </a:r>
              <a:r>
                <a:rPr b="1" i="1" lang="en-US" sz="3000" spc="-1" strike="noStrike">
                  <a:solidFill>
                    <a:srgbClr val="d1cc00"/>
                  </a:solidFill>
                  <a:latin typeface="Bookman Old Style"/>
                </a:rPr>
                <a:t> </a:t>
              </a:r>
              <a:r>
                <a:rPr b="1" i="1" lang="ru-RU" sz="3000" spc="-1" strike="noStrike">
                  <a:solidFill>
                    <a:srgbClr val="d1cc00"/>
                  </a:solidFill>
                  <a:latin typeface="Bookman Old Style"/>
                </a:rPr>
                <a:t>ах</a:t>
              </a:r>
              <a:r>
                <a:rPr b="1" i="1" lang="ru-RU" sz="3000" spc="-1" strike="noStrike" baseline="30000">
                  <a:solidFill>
                    <a:srgbClr val="d1cc00"/>
                  </a:solidFill>
                  <a:latin typeface="Bookman Old Style"/>
                </a:rPr>
                <a:t>2</a:t>
              </a:r>
              <a:r>
                <a:rPr b="1" i="1" lang="ru-RU" sz="3000" spc="-1" strike="noStrike">
                  <a:solidFill>
                    <a:srgbClr val="d1cc00"/>
                  </a:solidFill>
                  <a:latin typeface="Bookman Old Style"/>
                </a:rPr>
                <a:t> + вх = 0</a:t>
              </a:r>
              <a:endParaRPr b="0" lang="en-US" sz="3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4356000" y="2205000"/>
            <a:ext cx="1569960" cy="2497320"/>
          </a:xfrm>
          <a:prstGeom prst="rect">
            <a:avLst/>
          </a:prstGeom>
          <a:ln w="0">
            <a:noFill/>
          </a:ln>
        </p:spPr>
      </p:pic>
      <p:grpSp>
        <p:nvGrpSpPr>
          <p:cNvPr id="155" name=""/>
          <p:cNvGrpSpPr/>
          <p:nvPr/>
        </p:nvGrpSpPr>
        <p:grpSpPr>
          <a:xfrm>
            <a:off x="2916360" y="4005360"/>
            <a:ext cx="1714320" cy="1828800"/>
            <a:chOff x="2916360" y="4005360"/>
            <a:chExt cx="1714320" cy="1828800"/>
          </a:xfrm>
        </p:grpSpPr>
        <p:sp>
          <p:nvSpPr>
            <p:cNvPr id="156" name=""/>
            <p:cNvSpPr/>
            <p:nvPr/>
          </p:nvSpPr>
          <p:spPr>
            <a:xfrm>
              <a:off x="2916360" y="5376960"/>
              <a:ext cx="171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3716280" y="4005360"/>
              <a:ext cx="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6200000">
              <a:off x="3087360" y="4290480"/>
              <a:ext cx="1257480" cy="914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080"/>
                    <a:pt x="0" y="10800"/>
                  </a:cubicBezTo>
                  <a:cubicBezTo>
                    <a:pt x="0" y="16520"/>
                    <a:pt x="10800" y="2160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a330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3030120" y="4005360"/>
              <a:ext cx="1485720" cy="1600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7000"/>
                            </p:stCondLst>
                            <p:childTnLst>
                              <p:par>
                                <p:cTn id="23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7500"/>
                            </p:stCondLst>
                            <p:childTnLst>
                              <p:par>
                                <p:cTn id="24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950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179280" y="1341360"/>
          <a:ext cx="8713800" cy="5254560"/>
        </p:xfrm>
        <a:graphic>
          <a:graphicData uri="http://schemas.openxmlformats.org/drawingml/2006/table">
            <a:tbl>
              <a:tblPr/>
              <a:tblGrid>
                <a:gridCol w="6213240"/>
                <a:gridCol w="1290600"/>
                <a:gridCol w="1209960"/>
              </a:tblGrid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Мозговой штурм» (формулирование тем исследований учеников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й урок</a:t>
                      </a:r>
                      <a:endParaRPr b="0" lang="en-US" sz="15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 мин</a:t>
                      </a:r>
                      <a:endParaRPr b="0" lang="en-US" sz="15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Формирование групп для проведения исследований, выдвижение гипотез решения проблемы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5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й урок</a:t>
                      </a:r>
                      <a:endParaRPr b="0" lang="en-US" sz="15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 мин</a:t>
                      </a:r>
                      <a:endParaRPr b="0" lang="en-US" sz="15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ыбор творческого названия проект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-й урок</a:t>
                      </a:r>
                      <a:endParaRPr b="0" lang="en-US" sz="15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 мин</a:t>
                      </a:r>
                      <a:endParaRPr b="0" lang="en-US" sz="15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бсуждение плана работы учащихся в группе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-й урок</a:t>
                      </a:r>
                      <a:endParaRPr b="0" lang="en-US" sz="15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 мин</a:t>
                      </a:r>
                      <a:endParaRPr b="0" lang="en-US" sz="15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бсуждение со школьниками возможных источников информации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-й урок</a:t>
                      </a:r>
                      <a:endParaRPr b="0" lang="en-US" sz="15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 мин</a:t>
                      </a:r>
                      <a:endParaRPr b="0" lang="en-US" sz="15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амостоятельная работа учащихся по обсуждению задания каждого в групп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-й урок</a:t>
                      </a:r>
                      <a:endParaRPr b="0" lang="en-US" sz="15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 мин</a:t>
                      </a:r>
                      <a:endParaRPr b="0" lang="en-US" sz="15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амостоятельная работа групп по выполнению задани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,5-й уроки </a:t>
                      </a:r>
                      <a:endParaRPr b="0" lang="en-US" sz="15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дготовка школьниками презентаций и публикаци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-й урок</a:t>
                      </a:r>
                      <a:endParaRPr b="0" lang="en-US" sz="15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 мин</a:t>
                      </a:r>
                      <a:endParaRPr b="0" lang="en-US" sz="15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Защита полученных результатов и выводо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,8-й уроки</a:t>
                      </a:r>
                      <a:endParaRPr b="0" lang="en-US" sz="15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 txBox="1"/>
          <p:nvPr/>
        </p:nvSpPr>
        <p:spPr>
          <a:xfrm>
            <a:off x="1835280" y="0"/>
            <a:ext cx="691200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381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Этапы и сроки</a:t>
            </a:r>
            <a:endParaRPr b="1" lang="en-US" sz="2400" spc="1" strike="noStrike">
              <a:ln cap="sq" w="381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381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проведения проекта</a:t>
            </a:r>
            <a:endParaRPr b="1" lang="en-US" sz="2400" spc="1" strike="noStrike">
              <a:ln cap="sq" w="381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84280" y="0"/>
            <a:ext cx="1274760" cy="1413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4280" y="0"/>
            <a:ext cx="127476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0"/>
                            </p:stCondLst>
                            <p:childTnLst>
                              <p:par>
                                <p:cTn id="272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6500"/>
                            </p:stCondLst>
                            <p:childTnLst>
                              <p:par>
                                <p:cTn id="27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79280" y="2421000"/>
            <a:ext cx="878544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Comic Sans MS"/>
                <a:hlinkClick r:id="rId1"/>
              </a:rPr>
              <a:t>Квадратные уравнения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Comic Sans MS"/>
                <a:hlinkClick r:id="rId2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Comic Sans MS"/>
              </a:rPr>
              <a:t>– это фундамент, на котором покоится величественное здание алгебры. Квадратное уравнение находят широкое применение  при решении тригонометрических, показательных, логарифмических, иррациональных и трансцендентных уравнений и неравенств.  Общая формула корней квадратного уравнения – это, конечно, «подарок судьбы». С её помощью можно решить любое квадратное уравнение. Но  имеются другие способы решения квадратных уравнений, которые позволяют очень  быстро и правильно решать многие  уравнения.</a:t>
            </a:r>
            <a:r>
              <a:rPr b="1" lang="ru-RU" sz="2400" spc="-1" strike="noStrike">
                <a:solidFill>
                  <a:srgbClr val="9900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4360" y="189000"/>
            <a:ext cx="7200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81185" dir="2321969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ыводы </a:t>
            </a:r>
            <a:endParaRPr b="1" lang="en-US" sz="2400" spc="1" strike="noStrike">
              <a:ln w="5724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81185" dir="2321969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6" name=""/>
          <p:cNvSpPr/>
          <p:nvPr/>
        </p:nvSpPr>
        <p:spPr>
          <a:xfrm rot="4768800">
            <a:off x="7267680" y="1451520"/>
            <a:ext cx="1655640" cy="857160"/>
          </a:xfrm>
          <a:custGeom>
            <a:avLst/>
            <a:gdLst>
              <a:gd name="textAreaLeft" fmla="*/ 284400 w 1655640"/>
              <a:gd name="textAreaRight" fmla="*/ 1210320 w 1655640"/>
              <a:gd name="textAreaTop" fmla="*/ 114840 h 857160"/>
              <a:gd name="textAreaBottom" fmla="*/ 742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23" hR="21600" stAng="10800000" swAng="5400000"/>
                <a:lnTo>
                  <a:pt x="12080" y="0"/>
                </a:lnTo>
                <a:arcTo wR="7423" hR="21600" stAng="-5400000" swAng="1109957"/>
                <a:lnTo>
                  <a:pt x="19355" y="6124"/>
                </a:lnTo>
                <a:lnTo>
                  <a:pt x="17174" y="21600"/>
                </a:lnTo>
                <a:lnTo>
                  <a:pt x="10502" y="6124"/>
                </a:lnTo>
                <a:lnTo>
                  <a:pt x="12600" y="6124"/>
                </a:lnTo>
                <a:arcTo wR="7423" hR="21600" stAng="-4290043" swAng="-721326"/>
                <a:lnTo>
                  <a:pt x="9751" y="1090"/>
                </a:lnTo>
                <a:arcTo wR="7423" hR="21600" stAng="-5788631" swAng="-5011369"/>
                <a:close/>
              </a:path>
              <a:path fill="darkenLess" w="21600" h="21600">
                <a:moveTo>
                  <a:pt x="0" y="21600"/>
                </a:moveTo>
                <a:arcTo wR="7423" hR="21600" stAng="10800000" swAng="5400000"/>
                <a:lnTo>
                  <a:pt x="7423" y="0"/>
                </a:lnTo>
                <a:arcTo wR="7423" hR="21600" stAng="-5400000" swAng="388631"/>
                <a:lnTo>
                  <a:pt x="9751" y="1090"/>
                </a:lnTo>
                <a:arcTo wR="7423" hR="21600" stAng="-5788631" swAng="-5011369"/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1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66"/>
                                      </p:to>
                                    </p:animClr>
                                    <p:animClr clrSpc="rgb">
                                      <p:cBhvr>
                                        <p:cTn id="292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66"/>
                                      </p:to>
                                    </p:animClr>
                                    <p:set>
                                      <p:cBhvr>
                                        <p:cTn id="293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0T09:21:28Z</dcterms:created>
  <dc:creator>Мамка</dc:creator>
  <dc:description/>
  <dc:language>en-US</dc:language>
  <cp:lastModifiedBy>Татьяна Ивановна</cp:lastModifiedBy>
  <dcterms:modified xsi:type="dcterms:W3CDTF">2009-01-13T09:20:39Z</dcterms:modified>
  <cp:revision>3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