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whoosh.wav" ContentType="audio/x-wav"/>
  <Override PartName="/ppt/media/image9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media/image6.jpeg" ContentType="image/jpeg"/>
  <Override PartName="/ppt/media/image13.gif" ContentType="image/gif"/>
  <Override PartName="/ppt/media/chimes.wav" ContentType="audio/x-wav"/>
  <Override PartName="/ppt/media/wind.wav" ContentType="audio/x-wav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B4EF-329E-4FA0-95DC-1789FC1F9B1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Dale Carnegie Training®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могут вам управлять различными изменениями на рабочих местах. В настоящее время организациям нужны руководители, хорошо осведомленные в проведении структурных изменений. Такие специалисты могут играть жизненно важную роль в поддержании конкурентоспособности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я нашим рекомендациям, вы сможете более эффективно выполнять структурные из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должны быть уверены в том, что заслужили право распространения этой программы, что вас волнует эта тема и вы стремитесь поделиться ей с аудитори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тупайте с позиций личного опыта.  Приведите хороший пример.  Покажите аудитории преимущества, которые вы получили после изучения правил управления структурными измен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ните с четкой формулировки вашего представления о структурных изменениях. Объясните, почему именно такой подход важен для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ите рисунок, показывающий какие качества руководителя потребуются для реализации этого подхода (глобальное мышление, стратегическое партнерство и т. 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помогают сфокусировать внимание на конкретных делах.  Цели должны быть многообещающими, но реалистичными.  Изложите цели так, чтобы можно было оценить, когда они будут достигнуты.  Чтобы разъяснить цели четко и ясно, используйте несколько слай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должны заставить других поверить в то, что они смогут выполнить изменения и побудить их к действиям.  Подчеркните важность постоянного прогресса в достижении цели при проведении структурных измен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ив направление, оцените, как близко вы находитесь от цели.  Укажите сильные стороны организации.  Перечислите также области, которые требуют улуч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 необходимость опыта руководства для решения задач.  Меняются не организации, а люд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ланируйте работу, чтобы можно было оценить ход ее продвижения.  Разбейте большие части планов на отдельные эта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план предполагает затраты (финансовые, временные и связанные с участием сотрудников).  Оцените как можно точнее затраты и сравните их с получаемыми преимуществ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D76-12A7-41F2-9FEF-0E898A27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2FA-DD25-4EF8-86B2-207EE641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3F3-585D-43B7-971B-1EBFC765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F66-AABB-44A5-A96E-3EDCD711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A4A2-6D4E-4355-8BF5-DF200003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814C-82D3-4A22-98AF-62CBCD47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F16-B7AE-495D-B12B-E71AEE3B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ED1-3841-43F8-BD3A-FB2145FF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CF4-946E-464E-B9CC-D5427FCE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3D6-3F51-4260-B5AE-5E46884C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1BBC-C18C-4C86-937F-DE5F37BE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B2C-3691-4EE0-87D9-0AE663B0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DFC1-B0A8-4F3D-92A5-591877DD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48E5-FCD6-4034-9CF4-EC0EB3B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9A28-CF7D-4E76-9339-B97622FA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7E0A-B2B0-4B2E-B8DB-A87A6649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FDB5-2483-4A34-B4D0-E60F4706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5AA-DC00-48ED-926A-C492CED9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153-98F2-4086-B95B-2C7DD027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A9E-EAF7-47BE-A5F8-EA00E450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53E-E724-48D7-B5B7-97053180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256-5974-4C79-A035-7FC6A45A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536-6740-4BE3-B444-FD609B7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BD4-BDA2-4EB5-9430-7E3F839A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9C1C-E61D-4EE2-871E-005A69EF928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7E27-6A13-47D8-8B36-2A5D839CF25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audio" Target="../media/laser.wav"/><Relationship Id="rId22" Type="http://schemas.openxmlformats.org/officeDocument/2006/relationships/audio" Target="../media/wind.wav"/><Relationship Id="rId23" Type="http://schemas.openxmlformats.org/officeDocument/2006/relationships/audio" Target="../media/wind.wav"/><Relationship Id="rId24" Type="http://schemas.openxmlformats.org/officeDocument/2006/relationships/audio" Target="../media/wind.wav"/><Relationship Id="rId25" Type="http://schemas.openxmlformats.org/officeDocument/2006/relationships/audio" Target="../media/wind.wav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1;&#1091;&#1082;&#1083;&#1077;&#1090;%20&#1043;&#1077;&#1086;&#1084;&#1077;&#1090;&#1088;&#1080;&#1103;%20&#1087;&#1086;&#1084;&#1086;&#1075;&#1072;&#1077;&#1090;%20&#1088;&#1077;&#1096;&#1072;&#1090;&#1100;%20&#1082;&#1074;&#1072;&#1076;&#1088;&#1072;&#1090;&#1085;&#1099;&#1077;%20&#1091;&#1088;&#1072;&#1074;&#1085;&#1077;&#1085;&#1080;&#1103;.pub" TargetMode="External"/><Relationship Id="rId2" Type="http://schemas.openxmlformats.org/officeDocument/2006/relationships/hyperlink" Target="file:///&#1057;&#1057;&#1067;&#1051;&#1050;&#1048;/&#1041;&#1102;&#1083;&#1083;&#1077;&#1090;&#1077;&#1085;&#1100;%20&#1043;&#1088;&#1072;&#1092;&#1080;&#1095;&#1077;&#1089;&#1082;&#1086;&#1077;%20&#1088;&#1077;&#1096;&#1077;&#1085;&#1080;&#1077;%20&#1082;&#1074;&#1072;&#1076;&#1088;&#1072;&#1090;&#1085;&#1086;&#1075;&#1086;%20&#1091;&#1088;&#1072;&#1074;&#1085;&#1077;&#1085;&#1080;&#1103;.pub" TargetMode="External"/><Relationship Id="rId3" Type="http://schemas.openxmlformats.org/officeDocument/2006/relationships/image" Target="../media/image10.jpeg"/><Relationship Id="rId4" Type="http://schemas.openxmlformats.org/officeDocument/2006/relationships/hyperlink" Target="file:///&#1053;&#1077;&#1087;&#1086;&#1083;&#1085;&#1099;&#1077;%20&#1082;&#1074;&#1072;&#1076;&#1088;&#1072;&#1090;&#1085;&#1099;&#1077;%20&#1091;&#1088;&#1072;&#1074;&#1085;&#1077;&#1085;&#1080;&#1103;.pub" TargetMode="External"/><Relationship Id="rId5" Type="http://schemas.openxmlformats.org/officeDocument/2006/relationships/hyperlink" Target="file:///&#1053;&#1077;&#1087;&#1086;&#1083;&#1085;&#1099;&#1077;%20&#1082;&#1074;&#1072;&#1076;&#1088;&#1072;&#1090;&#1085;&#1099;&#1077;%20&#1091;&#1088;&#1072;&#1074;&#1085;&#1077;&#1085;&#1080;&#1103;.pub" TargetMode="External"/><Relationship Id="rId6" Type="http://schemas.openxmlformats.org/officeDocument/2006/relationships/image" Target="../media/image11.png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3.gif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7;&#1057;&#1067;&#1051;&#1050;&#1048;/&#1057;&#1086;&#1086;&#1073;&#1097;&#1077;&#1085;&#1080;&#1077;%20&#1050;&#1074;&#1072;&#1076;&#1088;&#1072;&#1090;&#1085;&#1099;&#1077;%20&#1091;&#1088;&#1072;&#1074;&#1085;&#1077;&#1085;&#1080;&#1103;.doc" TargetMode="External"/><Relationship Id="rId2" Type="http://schemas.openxmlformats.org/officeDocument/2006/relationships/hyperlink" Target="file:///&#1057;&#1057;&#1067;&#1051;&#1050;&#1048;/&#1057;&#1086;&#1086;&#1073;&#1097;&#1077;&#1085;&#1080;&#1077;%20&#1050;&#1074;&#1072;&#1076;&#1088;&#1072;&#1090;&#1085;&#1099;&#1077;%20&#1091;&#1088;&#1072;&#1074;&#1085;&#1077;&#1085;&#1080;&#1103;.doc" TargetMode="External"/><Relationship Id="rId3" Type="http://schemas.openxmlformats.org/officeDocument/2006/relationships/image" Target="../media/image1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03280" y="3715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aeaea"/>
                </a:solidFill>
                <a:latin typeface="Comic Sans MS"/>
              </a:rPr>
              <a:t>Козак Татьяна Ивановна,</a:t>
            </a:r>
            <a:endParaRPr b="0" lang="en-US" sz="41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учитель математики высшей катего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1cc00"/>
                </a:solidFill>
                <a:latin typeface="Comic Sans MS"/>
              </a:rPr>
              <a:t>Участники: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Comic Sans MS"/>
              </a:rPr>
              <a:t>учащиеся 8 класса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7280" y="0"/>
            <a:ext cx="69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d1cc00"/>
                </a:solidFill>
                <a:effectLst>
                  <a:outerShdw dist="144798" dir="4483193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Фундамент алгебры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d1cc00"/>
              </a:solidFill>
              <a:effectLst>
                <a:outerShdw dist="144798" dir="4483193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700360" y="-458640"/>
            <a:ext cx="6264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4688" dir="20752092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Как найти корн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4688" dir="20752092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4688" dir="20752092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квадратного уравнения?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4688" dir="20752092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1040" y="4278960"/>
            <a:ext cx="3598920" cy="2467080"/>
            <a:chOff x="491040" y="4278960"/>
            <a:chExt cx="3598920" cy="2467080"/>
          </a:xfrm>
        </p:grpSpPr>
        <p:sp>
          <p:nvSpPr>
            <p:cNvPr id="125" name=""/>
            <p:cNvSpPr txBox="1"/>
            <p:nvPr/>
          </p:nvSpPr>
          <p:spPr>
            <a:xfrm rot="1164000">
              <a:off x="600840" y="4629600"/>
              <a:ext cx="643680" cy="77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ах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1482600">
              <a:off x="1530000" y="4304160"/>
              <a:ext cx="296640" cy="80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2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1482600">
              <a:off x="1657800" y="5096880"/>
              <a:ext cx="2279520" cy="122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+ вх + с = 0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 rot="437400">
            <a:off x="5508720" y="5516640"/>
            <a:ext cx="1800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4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Bookman Old Style"/>
              </a:rPr>
              <a:t>D &gt;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29" name=""/>
          <p:cNvSpPr txBox="1"/>
          <p:nvPr/>
        </p:nvSpPr>
        <p:spPr>
          <a:xfrm rot="437400">
            <a:off x="611280" y="2565000"/>
            <a:ext cx="172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Bookman Old Style"/>
              </a:rPr>
              <a:t>D &lt;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30" name=""/>
          <p:cNvSpPr txBox="1"/>
          <p:nvPr/>
        </p:nvSpPr>
        <p:spPr>
          <a:xfrm rot="20830200">
            <a:off x="468000" y="0"/>
            <a:ext cx="1728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Bookman Old Style"/>
              </a:rPr>
              <a:t>D = 0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31" name=""/>
          <p:cNvSpPr/>
          <p:nvPr/>
        </p:nvSpPr>
        <p:spPr>
          <a:xfrm>
            <a:off x="2662200" y="2205000"/>
            <a:ext cx="6481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Общая формула корней квадратного уравнения – это «подарок судьбы»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Можно ли решить квадратное уравнение, не зная формулы корне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Если «да», то при каких условиях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1cc00"/>
                </a:solidFill>
                <a:latin typeface="Comic Sans MS"/>
              </a:rPr>
              <a:t>Существуют ли другие способы решения квадратных уравнени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635"/>
                            </p:stCondLst>
                            <p:childTnLst>
                              <p:par>
                                <p:cTn id="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995"/>
                            </p:stCondLst>
                            <p:childTnLst>
                              <p:par>
                                <p:cTn id="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98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47280" y="1628640"/>
            <a:ext cx="6409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компетентности в сфере самостоятельной познавательной деятельност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навыков самостоятельной и групповой работ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умений увидеть проблему и наметить пути её ре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оружение учащихся средствами рефлексии, управления своим мышлением и практическими действия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 умению слушая слушать, виде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33336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aa8456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Дидактические цели</a:t>
            </a:r>
            <a:endParaRPr b="1" lang="en-US" sz="2400" spc="1" strike="noStrike">
              <a:ln w="28440">
                <a:solidFill>
                  <a:srgbClr val="aa8456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65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65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92360" y="765000"/>
            <a:ext cx="61196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4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ические задачи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546560"/>
            <a:ext cx="590400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азать значение способов решения квадратных уравнений; учить умению выбирать нужный, рациональный способ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обствовать выработке у школьников умения обобщать изучаемые факт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олученную информацию; учить обрабатывать их</a:t>
            </a: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333360"/>
            <a:ext cx="8424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6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eaeaea"/>
                  </a:solidFill>
                  <a:miter/>
                </a:ln>
                <a:solidFill>
                  <a:srgbClr val="0a3303"/>
                </a:solidFill>
                <a:latin typeface="Comic Sans MS"/>
              </a:rPr>
              <a:t>Результаты представления исследований</a:t>
            </a:r>
            <a:endParaRPr b="1" lang="en-US" sz="2400" spc="1" strike="noStrike">
              <a:ln cap="sq" w="28440">
                <a:solidFill>
                  <a:srgbClr val="eaeaea"/>
                </a:solidFill>
                <a:miter/>
              </a:ln>
              <a:solidFill>
                <a:srgbClr val="0a3303"/>
              </a:solidFill>
              <a:latin typeface="Comic Sans MS"/>
              <a:ea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03280" y="1773360"/>
            <a:ext cx="8640360" cy="3388680"/>
            <a:chOff x="503280" y="1773360"/>
            <a:chExt cx="8640360" cy="3388680"/>
          </a:xfrm>
        </p:grpSpPr>
        <p:sp>
          <p:nvSpPr>
            <p:cNvPr id="138" name=""/>
            <p:cNvSpPr/>
            <p:nvPr/>
          </p:nvSpPr>
          <p:spPr>
            <a:xfrm>
              <a:off x="1383480" y="2338920"/>
              <a:ext cx="7559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501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600" spc="-1" strike="noStrike">
                  <a:solidFill>
                    <a:srgbClr val="990099"/>
                  </a:solidFill>
                  <a:latin typeface="Comic Sans MS"/>
                </a:rPr>
                <a:t> </a:t>
              </a:r>
              <a:r>
                <a:rPr b="1" lang="ru-RU" sz="5600" spc="-1" strike="noStrike">
                  <a:solidFill>
                    <a:srgbClr val="990099"/>
                  </a:solidFill>
                  <a:latin typeface="Comic Sans MS"/>
                </a:rPr>
                <a:t>Презентация</a:t>
              </a:r>
              <a:endParaRPr b="0" lang="en-US" sz="5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3280" y="1773360"/>
              <a:ext cx="86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Comic Sans MS"/>
                </a:rPr>
                <a:t> </a:t>
              </a:r>
              <a:r>
                <a:rPr b="1" lang="ru-RU" sz="3200" spc="-1" strike="noStrike">
                  <a:solidFill>
                    <a:srgbClr val="990099"/>
                  </a:solidFill>
                  <a:latin typeface="Comic Sans MS"/>
                </a:rPr>
                <a:t>Информационные бюллетени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2960" y="3324600"/>
              <a:ext cx="5201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buSzPct val="10285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990099"/>
                  </a:solidFill>
                  <a:latin typeface="Comic Sans MS"/>
                </a:rPr>
                <a:t> </a:t>
              </a:r>
              <a:r>
                <a:rPr b="1" lang="ru-RU" sz="4800" spc="-1" strike="noStrike">
                  <a:solidFill>
                    <a:srgbClr val="990099"/>
                  </a:solidFill>
                  <a:latin typeface="Comic Sans MS"/>
                </a:rPr>
                <a:t>Веб-сайт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63160" y="4734720"/>
              <a:ext cx="34408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04080" y="4311720"/>
              <a:ext cx="479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990099"/>
                  </a:solidFill>
                  <a:latin typeface="Comic Sans MS"/>
                </a:rPr>
                <a:t>Буклеты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635280" y="0"/>
            <a:ext cx="521964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Вопросы дл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амостоятельн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89808" dir="48390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исследований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89808" dir="48390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227640" y="4653000"/>
            <a:ext cx="2592360" cy="1944720"/>
          </a:xfrm>
          <a:prstGeom prst="wedgeRectCallout">
            <a:avLst>
              <a:gd name="adj1" fmla="val -35120"/>
              <a:gd name="adj2" fmla="val -15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mic Sans MS"/>
              </a:rPr>
              <a:t>VI. </a:t>
            </a:r>
            <a:r>
              <a:rPr b="1" lang="ru-RU" sz="2400" spc="-1" strike="noStrike">
                <a:solidFill>
                  <a:srgbClr val="339966"/>
                </a:solidFill>
                <a:latin typeface="Comic Sans MS"/>
              </a:rPr>
              <a:t>Способ «переброски» при решении квадратных уравн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5921280"/>
            <a:ext cx="4896000" cy="936720"/>
          </a:xfrm>
          <a:prstGeom prst="wedgeRectCallout">
            <a:avLst>
              <a:gd name="adj1" fmla="val -12648"/>
              <a:gd name="adj2" fmla="val -767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IV.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1"/>
              </a:rPr>
              <a:t>Геометрия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 помогает решать квадратные уравн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60640"/>
            <a:ext cx="3132000" cy="1729080"/>
          </a:xfrm>
          <a:prstGeom prst="wedgeRectCallout">
            <a:avLst>
              <a:gd name="adj1" fmla="val 19435"/>
              <a:gd name="adj2" fmla="val 1271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III. </a:t>
            </a:r>
            <a:r>
              <a:rPr b="1" lang="ru-RU" sz="2600" spc="-1" strike="noStrike">
                <a:solidFill>
                  <a:srgbClr val="990033"/>
                </a:solidFill>
                <a:latin typeface="Comic Sans MS"/>
              </a:rPr>
              <a:t>Графическое</a:t>
            </a:r>
            <a:r>
              <a:rPr b="0" lang="ru-RU" sz="2600" spc="-1" strike="noStrike" u="sng">
                <a:solidFill>
                  <a:srgbClr val="eec85e"/>
                </a:solidFill>
                <a:uFillTx/>
                <a:latin typeface="Comic Sans MS"/>
                <a:hlinkClick r:id="rId2"/>
              </a:rPr>
              <a:t> </a:t>
            </a:r>
            <a:r>
              <a:rPr b="1" lang="ru-RU" sz="2600" spc="-1" strike="noStrike">
                <a:solidFill>
                  <a:srgbClr val="990033"/>
                </a:solidFill>
                <a:latin typeface="Comic Sans MS"/>
              </a:rPr>
              <a:t>решение квадратного уравнения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8000" y="2852640"/>
            <a:ext cx="3456000" cy="1656000"/>
          </a:xfrm>
          <a:prstGeom prst="wedgeRectCallout">
            <a:avLst>
              <a:gd name="adj1" fmla="val -25791"/>
              <a:gd name="adj2" fmla="val 1318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V.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Циркуль и линейка – это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0920" y="189000"/>
            <a:ext cx="3025440" cy="1439280"/>
            <a:chOff x="250920" y="189000"/>
            <a:chExt cx="3025440" cy="1439280"/>
          </a:xfrm>
        </p:grpSpPr>
        <p:sp>
          <p:nvSpPr>
            <p:cNvPr id="149" name=""/>
            <p:cNvSpPr/>
            <p:nvPr/>
          </p:nvSpPr>
          <p:spPr>
            <a:xfrm>
              <a:off x="250920" y="189000"/>
              <a:ext cx="2180520" cy="910080"/>
            </a:xfrm>
            <a:prstGeom prst="wedgeRectCallout">
              <a:avLst>
                <a:gd name="adj1" fmla="val -26245"/>
                <a:gd name="adj2" fmla="val 3862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a8456"/>
                  </a:solidFill>
                  <a:latin typeface="Comic Sans MS"/>
                </a:rPr>
                <a:t>I. </a:t>
              </a:r>
              <a:r>
                <a:rPr b="1" lang="ru-RU" sz="2400" spc="-1" strike="noStrike">
                  <a:solidFill>
                    <a:srgbClr val="aa8456"/>
                  </a:solidFill>
                  <a:latin typeface="Comic Sans MS"/>
                </a:rPr>
                <a:t>Франсуа Виет и его теорема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2431440" y="265680"/>
              <a:ext cx="844920" cy="136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179280" y="1557360"/>
            <a:ext cx="3384360" cy="2015640"/>
            <a:chOff x="179280" y="1557360"/>
            <a:chExt cx="3384360" cy="2015640"/>
          </a:xfrm>
        </p:grpSpPr>
        <p:sp>
          <p:nvSpPr>
            <p:cNvPr id="152" name=""/>
            <p:cNvSpPr/>
            <p:nvPr/>
          </p:nvSpPr>
          <p:spPr>
            <a:xfrm>
              <a:off x="578880" y="2113200"/>
              <a:ext cx="2685960" cy="1459800"/>
            </a:xfrm>
            <a:prstGeom prst="wedgeRectCallout">
              <a:avLst>
                <a:gd name="adj1" fmla="val -40277"/>
                <a:gd name="adj2" fmla="val 546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ec85e"/>
                  </a:solidFill>
                  <a:uFillTx/>
                  <a:latin typeface="Comic Sans MS"/>
                  <a:hlinkClick r:id="rId4"/>
                </a:rPr>
                <a:t> </a:t>
              </a:r>
              <a:r>
                <a:rPr b="0" lang="ru-RU" sz="2400" spc="-1" strike="noStrike" u="sng">
                  <a:solidFill>
                    <a:srgbClr val="eec85e"/>
                  </a:solidFill>
                  <a:uFillTx/>
                  <a:latin typeface="Comic Sans MS"/>
                  <a:hlinkClick r:id="rId5"/>
                </a:rPr>
                <a:t>Неполные </a:t>
              </a:r>
              <a:r>
                <a:rPr b="1" lang="ru-RU" sz="2400" spc="-1" strike="noStrike">
                  <a:solidFill>
                    <a:srgbClr val="eaeaea"/>
                  </a:solidFill>
                  <a:latin typeface="Comic Sans MS"/>
                </a:rPr>
                <a:t>квадратные уравнения и их реш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280" y="1557360"/>
              <a:ext cx="338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d1cc00"/>
                  </a:solidFill>
                  <a:latin typeface="Comic Sans MS"/>
                </a:rPr>
                <a:t>II.</a:t>
              </a:r>
              <a:r>
                <a:rPr b="1" i="1" lang="en-US" sz="3000" spc="-1" strike="noStrike">
                  <a:solidFill>
                    <a:srgbClr val="d1cc00"/>
                  </a:solidFill>
                  <a:latin typeface="Bookman Old Style"/>
                </a:rPr>
                <a:t> </a:t>
              </a:r>
              <a:r>
                <a:rPr b="1" i="1" lang="ru-RU" sz="3000" spc="-1" strike="noStrike">
                  <a:solidFill>
                    <a:srgbClr val="d1cc00"/>
                  </a:solidFill>
                  <a:latin typeface="Bookman Old Style"/>
                </a:rPr>
                <a:t>ах</a:t>
              </a:r>
              <a:r>
                <a:rPr b="1" i="1" lang="ru-RU" sz="3000" spc="-1" strike="noStrike" baseline="30000">
                  <a:solidFill>
                    <a:srgbClr val="d1cc00"/>
                  </a:solidFill>
                  <a:latin typeface="Bookman Old Style"/>
                </a:rPr>
                <a:t>2</a:t>
              </a:r>
              <a:r>
                <a:rPr b="1" i="1" lang="ru-RU" sz="3000" spc="-1" strike="noStrike">
                  <a:solidFill>
                    <a:srgbClr val="d1cc00"/>
                  </a:solidFill>
                  <a:latin typeface="Bookman Old Style"/>
                </a:rPr>
                <a:t> + вх = 0</a:t>
              </a:r>
              <a:endParaRPr b="0" lang="en-US" sz="3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356000" y="2205000"/>
            <a:ext cx="1569960" cy="249732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2916360" y="4005360"/>
            <a:ext cx="1714320" cy="1828800"/>
            <a:chOff x="2916360" y="4005360"/>
            <a:chExt cx="1714320" cy="1828800"/>
          </a:xfrm>
        </p:grpSpPr>
        <p:sp>
          <p:nvSpPr>
            <p:cNvPr id="156" name=""/>
            <p:cNvSpPr/>
            <p:nvPr/>
          </p:nvSpPr>
          <p:spPr>
            <a:xfrm>
              <a:off x="2916360" y="5376960"/>
              <a:ext cx="171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716280" y="400536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087360" y="4290480"/>
              <a:ext cx="125748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a330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030120" y="4005360"/>
              <a:ext cx="14857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79280" y="1341360"/>
          <a:ext cx="8713800" cy="5254560"/>
        </p:xfrm>
        <a:graphic>
          <a:graphicData uri="http://schemas.openxmlformats.org/drawingml/2006/table">
            <a:tbl>
              <a:tblPr/>
              <a:tblGrid>
                <a:gridCol w="6213240"/>
                <a:gridCol w="1290600"/>
                <a:gridCol w="1209960"/>
              </a:tblGrid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Мозговой штурм» (формулирование тем исследований ученико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ирование групп для проведения исследований, выдвижение гипотез решения проблем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бор творческого названия проек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ение плана работы учащихся в групп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ение со школьниками возможных источников информаци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стоятельная работа учащихся по обсуждению задания каждого в групп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стоятельная работа групп по выполнению задан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5-й уроки 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отовка школьниками презентаций и публикац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-й урок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мин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щита полученных результатов и вывод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8-й уроки</a:t>
                      </a:r>
                      <a:endParaRPr b="0" lang="en-US" sz="15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 txBox="1"/>
          <p:nvPr/>
        </p:nvSpPr>
        <p:spPr>
          <a:xfrm>
            <a:off x="1835280" y="0"/>
            <a:ext cx="6912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Этапы и сроки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роведения проекта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84280" y="0"/>
            <a:ext cx="1274760" cy="1413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4280" y="0"/>
            <a:ext cx="1274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2421000"/>
            <a:ext cx="87854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1"/>
              </a:rPr>
              <a:t>Квадратные уравнения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Comic Sans MS"/>
                <a:hlinkClick r:id="rId2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– это фундамент, на котором покоится величественное здание алгебры. Квадратное уравнение находят широкое применение  при решении тригонометрических, показательных, логарифмических, иррациональных и трансцендентных уравнений и неравенств.  Общая формула корней квадратного уравнения – это, конечно, «подарок судьбы». С её помощью можно решить любое квадратное уравнение. Но  имеются другие способы решения квадратных уравнений, которые позволяют очень  быстро и правильно решать многие  уравнения.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360" y="18900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81185" dir="2321969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воды </a:t>
            </a:r>
            <a:endParaRPr b="1" lang="en-US" sz="24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81185" dir="2321969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 rot="4768800">
            <a:off x="7267680" y="1451520"/>
            <a:ext cx="1655640" cy="857160"/>
          </a:xfrm>
          <a:custGeom>
            <a:avLst/>
            <a:gdLst>
              <a:gd name="textAreaLeft" fmla="*/ 284400 w 1655640"/>
              <a:gd name="textAreaRight" fmla="*/ 1210320 w 165564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23" hR="21600" stAng="10800000" swAng="5400000"/>
                <a:lnTo>
                  <a:pt x="12080" y="0"/>
                </a:lnTo>
                <a:arcTo wR="7423" hR="21600" stAng="-5400000" swAng="1109957"/>
                <a:lnTo>
                  <a:pt x="19355" y="6124"/>
                </a:lnTo>
                <a:lnTo>
                  <a:pt x="17174" y="21600"/>
                </a:lnTo>
                <a:lnTo>
                  <a:pt x="10502" y="6124"/>
                </a:lnTo>
                <a:lnTo>
                  <a:pt x="12600" y="6124"/>
                </a:lnTo>
                <a:arcTo wR="7423" hR="21600" stAng="-4290043" swAng="-721326"/>
                <a:lnTo>
                  <a:pt x="9751" y="1090"/>
                </a:lnTo>
                <a:arcTo wR="7423" hR="21600" stAng="-5788631" swAng="-5011369"/>
                <a:close/>
              </a:path>
              <a:path fill="darkenLess" w="21600" h="21600">
                <a:moveTo>
                  <a:pt x="0" y="21600"/>
                </a:moveTo>
                <a:arcTo wR="7423" hR="21600" stAng="10800000" swAng="5400000"/>
                <a:lnTo>
                  <a:pt x="7423" y="0"/>
                </a:lnTo>
                <a:arcTo wR="7423" hR="21600" stAng="-5400000" swAng="388631"/>
                <a:lnTo>
                  <a:pt x="9751" y="1090"/>
                </a:lnTo>
                <a:arcTo wR="7423" hR="21600" stAng="-5788631" swAng="-5011369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set>
                                      <p:cBhvr>
                                        <p:cTn id="29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9:21:28Z</dcterms:created>
  <dc:creator>Мамка</dc:creator>
  <dc:description/>
  <dc:language>en-US</dc:language>
  <cp:lastModifiedBy>Татьяна Ивановна</cp:lastModifiedBy>
  <dcterms:modified xsi:type="dcterms:W3CDTF">2009-01-13T09:20:39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