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0DC-7492-4250-9467-BD479661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981-6471-4B34-B363-8ADC65FE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57F-D8A1-444B-AF0E-B67889B5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68C-4BD2-4E6D-9E19-15BDACCD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4246-9E13-4FF7-A251-9A7893CD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6527-E7D8-422E-B30D-95A4F645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F38F-A297-47BE-AA32-1466EB40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69B4-34F4-4146-B185-3C05BEE2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4A8B-42E3-4E40-9FE6-C710E7AD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E3B6-34F8-425C-B500-E5A34DE4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7D5D-C0C2-40E1-8D9C-47168875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FA8B-33D1-4885-B106-34BA91E5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E1D9-BFAF-4793-B15A-5BDA2B96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107B-2463-4632-A5CF-CBD591DB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F270-2FD7-43BA-AE5A-AF1CFEF4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C998-1993-4BC5-B64A-BBECB43E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6ED2-FA6A-42F6-838D-37EF8B13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8E3-830E-4A8F-ABEB-F51131D2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F4C-BA5D-45A6-BC45-C927BDB0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DB2-E69B-4182-BBFB-57EB4F9B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5A1-F7FE-4739-A7A8-03DD5E99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419-66B6-48AA-B5D4-DA05611B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DAA1-3069-4B5F-81AA-7166B8DA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7AA-7E3B-4A70-986C-9C5BB1AE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05AF-7ACA-45B1-9335-7B545194709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9235-E5BE-4ADE-9C28-F2FB5B0DDF2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р: Кирее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талья Викторо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5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4" descr="школа 024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3" descr="лента 017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4" descr="лента 015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работы понадоби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тласная лента шириной 2,5 см; 0,5 с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ртновские игол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сок душистого мы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веты и листья  из л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5" descr="лента 002.jpg"/>
          <p:cNvPicPr/>
          <p:nvPr/>
        </p:nvPicPr>
        <p:blipFill>
          <a:blip r:embed="rId2"/>
          <a:stretch/>
        </p:blipFill>
        <p:spPr>
          <a:xfrm>
            <a:off x="4714920" y="2286000"/>
            <a:ext cx="3857760" cy="2894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00040" y="150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Закрепляем ленту по периметру на куске мыла с помощью иголочек , так чтобы с боковых сторон его не было видно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 нижней стороны,  иголки вкалываем  в мыло на 1/3 от длины. Иголки будут основанием дна корзин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7" descr="лента 006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виваем между иголками ленту, заполняя  полностью длину иг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лучается основание корзин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4" descr="лента 005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налогично делаем верхнюю часть корзинк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5" descr="лента 013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3" descr="лента 012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алее для работы нам понадобятся заранее заготовленные цветы и листочки. С помощью иголочек закрепляем их в корзине. Получается оригинальный сувенир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3" descr="лента 018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3:22:02Z</dcterms:created>
  <dc:creator>Dima</dc:creator>
  <dc:description/>
  <dc:language>en-US</dc:language>
  <cp:lastModifiedBy>Dima</cp:lastModifiedBy>
  <dcterms:modified xsi:type="dcterms:W3CDTF">2011-11-03T13:54:33Z</dcterms:modified>
  <cp:revision>4</cp:revision>
  <dc:subject/>
  <dc:title>Душистый сувенир</dc:title>
</cp:coreProperties>
</file>