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1A6D-ACA2-4BE6-A076-033EC24B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E5B-3C03-433A-87EB-443A36B4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257-08FA-4050-BA83-A12463F0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63C-5505-4B8D-9953-77C61E29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1A51-9492-47E4-AEE4-46C6F8CB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8331-70A0-4ED2-A69E-A050E3F7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1D92-2FD1-4F79-AA99-BAE1637B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67C9-FA25-45C5-AAC2-EC80546F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F9CE-6729-49E1-A0BA-C634DBFC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DCAA-9695-45BF-BCF4-020DB396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5B77-D925-492B-885C-8F03CCD5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03C-934E-406F-8480-0C08D24B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EB41-1137-4224-B28A-F5FDBF82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5D07-3211-4028-8F76-210840AE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C83A-E0F0-4398-A42E-D6EF8E25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8D4D-06ED-4960-AF55-12B06858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EED5-8660-4C69-9CEE-3CD2B1E9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4B2-0B2C-47C7-B79A-E6517146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2CF-6C8D-46D0-B22F-4873C7CC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26D-5CC0-4986-A5DE-D5BB49A2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453-D0C0-4AA3-9E72-944B478E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821-BBDC-4088-8F90-4C29A053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F92-388F-434A-8525-F6912983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630-A2E0-47F0-B2E0-BEA5FB8A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879F-7854-4F64-8176-CDCA91B9608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B5B0-FE5C-4A8D-9F6C-A8EE06595BF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р: Кирее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талья Викторо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5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4" descr="школа 024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лента 017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4" descr="лента 015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работы понадоби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тласная лента шириной 2,5 см; 0,5 с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ртновские игол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сок душистого мы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веты и листья  из л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5" descr="лента 002.jpg"/>
          <p:cNvPicPr/>
          <p:nvPr/>
        </p:nvPicPr>
        <p:blipFill>
          <a:blip r:embed="rId2"/>
          <a:stretch/>
        </p:blipFill>
        <p:spPr>
          <a:xfrm>
            <a:off x="4714920" y="2286000"/>
            <a:ext cx="3857760" cy="2894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00040" y="150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Закрепляем ленту по периметру на куске мыла с помощью иголочек , так чтобы с боковых сторон его не было видно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 нижней стороны,  иголки вкалываем  в мыло на 1/3 от длины. Иголки будут основанием дна корзин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7" descr="лента 006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виваем между иголками ленту, заполняя  полностью длину иг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лучается основание корзин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4" descr="лента 005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налогично делаем верхнюю часть корзин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5" descr="лента 013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3" descr="лента 012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алее для работы нам понадобятся заранее заготовленные цветы и листочки. С помощью иголочек закрепляем их в корзине. Получается оригинальный сувенир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3" descr="лента 018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3:22:02Z</dcterms:created>
  <dc:creator>Dima</dc:creator>
  <dc:description/>
  <dc:language>en-US</dc:language>
  <cp:lastModifiedBy>Dima</cp:lastModifiedBy>
  <dcterms:modified xsi:type="dcterms:W3CDTF">2011-11-03T13:54:33Z</dcterms:modified>
  <cp:revision>4</cp:revision>
  <dc:subject/>
  <dc:title>Душистый сувенир</dc:title>
</cp:coreProperties>
</file>