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0DEC-2078-487B-A9A4-EBD12B39D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2534-22F1-4808-899D-46EFEBAAF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755F-FCE7-4ED9-9F00-5CB15BDD3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78B0-0980-4BF8-B12D-B4FC88362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32B68-651D-45CA-84AB-875871CDA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C2818-50D6-4773-A941-DF1D9E0F4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6EB25-0F17-4AFB-9676-1839775C4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1639C-33AF-45BD-996D-EB81D8DFD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B61E4-6B80-43EE-B0B9-ECD8732B5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9576F-9DE4-47C0-8AD4-7CAEB4EEA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66753-EDB5-471D-B0C2-8B561FEF6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C9DA-6840-466D-803D-136AE428C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D9400-325B-4F27-BD63-63A878C79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B189A-4133-40EC-A2EA-14882F48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DA05F-205D-42FC-B3A4-2B3EA77D9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62DEC-0B37-4BBC-A1B3-FCE6159FD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F95E0-30B7-4285-AA93-65197C5FE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DE88-45F1-4D18-930C-B94C81810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3A93-1DC9-4893-A23D-67A407459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9722-F0E6-4169-83A1-D8EF5A11A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665D-FD26-438F-9F89-A288DC848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32F5-EBF9-4C9B-824C-44ABF4369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1E7B-3956-4DB0-B75F-AC7E43DCA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DF3E-E52B-4DA6-818C-B3BE98B9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B7DD2-04E1-4EDA-AEA0-616607A66EFA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050C5-6DF9-4493-B198-8475B36BCF73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0545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втор: Киреев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талья Викторов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Заголовок 5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06" name="Содержимое 4" descr="школа 024.jpg"/>
          <p:cNvPicPr/>
          <p:nvPr/>
        </p:nvPicPr>
        <p:blipFill>
          <a:blip r:embed="rId2"/>
          <a:stretch/>
        </p:blipFill>
        <p:spPr>
          <a:xfrm>
            <a:off x="1433520" y="1600200"/>
            <a:ext cx="627696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85" name="Содержимое 3" descr="лента 017.jpg"/>
          <p:cNvPicPr/>
          <p:nvPr/>
        </p:nvPicPr>
        <p:blipFill>
          <a:blip r:embed="rId2"/>
          <a:stretch/>
        </p:blipFill>
        <p:spPr>
          <a:xfrm>
            <a:off x="1433520" y="1600200"/>
            <a:ext cx="627696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87" name="Содержимое 4" descr="лента 015.jpg"/>
          <p:cNvPicPr/>
          <p:nvPr/>
        </p:nvPicPr>
        <p:blipFill>
          <a:blip r:embed="rId2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ля работы понадобится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тласная лента шириной 2,5 см; 0,5 с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ртновские игол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усок душистого мыл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Цветы и листья  из лент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90" name="Содержимое 5" descr="лента 002.jpg"/>
          <p:cNvPicPr/>
          <p:nvPr/>
        </p:nvPicPr>
        <p:blipFill>
          <a:blip r:embed="rId2"/>
          <a:stretch/>
        </p:blipFill>
        <p:spPr>
          <a:xfrm>
            <a:off x="4714920" y="2286000"/>
            <a:ext cx="3857760" cy="28940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00040" y="150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Закрепляем ленту по периметру на куске мыла с помощью иголочек , так чтобы с боковых сторон его не было видно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С нижней стороны,  иголки вкалываем  в мыло на 1/3 от длины. Иголки будут основанием дна корзинки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93" name="Содержимое 7" descr="лента 006.jpg"/>
          <p:cNvPicPr/>
          <p:nvPr/>
        </p:nvPicPr>
        <p:blipFill>
          <a:blip r:embed="rId2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Обвиваем между иголками ленту, заполняя  полностью длину игл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олучается основание корзинки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96" name="Содержимое 4" descr="лента 005.jpg"/>
          <p:cNvPicPr/>
          <p:nvPr/>
        </p:nvPicPr>
        <p:blipFill>
          <a:blip r:embed="rId2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налогично делаем верхнюю часть корзинки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99" name="Содержимое 5" descr="лента 013.jpg"/>
          <p:cNvPicPr/>
          <p:nvPr/>
        </p:nvPicPr>
        <p:blipFill>
          <a:blip r:embed="rId2"/>
          <a:stretch/>
        </p:blipFill>
        <p:spPr>
          <a:xfrm>
            <a:off x="1433520" y="1600200"/>
            <a:ext cx="627696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01" name="Содержимое 3" descr="лента 012.jpg"/>
          <p:cNvPicPr/>
          <p:nvPr/>
        </p:nvPicPr>
        <p:blipFill>
          <a:blip r:embed="rId2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Далее для работы нам понадобятся заранее заготовленные цветы и листочки. С помощью иголочек закрепляем их в корзине. Получается оригинальный сувенир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04" name="Содержимое 3" descr="лента 018.jpg"/>
          <p:cNvPicPr/>
          <p:nvPr/>
        </p:nvPicPr>
        <p:blipFill>
          <a:blip r:embed="rId2"/>
          <a:stretch/>
        </p:blipFill>
        <p:spPr>
          <a:xfrm>
            <a:off x="1433520" y="1600200"/>
            <a:ext cx="627696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3T13:22:02Z</dcterms:created>
  <dc:creator>Dima</dc:creator>
  <dc:description/>
  <dc:language>en-US</dc:language>
  <cp:lastModifiedBy>Dima</cp:lastModifiedBy>
  <dcterms:modified xsi:type="dcterms:W3CDTF">2011-11-03T13:54:33Z</dcterms:modified>
  <cp:revision>4</cp:revision>
  <dc:subject/>
  <dc:title>Душистый сувенир</dc:title>
</cp:coreProperties>
</file>