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2BA1-4117-48D0-85FF-CC15608BF5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2F7C-27D5-49D1-BC1C-319FA05826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026C-C48E-4D5A-9F0C-BD1BCD253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AE9D-CD73-40C2-9BDF-83508D0691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6BF9-6D63-4B8A-B7F7-089588E65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4618-6BD8-40A8-84B7-3640BAD4B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EAB7-C638-46CE-B8DD-D9C99B304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D34-575F-459F-9019-F1F0B2E4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72C-C19C-40F6-8A60-B485676B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049-34F3-4599-A449-F9C493D2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173-3C00-4C2B-B37A-D2CF9E84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7CD-B093-48CB-8468-75373628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856-22A1-430D-BBDA-59E4933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2BF-F752-4C25-A797-5481192D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544-32C6-407B-842C-858DB3E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E1F-81A9-48C7-A1C5-45239F6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BBF-6FC2-4D16-ACA7-7F34FF5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A33-B10E-48AD-804E-559BD882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D77-043D-4F9F-A66B-98F178C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65A2-43CC-41C8-A63C-5E7070D11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457200" y="1952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ще больше презентаций на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ttp://lusana.ru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762120"/>
          <a:ext cx="8610480" cy="4025880"/>
        </p:xfrm>
        <a:graphic>
          <a:graphicData uri="http://schemas.openxmlformats.org/drawingml/2006/table">
            <a:tbl>
              <a:tblPr/>
              <a:tblGrid>
                <a:gridCol w="2514600"/>
                <a:gridCol w="1790640"/>
                <a:gridCol w="2152800"/>
                <a:gridCol w="2152440"/>
              </a:tblGrid>
              <a:tr h="21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рос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адений гер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Бюфф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Пир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Пир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Рисунок 2" descr="26497.jpg"/>
          <p:cNvPicPr/>
          <p:nvPr/>
        </p:nvPicPr>
        <p:blipFill>
          <a:blip r:embed="rId1"/>
          <a:stretch/>
        </p:blipFill>
        <p:spPr>
          <a:xfrm>
            <a:off x="6400800" y="5029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28600" y="5335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можные исходы (результаты) опыта являются событиями  несовместными, достоверными, то каждый из результатов испытания назове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м исход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 элементарные исходы, при которых  интересующее нас событие наступает назове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ствующими этому событию исхо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2209680"/>
          <a:ext cx="8839440" cy="2944800"/>
        </p:xfrm>
        <a:graphic>
          <a:graphicData uri="http://schemas.openxmlformats.org/drawingml/2006/table">
            <a:tbl>
              <a:tblPr/>
              <a:tblGrid>
                <a:gridCol w="2481480"/>
                <a:gridCol w="6357960"/>
              </a:tblGrid>
              <a:tr h="29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: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ическое определение вероятност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ю события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ся отношение числа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лементарных исходов, благоприятствующих этому событию, к общему числу элементарных исходов испытания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Группа 7"/>
          <p:cNvGrpSpPr/>
          <p:nvPr/>
        </p:nvGrpSpPr>
        <p:grpSpPr>
          <a:xfrm>
            <a:off x="304920" y="5334120"/>
            <a:ext cx="5790960" cy="1709280"/>
            <a:chOff x="304920" y="5334120"/>
            <a:chExt cx="5790960" cy="1709280"/>
          </a:xfrm>
        </p:grpSpPr>
        <p:sp>
          <p:nvSpPr>
            <p:cNvPr id="88" name="TextBox 5"/>
            <p:cNvSpPr/>
            <p:nvPr/>
          </p:nvSpPr>
          <p:spPr>
            <a:xfrm>
              <a:off x="304920" y="5486400"/>
              <a:ext cx="2133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: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Объект 6"/>
                <p:cNvSpPr txBox="1"/>
                <p:nvPr/>
              </p:nvSpPr>
              <p:spPr>
                <a:xfrm>
                  <a:off x="4038480" y="5334120"/>
                  <a:ext cx="20574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0" name="Рисунок 8" descr="buch-1.gif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1219320" y="182880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достоверного событи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невозможного событи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752480" y="2590920"/>
                <a:ext cx="190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Рисунок 3" descr="buch-1.gif"/>
          <p:cNvPicPr/>
          <p:nvPr/>
        </p:nvPicPr>
        <p:blipFill>
          <a:blip r:embed="rId1"/>
          <a:stretch/>
        </p:blipFill>
        <p:spPr>
          <a:xfrm>
            <a:off x="7391520" y="3049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8288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egoe Script"/>
              </a:rPr>
              <a:t>Задачи по тем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egoe Script"/>
              </a:rPr>
              <a:t>«Вероятность. Понятие события и вероятности событ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2860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рне 3 белых и 9 черных шаров. Из урны наугад вынимается 1 шар. Какова вероятность того, что вынутый шар окажется чер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09480" y="1981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+9=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черный ша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5"/>
              <p:cNvSpPr txBox="1"/>
              <p:nvPr/>
            </p:nvSpPr>
            <p:spPr>
              <a:xfrm>
                <a:off x="2181240" y="4267080"/>
                <a:ext cx="3419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Box 7"/>
          <p:cNvSpPr/>
          <p:nvPr/>
        </p:nvSpPr>
        <p:spPr>
          <a:xfrm>
            <a:off x="3808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0,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8" descr="buch-1.gif"/>
          <p:cNvPicPr/>
          <p:nvPr/>
        </p:nvPicPr>
        <p:blipFill>
          <a:blip r:embed="rId1"/>
          <a:stretch/>
        </p:blipFill>
        <p:spPr>
          <a:xfrm>
            <a:off x="739152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80880" y="22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ена игральная кость. Какова вероятность событ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ло 1 очко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ло 2 оч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3520" y="1295280"/>
            <a:ext cx="77724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гран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оличество граней, на которых всего 1 очк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3"/>
              <p:cNvSpPr txBox="1"/>
              <p:nvPr/>
            </p:nvSpPr>
            <p:spPr>
              <a:xfrm>
                <a:off x="3809880" y="3200400"/>
                <a:ext cx="1905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Box 5"/>
          <p:cNvSpPr/>
          <p:nvPr/>
        </p:nvSpPr>
        <p:spPr>
          <a:xfrm>
            <a:off x="533520" y="4191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оличество граней, на которых всего 2 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657600" y="4572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Box 6"/>
          <p:cNvSpPr/>
          <p:nvPr/>
        </p:nvSpPr>
        <p:spPr>
          <a:xfrm>
            <a:off x="68580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        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9"/>
              <p:cNvSpPr txBox="1"/>
              <p:nvPr/>
            </p:nvSpPr>
            <p:spPr>
              <a:xfrm>
                <a:off x="1752480" y="5410080"/>
                <a:ext cx="381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200400" y="5410080"/>
                <a:ext cx="380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8" name="Рисунок 10" descr="1234945.jpg"/>
          <p:cNvPicPr/>
          <p:nvPr/>
        </p:nvPicPr>
        <p:blipFill>
          <a:blip r:embed="rId1"/>
          <a:stretch/>
        </p:blipFill>
        <p:spPr>
          <a:xfrm>
            <a:off x="6881760" y="4795920"/>
            <a:ext cx="2262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28600" y="4572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шены 2 игральные  кости. Какова вероятность событ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ния в сумме не менее 9 очков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ния 1 очка по крайней мере на одной кос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808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251460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Box 5"/>
          <p:cNvSpPr/>
          <p:nvPr/>
        </p:nvSpPr>
        <p:spPr>
          <a:xfrm>
            <a:off x="4572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и, что возможн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испыт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6" descr="2382_1386.jpg"/>
          <p:cNvPicPr/>
          <p:nvPr/>
        </p:nvPicPr>
        <p:blipFill>
          <a:blip r:embed="rId1"/>
          <a:stretch/>
        </p:blipFill>
        <p:spPr>
          <a:xfrm>
            <a:off x="8381880" y="990720"/>
            <a:ext cx="762120" cy="3276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img6.gif"/>
          <p:cNvPicPr/>
          <p:nvPr/>
        </p:nvPicPr>
        <p:blipFill>
          <a:blip r:embed="rId2"/>
          <a:srcRect l="0" t="0" r="0" b="8328"/>
          <a:stretch/>
        </p:blipFill>
        <p:spPr>
          <a:xfrm>
            <a:off x="8381880" y="4343400"/>
            <a:ext cx="762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335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ыт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44792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3"/>
          <p:cNvSpPr/>
          <p:nvPr/>
        </p:nvSpPr>
        <p:spPr>
          <a:xfrm>
            <a:off x="7621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Объект 4"/>
              <p:cNvSpPr txBox="1"/>
              <p:nvPr/>
            </p:nvSpPr>
            <p:spPr>
              <a:xfrm>
                <a:off x="3276720" y="5029200"/>
                <a:ext cx="274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9" name="Рисунок 5" descr="452452825_b1bfe38baa.jpg"/>
          <p:cNvPicPr/>
          <p:nvPr/>
        </p:nvPicPr>
        <p:blipFill>
          <a:blip r:embed="rId1"/>
          <a:srcRect l="0" t="30003" r="35802" b="0"/>
          <a:stretch/>
        </p:blipFill>
        <p:spPr>
          <a:xfrm>
            <a:off x="8381880" y="1447920"/>
            <a:ext cx="762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53560" y="380880"/>
            <a:ext cx="35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ыт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67652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Прямоугольник 3"/>
          <p:cNvSpPr/>
          <p:nvPr/>
        </p:nvSpPr>
        <p:spPr>
          <a:xfrm>
            <a:off x="1519920" y="44956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3962520" y="4343400"/>
                <a:ext cx="1863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5"/>
          <p:cNvSpPr/>
          <p:nvPr/>
        </p:nvSpPr>
        <p:spPr>
          <a:xfrm>
            <a:off x="838080" y="5486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6"/>
              <p:cNvSpPr txBox="1"/>
              <p:nvPr/>
            </p:nvSpPr>
            <p:spPr>
              <a:xfrm>
                <a:off x="1981080" y="5334120"/>
                <a:ext cx="1143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sSup>
                      <m:e/>
                      <m:sup/>
                    </m:sSup>
                    <m:r>
                      <m:t xml:space="preserve">;</m:t>
                    </m:r>
                    <m:sSup>
                      <m:e/>
                      <m:sup/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Рисунок 7" descr="822086743.jpg"/>
          <p:cNvPicPr/>
          <p:nvPr/>
        </p:nvPicPr>
        <p:blipFill>
          <a:blip r:embed="rId1"/>
          <a:srcRect l="14855" t="10001" r="12794" b="11603"/>
          <a:stretch/>
        </p:blipFill>
        <p:spPr>
          <a:xfrm>
            <a:off x="8153280" y="0"/>
            <a:ext cx="990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5335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нета брошена 2 раза. Какова вероятность событ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т одновременно два гер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33520" y="1219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09480" y="3276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сего возможно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4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интересующий результат возможен только один ра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5"/>
              <p:cNvSpPr txBox="1"/>
              <p:nvPr/>
            </p:nvSpPr>
            <p:spPr>
              <a:xfrm>
                <a:off x="3429000" y="4495680"/>
                <a:ext cx="220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Прямоугольник 6"/>
          <p:cNvSpPr/>
          <p:nvPr/>
        </p:nvSpPr>
        <p:spPr>
          <a:xfrm>
            <a:off x="2813760" y="2590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3649680" y="25909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414320" y="25909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533772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8380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0,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TextBox 1"/>
          <p:cNvGrpSpPr/>
          <p:nvPr/>
        </p:nvGrpSpPr>
        <p:grpSpPr>
          <a:xfrm>
            <a:off x="993600" y="689040"/>
            <a:ext cx="6931080" cy="3785760"/>
            <a:chOff x="993600" y="689040"/>
            <a:chExt cx="6931080" cy="3785760"/>
          </a:xfrm>
        </p:grpSpPr>
        <p:pic>
          <p:nvPicPr>
            <p:cNvPr id="50" name="TextBox 1" descr=""/>
            <p:cNvPicPr/>
            <p:nvPr/>
          </p:nvPicPr>
          <p:blipFill>
            <a:blip r:embed="rId2"/>
            <a:stretch/>
          </p:blipFill>
          <p:spPr>
            <a:xfrm>
              <a:off x="996120" y="691920"/>
              <a:ext cx="692820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93600" y="689040"/>
              <a:ext cx="693108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Основы теории вероятности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Основные понятия и определен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ирая номер телефона вы забыли последнюю цифру и набрали её наугад. Какова вероятность того, что набрана нужная вам циф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533520" y="1676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4290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09480" y="2362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циф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0948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были только последнюю цифру, значи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6094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Объект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438280" y="342900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Box 9"/>
          <p:cNvSpPr/>
          <p:nvPr/>
        </p:nvSpPr>
        <p:spPr>
          <a:xfrm>
            <a:off x="1219320" y="4952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4572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ов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выбирается наугад одна буква. Какова вероятность того, что это будет букв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534960" y="10666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80880" y="1676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букв в слове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жной нам буквы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00480" y="2438280"/>
                <a:ext cx="3238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5"/>
          <p:cNvSpPr/>
          <p:nvPr/>
        </p:nvSpPr>
        <p:spPr>
          <a:xfrm>
            <a:off x="69660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228600" y="1522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обке имеется 3 кубика: чёрный, красный и белый. Вытаскивая кубики наугад, мы ставим их последовательно друг за другом. Какова вероятность того, что в  результате получится последовательность: красный, чёрный, бел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380880" y="2286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рный кубик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сный кубик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елый кубик, тог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7524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Б, ЧБК, БЧК, БКЧ, КЧБ, КБ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342720" y="1752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ен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65530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"/>
              <p:cNvSpPr txBox="1"/>
              <p:nvPr/>
            </p:nvSpPr>
            <p:spPr>
              <a:xfrm>
                <a:off x="3124080" y="4343400"/>
                <a:ext cx="2384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Box 14"/>
          <p:cNvSpPr/>
          <p:nvPr/>
        </p:nvSpPr>
        <p:spPr>
          <a:xfrm>
            <a:off x="380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Объект 15"/>
              <p:cNvSpPr txBox="1"/>
              <p:nvPr/>
            </p:nvSpPr>
            <p:spPr>
              <a:xfrm>
                <a:off x="1523880" y="5410080"/>
                <a:ext cx="38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Левая фигурная скобка 2"/>
          <p:cNvSpPr/>
          <p:nvPr/>
        </p:nvSpPr>
        <p:spPr>
          <a:xfrm rot="16200000">
            <a:off x="114300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Куб 3"/>
          <p:cNvSpPr/>
          <p:nvPr/>
        </p:nvSpPr>
        <p:spPr>
          <a:xfrm>
            <a:off x="380880" y="83808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Куб 4"/>
          <p:cNvSpPr/>
          <p:nvPr/>
        </p:nvSpPr>
        <p:spPr>
          <a:xfrm>
            <a:off x="1143000" y="83808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Куб 5"/>
          <p:cNvSpPr/>
          <p:nvPr/>
        </p:nvSpPr>
        <p:spPr>
          <a:xfrm>
            <a:off x="1981080" y="83808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Левая фигурная скобка 7"/>
          <p:cNvSpPr/>
          <p:nvPr/>
        </p:nvSpPr>
        <p:spPr>
          <a:xfrm rot="16200000">
            <a:off x="380988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Куб 8"/>
          <p:cNvSpPr/>
          <p:nvPr/>
        </p:nvSpPr>
        <p:spPr>
          <a:xfrm>
            <a:off x="304812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Куб 9"/>
          <p:cNvSpPr/>
          <p:nvPr/>
        </p:nvSpPr>
        <p:spPr>
          <a:xfrm>
            <a:off x="3809880" y="91440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Куб 10"/>
          <p:cNvSpPr/>
          <p:nvPr/>
        </p:nvSpPr>
        <p:spPr>
          <a:xfrm>
            <a:off x="457200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Куб 11"/>
          <p:cNvSpPr/>
          <p:nvPr/>
        </p:nvSpPr>
        <p:spPr>
          <a:xfrm>
            <a:off x="594360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Левая фигурная скобка 12"/>
          <p:cNvSpPr/>
          <p:nvPr/>
        </p:nvSpPr>
        <p:spPr>
          <a:xfrm rot="16200000">
            <a:off x="670572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Куб 13"/>
          <p:cNvSpPr/>
          <p:nvPr/>
        </p:nvSpPr>
        <p:spPr>
          <a:xfrm>
            <a:off x="670572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Куб 14"/>
          <p:cNvSpPr/>
          <p:nvPr/>
        </p:nvSpPr>
        <p:spPr>
          <a:xfrm>
            <a:off x="7467480" y="91440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Левая фигурная скобка 15"/>
          <p:cNvSpPr/>
          <p:nvPr/>
        </p:nvSpPr>
        <p:spPr>
          <a:xfrm rot="16200000">
            <a:off x="1143000" y="373356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Куб 16"/>
          <p:cNvSpPr/>
          <p:nvPr/>
        </p:nvSpPr>
        <p:spPr>
          <a:xfrm>
            <a:off x="3808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Куб 17"/>
          <p:cNvSpPr/>
          <p:nvPr/>
        </p:nvSpPr>
        <p:spPr>
          <a:xfrm>
            <a:off x="114300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Куб 18"/>
          <p:cNvSpPr/>
          <p:nvPr/>
        </p:nvSpPr>
        <p:spPr>
          <a:xfrm>
            <a:off x="190512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Левая фигурная скобка 19"/>
          <p:cNvSpPr/>
          <p:nvPr/>
        </p:nvSpPr>
        <p:spPr>
          <a:xfrm rot="16200000">
            <a:off x="3962520" y="36572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Куб 20"/>
          <p:cNvSpPr/>
          <p:nvPr/>
        </p:nvSpPr>
        <p:spPr>
          <a:xfrm>
            <a:off x="31240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Куб 21"/>
          <p:cNvSpPr/>
          <p:nvPr/>
        </p:nvSpPr>
        <p:spPr>
          <a:xfrm>
            <a:off x="396252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Куб 22"/>
          <p:cNvSpPr/>
          <p:nvPr/>
        </p:nvSpPr>
        <p:spPr>
          <a:xfrm>
            <a:off x="47242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Левая фигурная скобка 23">
            <a:hlinkClick r:id="rId1" action="ppaction://hlinksldjump"/>
          </p:cNvPr>
          <p:cNvSpPr/>
          <p:nvPr/>
        </p:nvSpPr>
        <p:spPr>
          <a:xfrm rot="16200000">
            <a:off x="6781680" y="36572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Куб 24"/>
          <p:cNvSpPr/>
          <p:nvPr/>
        </p:nvSpPr>
        <p:spPr>
          <a:xfrm>
            <a:off x="6019920" y="3886200"/>
            <a:ext cx="60948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Куб 25"/>
          <p:cNvSpPr/>
          <p:nvPr/>
        </p:nvSpPr>
        <p:spPr>
          <a:xfrm>
            <a:off x="6781680" y="388620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Куб 26"/>
          <p:cNvSpPr/>
          <p:nvPr/>
        </p:nvSpPr>
        <p:spPr>
          <a:xfrm>
            <a:off x="7543800" y="38862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0492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шке 50 деталей, из них 5 окрашено. Наугад вынимают одну деталь. Найти вероятность того, что данная деталь окраш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609480" y="106668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 Сколько можно вынуть деталей и окрашенных, и неокрашенны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2971800" y="1981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762120" y="2438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можно вынуть только 5 окрашенных деталей, поэто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35268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85800" y="3581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олучае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Объект 8"/>
              <p:cNvSpPr txBox="1"/>
              <p:nvPr/>
            </p:nvSpPr>
            <p:spPr>
              <a:xfrm>
                <a:off x="3124080" y="3962520"/>
                <a:ext cx="304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Box 9"/>
          <p:cNvSpPr/>
          <p:nvPr/>
        </p:nvSpPr>
        <p:spPr>
          <a:xfrm>
            <a:off x="99072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0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04920" y="3049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урны, в которой находится 4 белых, 9 чёрных и 7 красных шаров, наугад вынимают один шар. Какова вероятность событий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бел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чёрн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красн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зелёного ша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380880" y="16002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бел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Объект 3"/>
              <p:cNvSpPr txBox="1"/>
              <p:nvPr/>
            </p:nvSpPr>
            <p:spPr>
              <a:xfrm>
                <a:off x="2336760" y="2895480"/>
                <a:ext cx="293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Прямоугольник 5"/>
          <p:cNvSpPr/>
          <p:nvPr/>
        </p:nvSpPr>
        <p:spPr>
          <a:xfrm>
            <a:off x="228600" y="3581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черн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2763720" y="3962520"/>
                <a:ext cx="2435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Прямоугольник 7"/>
          <p:cNvSpPr/>
          <p:nvPr/>
        </p:nvSpPr>
        <p:spPr>
          <a:xfrm>
            <a:off x="304920" y="45720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красн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2884320" y="5029200"/>
                <a:ext cx="245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Прямоугольник 9"/>
          <p:cNvSpPr/>
          <p:nvPr/>
        </p:nvSpPr>
        <p:spPr>
          <a:xfrm>
            <a:off x="380880" y="55627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зеленый ша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D)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533520" y="61722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11"/>
              <p:cNvSpPr txBox="1"/>
              <p:nvPr/>
            </p:nvSpPr>
            <p:spPr>
              <a:xfrm>
                <a:off x="1600200" y="5943600"/>
                <a:ext cx="152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609480" y="228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 грани симметричного кубика окрашены в синий цвет, три – в зелёный,  и одна – в красный. Кубик подбрасывают один раз. Какова вероятность того, что верхняя грань кубика окажется зелё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04920" y="2666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убика всего 6 граней, поэтому возможно 6 результатов опыта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380880" y="3505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нужно посчитать грани кубика, интересующего нас цвета, т.е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533520" y="434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ероятность того, что верхняя грань кубика окажется зеленой будет рав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2895480" y="5257800"/>
                <a:ext cx="30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Box 9"/>
          <p:cNvSpPr/>
          <p:nvPr/>
        </p:nvSpPr>
        <p:spPr>
          <a:xfrm>
            <a:off x="68580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8" descr="untitled.bmp"/>
          <p:cNvPicPr/>
          <p:nvPr/>
        </p:nvPicPr>
        <p:blipFill>
          <a:blip r:embed="rId1"/>
          <a:srcRect l="24672" t="8498" r="19330" b="8498"/>
          <a:stretch/>
        </p:blipFill>
        <p:spPr>
          <a:xfrm>
            <a:off x="6781680" y="51814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80880" y="227484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…, 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исанные на отдельные карточки, складывают в ящик и тщательно перемешивают. Наугад вынимают одну карточку. Найти вероятность того, что число, написанное на этой карточке: а) чётное; б) нечётное; в) однозначное; г) двухзнач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28600" y="228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опытов – это количество карточек, которые будут сделаны по условию задач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59436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28600" y="1523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ётные числа о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4, 6, 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50292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0492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1219320" y="2133720"/>
                <a:ext cx="228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Box 7"/>
          <p:cNvSpPr/>
          <p:nvPr/>
        </p:nvSpPr>
        <p:spPr>
          <a:xfrm>
            <a:off x="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чётные числа −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3, 5, 7, 9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45720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52578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6248520" y="2514600"/>
                <a:ext cx="228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Box 11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се числа от1 до 9 однозначные, т.к. состоят из одного знак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9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13"/>
          <p:cNvSpPr/>
          <p:nvPr/>
        </p:nvSpPr>
        <p:spPr>
          <a:xfrm>
            <a:off x="758520" y="3733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752480" y="3657600"/>
                <a:ext cx="2287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Box 15"/>
          <p:cNvSpPr/>
          <p:nvPr/>
        </p:nvSpPr>
        <p:spPr>
          <a:xfrm>
            <a:off x="152280" y="4262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ответственно, двухзначных чисел среди них нет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04920" y="4800600"/>
                <a:ext cx="278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TextBox 17"/>
          <p:cNvSpPr/>
          <p:nvPr/>
        </p:nvSpPr>
        <p:spPr>
          <a:xfrm>
            <a:off x="4572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8"/>
              <p:cNvSpPr txBox="1"/>
              <p:nvPr/>
            </p:nvSpPr>
            <p:spPr>
              <a:xfrm>
                <a:off x="1501920" y="5702400"/>
                <a:ext cx="149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1</m:t>
                    </m:r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0</m:t>
                    </m:r>
                    <m:sSup>
                      <m:e/>
                      <m:sup/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57200" y="914400"/>
            <a:ext cx="81532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До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ета бросается 3 раза подряд. Найти вероятность событий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сло выпадений герба больше числа выпадений решки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адает два герб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езультаты всех бросаний одинак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урны, в которой находится 3 белых, 4 чёрных и 5 красных шаров, наудачу вынимается один шар. Какова вероятность событий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бел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явление чёрн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жёлт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красного ш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04920" y="15228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 современном мире автоматизации производства теория вероятности(Т.В) необходима специалистам для решения задач, связанных с выявлением возможного хода процессов, на которые влияют случайные факторы(например, ОТК: сколько бракованных изделий будет изготовлено). Возникла Т.В. в 17 веке в переписке Б. Паскаля и П.Ферма, где они производили анализ азартных игр. Советские и русские ученые также принимали участие в развитии этого раздела математики: П.Л. Чебышев, А.А. Марков, А.М. Ляпунов, А.Н. Колмог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паскаль.jpg"/>
          <p:cNvPicPr/>
          <p:nvPr/>
        </p:nvPicPr>
        <p:blipFill>
          <a:blip r:embed="rId1"/>
          <a:stretch/>
        </p:blipFill>
        <p:spPr>
          <a:xfrm>
            <a:off x="22860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ферма.jpg"/>
          <p:cNvPicPr/>
          <p:nvPr/>
        </p:nvPicPr>
        <p:blipFill>
          <a:blip r:embed="rId2"/>
          <a:stretch/>
        </p:blipFill>
        <p:spPr>
          <a:xfrm>
            <a:off x="152388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чебышев.jpg"/>
          <p:cNvPicPr/>
          <p:nvPr/>
        </p:nvPicPr>
        <p:blipFill>
          <a:blip r:embed="rId3"/>
          <a:stretch/>
        </p:blipFill>
        <p:spPr>
          <a:xfrm>
            <a:off x="2895480" y="39625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KOLMOGOR.jpg"/>
          <p:cNvPicPr/>
          <p:nvPr/>
        </p:nvPicPr>
        <p:blipFill>
          <a:blip r:embed="rId4"/>
          <a:stretch/>
        </p:blipFill>
        <p:spPr>
          <a:xfrm>
            <a:off x="685800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lljapunov.jpg"/>
          <p:cNvPicPr/>
          <p:nvPr/>
        </p:nvPicPr>
        <p:blipFill>
          <a:blip r:embed="rId5"/>
          <a:stretch/>
        </p:blipFill>
        <p:spPr>
          <a:xfrm>
            <a:off x="5524560" y="3962520"/>
            <a:ext cx="118116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марков1.jpg"/>
          <p:cNvPicPr/>
          <p:nvPr/>
        </p:nvPicPr>
        <p:blipFill>
          <a:blip r:embed="rId6"/>
          <a:stretch/>
        </p:blipFill>
        <p:spPr>
          <a:xfrm>
            <a:off x="4229280" y="3962520"/>
            <a:ext cx="118080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1.jpg"/>
          <p:cNvPicPr/>
          <p:nvPr/>
        </p:nvPicPr>
        <p:blipFill>
          <a:blip r:embed="rId7"/>
          <a:srcRect l="5551" t="2102" r="5551" b="3643"/>
          <a:stretch/>
        </p:blipFill>
        <p:spPr>
          <a:xfrm>
            <a:off x="8305920" y="457200"/>
            <a:ext cx="838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2"/>
          <a:stretch/>
        </p:blipFill>
        <p:spPr>
          <a:xfrm>
            <a:off x="384120" y="2517840"/>
            <a:ext cx="8497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8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1523880"/>
          <a:ext cx="8305560" cy="1962360"/>
        </p:xfrm>
        <a:graphic>
          <a:graphicData uri="http://schemas.openxmlformats.org/drawingml/2006/table">
            <a:tbl>
              <a:tblPr/>
              <a:tblGrid>
                <a:gridCol w="2361960"/>
                <a:gridCol w="59436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чайным событие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нимается всякое явление, о котором имеет смысл говорить, что оно происходит или не происход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"/>
          <p:cNvSpPr/>
          <p:nvPr/>
        </p:nvSpPr>
        <p:spPr>
          <a:xfrm>
            <a:off x="242280" y="5791680"/>
            <a:ext cx="86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ми являются результаты различных опытов, измерений, наблюде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140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ящика с разноцветными шарами наугад вынимают черный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бросании игральной кости выпала цифра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телефонном вызове абонент оказался зан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вытащили черный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762120"/>
          <a:ext cx="8305560" cy="3925800"/>
        </p:xfrm>
        <a:graphic>
          <a:graphicData uri="http://schemas.openxmlformats.org/drawingml/2006/table">
            <a:tbl>
              <a:tblPr/>
              <a:tblGrid>
                <a:gridCol w="2382840"/>
                <a:gridCol w="5922720"/>
              </a:tblGrid>
              <a:tr h="196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оверны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зовем событие которое обязательно произойдет при выполнении определенного количества условий(4 пример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озможны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зовем событие которое не происходит при выполнении определенного количества условий(2 пример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326160" y="5486760"/>
            <a:ext cx="85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учайные события обозначаются большими латинскими буква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1523880"/>
          <a:ext cx="8110440" cy="3276720"/>
        </p:xfrm>
        <a:graphic>
          <a:graphicData uri="http://schemas.openxmlformats.org/drawingml/2006/table">
            <a:tbl>
              <a:tblPr/>
              <a:tblGrid>
                <a:gridCol w="2382840"/>
                <a:gridCol w="5727600"/>
              </a:tblGrid>
              <a:tr h="327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события называются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овместн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если появление одного из них исключает появление другого. В противном случае события называются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ы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Рисунок 2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4014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ри подбрасывании монеты появление цифры исключает одновременное появление герб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3058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сть билет лотереи «Русское лото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0"/>
          <p:cNvGrpSpPr/>
          <p:nvPr/>
        </p:nvGrpSpPr>
        <p:grpSpPr>
          <a:xfrm>
            <a:off x="990720" y="1981080"/>
            <a:ext cx="6933960" cy="2743200"/>
            <a:chOff x="990720" y="1981080"/>
            <a:chExt cx="6933960" cy="2743200"/>
          </a:xfrm>
        </p:grpSpPr>
        <mc:AlternateContent>
          <mc:Choice xmlns:a14="http://schemas.microsoft.com/office/drawing/2010/main" Requires="a14">
            <p:sp>
              <p:nvSpPr>
                <p:cNvPr id="73" name="Объект 7"/>
                <p:cNvSpPr txBox="1"/>
                <p:nvPr/>
              </p:nvSpPr>
              <p:spPr>
                <a:xfrm>
                  <a:off x="990720" y="1981080"/>
                  <a:ext cx="662940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явление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гербаГ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В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явление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решкиР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несовместные</m:t>
                      </m:r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события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Объект 9"/>
                <p:cNvSpPr txBox="1"/>
                <p:nvPr/>
              </p:nvSpPr>
              <p:spPr>
                <a:xfrm>
                  <a:off x="990720" y="3568680"/>
                  <a:ext cx="69339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билет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выиграшный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В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билет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невыигрышный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несовместные</m:t>
                      </m:r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события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Рисунок 6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s08143.jpg"/>
          <p:cNvPicPr/>
          <p:nvPr/>
        </p:nvPicPr>
        <p:blipFill>
          <a:blip r:embed="rId2"/>
          <a:srcRect l="32004" t="3997" r="0" b="6000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9"/>
          <p:cNvGrpSpPr/>
          <p:nvPr/>
        </p:nvGrpSpPr>
        <p:grpSpPr>
          <a:xfrm>
            <a:off x="380880" y="304920"/>
            <a:ext cx="8229600" cy="5580360"/>
            <a:chOff x="380880" y="304920"/>
            <a:chExt cx="8229600" cy="5580360"/>
          </a:xfrm>
        </p:grpSpPr>
        <p:sp>
          <p:nvSpPr>
            <p:cNvPr id="78" name="TextBox 6"/>
            <p:cNvSpPr/>
            <p:nvPr/>
          </p:nvSpPr>
          <p:spPr>
            <a:xfrm>
              <a:off x="380880" y="304920"/>
              <a:ext cx="82296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азывается, что при многократном  повторении опыта частота события принимает значения, близкие к некоторому постоянному числу. Например, при многократном бросании игральной кости частота выпадения каждого из чисел очков от 1 до 6 колеблется около числа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кратно проводились опыты бросания однородной монеты, в которых подсчитывали число появления «герба», и каждый раз, когда число опытов достаточно велико, частота события «выпадения герба» незначительно отличалась от  для наглядности рассмотрим таблицу результатов, полученных в 18 веке французским естествоиспытателем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ржем Луи Леклерк Бюффон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707 – 1788) и в начале 20 века – английским статистиком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лом Пирсон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57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)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7"/>
                <p:cNvSpPr txBox="1"/>
                <p:nvPr/>
              </p:nvSpPr>
              <p:spPr>
                <a:xfrm>
                  <a:off x="4800600" y="1752840"/>
                  <a:ext cx="30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Объект 8"/>
                <p:cNvSpPr txBox="1"/>
                <p:nvPr/>
              </p:nvSpPr>
              <p:spPr>
                <a:xfrm>
                  <a:off x="8077320" y="3200760"/>
                  <a:ext cx="2286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" name="Рисунок 5" descr="buffon.jpg"/>
          <p:cNvPicPr/>
          <p:nvPr/>
        </p:nvPicPr>
        <p:blipFill>
          <a:blip r:embed="rId1"/>
          <a:stretch/>
        </p:blipFill>
        <p:spPr>
          <a:xfrm>
            <a:off x="2819520" y="5181480"/>
            <a:ext cx="1447560" cy="16765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10" descr="пирсон.jpg"/>
          <p:cNvPicPr/>
          <p:nvPr/>
        </p:nvPicPr>
        <p:blipFill>
          <a:blip r:embed="rId2"/>
          <a:srcRect l="0" t="0" r="14226" b="13194"/>
          <a:stretch/>
        </p:blipFill>
        <p:spPr>
          <a:xfrm>
            <a:off x="4952880" y="5181480"/>
            <a:ext cx="1476360" cy="16765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03:17Z</dcterms:created>
  <dc:creator>Екатерина Ивановна</dc:creator>
  <dc:description/>
  <dc:language>en-US</dc:language>
  <cp:lastModifiedBy>Valera Vnuli</cp:lastModifiedBy>
  <dcterms:modified xsi:type="dcterms:W3CDTF">2015-10-22T07:35:13Z</dcterms:modified>
  <cp:revision>34</cp:revision>
  <dc:subject/>
  <dc:title>Основы теории вероятности</dc:title>
</cp:coreProperties>
</file>