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2.png" ContentType="image/png"/>
  <Override PartName="/ppt/media/image13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A4F-AB72-4CE6-868A-CC29F147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3E4-7C4E-40E1-BBED-50F82D5A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B10-FDC1-4AC8-82DB-65465F73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304-8654-4CD2-894E-9EFB9D34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798F-79E3-4017-9E32-659BE8F9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1E54-892D-4789-8BBD-67AE4388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0AC9-09D6-4A0F-86E7-95BFD22D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7FFD-1B28-4A7C-B9E9-C1B97AC2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2142-B2D9-42D9-B0C8-0E1CE03C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BC6B-D2D7-4D8E-BB26-4BD4B26E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915C-9D6C-4285-967B-388D5FD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805-EF12-4145-871C-1E8DE706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E5BB-4E82-4963-B1D2-0769834F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FD8E-411D-407B-BE08-E236A430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27DF-6212-4603-878A-4CD50954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AFB3-EBF7-4D15-A962-C7721E5D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86D0-10F8-4F3B-986D-BDAADA6F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8657-2F7F-4469-BAFF-6D2CA8D9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208B-F893-432E-A45C-BDD7FEDB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35AE-899C-4AE0-A382-E9924899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7DE4-CFD4-40C3-9C26-11ADF97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3264-312F-4C28-B05E-96C4F0C4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8F6-BEC1-4853-8613-E74BE394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E6B0-720A-4EC3-A009-270BB473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C28E-9112-454D-9EB9-52B12901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96F7-1385-4E76-8234-486AB2C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400C-A53E-4A3F-9669-79D9DBCC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23133-377F-47C1-9928-D80AE8FE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9489-B1BC-49E4-8961-94268176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FF6EB-BCEA-4E18-A945-1B35962C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52547-2BD5-4FCC-A4D7-DC12C66E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C2E04-E9BE-405F-8EC3-7829651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F624-98DF-4671-ABC1-811201AE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3B1-4313-4973-9DAA-938696A4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98C5-C793-46AD-BCC1-09A4B5DE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612A2-2146-43A1-AB78-DC0506AC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35BE-0124-44AF-83C6-6538FC82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706E-BB23-4595-BDB1-C8F3BF02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41883-4F08-460D-831B-912549C4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ED56-1126-4F5D-AE7C-A2F6BCAA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6583-62D4-4E4A-A81E-2E4B6E91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62AC-B067-4D52-A947-A45C1A49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5BA4-72C2-409C-A725-FF8A8064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F78-AAE3-4A0B-9B21-E6923C15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EE7-BFEB-4505-945E-5B83148E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969-FF3D-41D1-BB87-F59BE14B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8FE-2FBA-4B3E-9EB8-7B8FF678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8B4-A2D5-42F6-8D6D-68EF679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A83F-B2D5-4C8C-B0DD-3434F0F118EE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2F3E-7C7A-46C1-A90C-D5E1C953161E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0D96-2FC2-4DA7-8CF2-DFA8E7A8226B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C724-DEAD-44FD-8B59-F29D2D5736FF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86000" y="1599840"/>
            <a:ext cx="460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ловом "театр" можно назвать любое представление перед какой-либо аудиторией. Как правило, в театре группа актеров исполняет для зрителей различные пьесы - комедии, трагедии или драмы. Театр - один из древнейших видов искусств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6" name="Picture 5" descr="ALDE4CCAFW2399CAIIZ9QBCATMEJ73CAKG3BIQCAULB551CA6APKW3CAT3ZDSCCAX2KRN4CAMEK1DQCAP9M8WDCASVUK9KCACR76OVCA34MKTYCAAW1YRZCA14WID2CA12BMMKCAVG03MWCAJ9GBDL"/>
          <p:cNvPicPr/>
          <p:nvPr/>
        </p:nvPicPr>
        <p:blipFill>
          <a:blip r:embed="rId1"/>
          <a:stretch/>
        </p:blipFill>
        <p:spPr>
          <a:xfrm>
            <a:off x="179280" y="3716280"/>
            <a:ext cx="1943280" cy="165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ZLYH84CANZ7Q86CARCEUBCCATQ910RCAX9KJDKCAMAO46SCA9LJ5O8CAXZVRSDCAZNZC4UCA4WKC21CAYB7SPGCASBD756CA59MN13CA1MHCIHCA5V2262CAOY1V4GCA39V3XDCAS0RRW5CA329NF4"/>
          <p:cNvPicPr/>
          <p:nvPr/>
        </p:nvPicPr>
        <p:blipFill>
          <a:blip r:embed="rId2"/>
          <a:stretch/>
        </p:blipFill>
        <p:spPr>
          <a:xfrm>
            <a:off x="2122560" y="2060640"/>
            <a:ext cx="1942920" cy="165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JA1T9TCA4D7HS0CAL405DOCAFR1M80CAVX9HBTCA1ZZ6DOCAVOSGITCAX72GDMCAXWC6PCCAUQUJMKCA2A4UD1CAAEG3TXCAJ3K0CWCAGE8CHMCAA2M0JLCARO4VSSCA0I53F4CAX3Y1YACA85J3IO"/>
          <p:cNvPicPr/>
          <p:nvPr/>
        </p:nvPicPr>
        <p:blipFill>
          <a:blip r:embed="rId3"/>
          <a:stretch/>
        </p:blipFill>
        <p:spPr>
          <a:xfrm>
            <a:off x="179280" y="2060640"/>
            <a:ext cx="1943280" cy="1655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J3SWK2CAOC1G5VCA5J317SCA12EDNQCA8JOAOICANXN3ONCA5HJXQ3CACMF9SXCA7XTGTZCAON8ZHCCAP3CVATCA3H0PO0CA6LDWNMCAY516GJCA49VEF2CA9H8PNVCAUNBCTUCAMWQKFICAHB36EF"/>
          <p:cNvPicPr/>
          <p:nvPr/>
        </p:nvPicPr>
        <p:blipFill>
          <a:blip r:embed="rId4"/>
          <a:stretch/>
        </p:blipFill>
        <p:spPr>
          <a:xfrm>
            <a:off x="2122560" y="3716280"/>
            <a:ext cx="194292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Япон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341360"/>
            <a:ext cx="4259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44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амым популярным в наше время является театр кабуки, в котором актеры в ярких костюмах играют мелодраматические спектакли среди пышных декораци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144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108240" cy="3745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57782-kukla4i"/>
          <p:cNvPicPr/>
          <p:nvPr/>
        </p:nvPicPr>
        <p:blipFill>
          <a:blip r:embed="rId2"/>
          <a:stretch/>
        </p:blipFill>
        <p:spPr>
          <a:xfrm>
            <a:off x="826920" y="3933720"/>
            <a:ext cx="331344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ндийский театр.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ндийские театрализованные представления, как правило, имеют религиозную и философскую направленность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39610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ндий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радиционная индийская комеди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Актеры исполняют пьесу, в основе которой лежит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южет из «Рамаяны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3" name="Picture 4" descr="0137"/>
          <p:cNvPicPr/>
          <p:nvPr/>
        </p:nvPicPr>
        <p:blipFill>
          <a:blip r:embed="rId1"/>
          <a:stretch/>
        </p:blipFill>
        <p:spPr>
          <a:xfrm>
            <a:off x="4643280" y="1989000"/>
            <a:ext cx="39164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Европейский театр XVII-XVIII вв. 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олотой век европейского театра пришелся на XVII-XVIII вв. В начале 1660-х годов в состав английских театральных трупп начали принимать женщин-актрис, и с тех пор мужчины перестали играть женские роли. Царившая на сцене искусственность уступила место более естественному стилю игр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2151000" cy="3456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527220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5343480" y="4811760"/>
            <a:ext cx="362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рожденный акте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гличанин Дейвид Гаррик прославился как лучший драматический актер 18-го 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Француз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антомима - это театральное представление, в котором смысл и содержание происходящего передается с помощью жестов, пластики и мимики. Киноактеры начала XX в., например Чарли Чаплин, использовали технику пантомимы, поскольку их персонажи не имели возможности говорить. Пластика мима - это способ передать чувства и эмоции персонажа зрителю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50208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WordArt 4"/>
          <p:cNvGrpSpPr/>
          <p:nvPr/>
        </p:nvGrpSpPr>
        <p:grpSpPr>
          <a:xfrm>
            <a:off x="1116000" y="2706840"/>
            <a:ext cx="6838920" cy="1420560"/>
            <a:chOff x="1116000" y="2706840"/>
            <a:chExt cx="6838920" cy="1420560"/>
          </a:xfrm>
        </p:grpSpPr>
        <p:pic>
          <p:nvPicPr>
            <p:cNvPr id="283" name="WordArt 4" descr=""/>
            <p:cNvPicPr/>
            <p:nvPr/>
          </p:nvPicPr>
          <p:blipFill>
            <a:blip r:embed="rId1"/>
            <a:stretch/>
          </p:blipFill>
          <p:spPr>
            <a:xfrm>
              <a:off x="1116000" y="2706840"/>
              <a:ext cx="683712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116000" y="2708280"/>
              <a:ext cx="683892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ЕМНОГО О ТЕАТРАХ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Начинающие и опытные актер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8360" y="4581360"/>
            <a:ext cx="347832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тоящий на коленях актер изображает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шута из пьесы Шекспира «король Лир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рагедия Шекспир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044800" cy="280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824200" cy="432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9"/>
          <p:cNvSpPr/>
          <p:nvPr/>
        </p:nvSpPr>
        <p:spPr>
          <a:xfrm>
            <a:off x="5796000" y="5667480"/>
            <a:ext cx="30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огда начинающие актеры устраива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ставления прямо на городских улиц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Театральные костюм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2960" y="1185840"/>
            <a:ext cx="43923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каждом театре имеется собственный набор костюмов, париков, накладных бород и усов. За реквизитом и гардеробом следит специальный персонал. Костюмеры заботятся о подготовке необходимого платья к спектаклю, при необходимости чистят и ремонтируют вещи. В больших театрах с разнообразным репертуаром гардероб может состоять из сотен костюм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600360" cy="3816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nude"/>
          <p:cNvPicPr/>
          <p:nvPr/>
        </p:nvPicPr>
        <p:blipFill>
          <a:blip r:embed="rId2"/>
          <a:stretch/>
        </p:blipFill>
        <p:spPr>
          <a:xfrm>
            <a:off x="103320" y="470844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kazarn_1"/>
          <p:cNvPicPr/>
          <p:nvPr/>
        </p:nvPicPr>
        <p:blipFill>
          <a:blip r:embed="rId3"/>
          <a:stretch/>
        </p:blipFill>
        <p:spPr>
          <a:xfrm>
            <a:off x="2701800" y="4708440"/>
            <a:ext cx="1914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За кулисами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За театральными кулисами скрыто звуковое и осветительное оборудование, пульт управления декорациями и занавесом, сценические механизмы. Во время представления в небольшой комнатке под сценой находится суфлер, который в случае необходимости может подсказать актеру забытую реплику. В театральных кладовых хранятся декорации, реквизит и костюмы. За сценой располагаются гримерные актер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57200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1" name="WordArt 4" descr=""/>
          <p:cNvPicPr/>
          <p:nvPr/>
        </p:nvPicPr>
        <p:blipFill>
          <a:blip r:embed="rId1"/>
          <a:stretch/>
        </p:blipFill>
        <p:spPr>
          <a:xfrm>
            <a:off x="450720" y="2193840"/>
            <a:ext cx="828540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СТОРИ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ткрытый теат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ревнегреческие представления проходили в открытых амфитеатрах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0669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СТОРИ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 переводе с греческого «театр» означает место для представлений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о время древнегреческих религиозных празднеств актеры разыгрывали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еред публикой комедии и трагедии. В эпоху Возрождения в Европе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явились профессиональные актерские  труппы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39640" y="1941480"/>
            <a:ext cx="367200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СТОРИ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ервые театры создавались исключительно для увеселения аристократов, которые покровительствовали театральным труппам и иногда принимали участие в постановке пьес. Однако к XV-XVI вв. представления начали посещать и простые люди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960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252" name="WordArt 4"/>
          <p:cNvGrpSpPr/>
          <p:nvPr/>
        </p:nvGrpSpPr>
        <p:grpSpPr>
          <a:xfrm>
            <a:off x="396720" y="2706840"/>
            <a:ext cx="8423280" cy="2090520"/>
            <a:chOff x="396720" y="2706840"/>
            <a:chExt cx="8423280" cy="2090520"/>
          </a:xfrm>
        </p:grpSpPr>
        <p:pic>
          <p:nvPicPr>
            <p:cNvPr id="253" name="WordArt 4" descr=""/>
            <p:cNvPicPr/>
            <p:nvPr/>
          </p:nvPicPr>
          <p:blipFill>
            <a:blip r:embed="rId1"/>
            <a:stretch/>
          </p:blipFill>
          <p:spPr>
            <a:xfrm>
              <a:off x="397800" y="2706840"/>
              <a:ext cx="842184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96720" y="2708280"/>
              <a:ext cx="842328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атры народов мир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Древнегреческий и древнеримский театры.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99840"/>
            <a:ext cx="404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Древнегреческие и древнеримские драматурги сочиняли трагедии и комедии, основанные на сюжетах мифов и легенд. Эти пьесы исполнялись во время больших праздников, множество людей собиралось посмотреть на представление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67200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Древнегреческий и древнеримский театры.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4183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Актеры надевали маски, символизирующие характеры действующих лиц. Во время спектакля декламация актеров перемежалась хоровым пением. В Древней Греции большей популярностью пользовались трагедии, а в Древнем Риме - комеди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25653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Япон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Японии существует три основных театральных направления. Пьесы театра но - это разновидность религиозных церемоний, которые когда-то исполнялись в святилищах. В основе этих спектаклей лежат мифы и легенды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3" name="Picture 4" descr="110s"/>
          <p:cNvPicPr/>
          <p:nvPr/>
        </p:nvPicPr>
        <p:blipFill>
          <a:blip r:embed="rId1"/>
          <a:stretch/>
        </p:blipFill>
        <p:spPr>
          <a:xfrm>
            <a:off x="5219640" y="1700280"/>
            <a:ext cx="3382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5:51:54Z</dcterms:created>
  <dc:creator>пользователь</dc:creator>
  <dc:description/>
  <dc:language>en-US</dc:language>
  <cp:lastModifiedBy>Кристина</cp:lastModifiedBy>
  <dcterms:modified xsi:type="dcterms:W3CDTF">2016-03-11T12:22:48Z</dcterms:modified>
  <cp:revision>9</cp:revision>
  <dc:subject/>
  <dc:title>Театр</dc:title>
</cp:coreProperties>
</file>