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2.png" ContentType="image/png"/>
  <Override PartName="/ppt/media/image13.png" ContentType="image/pn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96B-9B00-436C-8C61-AB6E68F9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B2D-DF1F-4F63-9E2A-843F14E2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A58-CCD8-42AA-90D3-06D6283B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C26-4D2B-4AEA-87DF-671066F9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416E-5E01-4CEE-AB22-48FC77B5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D235-7E9D-4856-8350-00193D38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DB66-584E-47D2-86FC-4DE37C23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048F-23C9-46CA-AFF3-B5E25FBB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6CEC-FF53-43EC-BCDC-D5C92D34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CEBA-0702-4FFE-9CE4-C62381CF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4748-8C3F-4E10-93F3-165DE83D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115-A81E-4B03-B8F3-DA45F70F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FDDA-7C15-4786-B121-7FB8C5A2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192A-4C46-402E-A90F-23166C5D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FDAB-2ECB-4FD5-BA42-412FCEFE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B083-1ADA-4FFD-8C29-C273EBE4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51E6-E05C-4965-B74E-56926530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661F1-8655-428E-9462-5706A056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55DE4-5B5D-46A8-B7D2-E30C8721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873DD-654F-49D7-AD6B-81F4B6DD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0E158-5D1D-4E19-8BFD-A9381FEB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AD839-C0E6-410B-8EED-157FC548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827-AF8E-420A-8989-C4C285FA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FB0DD-097C-45B4-9AF1-E41EA0AF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4C333-ACC0-4FA7-9EE7-9CA765CF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6FB3B-5F01-4CC1-AEA0-7F63E727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530EA-4AA3-49F1-A6C4-E1192BDF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20485-6D95-4C21-A6A2-5C088330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995CC-7C63-4E53-AA9F-8D374677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D8EB1-85D1-4327-807C-773D5EC4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AA6B1-AE5D-41E1-AD14-1F6A1AE4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8D7C5-91D1-4EE3-89CF-B623D01E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8C205-A852-4DB7-90B2-55A07F5E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54A-D4C3-4DD5-8E32-259CCF8C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E550D-E336-4B14-B721-033322A2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5B5F2-BF85-46BF-AF36-00064FDC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B7E19-6632-4D7C-A642-79C31EDF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B7386-F52A-4C1F-A5DE-1FE3F289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2B9E3-2A17-45B4-AF3A-4FF2F209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F09F7-BA72-40E9-8C98-1B7CD0A0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E0DE3-EE20-4D01-BA74-8E181F37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F831A-8F21-4C8A-86D0-276D8F84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0079E-628B-48E2-B01D-9C502DF7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966-2CB0-4855-B707-89073569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FB7-69C7-435C-97A6-8C4818BC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AB9-0516-49C6-B948-0E2FF71F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E3F-EDE4-4DDF-A434-A87762D4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D40-C87C-4D35-8343-93CD6D27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A6E6-BB9D-4FFD-9F73-1F1A68FACF96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150E-69EA-4622-AD50-CDBDC6D5B36A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302B-29A5-49C1-A3EA-AFC3411EBBBD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76FF-233C-4597-AFBB-97F915BFA101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ebebeb"/>
                </a:solidFill>
                <a:latin typeface="Century Gothic"/>
              </a:rPr>
              <a:t>Теат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086000" y="1599840"/>
            <a:ext cx="460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ловом "театр" можно назвать любое представление перед какой-либо аудиторией. Как правило, в театре группа актеров исполняет для зрителей различные пьесы - комедии, трагедии или драмы. Театр - один из древнейших видов искусств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6" name="Picture 5" descr="ALDE4CCAFW2399CAIIZ9QBCATMEJ73CAKG3BIQCAULB551CA6APKW3CAT3ZDSCCAX2KRN4CAMEK1DQCAP9M8WDCASVUK9KCACR76OVCA34MKTYCAAW1YRZCA14WID2CA12BMMKCAVG03MWCAJ9GBDL"/>
          <p:cNvPicPr/>
          <p:nvPr/>
        </p:nvPicPr>
        <p:blipFill>
          <a:blip r:embed="rId1"/>
          <a:stretch/>
        </p:blipFill>
        <p:spPr>
          <a:xfrm>
            <a:off x="179280" y="3716280"/>
            <a:ext cx="1943280" cy="165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ZLYH84CANZ7Q86CARCEUBCCATQ910RCAX9KJDKCAMAO46SCA9LJ5O8CAXZVRSDCAZNZC4UCA4WKC21CAYB7SPGCASBD756CA59MN13CA1MHCIHCA5V2262CAOY1V4GCA39V3XDCAS0RRW5CA329NF4"/>
          <p:cNvPicPr/>
          <p:nvPr/>
        </p:nvPicPr>
        <p:blipFill>
          <a:blip r:embed="rId2"/>
          <a:stretch/>
        </p:blipFill>
        <p:spPr>
          <a:xfrm>
            <a:off x="2122560" y="2060640"/>
            <a:ext cx="1942920" cy="1655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JA1T9TCA4D7HS0CAL405DOCAFR1M80CAVX9HBTCA1ZZ6DOCAVOSGITCAX72GDMCAXWC6PCCAUQUJMKCA2A4UD1CAAEG3TXCAJ3K0CWCAGE8CHMCAA2M0JLCARO4VSSCA0I53F4CAX3Y1YACA85J3IO"/>
          <p:cNvPicPr/>
          <p:nvPr/>
        </p:nvPicPr>
        <p:blipFill>
          <a:blip r:embed="rId3"/>
          <a:stretch/>
        </p:blipFill>
        <p:spPr>
          <a:xfrm>
            <a:off x="179280" y="2060640"/>
            <a:ext cx="1943280" cy="1655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J3SWK2CAOC1G5VCA5J317SCA12EDNQCA8JOAOICANXN3ONCA5HJXQ3CACMF9SXCA7XTGTZCAON8ZHCCAP3CVATCA3H0PO0CA6LDWNMCAY516GJCA49VEF2CA9H8PNVCAUNBCTUCAMWQKFICAHB36EF"/>
          <p:cNvPicPr/>
          <p:nvPr/>
        </p:nvPicPr>
        <p:blipFill>
          <a:blip r:embed="rId4"/>
          <a:stretch/>
        </p:blipFill>
        <p:spPr>
          <a:xfrm>
            <a:off x="2122560" y="3716280"/>
            <a:ext cx="194292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Японский теат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341360"/>
            <a:ext cx="42591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44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амым популярным в наше время является театр кабуки, в котором актеры в ярких костюмах играют мелодраматические спектакли среди пышных декораций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144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108240" cy="3745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57782-kukla4i"/>
          <p:cNvPicPr/>
          <p:nvPr/>
        </p:nvPicPr>
        <p:blipFill>
          <a:blip r:embed="rId2"/>
          <a:stretch/>
        </p:blipFill>
        <p:spPr>
          <a:xfrm>
            <a:off x="826920" y="3933720"/>
            <a:ext cx="331344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Индийский театр.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Индийские театрализованные представления, как правило, имеют религиозную и философскую направленность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396108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Индийский теат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радиционная индийская комедия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Актеры исполняют пьесу, в основе которой лежит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южет из «Рамаяны»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3" name="Picture 4" descr="0137"/>
          <p:cNvPicPr/>
          <p:nvPr/>
        </p:nvPicPr>
        <p:blipFill>
          <a:blip r:embed="rId1"/>
          <a:stretch/>
        </p:blipFill>
        <p:spPr>
          <a:xfrm>
            <a:off x="4643280" y="1989000"/>
            <a:ext cx="391644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Европейский театр XVII-XVIII вв. 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олотой век европейского театра пришелся на XVII-XVIII вв. В начале 1660-х годов в состав английских театральных трупп начали принимать женщин-актрис, и с тех пор мужчины перестали играть женские роли. Царившая на сцене искусственность уступила место более естественному стилю игр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5651640" y="1052640"/>
            <a:ext cx="2151000" cy="3456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5272200" y="481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5343480" y="4811760"/>
            <a:ext cx="362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рожденный акте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нгличанин Дейвид Гаррик прославился как лучший драматический актер 18-го 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Французский теат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антомима - это театральное представление, в котором смысл и содержание происходящего передается с помощью жестов, пластики и мимики. Киноактеры начала XX в., например Чарли Чаплин, использовали технику пантомимы, поскольку их персонажи не имели возможности говорить. Пластика мима - это способ передать чувства и эмоции персонажа зрителю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502080" cy="34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WordArt 4"/>
          <p:cNvGrpSpPr/>
          <p:nvPr/>
        </p:nvGrpSpPr>
        <p:grpSpPr>
          <a:xfrm>
            <a:off x="1116000" y="2706840"/>
            <a:ext cx="6838920" cy="1420560"/>
            <a:chOff x="1116000" y="2706840"/>
            <a:chExt cx="6838920" cy="1420560"/>
          </a:xfrm>
        </p:grpSpPr>
        <p:pic>
          <p:nvPicPr>
            <p:cNvPr id="283" name="WordArt 4" descr=""/>
            <p:cNvPicPr/>
            <p:nvPr/>
          </p:nvPicPr>
          <p:blipFill>
            <a:blip r:embed="rId1"/>
            <a:stretch/>
          </p:blipFill>
          <p:spPr>
            <a:xfrm>
              <a:off x="1116000" y="2706840"/>
              <a:ext cx="683712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116000" y="2708280"/>
              <a:ext cx="683892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НЕМНОГО О ТЕАТРАХ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Начинающие и опытные актеры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68360" y="4581360"/>
            <a:ext cx="347832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тоящий на коленях актер изображает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шута из пьесы Шекспира «король Лир»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Трагедия Шекспира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7" name="Picture 6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2044800" cy="280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"/>
          <p:cNvPicPr/>
          <p:nvPr/>
        </p:nvPicPr>
        <p:blipFill>
          <a:blip r:embed="rId2"/>
          <a:stretch/>
        </p:blipFill>
        <p:spPr>
          <a:xfrm>
            <a:off x="5867280" y="1268280"/>
            <a:ext cx="2824200" cy="43214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9"/>
          <p:cNvSpPr/>
          <p:nvPr/>
        </p:nvSpPr>
        <p:spPr>
          <a:xfrm>
            <a:off x="5796000" y="5667480"/>
            <a:ext cx="30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огда начинающие актеры устраиваю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ставления прямо на городских улиц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Театральные костюмы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02960" y="1185840"/>
            <a:ext cx="439236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 каждом театре имеется собственный набор костюмов, париков, накладных бород и усов. За реквизитом и гардеробом следит специальный персонал. Костюмеры заботятся о подготовке необходимого платья к спектаклю, при необходимости чистят и ремонтируют вещи. В больших театрах с разнообразным репертуаром гардероб может состоять из сотен костюм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600360" cy="3816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nude"/>
          <p:cNvPicPr/>
          <p:nvPr/>
        </p:nvPicPr>
        <p:blipFill>
          <a:blip r:embed="rId2"/>
          <a:stretch/>
        </p:blipFill>
        <p:spPr>
          <a:xfrm>
            <a:off x="103320" y="470844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kazarn_1"/>
          <p:cNvPicPr/>
          <p:nvPr/>
        </p:nvPicPr>
        <p:blipFill>
          <a:blip r:embed="rId3"/>
          <a:stretch/>
        </p:blipFill>
        <p:spPr>
          <a:xfrm>
            <a:off x="2701800" y="4708440"/>
            <a:ext cx="1914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За кулисами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За театральными кулисами скрыто звуковое и осветительное оборудование, пульт управления декорациями и занавесом, сценические механизмы. Во время представления в небольшой комнатке под сценой находится суфлер, который в случае необходимости может подсказать актеру забытую реплику. В театральных кладовых хранятся декорации, реквизит и костюмы. За сценой располагаются гримерные актер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57200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41" name="WordArt 4" descr=""/>
          <p:cNvPicPr/>
          <p:nvPr/>
        </p:nvPicPr>
        <p:blipFill>
          <a:blip r:embed="rId1"/>
          <a:stretch/>
        </p:blipFill>
        <p:spPr>
          <a:xfrm>
            <a:off x="450720" y="2193840"/>
            <a:ext cx="828540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ИСТОРИЯ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ткрытый театр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Древнегреческие представления проходили в открытых амфитеатрах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0669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ИСТОРИЯ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14000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 переводе с греческого «театр» означает место для представлений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о время древнегреческих религиозных празднеств актеры разыгрывали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еред публикой комедии и трагедии. В эпоху Возрождения в Европе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оявились профессиональные актерские  труппы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539640" y="1941480"/>
            <a:ext cx="367200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ИСТОРИЯ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ервые театры создавались исключительно для увеселения аристократов, которые покровительствовали театральным труппам и иногда принимали участие в постановке пьес. Однако к XV-XVI вв. представления начали посещать и простые люди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960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252" name="WordArt 4"/>
          <p:cNvGrpSpPr/>
          <p:nvPr/>
        </p:nvGrpSpPr>
        <p:grpSpPr>
          <a:xfrm>
            <a:off x="396720" y="2706840"/>
            <a:ext cx="8423280" cy="2090520"/>
            <a:chOff x="396720" y="2706840"/>
            <a:chExt cx="8423280" cy="2090520"/>
          </a:xfrm>
        </p:grpSpPr>
        <p:pic>
          <p:nvPicPr>
            <p:cNvPr id="253" name="WordArt 4" descr=""/>
            <p:cNvPicPr/>
            <p:nvPr/>
          </p:nvPicPr>
          <p:blipFill>
            <a:blip r:embed="rId1"/>
            <a:stretch/>
          </p:blipFill>
          <p:spPr>
            <a:xfrm>
              <a:off x="397800" y="2706840"/>
              <a:ext cx="842184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96720" y="2708280"/>
              <a:ext cx="842328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еатры народов мир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Древнегреческий и древнеримский театры.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599840"/>
            <a:ext cx="4046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Древнегреческие и древнеримские драматурги сочиняли трагедии и комедии, основанные на сюжетах мифов и легенд. Эти пьесы исполнялись во время больших праздников, множество людей собиралось посмотреть на представление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67200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ebebeb"/>
                </a:solidFill>
                <a:latin typeface="Century Gothic"/>
              </a:rPr>
              <a:t>Древнегреческий и древнеримский театры.</a:t>
            </a: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4183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Актеры надевали маски, символизирующие характеры действующих лиц. Во время спектакля декламация актеров перемежалась хоровым пением. В Древней Греции большей популярностью пользовались трагедии, а в Древнем Риме - комедии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256536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Японский театр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Японии существует три основных театральных направления. Пьесы театра но - это разновидность религиозных церемоний, которые когда-то исполнялись в святилищах. В основе этих спектаклей лежат мифы и легенды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3" name="Picture 4" descr="110s"/>
          <p:cNvPicPr/>
          <p:nvPr/>
        </p:nvPicPr>
        <p:blipFill>
          <a:blip r:embed="rId1"/>
          <a:stretch/>
        </p:blipFill>
        <p:spPr>
          <a:xfrm>
            <a:off x="5219640" y="1700280"/>
            <a:ext cx="33829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5:51:54Z</dcterms:created>
  <dc:creator>пользователь</dc:creator>
  <dc:description/>
  <dc:language>en-US</dc:language>
  <cp:lastModifiedBy>Кристина</cp:lastModifiedBy>
  <dcterms:modified xsi:type="dcterms:W3CDTF">2016-03-11T12:22:48Z</dcterms:modified>
  <cp:revision>9</cp:revision>
  <dc:subject/>
  <dc:title>Театр</dc:title>
</cp:coreProperties>
</file>