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12.png" ContentType="image/png"/>
  <Override PartName="/ppt/media/image13.png" ContentType="image/png"/>
  <Override PartName="/ppt/media/image30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5C7E-0160-40EA-A8EF-2D25822F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D034-1FCC-4356-9F2B-72838376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A4F0-328C-4D43-AF56-78FDA7E3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0483-6EAB-4FB7-A510-1ACAB51A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DCAE-5775-4421-9D70-9323588C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371E-E810-4DB1-97CC-3B1A6490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55AD-6534-4008-BD82-B454C973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2FA9-41E4-4285-A89C-C08511B1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687B-004C-43A3-B670-76972C0F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4424-63EF-46DE-8691-626544A6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1834-AFDD-4B73-B0A6-F3F1C0A2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C51-F483-4EBA-9A57-8680E126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B80E-09C2-4D3B-A7D7-940210A9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8F43-5347-4BB6-B972-8AA7E6DB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2D4A-304E-4AF5-A18A-037B1C1F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CEEF-4783-4B16-8061-6E60AC26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A97A-00FF-4856-8D66-0C29A95C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66950-F948-4BA5-818A-1EDF08F9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DC088-A119-4BDA-97EF-7E3E0FC2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EEAF5-07A3-4356-B4F5-FA56006F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4971F-7423-4A68-875A-2E03322D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02A38-8527-43BC-B960-2FF34570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88E8-2243-4EDB-812E-5D3DA43A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ECF30-22BA-4809-A60C-4C3F2A59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9E2AE-6945-4456-8781-D0EEC209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FD9F8-0D9E-4FA9-992C-4BE6C962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758D6-B76F-461D-B5C0-AD72C2D8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78EAE-6D82-4094-A2BA-9602B1D9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92207-971D-4CFA-B3B7-24F94FBF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DB63C-BC92-4E55-BBEB-C7F17854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9E786-6493-494B-B0D7-9884B024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537EA-6DEF-491C-A15B-E454CA0A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FBAD4-6C22-4CBF-8FDE-54A1A257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C449-8BDA-48E5-941E-E079E262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481C4-5A1C-4BDD-A05B-E15F2D1D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D18FD-46DB-4D1F-98B6-13FB0DDC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DF317-D839-468E-B58E-241B01A3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CF4AB-EEC9-401D-B895-FF464B8C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3E7A1-97E6-42E1-BBF8-ADE86A57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1A8FB-2BE7-4FFD-BB34-CFF0CCA2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0D69D-A3DF-4BB3-BA49-F8A7B7F0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5AFD7-DACE-4B23-AC0A-18404F2F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17450-B2C9-4840-86B4-1D09385A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2D05-82D0-4584-8D86-13AF152F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770-71C0-425B-A3BC-1D1FB6DA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A69C-2761-4C13-80F1-F02AA135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F62-5F65-4574-BB78-0511B101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F1A1-D591-4E15-8D4A-C7B39ED6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B99D-626A-40AF-A96D-41D04AE9D879}" type="slidenum">
              <a:rPr b="0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33B5-4CAF-435E-B7F9-71C32F1E518F}" type="slidenum">
              <a:rPr b="0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D44E-951C-4CD4-BBC1-49302C5157DE}" type="slidenum">
              <a:rPr b="0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755F-4103-4E8F-9517-798AFE7185BC}" type="slidenum">
              <a:rPr b="0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Театр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086000" y="1599840"/>
            <a:ext cx="4600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ловом "театр" можно назвать любое представление перед какой-либо аудиторией. Как правило, в театре группа актеров исполняет для зрителей различные пьесы - комедии, трагедии или драмы. Театр - один из древнейших видов искусств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6" name="Picture 5" descr="ALDE4CCAFW2399CAIIZ9QBCATMEJ73CAKG3BIQCAULB551CA6APKW3CAT3ZDSCCAX2KRN4CAMEK1DQCAP9M8WDCASVUK9KCACR76OVCA34MKTYCAAW1YRZCA14WID2CA12BMMKCAVG03MWCAJ9GBDL"/>
          <p:cNvPicPr/>
          <p:nvPr/>
        </p:nvPicPr>
        <p:blipFill>
          <a:blip r:embed="rId1"/>
          <a:stretch/>
        </p:blipFill>
        <p:spPr>
          <a:xfrm>
            <a:off x="179280" y="3716280"/>
            <a:ext cx="1943280" cy="1656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ZLYH84CANZ7Q86CARCEUBCCATQ910RCAX9KJDKCAMAO46SCA9LJ5O8CAXZVRSDCAZNZC4UCA4WKC21CAYB7SPGCASBD756CA59MN13CA1MHCIHCA5V2262CAOY1V4GCA39V3XDCAS0RRW5CA329NF4"/>
          <p:cNvPicPr/>
          <p:nvPr/>
        </p:nvPicPr>
        <p:blipFill>
          <a:blip r:embed="rId2"/>
          <a:stretch/>
        </p:blipFill>
        <p:spPr>
          <a:xfrm>
            <a:off x="2122560" y="2060640"/>
            <a:ext cx="1942920" cy="1655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JA1T9TCA4D7HS0CAL405DOCAFR1M80CAVX9HBTCA1ZZ6DOCAVOSGITCAX72GDMCAXWC6PCCAUQUJMKCA2A4UD1CAAEG3TXCAJ3K0CWCAGE8CHMCAA2M0JLCARO4VSSCA0I53F4CAX3Y1YACA85J3IO"/>
          <p:cNvPicPr/>
          <p:nvPr/>
        </p:nvPicPr>
        <p:blipFill>
          <a:blip r:embed="rId3"/>
          <a:stretch/>
        </p:blipFill>
        <p:spPr>
          <a:xfrm>
            <a:off x="179280" y="2060640"/>
            <a:ext cx="1943280" cy="1655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J3SWK2CAOC1G5VCA5J317SCA12EDNQCA8JOAOICANXN3ONCA5HJXQ3CACMF9SXCA7XTGTZCAON8ZHCCAP3CVATCA3H0PO0CA6LDWNMCAY516GJCA49VEF2CA9H8PNVCAUNBCTUCAMWQKFICAHB36EF"/>
          <p:cNvPicPr/>
          <p:nvPr/>
        </p:nvPicPr>
        <p:blipFill>
          <a:blip r:embed="rId4"/>
          <a:stretch/>
        </p:blipFill>
        <p:spPr>
          <a:xfrm>
            <a:off x="2122560" y="3716280"/>
            <a:ext cx="194292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Японский театр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341360"/>
            <a:ext cx="425916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44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Самым популярным в наше время является театр кабуки, в котором актеры в ярких костюмах играют мелодраматические спектакли среди пышных декораций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indent="144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3108240" cy="3745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57782-kukla4i"/>
          <p:cNvPicPr/>
          <p:nvPr/>
        </p:nvPicPr>
        <p:blipFill>
          <a:blip r:embed="rId2"/>
          <a:stretch/>
        </p:blipFill>
        <p:spPr>
          <a:xfrm>
            <a:off x="826920" y="3933720"/>
            <a:ext cx="331344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Индийский театр.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Индийские театрализованные представления, как правило, имеют религиозную и философскую направленность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396108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Индийский театр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Традиционная индийская комедия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Актеры исполняют пьесу, в основе которой лежит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южет из «Рамаяны»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3" name="Picture 4" descr="0137"/>
          <p:cNvPicPr/>
          <p:nvPr/>
        </p:nvPicPr>
        <p:blipFill>
          <a:blip r:embed="rId1"/>
          <a:stretch/>
        </p:blipFill>
        <p:spPr>
          <a:xfrm>
            <a:off x="4643280" y="1989000"/>
            <a:ext cx="391644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800" spc="-1" strike="noStrike">
                <a:solidFill>
                  <a:srgbClr val="ebebeb"/>
                </a:solidFill>
                <a:latin typeface="Century Gothic"/>
              </a:rPr>
              <a:t>Европейский театр XVII-XVIII вв. </a:t>
            </a:r>
            <a:endParaRPr b="0" lang="en-US" sz="3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Золотой век европейского театра пришелся на XVII-XVIII вв. В начале 1660-х годов в состав английских театральных трупп начали принимать женщин-актрис, и с тех пор мужчины перестали играть женские роли. Царившая на сцене искусственность уступила место более естественному стилю игры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5651640" y="1052640"/>
            <a:ext cx="2151000" cy="3456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"/>
          <p:cNvSpPr/>
          <p:nvPr/>
        </p:nvSpPr>
        <p:spPr>
          <a:xfrm>
            <a:off x="5272200" y="4811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5343480" y="4811760"/>
            <a:ext cx="362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рожденный акте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нгличанин Дейвид Гаррик прославился как лучший драматический актер 18-го 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Французский театр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антомима - это театральное представление, в котором смысл и содержание происходящего передается с помощью жестов, пластики и мимики. Киноактеры начала XX в., например Чарли Чаплин, использовали технику пантомимы, поскольку их персонажи не имели возможности говорить. Пластика мима - это способ передать чувства и эмоции персонажа зрителю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3502080" cy="34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WordArt 4"/>
          <p:cNvGrpSpPr/>
          <p:nvPr/>
        </p:nvGrpSpPr>
        <p:grpSpPr>
          <a:xfrm>
            <a:off x="1116000" y="2706840"/>
            <a:ext cx="6838920" cy="1420560"/>
            <a:chOff x="1116000" y="2706840"/>
            <a:chExt cx="6838920" cy="1420560"/>
          </a:xfrm>
        </p:grpSpPr>
        <p:pic>
          <p:nvPicPr>
            <p:cNvPr id="283" name="WordArt 4" descr=""/>
            <p:cNvPicPr/>
            <p:nvPr/>
          </p:nvPicPr>
          <p:blipFill>
            <a:blip r:embed="rId1"/>
            <a:stretch/>
          </p:blipFill>
          <p:spPr>
            <a:xfrm>
              <a:off x="1116000" y="2706840"/>
              <a:ext cx="683712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116000" y="2708280"/>
              <a:ext cx="6838920" cy="14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НЕМНОГО О ТЕАТРАХ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Начинающие и опытные актеры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68360" y="4581360"/>
            <a:ext cx="347832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тоящий на коленях актер изображает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шута из пьесы Шекспира «король Лир»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Трагедия Шекспира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87" name="Picture 6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2044800" cy="280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"/>
          <p:cNvPicPr/>
          <p:nvPr/>
        </p:nvPicPr>
        <p:blipFill>
          <a:blip r:embed="rId2"/>
          <a:stretch/>
        </p:blipFill>
        <p:spPr>
          <a:xfrm>
            <a:off x="5867280" y="1268280"/>
            <a:ext cx="2824200" cy="43214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9"/>
          <p:cNvSpPr/>
          <p:nvPr/>
        </p:nvSpPr>
        <p:spPr>
          <a:xfrm>
            <a:off x="5796000" y="5667480"/>
            <a:ext cx="30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огда начинающие актеры устраиваю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ставления прямо на городских улица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Театральные костюмы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02960" y="1185840"/>
            <a:ext cx="439236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 каждом театре имеется собственный набор костюмов, париков, накладных бород и усов. За реквизитом и гардеробом следит специальный персонал. Костюмеры заботятся о подготовке необходимого платья к спектаклю, при необходимости чистят и ремонтируют вещи. В больших театрах с разнообразным репертуаром гардероб может состоять из сотен костюмов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3600360" cy="3816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nude"/>
          <p:cNvPicPr/>
          <p:nvPr/>
        </p:nvPicPr>
        <p:blipFill>
          <a:blip r:embed="rId2"/>
          <a:stretch/>
        </p:blipFill>
        <p:spPr>
          <a:xfrm>
            <a:off x="103320" y="470844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kazarn_1"/>
          <p:cNvPicPr/>
          <p:nvPr/>
        </p:nvPicPr>
        <p:blipFill>
          <a:blip r:embed="rId3"/>
          <a:stretch/>
        </p:blipFill>
        <p:spPr>
          <a:xfrm>
            <a:off x="2701800" y="4708440"/>
            <a:ext cx="19144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За кулисами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599840"/>
            <a:ext cx="418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За театральными кулисами скрыто звуковое и осветительное оборудование, пульт управления декорациями и занавесом, сценические механизмы. Во время представления в небольшой комнатке под сценой находится суфлер, который в случае необходимости может подсказать актеру забытую реплику. В театральных кладовых хранятся декорации, реквизит и костюмы. За сценой располагаются гримерные актеров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572000" cy="31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41" name="WordArt 4" descr=""/>
          <p:cNvPicPr/>
          <p:nvPr/>
        </p:nvPicPr>
        <p:blipFill>
          <a:blip r:embed="rId1"/>
          <a:stretch/>
        </p:blipFill>
        <p:spPr>
          <a:xfrm>
            <a:off x="450720" y="2193840"/>
            <a:ext cx="828540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ИСТОРИЯ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40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ткрытый театр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Древнегреческие представления проходили в открытых амфитеатрах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4500720" y="2060640"/>
            <a:ext cx="406692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ИСТОРИЯ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140000" y="1599840"/>
            <a:ext cx="4546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В переводе с греческого «театр» означает место для представлений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Во время древнегреческих религиозных празднеств актеры разыгрывали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еред публикой комедии и трагедии. В эпоху Возрождения в Европе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оявились профессиональные актерские  труппы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539640" y="1941480"/>
            <a:ext cx="3672000" cy="33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ИСТОРИЯ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418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ервые театры создавались исключительно для увеселения аристократов, которые покровительствовали театральным труппам и иногда принимали участие в постановке пьес. Однако к XV-XVI вв. представления начали посещать и простые люди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39607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grpSp>
        <p:nvGrpSpPr>
          <p:cNvPr id="252" name="WordArt 4"/>
          <p:cNvGrpSpPr/>
          <p:nvPr/>
        </p:nvGrpSpPr>
        <p:grpSpPr>
          <a:xfrm>
            <a:off x="396720" y="2706840"/>
            <a:ext cx="8423280" cy="2090520"/>
            <a:chOff x="396720" y="2706840"/>
            <a:chExt cx="8423280" cy="2090520"/>
          </a:xfrm>
        </p:grpSpPr>
        <p:pic>
          <p:nvPicPr>
            <p:cNvPr id="253" name="WordArt 4" descr=""/>
            <p:cNvPicPr/>
            <p:nvPr/>
          </p:nvPicPr>
          <p:blipFill>
            <a:blip r:embed="rId1"/>
            <a:stretch/>
          </p:blipFill>
          <p:spPr>
            <a:xfrm>
              <a:off x="397800" y="2706840"/>
              <a:ext cx="842184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396720" y="2708280"/>
              <a:ext cx="842328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атры народов мир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800" spc="-1" strike="noStrike">
                <a:solidFill>
                  <a:srgbClr val="ebebeb"/>
                </a:solidFill>
                <a:latin typeface="Century Gothic"/>
              </a:rPr>
              <a:t>Древнегреческий и древнеримский театры.</a:t>
            </a:r>
            <a:endParaRPr b="0" lang="en-US" sz="3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599840"/>
            <a:ext cx="4046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Древнегреческие и древнеримские драматурги сочиняли трагедии и комедии, основанные на сюжетах мифов и легенд. Эти пьесы исполнялись во время больших праздников, множество людей собиралось посмотреть на представление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4932360" y="1916280"/>
            <a:ext cx="3672000" cy="38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800" spc="-1" strike="noStrike">
                <a:solidFill>
                  <a:srgbClr val="ebebeb"/>
                </a:solidFill>
                <a:latin typeface="Century Gothic"/>
              </a:rPr>
              <a:t>Древнегреческий и древнеримский театры.</a:t>
            </a:r>
            <a:endParaRPr b="0" lang="en-US" sz="3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599840"/>
            <a:ext cx="4183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Актеры надевали маски, символизирующие характеры действующих лиц. Во время спектакля декламация актеров перемежалась хоровым пением. В Древней Греции большей популярностью пользовались трагедии, а в Древнем Риме - комедии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292720" y="1989000"/>
            <a:ext cx="256536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Японский театр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599840"/>
            <a:ext cx="418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Японии существует три основных театральных направления. Пьесы театра но - это разновидность религиозных церемоний, которые когда-то исполнялись в святилищах. В основе этих спектаклей лежат мифы и легенды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3" name="Picture 4" descr="110s"/>
          <p:cNvPicPr/>
          <p:nvPr/>
        </p:nvPicPr>
        <p:blipFill>
          <a:blip r:embed="rId1"/>
          <a:stretch/>
        </p:blipFill>
        <p:spPr>
          <a:xfrm>
            <a:off x="5219640" y="1700280"/>
            <a:ext cx="33829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5:51:54Z</dcterms:created>
  <dc:creator>пользователь</dc:creator>
  <dc:description/>
  <dc:language>en-US</dc:language>
  <cp:lastModifiedBy>Кристина</cp:lastModifiedBy>
  <dcterms:modified xsi:type="dcterms:W3CDTF">2016-03-11T12:22:48Z</dcterms:modified>
  <cp:revision>9</cp:revision>
  <dc:subject/>
  <dc:title>Театр</dc:title>
</cp:coreProperties>
</file>