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2807-053E-4AA0-8574-7272EE518F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6B1F-3268-40C2-B4B2-AA67F7E80BD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0039-CD7B-422F-A8AD-3BD6C0B865C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точные стеж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меняют главным образом для временного скрепления дета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того, ими могут намечаться на ткани контурные линии деталей, контрольные метки и др. Длина стежков зависит от назначения сметочной строчки и составляет от 0,75  до 2,0с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D1C-7CD7-417D-BF0A-81350BAA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15E-606D-49F8-BD19-50AD470A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9D1-33FD-488C-958E-78E0FE4D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F2C-C856-4152-9C5E-51CBC5D0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F562-FF4B-4AE8-B73C-CC5B0FC8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EA39-B758-4AF1-87EC-5D6EA566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49CF-EAFD-421D-9303-2154A253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4311-83E7-4FA4-BD88-72B736B5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C363-F342-4F4F-9A68-67CA00DC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306B-87F3-4864-89EE-5B80EFCF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D0FF-0F74-45D9-814C-EE75128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9F3-1E96-4555-A07F-178BE70D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F6AE-802F-43ED-B514-7610662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E17E-77FD-4D34-920E-3A7040BA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54F3-C47A-4D8D-B3B8-7EADF6FE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A68B-4C3A-472E-A0DA-318AAA59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528B-49B7-4219-AEC6-D6237B04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35DD-9593-45B3-B180-D914FA16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30F8-031F-4C2D-8995-E46B9C5D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8ECA-74A9-40C3-ABCA-0253E320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29EB-A689-4EDA-9537-4F2ECDDD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8697-EBA5-4DE2-A3EB-26F0F23C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FAD-E77B-4195-BF46-099FB68B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3DDA-66A4-4F04-AE0D-6A0817C1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4F67-B114-4E67-832E-6DAE094A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E898-B17F-4E09-BE33-133E2D31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6036-9FC6-42C6-B633-4F3AFF53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D371-6E26-4908-A524-60B26637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5FF5-4953-4CAC-A9F4-63C12108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46D0-A247-4F6F-96DC-B8201D08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235F2-31BA-4F59-AACA-BB94ECA9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DD873-0A95-40A1-82FA-C000AC47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4444-20D4-4220-935B-89B1274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3BD-C520-466F-9B7C-EEBCB95A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0BCD-2E47-4E76-887E-D10A05B0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580C-BC42-40D8-AAC3-0FF6B094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3690-76CC-4A10-8E48-22DFB214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3F6CC-8E34-4EDC-B815-3F376C1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CC617-CD9E-468D-9DC8-9E42C91B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4802D-24B6-4EC8-AA59-72192DFE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1580-2C7F-4068-8D30-DA925DFB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EF27-922C-42D1-A3BB-EEE66223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EF85-65BE-4064-9B8D-219597F0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9E2-5BC4-46A5-8C1F-D59950C9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694-FF44-4796-8B58-6211B3A2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943-1F7C-42D8-8923-454D921C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F43-07E8-4327-9B92-9601BC45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9AB-D26C-4124-A511-94F4112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47B3-B7C6-4D04-B86E-60E7A0F34D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7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A02B-2AA4-43DE-8FBA-0E1C01091E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D637-8465-4014-AE70-289AB960CF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0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3C7E-65C1-4CD2-9920-3D621A3BA3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399564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Arial"/>
              </a:rPr>
              <a:t>РУЧНЫЕ </a:t>
            </a:r>
            <a:br>
              <a:rPr sz="5100"/>
            </a:br>
            <a:r>
              <a:rPr b="0" lang="ru-RU" sz="5100" spc="-1" strike="noStrike">
                <a:solidFill>
                  <a:srgbClr val="ff0000"/>
                </a:solidFill>
                <a:latin typeface="Arial"/>
              </a:rPr>
              <a:t>СТЕЖКИ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302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Бовырина Ирина Станиславовна учитель технолог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3" name="Picture 4" descr="j0289872"/>
          <p:cNvPicPr/>
          <p:nvPr/>
        </p:nvPicPr>
        <p:blipFill>
          <a:blip r:embed="rId1"/>
          <a:stretch/>
        </p:blipFill>
        <p:spPr>
          <a:xfrm>
            <a:off x="4356000" y="549360"/>
            <a:ext cx="4032360" cy="5472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8675640" y="6308640"/>
            <a:ext cx="28908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4067280" y="476280"/>
            <a:ext cx="4537080" cy="595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://talklove.ru/disney/disney-4.gif"/>
          <p:cNvPicPr/>
          <p:nvPr/>
        </p:nvPicPr>
        <p:blipFill>
          <a:blip r:embed="rId1"/>
          <a:stretch/>
        </p:blipFill>
        <p:spPr>
          <a:xfrm>
            <a:off x="2143080" y="2643120"/>
            <a:ext cx="4838760" cy="36957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57200" y="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            </a:t>
            </a:r>
            <a:r>
              <a:rPr b="0" i="1" lang="ru-RU" sz="4800" spc="-1" strike="noStrike">
                <a:solidFill>
                  <a:srgbClr val="ffff00"/>
                </a:solidFill>
                <a:latin typeface="Arial Black"/>
              </a:rPr>
              <a:t>Спасибо за внимание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7" name="Picture 4" descr="http://startnewlife.ru/wp-content/uploads/2012/09/smail.jpg"/>
          <p:cNvPicPr/>
          <p:nvPr/>
        </p:nvPicPr>
        <p:blipFill>
          <a:blip r:embed="rId2"/>
          <a:stretch/>
        </p:blipFill>
        <p:spPr>
          <a:xfrm>
            <a:off x="6715080" y="928800"/>
            <a:ext cx="1500120" cy="128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WordArt 3"/>
          <p:cNvSpPr txBox="1"/>
          <p:nvPr/>
        </p:nvSpPr>
        <p:spPr>
          <a:xfrm>
            <a:off x="900000" y="907920"/>
            <a:ext cx="7056720" cy="482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Сметочный 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Обметочны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Копировальны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.Стачно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.Тамбурный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WordArt 3"/>
          <p:cNvSpPr txBox="1"/>
          <p:nvPr/>
        </p:nvSpPr>
        <p:spPr>
          <a:xfrm>
            <a:off x="900000" y="907920"/>
            <a:ext cx="4753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1" i="1" lang="en-US" sz="1800" spc="1" strike="noStrike">
              <a:ln w="936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4"/>
          <p:cNvSpPr txBox="1"/>
          <p:nvPr/>
        </p:nvSpPr>
        <p:spPr>
          <a:xfrm>
            <a:off x="1042920" y="2133720"/>
            <a:ext cx="70581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"Выполнение ручных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тежков и строчек"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826920" y="26028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19.12.06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2" name="Picture 6" descr="4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WordArt 3"/>
          <p:cNvSpPr txBox="1"/>
          <p:nvPr/>
        </p:nvSpPr>
        <p:spPr>
          <a:xfrm>
            <a:off x="250920" y="907920"/>
            <a:ext cx="34858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ежок -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900000" y="90792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Это законченный процесс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переплетения ниток на ткани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WordArt 5"/>
          <p:cNvSpPr txBox="1"/>
          <p:nvPr/>
        </p:nvSpPr>
        <p:spPr>
          <a:xfrm>
            <a:off x="250920" y="2276640"/>
            <a:ext cx="34858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рочка -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538800" y="2270160"/>
            <a:ext cx="479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Это ряд повторяющих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стежков на тка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324000" y="3789360"/>
            <a:ext cx="34858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Длина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ежка -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3489480" y="4221000"/>
            <a:ext cx="468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Это расстояние меж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одинаковыми прокол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игл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WordArt 3"/>
          <p:cNvSpPr txBox="1"/>
          <p:nvPr/>
        </p:nvSpPr>
        <p:spPr>
          <a:xfrm>
            <a:off x="1476360" y="907920"/>
            <a:ext cx="5327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меточный стежок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302" name="Picture 8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095640" cy="2917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0"/>
          <p:cNvSpPr/>
          <p:nvPr/>
        </p:nvSpPr>
        <p:spPr>
          <a:xfrm>
            <a:off x="1692360" y="3068640"/>
            <a:ext cx="183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971640" y="2097000"/>
            <a:ext cx="4073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Сметочные стежки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применяют главным образом для временного скрепления детал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Кроме того, ими могут намечаться на ткани контурные линии деталей, контрольные метки и др. Длина стежков зависит от назначения сметочной строчки и составляет от 0,75  до 2,0с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WordArt 3"/>
          <p:cNvSpPr txBox="1"/>
          <p:nvPr/>
        </p:nvSpPr>
        <p:spPr>
          <a:xfrm>
            <a:off x="1403280" y="33336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Обметочный стежок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879640" cy="3590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187280" y="15573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Обметочный шов предохраняет срезы деталей от осыпания. Бывает нескольких видов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Косой, крестообразный и петельный (рис.). Срезы обрабатываются в сыпучих тканях. Игла вводится сверху вниз, нитка предыдущего стежка лежит под иголкой. Строчка прокладывается слева направо. Плотность шва — 2—3 стежка длиной 0,4 — 0,6 см на 1 см ткани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1403280" y="476280"/>
            <a:ext cx="61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Копировальный стежок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71640" y="1484280"/>
            <a:ext cx="36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Копировальные стежки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– “силки” используют для перевода контуров деталей на другой слой ткани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При прокладывании стежков их нитки не затягиваются, образуя небольшие петли высотой 1-1,5см., затем детали кроя раздвигают, силки растягивают и разрезают, получая контур выкройки на обеих деталях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4" name="Picture 7" descr="icopy8"/>
          <p:cNvPicPr/>
          <p:nvPr/>
        </p:nvPicPr>
        <p:blipFill>
          <a:blip r:embed="rId1"/>
          <a:stretch/>
        </p:blipFill>
        <p:spPr>
          <a:xfrm>
            <a:off x="4500720" y="1557360"/>
            <a:ext cx="4319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WordArt 3"/>
          <p:cNvSpPr txBox="1"/>
          <p:nvPr/>
        </p:nvSpPr>
        <p:spPr>
          <a:xfrm>
            <a:off x="1403280" y="907920"/>
            <a:ext cx="619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Стачной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шов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68360" y="2781360"/>
            <a:ext cx="50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чной шов (рис.) напоминает машинную строчку и применяется для постоянного соединения двух деталей, когда ее выполнение затруднено или когда требуется получить шов повышенной растяжимости. Промежутка между стежками нет. Шьется сверху вниз. Расстояние между входом и выходом иглы 0,1 — 0,7 см. Укол делается в место выхода предыдущего стеж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tretch/>
        </p:blipFill>
        <p:spPr>
          <a:xfrm>
            <a:off x="5292720" y="2576520"/>
            <a:ext cx="30956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1403280" y="333360"/>
            <a:ext cx="61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Тамбурный стежок  </a:t>
            </a:r>
            <a:endParaRPr b="1" i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900000" y="90792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3" name="Picture 5" descr="20122502022017"/>
          <p:cNvPicPr/>
          <p:nvPr/>
        </p:nvPicPr>
        <p:blipFill>
          <a:blip r:embed="rId1"/>
          <a:stretch/>
        </p:blipFill>
        <p:spPr>
          <a:xfrm>
            <a:off x="5292720" y="162864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68360" y="1341360"/>
            <a:ext cx="489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Шов цепочкой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представляет собой ряд петель, выходящих одна из другой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Положение иглы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при шитье шва цепочкой – кончик иглы всегда движется </a:t>
            </a: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«на себя»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Иглу с ниткой выводим на лицевую сторону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Кладём нитку петлёй и придерживаем её большим пальцем левой руки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3. 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Вводим иглу с лица на изнанку в место предыдущего прокола (т.е. откуда выходит рабочая нить). </a:t>
            </a:r>
            <a:br>
              <a:rPr sz="1800"/>
            </a:b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4.</a:t>
            </a:r>
            <a:r>
              <a:rPr b="0" lang="ru-RU" sz="1800" spc="-1" strike="noStrike">
                <a:solidFill>
                  <a:srgbClr val="6600cc"/>
                </a:solidFill>
                <a:latin typeface="Verdana"/>
              </a:rPr>
              <a:t> Направляем иглу вниз на 3-4 нитки и прокалываем с изнанки на лицо так, чтобы игла оказалось над петлёй.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№109</cp:lastModifiedBy>
  <dcterms:modified xsi:type="dcterms:W3CDTF">2015-04-24T06:29:36Z</dcterms:modified>
  <cp:revision>32</cp:revision>
  <dc:subject/>
  <dc:title>PowerPoint Presentation</dc:title>
</cp:coreProperties>
</file>