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5.gif" ContentType="image/gif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64E1-C20D-4F41-B6A8-378CDE021D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AF71-DCEC-4ABC-A7E1-0A5B9206BC73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5BF7-212C-4365-A5CE-CADFC3BFEFE4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меточные стежк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именяют главным образом для временного скрепления дета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е того, ими могут намечаться на ткани контурные линии деталей, контрольные метки и др. Длина стежков зависит от назначения сметочной строчки и составляет от 0,75  до 2,0с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81B2-D4F8-49EC-BE2B-AD5DD52B8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8696-ADAD-4770-A13A-B25520EF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76BB-7C1E-4876-B349-4C9B52F35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527A-9822-4923-94CD-0F58D5CE2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D8BE-B58E-4839-ABD7-04733344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5D93-B14E-421C-A7C9-6534CDE4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3645-CE23-4803-8338-7A2010FD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4737-05EE-4B97-A453-E63B86FA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D40A-8C09-4D53-BF29-38EA6DD6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7692-A68C-49B4-ADFC-D8D58B30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C314-E12C-4166-A0E7-9D71D050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1708-640C-4772-B1F5-2EC355F4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0A2D-FE58-4A5F-91FA-88954187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B14D-161B-4107-8C6B-6499C2D5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8A67-D574-402C-97F8-490A6573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BA8A-A818-4068-8FB1-213B19D2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B1FC-D0CF-4F96-AD77-F5A79D168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D50E6-96F5-4650-8BBD-1675C483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65644-4229-4021-9AF5-8F28EF9D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3FC62-6DF4-4439-A976-88D27CA6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4EF94-58E3-46E0-9B92-63AA9233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33FEA-602D-4BE2-8F04-C939FFC5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BB61-783F-4DF5-A4A1-A9AC0E89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DF267-19C7-418E-B294-3C600B1E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D5BC8-2073-4C16-B2A7-A8CE7482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9A3DC-0A36-466A-8F9A-4F11442A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F3C91-87B3-48A1-9B8F-1842000C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AF0AE-A19E-4AAA-A402-55D05F22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4154D-4C85-414E-BFA5-EF695E61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04ECB-0CBA-406A-B067-63C8C365E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F517D-5EE1-428F-9C8D-1B5FEA934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74372-C888-4BC5-B2FD-0CC791D0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3148C-7C88-405A-BAE9-234EBF4F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D4CB-2F85-4E65-8893-6E0C21A0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29906-B094-4E05-8BFF-09CD2A4F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17293-360C-4857-9740-33194D07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32E7E-B480-4E0F-B68B-C9AFCB73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8A4AA-892F-4A79-9673-3E7546E8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40677-16A8-41A9-95D4-D5990F96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A933F-AA36-4E67-8DFF-EFB733B8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73CE6-7AAA-46CA-8110-7C692B4A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7189E-D755-4190-AB81-1C3C10F3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ECCBE-02C3-4212-9E9B-F00876684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5A10-DC8B-49B1-B6E9-07DE296D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396A-8A81-4148-8354-39C23FA3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BE6E-860A-44FA-8C7E-971CD15D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9C42-0100-46E7-9640-DE0D4996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0DA1-0F15-4E7E-8EF2-830BD7FF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0023-C958-4BA3-B793-9B92AB7877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8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70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71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2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3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4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5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6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7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8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9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0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1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2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3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4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5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6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7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8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9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90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91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92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93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94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95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ABAA-689F-4685-A876-92C79FB694A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3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51FE-91C7-4E0B-B3E5-C889D03146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95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6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7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8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9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0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1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2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3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5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6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207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08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09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0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1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2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3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4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5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6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7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8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9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0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1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2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3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4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5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6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7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8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9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30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31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32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636F-4490-40E2-8BB9-627178EB377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3995640" cy="2879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0000"/>
                </a:solidFill>
                <a:latin typeface="Arial"/>
              </a:rPr>
              <a:t>РУЧНЫЕ </a:t>
            </a:r>
            <a:br>
              <a:rPr sz="5100"/>
            </a:br>
            <a:r>
              <a:rPr b="0" lang="ru-RU" sz="5100" spc="-1" strike="noStrike">
                <a:solidFill>
                  <a:srgbClr val="ff0000"/>
                </a:solidFill>
                <a:latin typeface="Arial"/>
              </a:rPr>
              <a:t>СТЕЖКИ</a:t>
            </a:r>
            <a:br>
              <a:rPr sz="5100"/>
            </a:b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755280" y="3886200"/>
            <a:ext cx="3024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Бовырина Ирина Станиславовна учитель технологи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3" name="Picture 4" descr="j0289872"/>
          <p:cNvPicPr/>
          <p:nvPr/>
        </p:nvPicPr>
        <p:blipFill>
          <a:blip r:embed="rId1"/>
          <a:stretch/>
        </p:blipFill>
        <p:spPr>
          <a:xfrm>
            <a:off x="4356000" y="549360"/>
            <a:ext cx="4032360" cy="547200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5"/>
          <p:cNvSpPr/>
          <p:nvPr/>
        </p:nvSpPr>
        <p:spPr>
          <a:xfrm>
            <a:off x="8675640" y="6308640"/>
            <a:ext cx="28908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5" name="Picture 6" descr=""/>
          <p:cNvPicPr/>
          <p:nvPr/>
        </p:nvPicPr>
        <p:blipFill>
          <a:blip r:embed="rId2"/>
          <a:stretch/>
        </p:blipFill>
        <p:spPr>
          <a:xfrm>
            <a:off x="4067280" y="476280"/>
            <a:ext cx="4537080" cy="5950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http://talklove.ru/disney/disney-4.gif"/>
          <p:cNvPicPr/>
          <p:nvPr/>
        </p:nvPicPr>
        <p:blipFill>
          <a:blip r:embed="rId1"/>
          <a:stretch/>
        </p:blipFill>
        <p:spPr>
          <a:xfrm>
            <a:off x="2143080" y="2643120"/>
            <a:ext cx="4838760" cy="3695760"/>
          </a:xfrm>
          <a:prstGeom prst="rect">
            <a:avLst/>
          </a:prstGeom>
          <a:ln w="0">
            <a:noFill/>
          </a:ln>
        </p:spPr>
      </p:pic>
      <p:sp>
        <p:nvSpPr>
          <p:cNvPr id="326" name="TextBox 2"/>
          <p:cNvSpPr/>
          <p:nvPr/>
        </p:nvSpPr>
        <p:spPr>
          <a:xfrm>
            <a:off x="1357200" y="0"/>
            <a:ext cx="600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                </a:t>
            </a:r>
            <a:r>
              <a:rPr b="0" i="1" lang="ru-RU" sz="4800" spc="-1" strike="noStrike">
                <a:solidFill>
                  <a:srgbClr val="ffff00"/>
                </a:solidFill>
                <a:latin typeface="Arial Black"/>
              </a:rPr>
              <a:t>Спасибо за внимание!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27" name="Picture 4" descr="http://startnewlife.ru/wp-content/uploads/2012/09/smail.jpg"/>
          <p:cNvPicPr/>
          <p:nvPr/>
        </p:nvPicPr>
        <p:blipFill>
          <a:blip r:embed="rId2"/>
          <a:stretch/>
        </p:blipFill>
        <p:spPr>
          <a:xfrm>
            <a:off x="6715080" y="928800"/>
            <a:ext cx="1500120" cy="1285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AutoShape 2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WordArt 3"/>
          <p:cNvSpPr txBox="1"/>
          <p:nvPr/>
        </p:nvSpPr>
        <p:spPr>
          <a:xfrm>
            <a:off x="900000" y="907920"/>
            <a:ext cx="7056720" cy="482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eaeaea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. Сметочный </a:t>
            </a:r>
            <a:endParaRPr b="1" i="1" lang="en-US" sz="1800" spc="1" strike="noStrike">
              <a:ln w="9360">
                <a:solidFill>
                  <a:srgbClr val="eaeaea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eaeaea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.Обметочный</a:t>
            </a:r>
            <a:endParaRPr b="1" i="1" lang="en-US" sz="1800" spc="1" strike="noStrike">
              <a:ln w="9360">
                <a:solidFill>
                  <a:srgbClr val="eaeaea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eaeaea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.Копировальный</a:t>
            </a:r>
            <a:endParaRPr b="1" i="1" lang="en-US" sz="1800" spc="1" strike="noStrike">
              <a:ln w="9360">
                <a:solidFill>
                  <a:srgbClr val="eaeaea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eaeaea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.Стачной</a:t>
            </a:r>
            <a:endParaRPr b="1" i="1" lang="en-US" sz="1800" spc="1" strike="noStrike">
              <a:ln w="9360">
                <a:solidFill>
                  <a:srgbClr val="eaeaea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eaeaea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.Тамбурный</a:t>
            </a:r>
            <a:endParaRPr b="1" i="1" lang="en-US" sz="1800" spc="1" strike="noStrike">
              <a:ln w="9360">
                <a:solidFill>
                  <a:srgbClr val="eaeaea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2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eec85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9" name="WordArt 3"/>
          <p:cNvSpPr txBox="1"/>
          <p:nvPr/>
        </p:nvSpPr>
        <p:spPr>
          <a:xfrm>
            <a:off x="900000" y="907920"/>
            <a:ext cx="475308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eaeaea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 урока:</a:t>
            </a:r>
            <a:endParaRPr b="1" i="1" lang="en-US" sz="1800" spc="1" strike="noStrike">
              <a:ln w="9360">
                <a:solidFill>
                  <a:srgbClr val="eaeaea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WordArt 4"/>
          <p:cNvSpPr txBox="1"/>
          <p:nvPr/>
        </p:nvSpPr>
        <p:spPr>
          <a:xfrm>
            <a:off x="1042920" y="2133720"/>
            <a:ext cx="705816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"Выполнение ручных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стежков и строчек"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826920" y="260280"/>
            <a:ext cx="24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19.12.06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2" name="Picture 6" descr="4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AutoShape 2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4" name="WordArt 3"/>
          <p:cNvSpPr txBox="1"/>
          <p:nvPr/>
        </p:nvSpPr>
        <p:spPr>
          <a:xfrm>
            <a:off x="250920" y="907920"/>
            <a:ext cx="34858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Стежок - </a:t>
            </a:r>
            <a:endParaRPr b="1" i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900000" y="907920"/>
            <a:ext cx="82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Times New Roman"/>
              </a:rPr>
              <a:t>                            </a:t>
            </a: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Это законченный процесс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                     </a:t>
            </a: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переплетения ниток на ткани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WordArt 5"/>
          <p:cNvSpPr txBox="1"/>
          <p:nvPr/>
        </p:nvSpPr>
        <p:spPr>
          <a:xfrm>
            <a:off x="250920" y="2276640"/>
            <a:ext cx="34858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Строчка - </a:t>
            </a:r>
            <a:endParaRPr b="1" i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3538800" y="2270160"/>
            <a:ext cx="479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Это ряд повторяющихс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стежков на ткан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8" name="WordArt 7"/>
          <p:cNvSpPr txBox="1"/>
          <p:nvPr/>
        </p:nvSpPr>
        <p:spPr>
          <a:xfrm>
            <a:off x="324000" y="3789360"/>
            <a:ext cx="34858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Длина</a:t>
            </a:r>
            <a:endParaRPr b="1" i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стежка - </a:t>
            </a:r>
            <a:endParaRPr b="1" i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3489480" y="4221000"/>
            <a:ext cx="468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Это расстояние межд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одинаковыми проколам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иглы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AutoShape 2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eec85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1" name="WordArt 3"/>
          <p:cNvSpPr txBox="1"/>
          <p:nvPr/>
        </p:nvSpPr>
        <p:spPr>
          <a:xfrm>
            <a:off x="1476360" y="907920"/>
            <a:ext cx="532764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Сметочный стежок </a:t>
            </a:r>
            <a:endParaRPr b="1" i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302" name="Picture 8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095640" cy="29178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10"/>
          <p:cNvSpPr/>
          <p:nvPr/>
        </p:nvSpPr>
        <p:spPr>
          <a:xfrm>
            <a:off x="1692360" y="3068640"/>
            <a:ext cx="18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971640" y="2097000"/>
            <a:ext cx="4073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Сметочные стежки</a:t>
            </a: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 применяют главным образом для временного скрепления детале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Кроме того, ими могут намечаться на ткани контурные линии деталей, контрольные метки и др. Длина стежков зависит от назначения сметочной строчки и составляет от 0,75  до 2,0см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eec85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6" name="WordArt 3"/>
          <p:cNvSpPr txBox="1"/>
          <p:nvPr/>
        </p:nvSpPr>
        <p:spPr>
          <a:xfrm>
            <a:off x="1403280" y="333360"/>
            <a:ext cx="6193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Обметочный стежок  </a:t>
            </a:r>
            <a:endParaRPr b="1" i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900000" y="907920"/>
            <a:ext cx="82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         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08" name="Picture 9" descr=""/>
          <p:cNvPicPr/>
          <p:nvPr/>
        </p:nvPicPr>
        <p:blipFill>
          <a:blip r:embed="rId1"/>
          <a:stretch/>
        </p:blipFill>
        <p:spPr>
          <a:xfrm>
            <a:off x="5292720" y="2133720"/>
            <a:ext cx="2879640" cy="359064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10"/>
          <p:cNvSpPr/>
          <p:nvPr/>
        </p:nvSpPr>
        <p:spPr>
          <a:xfrm>
            <a:off x="1187280" y="1557360"/>
            <a:ext cx="3816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Обметочный шов предохраняет срезы деталей от осыпания. Бывает нескольких видов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Косой, крестообразный и петельный (рис.). Срезы обрабатываются в сыпучих тканях. Игла вводится сверху вниз, нитка предыдущего стежка лежит под иголкой. Строчка прокладывается слева направо. Плотность шва — 2—3 стежка длиной 0,4 — 0,6 см на 1 см ткани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2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eec85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1" name="WordArt 3"/>
          <p:cNvSpPr txBox="1"/>
          <p:nvPr/>
        </p:nvSpPr>
        <p:spPr>
          <a:xfrm>
            <a:off x="1403280" y="476280"/>
            <a:ext cx="619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Копировальный стежок  </a:t>
            </a:r>
            <a:endParaRPr b="1" i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900000" y="907920"/>
            <a:ext cx="82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         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971640" y="1484280"/>
            <a:ext cx="360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Verdana"/>
              </a:rPr>
              <a:t>Копировальные стежки</a:t>
            </a:r>
            <a:r>
              <a:rPr b="0" lang="ru-RU" sz="1800" spc="-1" strike="noStrike">
                <a:solidFill>
                  <a:srgbClr val="6600cc"/>
                </a:solidFill>
                <a:latin typeface="Verdana"/>
              </a:rPr>
              <a:t> – “силки” используют для перевода контуров деталей на другой слой ткани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Verdana"/>
              </a:rPr>
              <a:t>При прокладывании стежков их нитки не затягиваются, образуя небольшие петли высотой 1-1,5см., затем детали кроя раздвигают, силки растягивают и разрезают, получая контур выкройки на обеих деталях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14" name="Picture 7" descr="icopy8"/>
          <p:cNvPicPr/>
          <p:nvPr/>
        </p:nvPicPr>
        <p:blipFill>
          <a:blip r:embed="rId1"/>
          <a:stretch/>
        </p:blipFill>
        <p:spPr>
          <a:xfrm>
            <a:off x="4500720" y="1557360"/>
            <a:ext cx="4319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AutoShape 2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eec85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6" name="WordArt 3"/>
          <p:cNvSpPr txBox="1"/>
          <p:nvPr/>
        </p:nvSpPr>
        <p:spPr>
          <a:xfrm>
            <a:off x="1403280" y="907920"/>
            <a:ext cx="61930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Стачной </a:t>
            </a:r>
            <a:endParaRPr b="1" i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шов  </a:t>
            </a:r>
            <a:endParaRPr b="1" i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900000" y="907920"/>
            <a:ext cx="82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         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468360" y="2781360"/>
            <a:ext cx="504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ачной шов (рис.) напоминает машинную строчку и применяется для постоянного соединения двух деталей, когда ее выполнение затруднено или когда требуется получить шов повышенной растяжимости. Промежутка между стежками нет. Шьется сверху вниз. Расстояние между входом и выходом иглы 0,1 — 0,7 см. Укол делается в место выхода предыдущего стежк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19" name="Picture 6" descr=""/>
          <p:cNvPicPr/>
          <p:nvPr/>
        </p:nvPicPr>
        <p:blipFill>
          <a:blip r:embed="rId1"/>
          <a:stretch/>
        </p:blipFill>
        <p:spPr>
          <a:xfrm>
            <a:off x="5292720" y="2576520"/>
            <a:ext cx="309564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AutoShape 2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eec85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1" name="WordArt 3"/>
          <p:cNvSpPr txBox="1"/>
          <p:nvPr/>
        </p:nvSpPr>
        <p:spPr>
          <a:xfrm>
            <a:off x="1403280" y="333360"/>
            <a:ext cx="619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Тамбурный стежок  </a:t>
            </a:r>
            <a:endParaRPr b="1" i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900000" y="907920"/>
            <a:ext cx="82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         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23" name="Picture 5" descr="20122502022017"/>
          <p:cNvPicPr/>
          <p:nvPr/>
        </p:nvPicPr>
        <p:blipFill>
          <a:blip r:embed="rId1"/>
          <a:stretch/>
        </p:blipFill>
        <p:spPr>
          <a:xfrm>
            <a:off x="5292720" y="1628640"/>
            <a:ext cx="2879640" cy="374508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"/>
          <p:cNvSpPr/>
          <p:nvPr/>
        </p:nvSpPr>
        <p:spPr>
          <a:xfrm>
            <a:off x="468360" y="1341360"/>
            <a:ext cx="4895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6600cc"/>
                </a:solidFill>
                <a:latin typeface="Verdana"/>
              </a:rPr>
              <a:t>Шов цепочкой</a:t>
            </a:r>
            <a:r>
              <a:rPr b="0" lang="ru-RU" sz="1800" spc="-1" strike="noStrike">
                <a:solidFill>
                  <a:srgbClr val="6600cc"/>
                </a:solidFill>
                <a:latin typeface="Verdana"/>
              </a:rPr>
              <a:t> представляет собой ряд петель, выходящих одна из другой. </a:t>
            </a:r>
            <a:br>
              <a:rPr sz="1800"/>
            </a:br>
            <a:r>
              <a:rPr b="1" lang="ru-RU" sz="1800" spc="-1" strike="noStrike">
                <a:solidFill>
                  <a:srgbClr val="6600cc"/>
                </a:solidFill>
                <a:latin typeface="Verdana"/>
              </a:rPr>
              <a:t>Положение иглы</a:t>
            </a:r>
            <a:r>
              <a:rPr b="0" lang="ru-RU" sz="1800" spc="-1" strike="noStrike">
                <a:solidFill>
                  <a:srgbClr val="6600cc"/>
                </a:solidFill>
                <a:latin typeface="Verdana"/>
              </a:rPr>
              <a:t> при шитье шва цепочкой – кончик иглы всегда движется </a:t>
            </a:r>
            <a:r>
              <a:rPr b="1" lang="ru-RU" sz="1800" spc="-1" strike="noStrike">
                <a:solidFill>
                  <a:srgbClr val="6600cc"/>
                </a:solidFill>
                <a:latin typeface="Verdana"/>
              </a:rPr>
              <a:t>«на себя»</a:t>
            </a:r>
            <a:r>
              <a:rPr b="0" lang="ru-RU" sz="1800" spc="-1" strike="noStrike">
                <a:solidFill>
                  <a:srgbClr val="6600cc"/>
                </a:solidFill>
                <a:latin typeface="Verdana"/>
              </a:rPr>
              <a:t>.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Verdana"/>
              </a:rPr>
              <a:t>1.</a:t>
            </a:r>
            <a:r>
              <a:rPr b="0" lang="ru-RU" sz="1800" spc="-1" strike="noStrike">
                <a:solidFill>
                  <a:srgbClr val="6600cc"/>
                </a:solidFill>
                <a:latin typeface="Verdana"/>
              </a:rPr>
              <a:t> Иглу с ниткой выводим на лицевую сторону. </a:t>
            </a:r>
            <a:br>
              <a:rPr sz="1800"/>
            </a:br>
            <a:r>
              <a:rPr b="1" lang="ru-RU" sz="1800" spc="-1" strike="noStrike">
                <a:solidFill>
                  <a:srgbClr val="6600cc"/>
                </a:solidFill>
                <a:latin typeface="Verdana"/>
              </a:rPr>
              <a:t>2.</a:t>
            </a:r>
            <a:r>
              <a:rPr b="0" lang="ru-RU" sz="1800" spc="-1" strike="noStrike">
                <a:solidFill>
                  <a:srgbClr val="6600cc"/>
                </a:solidFill>
                <a:latin typeface="Verdana"/>
              </a:rPr>
              <a:t> Кладём нитку петлёй и придерживаем её большим пальцем левой руки. </a:t>
            </a:r>
            <a:br>
              <a:rPr sz="1800"/>
            </a:br>
            <a:r>
              <a:rPr b="1" lang="ru-RU" sz="1800" spc="-1" strike="noStrike">
                <a:solidFill>
                  <a:srgbClr val="6600cc"/>
                </a:solidFill>
                <a:latin typeface="Verdana"/>
              </a:rPr>
              <a:t>3. </a:t>
            </a:r>
            <a:r>
              <a:rPr b="0" lang="ru-RU" sz="1800" spc="-1" strike="noStrike">
                <a:solidFill>
                  <a:srgbClr val="6600cc"/>
                </a:solidFill>
                <a:latin typeface="Verdana"/>
              </a:rPr>
              <a:t>Вводим иглу с лица на изнанку в место предыдущего прокола (т.е. откуда выходит рабочая нить). </a:t>
            </a:r>
            <a:br>
              <a:rPr sz="1800"/>
            </a:br>
            <a:r>
              <a:rPr b="1" lang="ru-RU" sz="1800" spc="-1" strike="noStrike">
                <a:solidFill>
                  <a:srgbClr val="6600cc"/>
                </a:solidFill>
                <a:latin typeface="Verdana"/>
              </a:rPr>
              <a:t>4.</a:t>
            </a:r>
            <a:r>
              <a:rPr b="0" lang="ru-RU" sz="1800" spc="-1" strike="noStrike">
                <a:solidFill>
                  <a:srgbClr val="6600cc"/>
                </a:solidFill>
                <a:latin typeface="Verdana"/>
              </a:rPr>
              <a:t> Направляем иглу вниз на 3-4 нитки и прокалываем с изнанки на лицо так, чтобы игла оказалось над петлёй. 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бинет №109</cp:lastModifiedBy>
  <dcterms:modified xsi:type="dcterms:W3CDTF">2015-04-24T06:29:36Z</dcterms:modified>
  <cp:revision>32</cp:revision>
  <dc:subject/>
  <dc:title>PowerPoint Presentation</dc:title>
</cp:coreProperties>
</file>