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6D47-0160-4DC5-9DCD-16628ED48C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023A-3A17-4BFF-AD29-B9D67D4B281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EFCE-C1FF-4858-B264-4358EF5849B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точные стеж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меняют главным образом для временного скрепления дета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того, ими могут намечаться на ткани контурные линии деталей, контрольные метки и др. Длина стежков зависит от назначения сметочной строчки и составляет от 0,75  до 2,0с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70A-F4BA-47E5-830D-944CFC62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624-00E4-4DE1-B88E-B70B3EED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E83-2659-47B3-A96E-9319B0CB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B7B-BA4B-4D6B-8E6D-8A4C9E0B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72ED-241A-4200-BE68-76F3FE1A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783A-EB3F-4A3F-8D7E-00C0782A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658F-EF09-42DE-9918-D03F0F0B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5369-4D9B-4702-90E4-1435632F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20EB-C88C-4961-A0E9-11F0CCAB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6DDE-13B0-4F32-BD83-689D2E04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3958-1E90-4D5D-959A-144F598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0DD-57B5-454B-9BE5-37A62E70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AE4A-7DB2-4710-90D3-2D80381C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D038-4306-49B3-83AC-9A1A331B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9814-BF68-4234-91B3-51FA2E4B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1E79-F91E-4925-AA67-790F6A94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33A6-71EA-4F47-8182-0C75820F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FCAD-361E-4731-AC6F-7AC45DF2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139A-7505-4CF5-9685-69575118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65A6-2709-4F30-87F6-FAA3B849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0BA5-0534-4268-9631-30212DBD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620F-F1A0-4A51-96CA-115BB7C8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50B-577A-47ED-AB01-1008D351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ABAC-49A5-4F3D-A99E-4F3572C0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D5A4-99F3-41FA-9EAD-1DA5ED1E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046C-BCA4-4108-9DF1-5E66F99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A5EB-9D74-4123-8ABE-CCF9C02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8EAE-7F97-40C0-B7A6-16CCC6CA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01B4-FCD1-42EA-BA60-4EE107B6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E9AD-F6EA-4D4B-A0DB-3D565A06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3BB6A-3648-432E-8F70-228FBA09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21BC-76E2-46F3-9010-5C17DD59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16E9-64B3-484F-B38A-233FBB38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CCC-2105-4591-9978-53478F53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F4796-1489-494D-BB40-89B6F647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2A0CA-33B0-4420-B434-8B5385B5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A368B-59C8-48DD-834E-C022929D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B7831-010E-4E70-A78D-EA2BFBC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7D6A6-41A3-4FA4-A02C-C73D681A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5E44-6CA1-49A0-957E-32439CCD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6553-65DC-4104-8ED7-CF40035C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E9585-6B50-4F9B-9EEB-609CBFB0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878C-7806-4106-B822-3DF27B78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118-93FF-46B2-AA2A-71F0043F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B4B-6BD4-4C99-AB31-1A0CB3E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BA2-B42C-4A3A-9166-32568DD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226-1616-455B-AC23-897B8FE1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20B-9FE3-4F91-9CA1-35E3FF48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45DA-750E-4D9B-B328-F348B0A223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7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2278-6D4C-431F-96D3-0D55AE28DF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00A0-5252-4B7E-84C1-ED2473A6E3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0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AF5C-ABC5-47CA-9BDC-EF01F60DE8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399564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Arial"/>
              </a:rPr>
              <a:t>РУЧНЫЕ </a:t>
            </a:r>
            <a:br>
              <a:rPr sz="5100"/>
            </a:br>
            <a:r>
              <a:rPr b="0" lang="ru-RU" sz="5100" spc="-1" strike="noStrike">
                <a:solidFill>
                  <a:srgbClr val="ff0000"/>
                </a:solidFill>
                <a:latin typeface="Arial"/>
              </a:rPr>
              <a:t>СТЕЖКИ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302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Бовырина Ирина Станиславовна учитель технолог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3" name="Picture 4" descr="j0289872"/>
          <p:cNvPicPr/>
          <p:nvPr/>
        </p:nvPicPr>
        <p:blipFill>
          <a:blip r:embed="rId1"/>
          <a:stretch/>
        </p:blipFill>
        <p:spPr>
          <a:xfrm>
            <a:off x="4356000" y="549360"/>
            <a:ext cx="4032360" cy="5472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8675640" y="6308640"/>
            <a:ext cx="28908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4537080" cy="595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talklove.ru/disney/disney-4.gif"/>
          <p:cNvPicPr/>
          <p:nvPr/>
        </p:nvPicPr>
        <p:blipFill>
          <a:blip r:embed="rId1"/>
          <a:stretch/>
        </p:blipFill>
        <p:spPr>
          <a:xfrm>
            <a:off x="2143080" y="2643120"/>
            <a:ext cx="4838760" cy="36957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57200" y="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r>
              <a:rPr b="0" i="1" lang="ru-RU" sz="48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7" name="Picture 4" descr="http://startnewlife.ru/wp-content/uploads/2012/09/smail.jpg"/>
          <p:cNvPicPr/>
          <p:nvPr/>
        </p:nvPicPr>
        <p:blipFill>
          <a:blip r:embed="rId2"/>
          <a:stretch/>
        </p:blipFill>
        <p:spPr>
          <a:xfrm>
            <a:off x="6715080" y="928800"/>
            <a:ext cx="1500120" cy="128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WordArt 3"/>
          <p:cNvSpPr txBox="1"/>
          <p:nvPr/>
        </p:nvSpPr>
        <p:spPr>
          <a:xfrm>
            <a:off x="900000" y="907920"/>
            <a:ext cx="7056720" cy="482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Сметочный 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Обметочны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Копировальны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.Стачно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.Тамбурны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WordArt 3"/>
          <p:cNvSpPr txBox="1"/>
          <p:nvPr/>
        </p:nvSpPr>
        <p:spPr>
          <a:xfrm>
            <a:off x="900000" y="907920"/>
            <a:ext cx="4753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4"/>
          <p:cNvSpPr txBox="1"/>
          <p:nvPr/>
        </p:nvSpPr>
        <p:spPr>
          <a:xfrm>
            <a:off x="1042920" y="2133720"/>
            <a:ext cx="70581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"Выполнение ручных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тежков и строчек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826920" y="26028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19.12.06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2" name="Picture 6" descr="4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WordArt 3"/>
          <p:cNvSpPr txBox="1"/>
          <p:nvPr/>
        </p:nvSpPr>
        <p:spPr>
          <a:xfrm>
            <a:off x="250920" y="907920"/>
            <a:ext cx="34858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ежок -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900000" y="90792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Это законченный процесс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переплетения ниток на ткани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WordArt 5"/>
          <p:cNvSpPr txBox="1"/>
          <p:nvPr/>
        </p:nvSpPr>
        <p:spPr>
          <a:xfrm>
            <a:off x="250920" y="2276640"/>
            <a:ext cx="34858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рочка -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538800" y="2270160"/>
            <a:ext cx="479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Это ряд повторяющих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стежков на тка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324000" y="3789360"/>
            <a:ext cx="34858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Длина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ежка -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3489480" y="4221000"/>
            <a:ext cx="468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Это расстояние меж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одинаковыми прокол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игл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WordArt 3"/>
          <p:cNvSpPr txBox="1"/>
          <p:nvPr/>
        </p:nvSpPr>
        <p:spPr>
          <a:xfrm>
            <a:off x="1476360" y="907920"/>
            <a:ext cx="5327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меточный стежок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302" name="Picture 8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095640" cy="2917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0"/>
          <p:cNvSpPr/>
          <p:nvPr/>
        </p:nvSpPr>
        <p:spPr>
          <a:xfrm>
            <a:off x="1692360" y="306864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971640" y="2097000"/>
            <a:ext cx="4073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Сметочные стежки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применяют главным образом для временного скрепления детал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Кроме того, ими могут намечаться на ткани контурные линии деталей, контрольные метки и др. Длина стежков зависит от назначения сметочной строчки и составляет от 0,75  до 2,0с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WordArt 3"/>
          <p:cNvSpPr txBox="1"/>
          <p:nvPr/>
        </p:nvSpPr>
        <p:spPr>
          <a:xfrm>
            <a:off x="1403280" y="33336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Обметочный стежок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879640" cy="3590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187280" y="15573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Обметочный шов предохраняет срезы деталей от осыпания. Бывает нескольких видов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Косой, крестообразный и петельный (рис.). Срезы обрабатываются в сыпучих тканях. Игла вводится сверху вниз, нитка предыдущего стежка лежит под иголкой. Строчка прокладывается слева направо. Плотность шва — 2—3 стежка длиной 0,4 — 0,6 см на 1 см ткани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1403280" y="476280"/>
            <a:ext cx="61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Копировальный стежок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71640" y="1484280"/>
            <a:ext cx="36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Копировальные стежки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– “силки” используют для перевода контуров деталей на другой слой ткан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При прокладывании стежков их нитки не затягиваются, образуя небольшие петли высотой 1-1,5см., затем детали кроя раздвигают, силки растягивают и разрезают, получая контур выкройки на обеих деталях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4" name="Picture 7" descr="icopy8"/>
          <p:cNvPicPr/>
          <p:nvPr/>
        </p:nvPicPr>
        <p:blipFill>
          <a:blip r:embed="rId1"/>
          <a:stretch/>
        </p:blipFill>
        <p:spPr>
          <a:xfrm>
            <a:off x="4500720" y="1557360"/>
            <a:ext cx="4319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WordArt 3"/>
          <p:cNvSpPr txBox="1"/>
          <p:nvPr/>
        </p:nvSpPr>
        <p:spPr>
          <a:xfrm>
            <a:off x="1403280" y="907920"/>
            <a:ext cx="619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ачной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шов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8360" y="2781360"/>
            <a:ext cx="50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чной шов (рис.) напоминает машинную строчку и применяется для постоянного соединения двух деталей, когда ее выполнение затруднено или когда требуется получить шов повышенной растяжимости. Промежутка между стежками нет. Шьется сверху вниз. Расстояние между входом и выходом иглы 0,1 — 0,7 см. Укол делается в место выхода предыдущего стеж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tretch/>
        </p:blipFill>
        <p:spPr>
          <a:xfrm>
            <a:off x="5292720" y="2576520"/>
            <a:ext cx="30956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1403280" y="333360"/>
            <a:ext cx="61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Тамбурный стежок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3" name="Picture 5" descr="20122502022017"/>
          <p:cNvPicPr/>
          <p:nvPr/>
        </p:nvPicPr>
        <p:blipFill>
          <a:blip r:embed="rId1"/>
          <a:stretch/>
        </p:blipFill>
        <p:spPr>
          <a:xfrm>
            <a:off x="5292720" y="162864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68360" y="1341360"/>
            <a:ext cx="489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Шов цепочкой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представляет собой ряд петель, выходящих одна из другой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Положение иглы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при шитье шва цепочкой – кончик иглы всегда движется </a:t>
            </a: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«на себя»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Иглу с ниткой выводим на лицевую сторону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Кладём нитку петлёй и придерживаем её большим пальцем левой руки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3. 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Вводим иглу с лица на изнанку в место предыдущего прокола (т.е. откуда выходит рабочая нить)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4.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Направляем иглу вниз на 3-4 нитки и прокалываем с изнанки на лицо так, чтобы игла оказалось над петлёй.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№109</cp:lastModifiedBy>
  <dcterms:modified xsi:type="dcterms:W3CDTF">2015-04-24T06:29:36Z</dcterms:modified>
  <cp:revision>32</cp:revision>
  <dc:subject/>
  <dc:title>PowerPoint Presentation</dc:title>
</cp:coreProperties>
</file>