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8" y="0"/>
                </a:lnTo>
                <a:arcTo wR="1588" hR="1588" stAng="-5400000" swAng="-5400000"/>
                <a:lnTo>
                  <a:pt x="0" y="9142412"/>
                </a:lnTo>
                <a:lnTo>
                  <a:pt x="0" y="9142412"/>
                </a:lnTo>
                <a:arcTo wR="1588" hR="1588" stAng="10800000" swAng="-5400000"/>
                <a:lnTo>
                  <a:pt x="6856412" y="9144000"/>
                </a:lnTo>
                <a:lnTo>
                  <a:pt x="6856412" y="9144000"/>
                </a:lnTo>
                <a:arcTo wR="1588" hR="1588" stAng="5400000" swAng="-5400000"/>
                <a:lnTo>
                  <a:pt x="6858000" y="1588"/>
                </a:lnTo>
                <a:lnTo>
                  <a:pt x="6858000" y="1588"/>
                </a:lnTo>
                <a:arcTo wR="1588" hR="158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0" y="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C0E1D836-32C6-4CE7-A725-AD545FAD8DB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0000" cy="45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FACE45BD-0EE2-4FD3-969C-FBF0BA63AD7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0000" cy="45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D6ABBE67-B1C1-40DB-A891-4429D87E27A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0000" cy="45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CC72982-8611-404B-BBCA-41664A474C9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0000" cy="45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95787B1-6E91-43C4-B546-9E0A94E8A7F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0000" cy="45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D1DCEE4C-0C05-4019-8C3D-23660212F7A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776DC0F-1910-460D-88A4-88EDE39BC5F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6FCC-289D-46FB-9215-D26C42E2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8489-88CF-4DBF-92EB-F7D9BF03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543-3B71-440D-8F8C-755B782A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5D9C-67C6-4DB3-B66E-6DD58584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F5F7-CEBB-496B-93B7-29B1F1C0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3639-98FC-4AF5-B464-C32E4C7F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5139-2B74-4C96-A17D-C810222E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9643-B715-4E3B-9148-4A7BD865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33CB-6ED9-4786-B2F4-1D099217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106E-626F-4C36-87F4-2733EEF8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676F-28D0-404E-9686-730E6139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B083-2DB8-4F34-8E38-0230E086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2EF0-8876-4326-8B8E-6D87CF62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E02B-BD98-4ABA-A3DF-49CC30CD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1C67-5989-4A18-922B-ABA5CF3B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EB09-FFCE-48B1-884B-F8EC8C4F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930B-C4C4-402B-832F-94CC6B50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4EC-3CD4-48C7-BB1D-1D39E472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D0F1-3643-4784-A1CA-8C0FC93B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616F-265C-4DFC-A2AD-8DF98AA2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36D-955D-420C-87D9-823A93E7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E92B-A231-4987-ACC1-5B583E66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133-95E2-4925-A20A-A3317DF9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37F-EEFD-4681-920E-E02FEE67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8C41-FED1-4E2B-B0A2-CB68F9831C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7092-5B36-4638-B62F-E2550AF93E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179280" y="404640"/>
            <a:ext cx="8820360" cy="327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  <a:ea typeface="Arial"/>
              </a:rPr>
              <a:t>Консультация для родителей по физической культу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  <a:ea typeface="Arial"/>
              </a:rPr>
              <a:t>Тема: « Физическое развитие в домашних условиях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http://dskv2287.mskobr.ru/images/cms/data/fizkul.jpg"/>
          <p:cNvPicPr/>
          <p:nvPr/>
        </p:nvPicPr>
        <p:blipFill>
          <a:blip r:embed="rId1"/>
          <a:stretch/>
        </p:blipFill>
        <p:spPr>
          <a:xfrm>
            <a:off x="2303640" y="3311640"/>
            <a:ext cx="4287600" cy="29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57200" y="260280"/>
            <a:ext cx="8229600" cy="3313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-28440" y="260280"/>
            <a:ext cx="9323280" cy="66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Интерес ребенка к физическим упражнениям формируется совместными усилиями воспитателей и родителей. Спортивный уголок дома помогает разумно организовать досуг детей, способствует закреплению двигательных навыков, полученных в дошкольном учреждении, развитию ловкости, самостоятельности. Оборудовать такой уголок несложно: одни пособия можно приобрести в спортивном магазине, другие сделать самим. По мере формирования движений и расширения интересов ребенка уголок следует пополнять более сложным инвентарем различного назнач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Существует множество способов, обеспечивающих физическое развитие детей: совместные подвижные игры и физические упражнения, закаливание, зарядка, занятия в спортивных секциях, семейный туризм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Но наиболее оптимальных результатов в физическом развитии ребенка в домашних условиях можно добиться, сочетая совместные подвижные игры с занятиями на домашнем физкультурно-оздоровительном комплексе, включающем разнообразные спортивные снаряды и тренажеры.  При этом ребенок получает уникальную возможность самотренировки и самообучения вне зависимости от погодных условий, наличия свободного времени у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457200" y="-201600"/>
            <a:ext cx="8229600" cy="2103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528480" y="1467000"/>
            <a:ext cx="8229600" cy="4530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1" descr="http://delo2011.ru/wp-content/uploads/2012/01/0-mudraya-sova-260h384-203x300.png"/>
          <p:cNvPicPr/>
          <p:nvPr/>
        </p:nvPicPr>
        <p:blipFill>
          <a:blip r:embed="rId1"/>
          <a:stretch/>
        </p:blipFill>
        <p:spPr>
          <a:xfrm>
            <a:off x="7364520" y="36360"/>
            <a:ext cx="1749240" cy="24987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655640" y="1008000"/>
            <a:ext cx="60483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одсказки для взросл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-4680" y="1457280"/>
            <a:ext cx="92772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Не рекомендуется заниматься физической культурой на кухне, где воздух насыщен запахами газа, пищи, специй, сохнущего белья и т.д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2. При установке комплекса размах качелей и перекладины трапеции не должен быть направлен в оконную рам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3. Следите за тем, чтобы в поле деятельности детей не попадали предметы, которые могут разбиться или помешать движениям. Уберите из непосредственной близости от комплекса зеркала, стеклянные и бьющиеся предме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4. Во время занятий ребенка на физкультурном комплексе положите на пол матрасик (его можно заменить толстым ковром, гимнастическим матом, батутом, сухим бассейном с шариками). Это необходимо для того, чтобы обеспечить мягкость поверхности при спрыгивании со снарядов и предупредить возможность повреждения стоп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5. Закройте электрические розетки вблизи комплекса пластмассовыми блокиратор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6. Желательно перед занятиями и после них проветрить помещение, где установлен физкультурный комплек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7. К занятиям на комплексе не следует допускать эмоционально и двигательно перевозбужденных детей, потому что они не могут сконцентрировать внимание и контролировать свои движения. Их следует успокоить: предложить договориться о правилах игры, дать двигательное задание, требующее собранности и сосредоточенности, включить спокойную музыку и т.д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-25560" y="0"/>
            <a:ext cx="9318960" cy="70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Как обеспечить страховку ребенка во время занят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Доверяйте своему ребенку. Если он отказывается выполнять какое-либо ваше задание, не настаивайте и не принуждайте ег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Поддерживайте любую разумную инициативу ребенка: «Давай я теперь буду с горки кататься!» – «Давай!» – «А теперь давай буду на турнике на одной ноге висеть!» – «Нет. Этого делать нельзя! (Не надо вдаваться в долгие объяснения, почему этого делать не стоит: нельзя – значит нельзя!) Но можно повисеть на турнике вниз головой, зацепившись двумя ногами, когда я тебя крепко держу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ахуйте ребенка при первых самостоятельных попытках освоить новый снаряд, особенно при знакомстве с кольцами и лианой. Как только снаряд будет освоен дошкольником достаточно уверенно, займите позицию стороннего наблюдателя, похвалите его ловкость. Поднимая ребенка вверх за руки, никогда не держите его только за кисти (кости и мышцы запястья дошкольника окрепли еще недостаточно), обязательно придерживайте целиком за предплечья. Самый безопасный вид страховки: поддержка за бед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При выполнении упражнений на перекладине, кольцах, лиане следует фиксировать положение позвоночника. Для этого встаньте сбоку от снаряда и положите ладони одновременно на грудь и спину дошкольни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емитесь пресекать опрометчивость и браваду ребенка, особенно при выполнении упражнений на высоте: «А я и без рук могу стоять на перекладине». Учите его быть внимательным и осторожным, чтобы он сам заботился о собственной безопасн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Вниманию родителей: вис только на руках опасен вашему ребенку. Поэтому длительные висы на кольцах и лиане заменяйте полувисами, при которых ребенок еще упирается ногами об по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Поддерживать желание ребенка заниматься физкультурой можно различными способами. Предлагаем вашему вниманию маленькие хитрости, которые помогут сделать домашние занятия интересными и полезны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2168640" y="3933720"/>
            <a:ext cx="4752720" cy="24894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-6480" y="0"/>
            <a:ext cx="9279000" cy="72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Маленькие хитр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Для занятий следует использовать как можно больше вспомогательных средств: игрушек, воздушных шариков и т.п. Они помогут привлечь внимание, будут стимулировать детей к выполнению разнообразных упражне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Одежда для занятий существенной роли не играет. Однако если вы хотите укрепить мышцы стопы и одновременно закалить ребенка, то лучше всего заниматься босиком в трусиках и хлопчатобумажной футбол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Для создания радостного настроения включите музыку. Во время занятий обязательно разговаривайте с ребенком, улыбайтесь ему: «Молодец, ты уже почти до самого верха лесенки долез!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Упражнения желательно проводить в игровой форме. Например, взрослый говорит: «Сегодня мы с тобой пойдем в гости к белочке. Вот только домик ее далеко-далеко и высоко-высоко, на самой верхушке старой сосны. (Дальнейший текст сопровождается совместным выполнением движений с ребенком.) Сначала мы пойдем через болото (ходьба по диванным подушкам), затем перейдем через бурелом (ходьба, переступая через кегли, кубики), затем пролезем через лисью нору (подлезание под два стула, составленных вместе) и залезем на верхушку сосны. Там рыжая белочка живет, нас с тобою в гости жд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Другая форма работы с детьми старшего дошкольного возраста – устраивать соревнования по принципу «Кто скорее добежит» или организовать сюжетную игру по мотивам литературного произведения с вплетением в сюжет физических упражне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Занимаясь и играя вместе с ребенком, помогая ему самостоятельно подтянуться, залезть до верха лесенки, перепрыгнуть через кубик, вы даете ему возможность восхищаться вами: «Какой мой папа сильный! Какая моя мама ловкая!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тепенно совместные занятия физической культурой станут счастливыми событиями дня, и ребенок будет ждать их с нетерпением и радостью. Средняя продолжительность занятий составляет 20 – 30 ми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620640"/>
            <a:ext cx="8229600" cy="187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9160" y="333000"/>
            <a:ext cx="8227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eec94"/>
                </a:solidFill>
                <a:latin typeface="Times New Roman"/>
                <a:ea typeface="Arial"/>
              </a:rPr>
              <a:t>Желаем успеха!</a:t>
            </a:r>
            <a:endParaRPr b="0" lang="en-US" sz="8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5" name="Picture 4" descr="http://semidnevka.ru/uploads/events/1320252511_1.jpg"/>
          <p:cNvPicPr/>
          <p:nvPr/>
        </p:nvPicPr>
        <p:blipFill>
          <a:blip r:embed="rId1"/>
          <a:stretch/>
        </p:blipFill>
        <p:spPr>
          <a:xfrm>
            <a:off x="539640" y="2924280"/>
            <a:ext cx="8147160" cy="374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5:01:11Z</dcterms:created>
  <dc:creator>admin</dc:creator>
  <dc:description/>
  <dc:language>en-US</dc:language>
  <cp:lastModifiedBy>Иващенко</cp:lastModifiedBy>
  <dcterms:modified xsi:type="dcterms:W3CDTF">2015-09-27T03:55:34Z</dcterms:modified>
  <cp:revision>29</cp:revision>
  <dc:subject/>
  <dc:title>ТЕМА: «Перспективное планирование  физкультурно-оздоровительной  работы в ДОУ  с учетом ФГТ»</dc:title>
</cp:coreProperties>
</file>