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8" y="0"/>
                </a:lnTo>
                <a:arcTo wR="1588" hR="1588" stAng="-5400000" swAng="-5400000"/>
                <a:lnTo>
                  <a:pt x="0" y="9142412"/>
                </a:lnTo>
                <a:lnTo>
                  <a:pt x="0" y="9142412"/>
                </a:lnTo>
                <a:arcTo wR="1588" hR="1588" stAng="10800000" swAng="-5400000"/>
                <a:lnTo>
                  <a:pt x="6856412" y="9144000"/>
                </a:lnTo>
                <a:lnTo>
                  <a:pt x="6856412" y="9144000"/>
                </a:lnTo>
                <a:arcTo wR="1588" hR="1588" stAng="5400000" swAng="-5400000"/>
                <a:lnTo>
                  <a:pt x="6858000" y="1588"/>
                </a:lnTo>
                <a:lnTo>
                  <a:pt x="6858000" y="1588"/>
                </a:lnTo>
                <a:arcTo wR="1588" hR="15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A6181DD-2A10-41EB-9B34-24FA89E975A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A78AB8E-DA5E-405F-A465-216B4DDB06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2595678-9396-49BC-B54F-27F47CDB402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B2A480F-8A14-444B-A77F-F8D5C282F31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5FB21F0-9C29-4838-8333-57FC826E8C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52B766F-31F1-45D2-9474-5D9A0FE8105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7D5CF12-F5FB-4138-9256-3CDE8597A3D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05C-88BA-4274-8251-361C73CA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685-E57B-4E1D-81C2-D5ADF824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9E0-CC87-42EE-A667-BC80A986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3CB-0360-4F55-A898-B2D1D181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F00B-A8AC-4FAD-9880-84898EA9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F8EA-486C-46BA-B944-2CEE96EC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835C-D6A3-420E-896A-FDC42916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7152-3470-401C-91EE-924BF15B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DDF1-6D0A-43AC-A01C-0F736E9D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657A-4671-4F51-9B5D-D6B8CBDB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9DB8-448E-4EDC-959B-97D9DA7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967-71A3-441B-80E8-D2DBA4DE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1049-34B0-4B3C-A843-D85DA2D7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4F0-7E25-48C6-A99A-DCE71292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99D0-1858-4EEE-9152-1D656BC8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9DEF-6730-41BB-95C6-08B45439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D15A-5AF7-4A35-AC37-1F0CF6EF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BEF-40D0-459A-9A27-1D299C7C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D6A-648D-43EB-B1E5-3C1E0FA9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EFB-E6A3-4A9B-91D2-37E4A6C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63C-C63F-4533-B4F0-9B473E1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E68-F758-4E52-A24D-AF196B9C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D72-D036-43AF-B0AD-6F603E98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E4C-9E2A-4BD1-AB29-B779D8BF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369A-C0CB-4A14-8B16-3159D1B3F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2EF7-A56B-4D5E-9D88-005537075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79280" y="404640"/>
            <a:ext cx="8820360" cy="327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  <a:ea typeface="Arial"/>
              </a:rPr>
              <a:t>Консультация для родителей по физической куль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  <a:ea typeface="Arial"/>
              </a:rPr>
              <a:t>Тема: « Физическое развитие в домашних условия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http://dskv2287.mskobr.ru/images/cms/data/fizkul.jpg"/>
          <p:cNvPicPr/>
          <p:nvPr/>
        </p:nvPicPr>
        <p:blipFill>
          <a:blip r:embed="rId1"/>
          <a:stretch/>
        </p:blipFill>
        <p:spPr>
          <a:xfrm>
            <a:off x="2303640" y="3311640"/>
            <a:ext cx="42876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60280"/>
            <a:ext cx="8229600" cy="3313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-28440" y="260280"/>
            <a:ext cx="9323280" cy="66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Интерес ребенка к физическим упражнениям формируется совместными усилиями воспитателей и родителей. Спортивный уголок дома помогает разумно организовать досуг детей, способствует закреплению двигательных навыков, полученных в дошкольном учреждении, развитию ловкости, самостоятельности. Оборудовать такой уголок несложно: одни пособия можно приобрести в спортивном магазине, другие сделать самим. По мере формирования движений и расширения интересов ребенка уголок следует пополнять более сложным инвентарем различного назна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уществует множество способов, обеспечивающих физическое развитие детей: совместные подвижные игры и физические упражнения, закаливание, зарядка, занятия в спортивных секциях, семейный туризм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Но наиболее оптимальных результатов в физическом развитии ребенка в домашних условиях можно добиться, сочетая совместные подвижные игры с занятиями на домашнем физкультурно-оздоровительном комплексе, включающем разнообразные спортивные снаряды и тренажеры.  При этом ребенок получает уникальную возможность самотренировки и самообучения вне зависимости от погодных условий, наличия свободного времени у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-201600"/>
            <a:ext cx="8229600" cy="210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528480" y="1467000"/>
            <a:ext cx="8229600" cy="453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1" descr="http://delo2011.ru/wp-content/uploads/2012/01/0-mudraya-sova-260h384-203x300.png"/>
          <p:cNvPicPr/>
          <p:nvPr/>
        </p:nvPicPr>
        <p:blipFill>
          <a:blip r:embed="rId1"/>
          <a:stretch/>
        </p:blipFill>
        <p:spPr>
          <a:xfrm>
            <a:off x="7364520" y="36360"/>
            <a:ext cx="1749240" cy="2498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655640" y="1008000"/>
            <a:ext cx="60483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дсказки дл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-4680" y="1457280"/>
            <a:ext cx="92772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Не рекомендуется заниматься физической культурой на кухне, где воздух насыщен запахами газа, пищи, специй, сохнущего белья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При установке комплекса размах качелей и перекладины трапеции не должен быть направлен в оконную рам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Следите за тем, чтобы в поле деятельности детей не попадали предметы, которые могут разбиться или помешать движениям. Уберите из непосредственной близости от комплекса зеркала, стеклянные и бьющиеся предме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4. Во время занятий ребенка на физкультурном комплексе положите на пол матрасик (его можно заменить толстым ковром, гимнастическим матом, батутом, сухим бассейном с шариками). Это необходимо для того, чтобы обеспечить мягкость поверхности при спрыгивании со снарядов и предупредить возможность повреждения стоп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5. Закройте электрические розетки вблизи комплекса пластмассовыми блокиратор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6. Желательно перед занятиями и после них проветрить помещение, где установлен физкультурный комплек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7. К занятиям на комплексе не следует допускать эмоционально и двигательно перевозбужденных детей, потому что они не могут сконцентрировать внимание и контролировать свои движения. Их следует успокоить: предложить договориться о правилах игры, дать двигательное задание, требующее собранности и сосредоточенности, включить спокойную музыку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-25560" y="0"/>
            <a:ext cx="9318960" cy="70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ак обеспечить страховку ребенка во время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Доверяйте своему ребенку. Если он отказывается выполнять какое-либо ваше задание, не настаивайте и не принуждайте е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ддерживайте любую разумную инициативу ребенка: «Давай я теперь буду с горки кататься!» – «Давай!» – «А теперь давай буду на турнике на одной ноге висеть!» – «Нет. Этого делать нельзя! (Не надо вдаваться в долгие объяснения, почему этого делать не стоит: нельзя – значит нельзя!) Но можно повисеть на турнике вниз головой, зацепившись двумя ногами, когда я тебя крепко держ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ахуйте ребенка при первых самостоятельных попытках освоить новый снаряд, особенно при знакомстве с кольцами и лианой. Как только снаряд будет освоен дошкольником достаточно уверенно, займите позицию стороннего наблюдателя, похвалите его ловкость. Поднимая ребенка вверх за руки, никогда не держите его только за кисти (кости и мышцы запястья дошкольника окрепли еще недостаточно), обязательно придерживайте целиком за предплечья. Самый безопасный вид страховки: поддержка за бед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 выполнении упражнений на перекладине, кольцах, лиане следует фиксировать положение позвоночника. Для этого встаньте сбоку от снаряда и положите ладони одновременно на грудь и спину дошкольни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емитесь пресекать опрометчивость и браваду ребенка, особенно при выполнении упражнений на высоте: «А я и без рук могу стоять на перекладине». Учите его быть внимательным и осторожным, чтобы он сам заботился о собственной безопас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Вниманию родителей: вис только на руках опасен вашему ребенку. Поэтому длительные висы на кольцах и лиане заменяйте полувисами, при которых ребенок еще упирается ногами об по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ддерживать желание ребенка заниматься физкультурой можно различными способами. Предлагаем вашему вниманию маленькие хитрости, которые помогут сделать домашние занятия интересными и полезн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168640" y="3933720"/>
            <a:ext cx="4752720" cy="2489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-6480" y="0"/>
            <a:ext cx="9279000" cy="72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Маленькие хитр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занятий следует использовать как можно больше вспомогательных средств: игрушек, воздушных шариков и т.п. Они помогут привлечь внимание, будут стимулировать детей к выполнению разнообразных упражн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дежда для занятий существенной роли не играет. Однако если вы хотите укрепить мышцы стопы и одновременно закалить ребенка, то лучше всего заниматься босиком в трусиках и хлопчатобумажной футбол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создания радостного настроения включите музыку. Во время занятий обязательно разговаривайте с ребенком, улыбайтесь ему: «Молодец, ты уже почти до самого верха лесенки долез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Упражнения желательно проводить в игровой форме. Например, взрослый говорит: «Сегодня мы с тобой пойдем в гости к белочке. Вот только домик ее далеко-далеко и высоко-высоко, на самой верхушке старой сосны. (Дальнейший текст сопровождается совместным выполнением движений с ребенком.) Сначала мы пойдем через болото (ходьба по диванным подушкам), затем перейдем через бурелом (ходьба, переступая через кегли, кубики), затем пролезем через лисью нору (подлезание под два стула, составленных вместе) и залезем на верхушку сосны. Там рыжая белочка живет, нас с тобою в гости жд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ругая форма работы с детьми старшего дошкольного возраста – устраивать соревнования по принципу «Кто скорее добежит» или организовать сюжетную игру по мотивам литературного произведения с вплетением в сюжет физических упражн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имаясь и играя вместе с ребенком, помогая ему самостоятельно подтянуться, залезть до верха лесенки, перепрыгнуть через кубик, вы даете ему возможность восхищаться вами: «Какой мой папа сильный! Какая моя мама ловкая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епенно совместные занятия физической культурой станут счастливыми событиями дня, и ребенок будет ждать их с нетерпением и радостью. Средняя продолжительность занятий составляет 20 – 30 м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620640"/>
            <a:ext cx="8229600" cy="18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9160" y="333000"/>
            <a:ext cx="8227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eec94"/>
                </a:solidFill>
                <a:latin typeface="Times New Roman"/>
                <a:ea typeface="Arial"/>
              </a:rPr>
              <a:t>Желаем успеха!</a:t>
            </a:r>
            <a:endParaRPr b="0" lang="en-US" sz="8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5" name="Picture 4" descr="http://semidnevka.ru/uploads/events/1320252511_1.jpg"/>
          <p:cNvPicPr/>
          <p:nvPr/>
        </p:nvPicPr>
        <p:blipFill>
          <a:blip r:embed="rId1"/>
          <a:stretch/>
        </p:blipFill>
        <p:spPr>
          <a:xfrm>
            <a:off x="539640" y="2924280"/>
            <a:ext cx="8147160" cy="37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01:11Z</dcterms:created>
  <dc:creator>admin</dc:creator>
  <dc:description/>
  <dc:language>en-US</dc:language>
  <cp:lastModifiedBy>Иващенко</cp:lastModifiedBy>
  <dcterms:modified xsi:type="dcterms:W3CDTF">2015-09-27T03:55:34Z</dcterms:modified>
  <cp:revision>29</cp:revision>
  <dc:subject/>
  <dc:title>ТЕМА: «Перспективное планирование  физкультурно-оздоровительной  работы в ДОУ  с учетом ФГТ»</dc:title>
</cp:coreProperties>
</file>