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45BD-8B2B-440C-A783-288C4A6C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BD85-4F82-4C4F-ACFD-33702047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11247-6791-4F4A-A1A2-0A672B26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BB1EE-DD9B-4553-B803-52B96434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17FEE-AD5F-474B-B62C-9722C0A0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2559C-0EB7-456B-B454-7A2281B4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6D76A-C79F-4BAB-ABEE-78448B78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9EE26-DD0B-4D06-BD61-7E66083C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8BB1E-E7CC-4DF5-A6BC-5B980356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06E1F-2A12-4EA3-A98A-32F24D07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15857-0EF4-4A33-B132-F75A9971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8032-9940-414A-8FCD-138BA483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834A-56D1-4D31-9320-B9D2C467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19A9-E1C9-4F11-A56C-FB3FF0E0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9C91-1D81-455B-A4AD-83EC8165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55CE-260D-4AA7-B2D7-A7E8D788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9581-5113-4802-A0C6-8E10C36C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1CB5-414F-4628-BC62-7EADD7DE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F864-649A-4E1B-911A-81084DEE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8DD9-F891-49D5-BC44-0BCF357B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97AF-58F2-44A5-BD2D-2E5D8435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34C7-113D-4C73-8A23-54A25EFE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27EC-9FC7-42E2-88C8-C9DDCE2D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1B81-7804-46E2-A58A-A107FF73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EEF7-44E8-4A37-98F7-FF12C8E8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09E3-B005-4DEC-98C8-95D76F02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12773-D4DE-479D-97AC-E634D926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B4F8D-8937-48EF-BC52-99DACCC4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86510-AB48-41D6-AAB2-2B2312C2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01B15-17C6-4C9B-92D2-8052D3E9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AECD2-FF7C-42C0-B924-CC54D5CF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1D16-7586-4B54-B568-E898F4DB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73E5F-B946-404C-811F-889B49AD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67B65-31CD-4E84-9E6B-6BECBC79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91D4F-1CAF-4996-B3EC-1D38D155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4DF70-F7D6-417D-929D-550D73DF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8EEB1-9695-4C5D-8D00-2E468B5A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50D12-21E6-4BBC-8B3B-D1E167B4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B959A-A15B-4B98-95D0-671D4113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E3FB8-E5F4-4B71-83F3-8CC343AE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C8003-DBA1-4CC7-BAA9-3F290F75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A30D7-BD62-45DE-9ECB-9264A838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B257-08DC-4443-B4C6-1B83D242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2DBEF-2733-41BE-8DE7-26CE4467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BD556-0B29-42AA-B21F-6F0E2AAB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B03F1-370D-4542-ACC6-CC28A7D9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06F5B-1CB4-4C9B-89A8-0B6643EF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BCF16-D1C2-4AC1-BE47-B82CFFD7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D002F-7C9C-460A-93E4-0DA944E4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1A118-ED93-4C98-ADE3-26C41509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EFE96-E72D-4E3B-A8FC-5D030556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23A29-C8AF-400B-B480-00D1508B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A2117-72D3-43D7-89AB-1A3EEBC3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76A7-D506-4018-A3F7-E1DA171E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605EF-9B19-4383-BBD6-D77923E7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03BC9-70D1-429F-A2FA-C7C4055B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942A8-4DAD-4032-80A5-2DD822C8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D2507-AAFF-4722-B190-DFBB6704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91EB5-8BEA-4D48-98EC-ACB75AA1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B2079-CA14-4EB3-8ED1-C0D26C11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9552C-E548-4394-8EE7-98C1083D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BB379-2A1C-488C-BE6B-C1EF8186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39AB9-3173-4439-AD80-3CBE3170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A3BBD-96EE-4AA4-B6BD-D8A7B8B5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8949-950B-474E-8848-70240E8C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D86BA-D0FF-4FB1-B736-5B5FBCBB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6C428-AB7D-4656-901B-8CE22F6F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CAC56-0E27-4422-835D-DBF968AE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A02E9-D226-42FB-839B-4B1387C8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C4B41-75B2-4D12-AF49-1C3F4DBD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D262E-1D77-4CB2-85D5-9560A170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3FEBF-A227-49D1-98E8-0865AAF9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6EB9B-626C-4158-B220-A39450AA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EA3D8-6A0F-43A2-BE3A-AAEC9DBF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88466-C38C-4FA2-95FF-1002863C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42E-DF4E-489A-9F92-BF4F6701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ACF7C-5AD6-4F2A-98D7-B304BFD1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B019F-07B4-445B-ABA5-E69824CB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1F8E2-A815-440B-8022-0F5C7D00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69C5E-B12A-455C-9BA3-45FD7FA6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B6801-C974-458F-BED2-F9239A4B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94C04-E1D9-4B57-BC5C-592A3F1B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5E614-5F5A-4EBB-B3D5-727571D2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3C78E-F704-4049-834E-F201B1F3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B253A-5D7E-4ABD-973C-28675419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C201B-3A2D-4150-A8B1-056E84F9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139B-149C-4D14-A15C-F1DFEE77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9462F-A729-41C6-8EA8-5F3370BE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F070A-708B-4427-A977-08A66A8A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3EFEF-229F-4F58-A1C3-E4BB059F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FE67F-CEC3-4801-A266-920D9CA9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33838-3BBF-4E2F-8FFD-2BBFBC0D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A2604-395A-4647-B19B-6EB6400D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76DBB-0BB7-4D23-81B6-638C6898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349A6-0BCE-48B1-ACE7-1C32DFBA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E6C06-CDB1-4219-A32E-36A2D1E1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2E6FC-BCF4-4CFF-9F10-89F6E72B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1ADF-D20F-4324-A09F-5FDF3FFD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13139-40DA-42BF-BEAA-B94E06A8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7D412-D5D3-4523-8D64-E3FE625D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11AFE-6446-473E-9DF4-F863DC83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81240-A23B-4CCB-9BAF-2974445D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3F341-AAD9-4FD7-8EEA-2701F556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4A117-8A50-4885-AB71-3FAA9E32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AECA9-9CE6-4BE2-A6E3-3D692F4C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2DFDF-587D-4049-A749-4F263AEA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CAF3E-2F30-40B9-9C0E-08A1DF17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96DE4-6C66-43F8-9657-20DFDEFC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2A78-D9BD-479E-B515-019AFAFF3CEC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910E-D5BC-4A2F-BBEB-8994512E0FE0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4FE3-51D2-42F6-A939-5DF2BDAF946F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5f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2B43-58AB-476B-9D90-AAD8CACD206D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1FAA-230E-4FFA-AD7B-2955FC7B21A0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8EED-40FB-4071-BB0C-C25984C41E6E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6A41-EB18-4283-A85A-98BA7EA5BF85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A78A-853C-44C4-9A57-FB6D3DB1A5CF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DBDC-FECC-43CF-8532-FAC23059EF6E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78000" y="4827600"/>
            <a:ext cx="8467560" cy="12556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99680" y="1571400"/>
            <a:ext cx="8458200" cy="28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d3d3d"/>
                </a:solidFill>
                <a:latin typeface="Arial"/>
                <a:ea typeface="Arial"/>
              </a:rPr>
              <a:t>Презентация по общей психологии</a:t>
            </a:r>
            <a:endParaRPr b="0" lang="en-US" sz="3900" spc="-1" strike="noStrike">
              <a:solidFill>
                <a:srgbClr val="464646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281160" y="281160"/>
            <a:ext cx="8697600" cy="10713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214200" y="1214280"/>
            <a:ext cx="87775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5. Принцип взаимосвязи, единства сознания, психического и деятельности, поведения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 показывает, что человеческая психика формируется, функционирует, развивается и проявляется только в процессе общественно-трудовой деятельности, взаимодействия человека с другими людьми. 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6. Принцип целостного, системного подхода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 к пониманию и изучению психики ориентирует на понимание того, что психика формируется, функционирует и проявляется как целостное, интегральное явление. Все индивидуальные и групповые (общественные) психические феномены взаимосвязаны и обусловливают друг друга. 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7. Принцип относительной самостоятельности психических феноменов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 не противоречит предыдущему, а лишь указывает на то, что каждое психическое явление у человека может иметь не только своеобразие своих физиологических основ, но и свои закономерности формирования, функционирования, развития. 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8. Принцип личностного подхода, учета групповой психики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 в изучении, понимании и формировании отдельных психических явлений, фактов, механизмов. С учетом требований этого принципа изучение психики может быть правильным лишь при учете в совокупности, единстве, основных, ведущих, коренных личностных и групповых особенностей людей: их потребностей, интересов, жизненного и профессионального опыта, способностей и других особенностей.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9. Принцип единства конкретно-исторического подхода и содержательного анализа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 в понимании психики людей ориентирует специалиста на содержательный и ценностный (аксиологический) анализ психики людей с учетом конкретно-исторических условий их жизни и деятельности. 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281160" y="128520"/>
            <a:ext cx="8697600" cy="10238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"/>
          <p:cNvPicPr/>
          <p:nvPr/>
        </p:nvPicPr>
        <p:blipFill>
          <a:blip r:embed="rId2"/>
          <a:stretch/>
        </p:blipFill>
        <p:spPr>
          <a:xfrm>
            <a:off x="276120" y="1357200"/>
            <a:ext cx="84060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281160" y="128520"/>
            <a:ext cx="8697600" cy="10238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142920" y="1214280"/>
            <a:ext cx="8848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Обычно выделяют три крупные группы психических явлений: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1. </a:t>
            </a: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Психические процессы 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- динамическое отражение действительности в различных формах психических явлений. Психический процесс - это течение психического явления, имеющего начало, развитие и конец, проявляющиеся в виде реакции. При этом конец психического процесса тесно связан с началом нового процесса. 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Все психические процессы подразделяются на познавательные (ощущения и восприятия, представления и память, мышление и воображение), эмоциональные (переживания), волевые (решение, исполнение, волевое усиление).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Психические процессы обеспечивают формирование знаний и первичную регуляцию поведения и деятельности человека.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2. </a:t>
            </a: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Психическое состояние 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– это определившийся в данное время относительно устойчивый уровень психической деятельности, который проявляется в повышенной или пониженной активности личности.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Психические состояния имеют рефлекторную природу: они возникают под влиянием обстановки, физиологических факторов, хода работы, времени и словесных воздействий .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3. </a:t>
            </a: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Психические свойства 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– высшие и устойчивые регуляторы психической деятельности. Психическими свойствами человека называют устойчивые образования, обеспечивающий определенный качественно-количественный уровень деятельности и поведения, типичный для данного человека.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Каждое психическое свойство формируется постепенно в процессе отражения и закрепляется в практике. Оно, следовательно, является результатом отражательной и практической деятельности.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731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В системе наук психологии должно быть отведено совершенно особое место, и вот по каким причинам.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Во-первых, это наука о самом сложном, что пока известно человечеству. Ведь психика - это «свойство высокоорганизованной материи». Если же иметь в виду психику человека, то к словам «высокоорганизованная материя» нужно прибавить слово «самая»: ведь мозг человека - это самая высокоорганизованная материя, известная нам.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Во-вторых, психология находится в особом положении потому, что в ней как бы сливаются объект и субъект познания.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В-третьих, особенность психологии заключается в ее уникальных практических следствиях.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Практические результаты от развития психологии должны стать не только несоизмеримо значительнее результатов любой другой науки, но и качественно другими. Ведь познать нечто - значит овладеть этим «нечто», научиться им управлять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298440" y="262080"/>
            <a:ext cx="8699400" cy="10429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214200" y="1554120"/>
            <a:ext cx="877752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57200"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ведение в психологию / Под ред. Петровского А.В. - М.: Академия, 1996. - 496 с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457200"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игорович Л.А, Марцинковская Т.Д. Педагогика и психология: Учеб. пособие. — М.: Гардарики, 2003. - 480 с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457200"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убинштейн С.Л. Основы общей психологии. - СПб: Издательство «Питер», 2000. - 712 с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457200"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оляренко Л.Д. Основы психологии. - Ростов н/Д: «Феникс», 2000. - 672 с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457200" algn="just">
              <a:lnSpc>
                <a:spcPct val="150000"/>
              </a:lnSpc>
              <a:spcBef>
                <a:spcPts val="4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457200" algn="just">
              <a:lnSpc>
                <a:spcPct val="150000"/>
              </a:lnSpc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65240" y="450720"/>
            <a:ext cx="8959680" cy="10432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4143240"/>
            <a:ext cx="8624880" cy="19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Психология</a:t>
            </a:r>
            <a:r>
              <a:rPr b="0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 - это наука о закономерностях возникновения, развития и проявления психики и сознания человека.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Цель психологии как науки</a:t>
            </a:r>
            <a:r>
              <a:rPr b="0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 - дать ответ на вопрос, почему тот или иной человек ведет себя в той или иной ситуации, так, а не иначе, и что можно сделать, чтобы изменить поведение этого человека или свое отношение к тому, что он делает или не делает.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03" name="Picture 6" descr=""/>
          <p:cNvPicPr/>
          <p:nvPr/>
        </p:nvPicPr>
        <p:blipFill>
          <a:blip r:embed="rId2"/>
          <a:stretch/>
        </p:blipFill>
        <p:spPr>
          <a:xfrm>
            <a:off x="1785960" y="1357200"/>
            <a:ext cx="5481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731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1) изучение объективных закономерностей формирования, развития и проявления психических явлений и процессов как отражения непосредственных воздействий объективной действительности и взаимодействия людей;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2) изучение качественных (структурных) особенностей психических явлений и процессов;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3) изучение физиологических механизмов, лежащих в основе психических явлений, для правильного овладения практическими средствами их формирования и развития;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4) внедрение научных знаний и представлений психологической науки в жизнь и деятельность людей, изучение их взаимодействия и взаимопонимания (разработка научных и практических методик обучения и воспитания, рационализация процесса труда в различных видах деятельности людей)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73160"/>
          </a:xfrm>
          <a:prstGeom prst="rect">
            <a:avLst/>
          </a:prstGeom>
          <a:ln w="0">
            <a:noFill/>
          </a:ln>
        </p:spPr>
      </p:pic>
      <p:pic>
        <p:nvPicPr>
          <p:cNvPr id="407" name="Содержимое 3" descr=""/>
          <p:cNvPicPr/>
          <p:nvPr/>
        </p:nvPicPr>
        <p:blipFill>
          <a:blip r:embed="rId2"/>
          <a:stretch/>
        </p:blipFill>
        <p:spPr>
          <a:xfrm>
            <a:off x="298440" y="1536840"/>
            <a:ext cx="8699400" cy="45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281160" y="208080"/>
            <a:ext cx="8697600" cy="10778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214200" y="1214280"/>
            <a:ext cx="87775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Общая психология</a:t>
            </a:r>
            <a:r>
              <a:rPr b="0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 изучает содержание, особенности и общие закономерности функционирования психики и человеческого сознания, психические процессы, свойства, состояния и образования личности.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  <a:p>
            <a:pPr marL="310320" indent="-310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Социальная психология </a:t>
            </a:r>
            <a:r>
              <a:rPr b="0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исследует психологические явления и процессы, обусловленные принадлежностью человека к конкретным общностям.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  <a:p>
            <a:pPr marL="310320" indent="-310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Педагогическая психология </a:t>
            </a:r>
            <a:r>
              <a:rPr b="0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занимается исследованием психологических особенностей и закономерностей процессов обучения и воспитания подрастающего поколения. 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  <a:p>
            <a:pPr marL="310320" indent="-310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Возрастная психология </a:t>
            </a:r>
            <a:r>
              <a:rPr b="0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изучает своеобразие психики людей разного возраста, процесс формирования их личности и умственного развития, возрастных особенностей процессов восприятия, мышления, памяти, интересов, мотивов деятельности и т. п.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  <a:p>
            <a:pPr marL="310320" indent="-310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Медицинская психология </a:t>
            </a:r>
            <a:r>
              <a:rPr b="0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занимается исследованием нарушений и расстройств психической деятельности при различных заболеваниях, содействуя разработке рациональных методов их лечения.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  <a:p>
            <a:pPr marL="310320" indent="-310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Патопсихология</a:t>
            </a:r>
            <a:r>
              <a:rPr b="0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 уделяет основное внимание особенностям нарушений психики, связанным с недостатками в строении и функциях организма, в частности у детей.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  <a:p>
            <a:pPr marL="310320" indent="-310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Парапсихология </a:t>
            </a:r>
            <a:r>
              <a:rPr b="0" lang="ru-RU" sz="1800" spc="-1" strike="noStrike">
                <a:solidFill>
                  <a:srgbClr val="464646"/>
                </a:solidFill>
                <a:latin typeface="Arial"/>
                <a:ea typeface="Arial"/>
              </a:rPr>
              <a:t>исследует аномальные индивидуальные и социально-психологические явления.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  <a:p>
            <a:pPr marL="310320" indent="-310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731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213840" y="1553760"/>
            <a:ext cx="371484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етоды психологии - это те приемы и средства, с помощью которых исследователи получают достоверные сведения, используемые далее для построения научных теорий и выработки практических рекомендаций. 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етоды психологии направлены на изу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сихических явлений в развитии и изменении. Изучаются </a:t>
            </a:r>
            <a:endParaRPr b="0" lang="en-US" sz="18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2"/>
          <a:stretch/>
        </p:blipFill>
        <p:spPr>
          <a:xfrm>
            <a:off x="4000680" y="1214280"/>
            <a:ext cx="4949640" cy="350064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оугольник 4"/>
          <p:cNvSpPr/>
          <p:nvPr/>
        </p:nvSpPr>
        <p:spPr>
          <a:xfrm>
            <a:off x="214200" y="4929120"/>
            <a:ext cx="871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и изменение психики в истории животного мира, в истории человечества, при возрастных особенностях, под влиянием упражнения, обучения и воспитания, в результате неблагоприятных воздействий внешней среды, вследствие заболев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етоды психологического исследования изучают не только особенного самого человека, но и влияющие на него услов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993960"/>
          </a:xfrm>
          <a:prstGeom prst="rect">
            <a:avLst/>
          </a:prstGeom>
          <a:ln w="0">
            <a:noFill/>
          </a:ln>
        </p:spPr>
      </p:pic>
      <p:pic>
        <p:nvPicPr>
          <p:cNvPr id="415" name="Содержимое 4" descr=""/>
          <p:cNvPicPr/>
          <p:nvPr/>
        </p:nvPicPr>
        <p:blipFill>
          <a:blip r:embed="rId2"/>
          <a:stretch/>
        </p:blipFill>
        <p:spPr>
          <a:xfrm>
            <a:off x="201600" y="1371600"/>
            <a:ext cx="8893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731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3760"/>
            <a:ext cx="412416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Традиционно дают определение понятию психики как свойства живой высокоорганизованной материи, заключающееся в способности отражать своими состояниями окружающий объективный мир в его связях и отношениях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Arial"/>
                <a:ea typeface="Arial"/>
              </a:rPr>
              <a:t>Важнейшая функция психики - регуляция, управление поведением и деятельностью живого существа.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2"/>
          <a:stretch/>
        </p:blipFill>
        <p:spPr>
          <a:xfrm>
            <a:off x="4714920" y="1500120"/>
            <a:ext cx="422748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281160" y="281160"/>
            <a:ext cx="8697600" cy="10713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214200" y="1356840"/>
            <a:ext cx="87775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1. Принцип отражения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 раскрывает понимание сущности психического и его основных функций, уровней в развитии психики человека. Своеобразие психики человека, этой особой формы отражения, обусловлено многими обстоятельствами, среди которых ведущую роль играют следующие: особенности самой объективной реальности, воспринимаемой как с помощью органов чувств человека, так и с помощью языка, речи; состояние головного мозга, физического и психического здоровья человека; содержание и состояние его психики.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2. Принцип детерминизма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 объясняет причины развития психики, ее истоки: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1) психика человека обусловлена и выступает результатом взаимодействия многих факторов и обстоятельств биологического, природного, технического и социального характера. Ведущую роль играют социальные условия их жизни и деятельности. 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2)  психика человека не просто продукт, результат взаимодействия человека и социальных, биологических, техногенных и природных факторов, обстоятельств. 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Итак, психика человека обладает способностью изменять, развивать себя.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3. Принцип активности психического сознания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 ориентирует исследователя при изучении психики, психических явлений на учет того, что внешние и другие обстоятельства отражаются в сознании человека в виде тех или иных образов избирательно, целенаправленно, а не только зеркально. 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4. Принцип развития психики</a:t>
            </a:r>
            <a:r>
              <a:rPr b="0" lang="ru-RU" sz="1600" spc="-1" strike="noStrike">
                <a:solidFill>
                  <a:srgbClr val="464646"/>
                </a:solidFill>
                <a:latin typeface="Arial"/>
                <a:ea typeface="Arial"/>
              </a:rPr>
              <a:t>, сознания человека в деятельности, во взаимодействии со средой объясняет, что психика, сознание человека развиваются в деятельности и во взаимодействии с миром, общении с другими людьми. 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8T13:56:34Z</dcterms:created>
  <dc:creator>Екатерина Волдкова</dc:creator>
  <dc:description/>
  <dc:language>en-US</dc:language>
  <cp:lastModifiedBy>CoolXP User</cp:lastModifiedBy>
  <dcterms:modified xsi:type="dcterms:W3CDTF">2014-10-18T14:53:14Z</dcterms:modified>
  <cp:revision>28</cp:revision>
  <dc:subject/>
  <dc:title>Автор: Анисимова Александра</dc:title>
</cp:coreProperties>
</file>