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579-D0E0-4061-A7CA-A5AC39D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CF4-02E7-4D02-B57C-57D62E8F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02C2-AC2E-475A-8151-FDC52F9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0C09-8228-40A7-9CC5-7D071AF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DF99E-4335-4384-B8E1-3503D67C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CF424-9B89-49CC-AB19-009E367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415EB-F419-438E-B063-7741A0A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7A4A6-9FD8-49DB-A3A6-C1F5F8D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49A61-34BB-4A9F-8F86-E28BE32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0BF30-1E09-4DFD-8A43-FD2C1B01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EE43B-4DBE-47C3-B896-405A4763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38A-8881-4698-BF90-E8B82341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E74-DB78-4478-804C-DCA3431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E9A8-1154-4313-B8B5-0B9754CB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BF69-9797-4489-9565-0B8A23E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5DC-47FC-4E59-9DCE-E8266B2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135-643B-4876-82AE-D99D66F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D0D1-5F90-4228-97DE-9FA9A611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79BE-615E-4B51-B881-27DD2281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468E-56AE-49F6-986F-6CA2F84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FF4-D6FB-40E0-BA0F-4ACC340B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4BA-4005-4752-87E7-AA1D40E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CF77-40C0-471F-83C6-B1BB0B83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689-B36E-43C5-B317-712EA27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994-BBFF-4AA8-B696-EA55DA32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1A7C-1370-4FAF-89E9-1F4A3729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F030-0A9E-4895-8230-A43C241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85CB-C032-4EB8-BCC7-B622413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D62B-2A11-4651-A846-A9334FE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5A6D-C132-4D7D-9F0C-7FB44A1E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ABCB-1359-4E29-8634-6D52390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80B-53BB-4958-A17D-CD22D93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8020-8F3E-482F-B0A3-1E84D7A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DCED-AD7F-4D05-BEBC-3F4FAEB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279E-A697-4D2A-B609-E4368C4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857A-63A4-4F6F-9BEB-BC64458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028B-0AF4-4595-860B-1E9FEA6B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A727-41C9-4AE7-A419-DD95ACF4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4737-56B8-4BB0-B899-B55CEB06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29AE-D3B4-419D-B89E-D8E92895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620D-2F58-4834-9A3F-C0A39D9D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2DCF-ACEC-45C5-B93D-43D01D4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ABA-C850-45AC-8F8E-A789F02E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B2EE-2AB1-41BF-B050-4513332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E38C-EC11-4A92-BAC1-D901A591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15AF-C850-467D-8AE8-BA738E4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7840-4A56-41D7-8CAF-F2A443C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74F4-0310-4A24-9C1D-1BB91C3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A16C-CFD9-4AD3-AE29-F9D8F4CB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B616-17D0-4759-8365-062844AD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15E6-FB03-412A-9E9B-CBC67CF8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35C4-B120-4B16-A844-3F55E9F9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A1A0-93A4-4F34-BF0B-3C0B7A3D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FDF-8478-41E8-B575-C809B4A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8DE2-FAD5-4B71-8EF1-15B44880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CF7A-0142-41FB-BD33-8D9408D3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4CCA-9796-4CF0-AC7B-539800F8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70D0-6577-40A1-9221-8F8A935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8B13-54DC-4D1B-8E1E-9D22646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67D3-BFBB-4C47-A4A3-0DA9DE9A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2A3A-7472-484E-8017-00DAF0B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A6AA-42EC-49A1-9F0C-225FA81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E3D9-A394-45EC-94B9-8AFC03F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1C5D-D2F3-4154-8694-497516AA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034-ECC0-4D20-8B20-F94CE203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746C-6A6D-4432-9B13-EF09A11E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CB30-D3F4-400F-9027-C0C47E5A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3751-CFE2-41C7-990B-77C7272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D9D4-F8AA-40AF-84B2-398DA6AD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F2DF-585E-4C48-8BBC-FED6FC4E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856D-ED30-4159-A346-57A21A6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AA1D9-CEE8-48C2-861C-3C590BE3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CDC0-2C0A-464A-B92C-A2DCC455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4770-3BD1-43A4-B2DA-ADF04A2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2693-BEF2-4BFD-8342-57B8B94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E78-E873-46D5-8BDD-DC1E272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3CC6-1B2D-4841-8082-17E8785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F905-2050-461C-9152-32581C66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2F5B9-8673-4650-92E4-FB7F2E6C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62F2-7E3F-4C5C-9848-A98AA353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9812-E0DE-423E-8BF3-7F61709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BFA2-CA91-4EE6-B7C3-C48BB60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45CB3-AD2B-4E91-B774-26F5A4BD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9676-A88B-4873-95C2-A19370A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12CC-13B9-4E8A-AB6C-2302324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DF45-CD99-40F0-B362-8A70612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62B-E5AE-42D1-82DF-1E78331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F78E-D17C-4DB8-BEC0-29D34F6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3B95-CAA8-407F-8311-C655999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8D78-C6BC-4ECC-A60D-B46433E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CC22-B147-4D81-888D-34AA2796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D7462-C061-4B66-86C6-A373AA3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BA741-FD54-405C-9C98-EB02C7BA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F469-C089-4BA8-9399-8E5051C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4D40-D1B8-4687-B7C0-1633DFFE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932B4-6B7D-4A4A-8962-15CE8C2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16073-DF72-48AD-995F-8AD151BA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990-0EA1-421C-B3FF-E8491DA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9E7A-5800-46EF-B1DC-808E127E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E056-4155-443C-B4DC-84CDCCB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97EB-9945-4415-9E09-A103228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F8E2-4492-4309-90D2-6ECC191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6CEA-254F-48B1-A208-86BEF83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2E3C-0B8C-4FCD-AC0F-0F8F8453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81C4-EC5C-4488-9A12-A4E707FC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54297-9D11-49D5-97DB-915C673D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7D7BA-D88E-4376-9108-76FD2B1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303A6-0970-4183-B43C-5AC89DF5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182-28AA-42A4-8BA7-E06E2411677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9E8-0A49-41A7-A91C-03C6733FF3D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B70C-BF63-4394-ADD2-A3D29971DD8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32D1-FADA-4718-9601-2DC34211BEF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C445-1F5B-4514-885A-9979B855EAC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DE8-79D1-44BA-921C-9229E6F24A4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0C17-D7F9-4949-A90C-7C10E6DBF9F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BAC-991C-49B1-B68F-A1970862489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E48E-6D78-412C-9509-213A98CCC1E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4827600"/>
            <a:ext cx="8467560" cy="125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9680" y="1571400"/>
            <a:ext cx="84582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d3d3d"/>
                </a:solidFill>
                <a:latin typeface="Arial"/>
                <a:ea typeface="Arial"/>
              </a:rPr>
              <a:t>Презентация по общей психологии</a:t>
            </a: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5. Принцип взаимосвязи, единства сознания, психического и деятельности, повед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показывает, что человеческая психика формируется, функционирует, развивается и проявляется только в процессе общественно-трудовой деятельности, взаимодействия человека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6. Принцип целостного, системного подход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к пониманию и изучению психики ориентирует на понимание того, что психика формируется, функционирует и проявляется как целостное, интегральное явление. Все индивидуальные и групповые (общественные) психические феномены взаимосвязаны и обусловливают друг друг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7. Принцип относительной самостоятельности психических феноменов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не противоречит предыдущему, а лишь указывает на то, что каждое психическое явление у человека может иметь не только своеобразие своих физиологических основ, но и свои закономерности формирования, функционирования, развития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8. Принцип личностного подхода, учета групповой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изучении, понимании и формировании отдельных психических явлений, фактов, механизмов. С учетом требований этого принципа изучение психики может быть правильным лишь при учете в совокупности, единстве, основных, ведущих, коренных личностных и групповых особенностей людей: их потребностей, интересов, жизненного и профессионального опыта, способностей и других особенностей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9. Принцип единства конкретно-исторического подхода и содержательного анализ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понимании психики людей ориентирует специалиста на содержательный и ценностный (аксиологический) анализ психики людей с учетом конкретно-исторических условий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276120" y="1357200"/>
            <a:ext cx="8406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142920" y="1214280"/>
            <a:ext cx="8848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Обычно выделяют три крупные группы психических явлений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- динамическое отражение действительности в различных формах психических явлений. Психический процесс - это течение психического явления, имеющего начало, развитие и конец, проявляющиеся в виде реакции. При этом конец психического процесса тесно связан с началом нового процесс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Все психические процессы подразделяются на познавательные (ощущения и восприятия, представления и память, мышление и воображение), эмоциональные (переживания), волевые (решение, исполнение, волевое усиление)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обеспечивают формирование знаний и первичную регуляцию поведения и деятельности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ое состояние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это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остояния имеют рефлекторную природу: они возникают под влиянием обстановки, физиологических факторов, хода работы, времени и словесных воздействий 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войства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высшие и устойчивые регуляторы психической деятельности. Психическими свойствами человека называют устойчивые образования, обеспечивающий определенный качественно-количественный уровень деятельности и поведения, типичный для данного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 системе наук психологии должно быть отведено совершенно особое место, и вот по каким причи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первых, это наука о самом сложном, что пока известно человечеству. Ведь психика - это «свойство высокоорганизованной материи». Если же иметь в виду психику человека, то к словам «высокоорганизованная материя» нужно прибавить слово «самая»: ведь мозг человека - это самая высокоорганизованная материя, известная 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вторых, психология находится в особом положении потому, что в ней как бы сливаются объект и субъект познания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-третьих, особенность психологии заключается в ее уникальных практических следствия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Практические результаты от развития психологии должны стать не только несоизмеримо значительнее результатов любой другой науки, но и качественно другими. Ведь познать нечто - значит овладеть этим «нечто», научиться им управлять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14200" y="1554120"/>
            <a:ext cx="8777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 психологию / Под ред. Петровского А.В. - М.: Академия, 1996. - 496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игорович Л.А, Марцинковская Т.Д. Педагогика и психология: Учеб. пособие. — М.: Гардарики, 2003. - 480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бинштейн С.Л. Основы общей психологии. - СПб: Издательство «Питер», 2000. - 71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яренко Л.Д. Основы психологии. - Ростов н/Д: «Феникс», 2000. - 67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959680" cy="1043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414324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это наука о закономерностях возникновения, развития и проявления психики и сознания человека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Цель психологии как науки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1785960" y="1357200"/>
            <a:ext cx="5481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1) изучение объективных закономерностей формирования, развития и проявления психических явлений и процессов как отражения непосредственных воздействий объективной действительности и взаимодействия людей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2) изучение качественных (структурных) особенностей психических явлений и процессов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3) изучение физиологических механизмов, лежащих в основе психических явлений, для правильного овладения практическими средствами их формирования и развития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4) внедрение научных знаний и представлений психологической науки в жизнь и деятельность людей, изучение их взаимодействия и взаимопонимания (разработка научных и практических методик обучения и воспитания, рационализация процесса труда в различных видах деятельности людей)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1077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Общая 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изучает содержание, особенности и общие закономерности функционирования психики и человеческого сознания, психические процессы, свойства, состояния и образования личности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Социаль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психологические явления и процессы, обусловленные принадлежностью человека к конкретным общностям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едагогиче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психологических особенностей и закономерностей процессов обучения и воспитания подрастающего поколения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Возраст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зучает своеобразие психики людей разного возраста, процесс формирования их личности и умственного развития, возрастных особенностей процессов восприятия, мышления, памяти, интересов, мотивов деятельности и т. п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Медицин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нарушений и расстройств психической деятельности при различных заболеваниях, содействуя разработке рациональных методов их леч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то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уделяет основное внимание особенностям нарушений психики, связанным с недостатками в строении и функциях организма, в частности у детей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ра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аномальные индивидуальные и социально-психологические явл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3840" y="1553760"/>
            <a:ext cx="3714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- это те приемы и средства, с помощью которых исследователи получают достоверные сведения, используемые далее для построения научных теорий и выработки практических рекомендаций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направлены на изу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сихических явлений в развитии и изменении. Изучаются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000680" y="1214280"/>
            <a:ext cx="4949640" cy="350064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14200" y="49291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 изменение психики в истории животного мира, в истории человечества, при возрастных особенностях, под влиянием упражнения, обучения и воспитания, в результате неблагоприятных воздействий внешней среды, вследствие заболе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ческого исследования изучают не только особенного самого человека, но и влияющие на него усло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9396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tretch/>
        </p:blipFill>
        <p:spPr>
          <a:xfrm>
            <a:off x="201600" y="1371600"/>
            <a:ext cx="8893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41241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Традиционно дают определение понятию психики как свойства живой высокоорганизованной материи, заключающееся в способности отражать своими состояниями окружающий объективный мир в его связях и отношениях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ажнейшая функция психики - регуляция, управление поведением и деятельностью живого существа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274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14200" y="1356840"/>
            <a:ext cx="87775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Принцип отраж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раскрывает понимание сущности психического и его основных функций, уровней в развитии психики человека. Своеобразие психики человека, этой особой формы отражения, обусловлено многими обстоятельствами, среди которых ведущую роль играют следующие: особенности самой объективной реальности, воспринимаемой как с помощью органов чувств человека, так и с помощью языка, речи; состояние головного мозга, физического и психического здоровья человека; содержание и состояние его психик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Принцип детерминизм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бъясняет причины развития психики, ее истоки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) психика человека обусловлена и выступает результатом взаимодействия многих факторов и обстоятельств биологического, природного, технического и социального характера. Ведущую роль играют социальные условия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)  психика человека не просто продукт, результат взаимодействия человека и социальных, биологических, техногенных и природных факторов, обстоятельств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Итак, психика человека обладает способностью изменять, развивать себя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Принцип активности психического созна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риентирует исследователя при изучении психики, психических явлений на учет того, что внешние и другие обстоятельства отражаются в сознании человека в виде тех или иных образов избирательно, целенаправленно, а не только зеркально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4. Принцип развития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, сознания человека в деятельности, во взаимодействии со средой объясняет, что психика, сознание человека развиваются в деятельности и во взаимодействии с миром, общении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3:56:34Z</dcterms:created>
  <dc:creator>Екатерина Волдкова</dc:creator>
  <dc:description/>
  <dc:language>en-US</dc:language>
  <cp:lastModifiedBy>CoolXP User</cp:lastModifiedBy>
  <dcterms:modified xsi:type="dcterms:W3CDTF">2014-10-18T14:53:14Z</dcterms:modified>
  <cp:revision>28</cp:revision>
  <dc:subject/>
  <dc:title>Автор: Анисимова Александра</dc:title>
</cp:coreProperties>
</file>