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C10-1BFC-4ED9-82C8-553BDB73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12F-6E5B-44D5-9857-B68462BA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26062-24F6-45C9-BE99-B2DD7851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CDF9D-ED5C-4C35-9C85-712C6D7E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312C6-C58A-46DE-A417-F363AF8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BCD0-84A6-476B-B6AC-C3FCA307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43BE0-E50D-4627-9625-A288DDF7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F8CBD-F781-4C69-AA16-534EBA38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62999-6CC3-4029-A93B-3B524EA9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7C0BF-0344-4891-B701-749779DA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C1634-ED77-4841-8432-0B6871BA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AD4-4354-4004-A146-C2EECE13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FA6-DFF8-463E-A95A-EA67E950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7370-89F3-46C3-9288-0E06519A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433F-32EF-473E-A69F-A38E9E71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9FE3-3133-4FE1-BA8E-9965C60C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0924-2AA2-471C-AC5E-52BDA9A5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28FE-3CD9-43C8-B978-73B826AD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2F40-1020-4A7F-944F-A7C8E208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1849-2A70-4901-81A5-0112E464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EFF-992D-45FF-9D7B-570865D0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6BB8-3038-4C90-9E50-C65FD6E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4D8D-3FE6-4E9D-A090-2C02779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0467-DEEF-41CA-8613-46884B22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AE56-60A6-4695-9C5D-177B6915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EEA6-C6B3-4359-A5C7-948E5CCD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E0A3-6A57-4F46-8F94-3DDDD415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EBA62-0E7D-4013-8D9C-FEE66C89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7877-C892-452A-9428-17DB3788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3B56-49C0-4592-B8F7-0CCF4E7E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CBB4-E445-43F9-8979-3AB40ADA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1F8-33C0-40A9-961E-8EE2CEA7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8EE2-A165-4ED7-875B-5C251C61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D6CA-2FB8-499C-BF6F-200B966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0614-7B51-454C-B1C1-23F6EFE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5451-4FC8-4E45-AAE7-10AADBC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6540-2450-49A0-AAE0-54F53960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3157A-8860-4D73-AF18-FB9C257C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795A-55BC-4BA3-B8C0-84749459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3EE1-1E36-4564-8938-15320032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A129-BC57-4272-AC44-A0320F67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24F5-62F3-4EDE-B689-DE5F9290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361-66A5-4BD4-996E-3A1B235D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9E783-8233-41C1-9D10-BDF43F35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CBD5-9470-43FD-83E0-1091A203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41AE-B001-432A-B358-75E49295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E06F-8D98-4114-BD8E-0155BE59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AF643-4F07-4B70-8145-038D0F76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5B77E-F7C0-428E-A87D-C703713E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9F15-E4A7-4F2A-B66E-D1A74AEB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BBA2-EE20-4310-8CF0-874E1703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1FC9-5CA4-4A65-B6E6-48CB66BF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01637-C6E1-4BE5-9904-3AAC5FB1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E1C-F527-4EC3-8076-A8F42602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61F1-62AB-42A2-ADC2-86EB7E60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BA941-C6B9-4357-A75D-64A0FB4F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2240C-091C-413E-BA7F-5916E229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D72A-499E-4A35-8294-2C9092A9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64CE3-C1FB-4607-AB75-970B861E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E0738-F07E-47C6-B25A-0B64AC5B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CB2A6-BCD9-470F-8AA6-170ED056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B5424-0553-4B6C-BEFC-7DE1010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1977-83E4-43CD-8B30-C8118714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419F-19BC-4C10-A810-9538C9D1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D9A-59FB-4086-84D8-52456309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582CE-AB7D-42CE-B177-43E4EF3E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0313C-0599-4B76-B268-3A301685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028FA-95BC-41D8-B0F6-50D6947D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320AA-8B2A-4E83-A388-989AC511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8EE4F-4C95-4F2E-9EFF-636F1CBD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AC78F-0542-4AE3-B4AB-225A6AAE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866FC-D965-4E85-A0C3-E96DA70D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CF15-1481-4FA8-B7DF-4C5D728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9454-DD6C-4F0F-AE41-37A6835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482FC-836B-4298-A787-8B268CC7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ED4-CD96-44DF-85FD-0C51D5D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76AF4-24D3-48EA-A5F6-9EB83309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D243B-8DD2-4385-8928-C86C7AB4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88527-C7AB-4B90-898A-A4F415C1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8DF83-E02B-4904-ABF5-639A081D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76323-6B18-4BD6-84EA-E516A410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7F88B-1F09-499D-9FB2-EA7CF8B0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B37B-F36E-4B6B-9AA5-B33EC508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8005-D9F9-44EE-B578-E5A5B5DB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FD65-4534-4F9E-8512-D48807A3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5F5F-DD38-46DC-BEEA-C12EAB1D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064-5201-4FA0-A429-4D1BAB4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E1004-7B4E-41CE-B6FB-6A9BD165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C2CB9-BA70-432F-AE92-A7B03EC9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E4731-27CA-48C0-BB1D-6B8FD0B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6A2C0-B4F3-44B8-8E64-F4970329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5BCEA-9AF5-4912-B9FE-F95CC5C8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5241F-1514-4986-B5E1-26B907A2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3ABE1-FB96-4C11-942E-E2864B1D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8BEBE-B5B9-4B15-9438-74FDEECC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DF9C8-27FA-421A-9A74-6A43935D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69995-1EDA-4098-8D09-713ACFC0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0D1-E47E-441D-B20B-DB341366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E0238-3A55-4CD7-8A56-418155D9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DAE3-04C4-4F60-8199-CB954F03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0FC6F-4E15-43AE-B526-7F1D630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52360-814D-4FEB-974C-8174FE5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0905-D494-40CA-AEA8-F736098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A40DF-9003-4D10-A61E-CFFD859E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0B62-9863-47C1-9450-1FF22AAE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CC405-AB55-48CE-8389-93D28827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807EC-CEB7-4A1E-BFF6-894701C1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18E04-1201-4515-BC2B-B4074004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4AC-2D6C-4CBC-868E-515733FFD09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5774-EA84-4A53-98E4-C4691AB7B8E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C3A1-53FF-4687-8938-A96C300FB5B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CB8E-2E75-47B6-8E64-CBD492E6F29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5929-F73A-48D9-926E-ED8BBB4466B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DBA4-ED84-4B33-BD6A-56018BCB78E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14C8-35FB-4AAF-88F8-35A6C01B8A5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1F6C-2531-4A39-BF08-EFD966D98F6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A949-7E8B-476A-B5D6-C71920AE8A1A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78000" y="4827600"/>
            <a:ext cx="8467560" cy="1255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99680" y="1571400"/>
            <a:ext cx="845820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d3d3d"/>
                </a:solidFill>
                <a:latin typeface="Arial"/>
                <a:ea typeface="Arial"/>
              </a:rPr>
              <a:t>Презентация по общей психологии</a:t>
            </a:r>
            <a:endParaRPr b="0" lang="en-US" sz="39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281160" y="281160"/>
            <a:ext cx="8697600" cy="1071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214200" y="1214280"/>
            <a:ext cx="87775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5. Принцип взаимосвязи, единства сознания, психического и деятельности, поведения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показывает, что человеческая психика формируется, функционирует, развивается и проявляется только в процессе общественно-трудовой деятельности, взаимодействия человека с другими людьм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6. Принцип целостного, системного подхода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к пониманию и изучению психики ориентирует на понимание того, что психика формируется, функционирует и проявляется как целостное, интегральное явление. Все индивидуальные и групповые (общественные) психические феномены взаимосвязаны и обусловливают друг друга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7. Принцип относительной самостоятельности психических феноменов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не противоречит предыдущему, а лишь указывает на то, что каждое психическое явление у человека может иметь не только своеобразие своих физиологических основ, но и свои закономерности формирования, функционирования, развития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8. Принцип личностного подхода, учета групповой психики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в изучении, понимании и формировании отдельных психических явлений, фактов, механизмов. С учетом требований этого принципа изучение психики может быть правильным лишь при учете в совокупности, единстве, основных, ведущих, коренных личностных и групповых особенностей людей: их потребностей, интересов, жизненного и профессионального опыта, способностей и других особенностей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9. Принцип единства конкретно-исторического подхода и содержательного анализа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в понимании психики людей ориентирует специалиста на содержательный и ценностный (аксиологический) анализ психики людей с учетом конкретно-исторических условий их жизни и деятельност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81160" y="128520"/>
            <a:ext cx="8697600" cy="1023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276120" y="1357200"/>
            <a:ext cx="8406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81160" y="128520"/>
            <a:ext cx="8697600" cy="1023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142920" y="1214280"/>
            <a:ext cx="8848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Обычно выделяют три крупные группы психических явлений: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1. </a:t>
            </a: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процессы 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- динамическое отражение действительности в различных формах психических явлений. Психический процесс - это течение психического явления, имеющего начало, развитие и конец, проявляющиеся в виде реакции. При этом конец психического процесса тесно связан с началом нового процесса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Все психические процессы подразделяются на познавательные (ощущения и восприятия, представления и память, мышление и воображение), эмоциональные (переживания), волевые (решение, исполнение, волевое усиление)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процессы обеспечивают формирование знаний и первичную регуляцию поведения и деятельности человека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2. </a:t>
            </a: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ое состояние 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– это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состояния имеют рефлекторную природу: они возникают под влиянием обстановки, физиологических факторов, хода работы, времени и словесных воздействий 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3. </a:t>
            </a: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свойства 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– высшие и устойчивые регуляторы психической деятельности. Психическими свойствами человека называют устойчивые образования, обеспечивающий определенный качественно-количественный уровень деятельности и поведения, типичный для данного человека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 системе наук психологии должно быть отведено совершенно особое место, и вот по каким причинам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о-первых, это наука о самом сложном, что пока известно человечеству. Ведь психика - это «свойство высокоорганизованной материи». Если же иметь в виду психику человека, то к словам «высокоорганизованная материя» нужно прибавить слово «самая»: ведь мозг человека - это самая высокоорганизованная материя, известная нам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о-вторых, психология находится в особом положении потому, что в ней как бы сливаются объект и субъект познания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-третьих, особенность психологии заключается в ее уникальных практических следствия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Практические результаты от развития психологии должны стать не только несоизмеримо значительнее результатов любой другой науки, но и качественно другими. Ведь познать нечто - значит овладеть этим «нечто», научиться им управлять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042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214200" y="1554120"/>
            <a:ext cx="87775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 в психологию / Под ред. Петровского А.В. - М.: Академия, 1996. - 496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игорович Л.А, Марцинковская Т.Д. Педагогика и психология: Учеб. пособие. — М.: Гардарики, 2003. - 480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бинштейн С.Л. Основы общей психологии. - СПб: Издательство «Питер», 2000. - 712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оляренко Л.Д. Основы психологии. - Ростов н/Д: «Феникс», 2000. - 672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959680" cy="1043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4143240"/>
            <a:ext cx="862488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сихология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- это наука о закономерностях возникновения, развития и проявления психики и сознания человека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Цель психологии как науки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-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1785960" y="1357200"/>
            <a:ext cx="5481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1) изучение объективных закономерностей формирования, развития и проявления психических явлений и процессов как отражения непосредственных воздействий объективной действительности и взаимодействия людей;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2) изучение качественных (структурных) особенностей психических явлений и процессов;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3) изучение физиологических механизмов, лежащих в основе психических явлений, для правильного овладения практическими средствами их формирования и развития;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4) внедрение научных знаний и представлений психологической науки в жизнь и деятельность людей, изучение их взаимодействия и взаимопонимания (разработка научных и практических методик обучения и воспитания, рационализация процесса труда в различных видах деятельности людей)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3" descr=""/>
          <p:cNvPicPr/>
          <p:nvPr/>
        </p:nvPicPr>
        <p:blipFill>
          <a:blip r:embed="rId2"/>
          <a:stretch/>
        </p:blipFill>
        <p:spPr>
          <a:xfrm>
            <a:off x="298440" y="1536840"/>
            <a:ext cx="869940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697600" cy="1077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14200" y="1214280"/>
            <a:ext cx="87775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Общая психология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изучает содержание, особенности и общие закономерности функционирования психики и человеческого сознания, психические процессы, свойства, состояния и образования личности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Социальн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исследует психологические явления и процессы, обусловленные принадлежностью человека к конкретным общностям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едагогическ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занимается исследованием психологических особенностей и закономерностей процессов обучения и воспитания подрастающего поколения. 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Возрастн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изучает своеобразие психики людей разного возраста, процесс формирования их личности и умственного развития, возрастных особенностей процессов восприятия, мышления, памяти, интересов, мотивов деятельности и т. п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Медицинск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занимается исследованием нарушений и расстройств психической деятельности при различных заболеваниях, содействуя разработке рациональных методов их лечения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атопсихология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уделяет основное внимание особенностям нарушений психики, связанным с недостатками в строении и функциях организма, в частности у детей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ара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исследует аномальные индивидуальные и социально-психологические явления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13840" y="1553760"/>
            <a:ext cx="37148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тоды психологии - это те приемы и средства, с помощью которых исследователи получают достоверные сведения, используемые далее для построения научных теорий и выработки практических рекомендаций. 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тоды психологии направлены на изу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сихических явлений в развитии и изменении. Изучаются 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4000680" y="1214280"/>
            <a:ext cx="4949640" cy="350064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4"/>
          <p:cNvSpPr/>
          <p:nvPr/>
        </p:nvSpPr>
        <p:spPr>
          <a:xfrm>
            <a:off x="214200" y="492912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и изменение психики в истории животного мира, в истории человечества, при возрастных особенностях, под влиянием упражнения, обучения и воспитания, в результате неблагоприятных воздействий внешней среды, вследствие заболе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тоды психологического исследования изучают не только особенного самого человека, но и влияющие на него усло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9396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tretch/>
        </p:blipFill>
        <p:spPr>
          <a:xfrm>
            <a:off x="201600" y="1371600"/>
            <a:ext cx="8893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3760"/>
            <a:ext cx="412416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Традиционно дают определение понятию психики как свойства живой высокоорганизованной материи, заключающееся в способности отражать своими состояниями окружающий объективный мир в его связях и отношениях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ажнейшая функция психики - регуляция, управление поведением и деятельностью живого существа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42274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81160" y="281160"/>
            <a:ext cx="8697600" cy="1071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14200" y="1356840"/>
            <a:ext cx="87775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1. Принцип отражения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раскрывает понимание сущности психического и его основных функций, уровней в развитии психики человека. Своеобразие психики человека, этой особой формы отражения, обусловлено многими обстоятельствами, среди которых ведущую роль играют следующие: особенности самой объективной реальности, воспринимаемой как с помощью органов чувств человека, так и с помощью языка, речи; состояние головного мозга, физического и психического здоровья человека; содержание и состояние его психики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2. Принцип детерминизма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объясняет причины развития психики, ее истоки: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1) психика человека обусловлена и выступает результатом взаимодействия многих факторов и обстоятельств биологического, природного, технического и социального характера. Ведущую роль играют социальные условия их жизни и деятельност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2)  психика человека не просто продукт, результат взаимодействия человека и социальных, биологических, техногенных и природных факторов, обстоятельств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Итак, психика человека обладает способностью изменять, развивать себя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3. Принцип активности психического сознания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ориентирует исследователя при изучении психики, психических явлений на учет того, что внешние и другие обстоятельства отражаются в сознании человека в виде тех или иных образов избирательно, целенаправленно, а не только зеркально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4. Принцип развития психики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, сознания человека в деятельности, во взаимодействии со средой объясняет, что психика, сознание человека развиваются в деятельности и во взаимодействии с миром, общении с другими людьм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3:56:34Z</dcterms:created>
  <dc:creator>Екатерина Волдкова</dc:creator>
  <dc:description/>
  <dc:language>en-US</dc:language>
  <cp:lastModifiedBy>CoolXP User</cp:lastModifiedBy>
  <dcterms:modified xsi:type="dcterms:W3CDTF">2014-10-18T14:53:14Z</dcterms:modified>
  <cp:revision>28</cp:revision>
  <dc:subject/>
  <dc:title>Автор: Анисимова Александра</dc:title>
</cp:coreProperties>
</file>