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CFBAF5C-B387-4D18-A9CE-81A274F6A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61F2F0F-FA98-48A1-93F9-7161AD060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C67DA71-840E-4081-87D6-04B29172FB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8325F28-0A16-4AA5-934A-CA260ED839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051B115-1115-458D-8FF8-B7AE51429C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416EFAB-00FF-48CF-88D2-37D1066237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AA1D00D-5CC9-46F7-A0D0-9119DC356C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258D083-D090-4E7A-9852-A0E2E4C00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BA9878C-26F0-4567-B964-8F16B7C1C3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4080635-0D06-49B1-B91D-A978FFB12B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1B9E25CE-294E-4A97-B8A9-12DC03B7CF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E9FEBA3-BB57-4F04-9A16-9F35920DB00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1C61B8F-54B3-4F19-9AFB-D66B83B94A2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DE2C02-3C9E-4DC6-B9BE-6C6F56AE5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712909D-BCC9-4CEE-A093-F265961F3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BAA1B4-06B7-4681-B319-B51A5A6B6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AA0D03-766A-4DA5-8814-DEE88A2A8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0BD55D-BCCB-4055-B182-6F03F08D7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7D8413-4F21-401F-8F44-A650F8D01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9A3298-54DB-4D1E-BC3D-984E01484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B430578-871C-480F-A764-7FDB80ED5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970CBB-F8C7-474F-B24D-5C398A839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40B71C-3161-4217-9DBF-B48F44874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41786CB-CB16-413C-B5EA-B398F880A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318AB37-3BDE-4436-B736-1FEFB8E1D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E7AAAA3-CD4D-4C76-BFC8-75876AB28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FC91EB-944E-4EF2-923D-0C67446288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F0545-387C-459C-B208-FEF5D6B71B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B05A0-3F86-4523-9D12-945A17D3C5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50AB9E-0D99-4918-8418-854231FC4F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46F0F-B5C3-49E8-8EF1-E25C252BE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D8FBA65-82D2-4CBC-875B-04255C2E7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0AD70-2AF7-402F-9849-B482FE563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19E13-9E7B-4EE6-A918-60A74C77B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36EEE-2235-441F-9D01-667ADFFB1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5A762-447F-429E-80A3-CC606B7D2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14053D-07CE-402E-9224-0CB963197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437FA1-9E78-4605-B9BD-7E1267D1BE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A74E08-8EDA-4FD5-B1D7-22A2FB7B23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A328C5C-5C4A-4615-A1F5-549D1F3CED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603239-A065-4343-ADB1-4E34145C87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0247581-93AC-4359-86EC-717FFD49E4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5274CBF-A210-4D40-BAA2-81D9F9134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4FCBDD3-6ABF-41AC-9BED-E1838B2834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4B335A-773F-4438-A499-44E770C8B5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013B8F-99D1-4C58-A5EC-3247644B4A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0E228EC-E05A-4754-9169-24E82CDD6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CC8790-42AF-45DD-821B-5E1D54AEA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3C818D-3144-4B0E-9BBF-0253A7DD6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84D9776-FB02-4918-9FA5-81E4887EB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13F3291-1199-4BA7-802B-691A4DC50D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956451A-B369-4AA0-B09D-BA7BB67F58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33815F-9174-4EB3-B4BD-C1B0257F95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AC641AC-DA37-4765-B159-F60AF7FF7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8262F-288A-456B-8113-64795BCBB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21D8F-468A-4AC1-8A91-B131C2140A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CB8BD7-3F49-4890-B2C1-9A624D62A0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19C93-7E1A-4C90-8B81-770C2408A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F2BD2-11DF-49ED-8031-8E2F6FF67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47B51-9970-467D-8DE5-C16387CFFA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4BAB2-9AC4-4016-8703-347C1CB8E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5B32D-0E36-4E69-98C9-E6D27EEAC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989E25-2D7C-4C6F-8DB1-ECD17867DD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813B21-2A9C-421B-B032-10BC2F285B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D5DEECB-7F73-4057-9D6D-4BE66BEE96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6B06EF-F841-4ED0-9261-EDB845F78D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D78C0C-669F-4CC1-B363-073C4375DA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871BED-983E-4C90-8D9C-F42C997A4A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BC3DAD-F688-4B79-8E0C-4B7FFF199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E611FD-60ED-4719-B7FD-E0BBD8D3A8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C8D817-B358-4B88-90EF-907827CB43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8F04B3-F034-4D90-806A-C7898D1EC3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BB82C-C62E-47E6-8535-97727B5AC0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23A4A-BC6F-451A-B115-888B94566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DBE821-6957-4A95-93F3-3E45508EFB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8D151EE-8B87-4702-BC53-BA0F41B4A0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91653-0AB5-4524-B241-35146EAF3F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A03250-CF98-48C6-A7DA-832DF9B7C2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73A6BC-DB9A-4657-B59C-4F59B651F3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06F18F-9450-49C3-8858-1064171FE8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10EF59-C4D6-4D14-B63B-5F019C295D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372996-DD05-40B5-9FDD-F03924312C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83B58E-63BF-4527-918C-5C051ABD23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67FEF8-0E59-4197-B195-16A04499FC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74D97B-66F6-4F4B-80C8-E6FC478E5F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1BFB6-E8B7-46C0-93BC-27CDCBA4BB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596F078-2DA5-4723-ACD6-14FB2F76B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968A8-ECD1-4D5D-B6C1-C6F450F9EA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140FBC-3196-4309-80A1-8ED4A7AA7B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E8FA59-7C32-400E-9446-4C2DB4ACA4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83BBB1-F65E-4025-BDDE-D25DED3443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337562-A663-4A78-BE22-97ED090210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4E32F27-AFFE-4267-92D3-4A76CFE761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7E5B000-B14F-4B46-8E47-92905AA95C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D15374A-0137-4130-9ABF-D9D7832B28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7CFE559-7B98-46D3-98B2-FA0CEF969C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B54F92C-3B0F-444E-8ED8-A5412A90FC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BE98BFB-8893-44EB-862A-7336C6B3AE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0C8F143-3B04-4BE5-A74D-59E9CA8A33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6F011A5-311F-499F-B207-2A63B9ED54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22E4647-6176-4D6E-B7EC-62A00C609B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E91AF64-0C67-4F16-8C43-1846145659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ED283B3-C0A4-45D1-B42D-A218EA02EC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C37100D-E3ED-4D90-AA85-0BC98FCC3A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9CAE552-9D91-4C1F-962F-4434DF7D10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3111D93C-163D-485D-8E74-2709B11D3B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F0A5967-65EF-4EAB-BAC2-F2577DA33A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A26B9BD-1205-4A3A-934F-6CEB2DECDC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063E-91EE-4108-9530-32856D9B14E6}"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8737-9806-400C-A813-D965F15885A0}"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89"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A0D0-ABA7-4CED-8AA0-3F0939BABD47}"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12E1-DAF9-4D24-85AC-165852633BFF}"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176"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87F57-8F35-4D03-AF83-90D062DECB11}"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21"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236C-8D3E-4840-BE83-1D1F6AC48199}"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2280" y="133200"/>
            <a:ext cx="8832960" cy="6591600"/>
            <a:chOff x="152280" y="133200"/>
            <a:chExt cx="8832960" cy="6591600"/>
          </a:xfrm>
        </p:grpSpPr>
        <p:pic>
          <p:nvPicPr>
            <p:cNvPr id="267" name="Прямоугольник с двумя скругленными противолежащими углами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A350-EAC0-4630-876F-EA4EEA08B264}"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2778-8D4D-42FF-8F07-035A8B3D7862}"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43CE-2431-40F1-9C15-8412E5502365}" type="slidenum">
              <a:rPr b="0" lang="es-E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Rectangle 25" descr=""/>
          <p:cNvPicPr/>
          <p:nvPr/>
        </p:nvPicPr>
        <p:blipFill>
          <a:blip r:embed="rId1"/>
          <a:stretch/>
        </p:blipFill>
        <p:spPr>
          <a:xfrm>
            <a:off x="2419200" y="2639880"/>
            <a:ext cx="4730760" cy="1481400"/>
          </a:xfrm>
          <a:prstGeom prst="rect">
            <a:avLst/>
          </a:prstGeom>
          <a:ln w="0">
            <a:noFill/>
          </a:ln>
        </p:spPr>
      </p:pic>
      <p:sp>
        <p:nvSpPr>
          <p:cNvPr id="395" name="TextBox 5"/>
          <p:cNvSpPr/>
          <p:nvPr/>
        </p:nvSpPr>
        <p:spPr>
          <a:xfrm>
            <a:off x="5357880" y="4500720"/>
            <a:ext cx="32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 Лазарев А.П.</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ил: Турусинова И.П</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Заголовок 1" descr=""/>
          <p:cNvPicPr/>
          <p:nvPr/>
        </p:nvPicPr>
        <p:blipFill>
          <a:blip r:embed="rId1"/>
          <a:stretch/>
        </p:blipFill>
        <p:spPr>
          <a:xfrm>
            <a:off x="450720" y="249120"/>
            <a:ext cx="8553600" cy="1165320"/>
          </a:xfrm>
          <a:prstGeom prst="rect">
            <a:avLst/>
          </a:prstGeom>
          <a:ln w="0">
            <a:noFill/>
          </a:ln>
        </p:spPr>
      </p:pic>
      <p:sp>
        <p:nvSpPr>
          <p:cNvPr id="413"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Отправка сообщений группам людей. </a:t>
            </a:r>
            <a:r>
              <a:rPr b="0" lang="ru-RU" sz="3200" spc="-1" strike="noStrike">
                <a:solidFill>
                  <a:srgbClr val="ffffff"/>
                </a:solidFill>
                <a:latin typeface="Cambria"/>
              </a:rPr>
              <a:t>Сообщение электронной почты можно послать сразу многим людям. Получатели могут ответить всей группе, что позволяет проводить групповые обсуждения.</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Заголовок 1" descr=""/>
          <p:cNvPicPr/>
          <p:nvPr/>
        </p:nvPicPr>
        <p:blipFill>
          <a:blip r:embed="rId1"/>
          <a:stretch/>
        </p:blipFill>
        <p:spPr>
          <a:xfrm>
            <a:off x="450720" y="249120"/>
            <a:ext cx="8521920" cy="1165320"/>
          </a:xfrm>
          <a:prstGeom prst="rect">
            <a:avLst/>
          </a:prstGeom>
          <a:ln w="0">
            <a:noFill/>
          </a:ln>
        </p:spPr>
      </p:pic>
      <p:sp>
        <p:nvSpPr>
          <p:cNvPr id="415"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Пересылка сообщений. </a:t>
            </a:r>
            <a:r>
              <a:rPr b="0" lang="ru-RU" sz="2400" spc="-1" strike="noStrike">
                <a:solidFill>
                  <a:srgbClr val="ffffff"/>
                </a:solidFill>
                <a:latin typeface="Cambria"/>
              </a:rPr>
              <a:t>Полученное сообщение электронной почты можно переслать другим получателям, не вводя текст заново.</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mbria"/>
              </a:rPr>
              <a:t>Электронная почта оказывается удобнее телефонной связи и обычной переписки. Можно послать сообщение в любое время дня и ночи. Если в момент отправки сообщения получатели не сидят у компьютеров и не находятся </a:t>
            </a:r>
            <a:r>
              <a:rPr b="1" lang="ru-RU" sz="2400" spc="-1" strike="noStrike">
                <a:solidFill>
                  <a:srgbClr val="ffffff"/>
                </a:solidFill>
                <a:latin typeface="Cambria"/>
              </a:rPr>
              <a:t>в сети</a:t>
            </a:r>
            <a:r>
              <a:rPr b="0" lang="ru-RU" sz="2400" spc="-1" strike="noStrike">
                <a:solidFill>
                  <a:srgbClr val="ffffff"/>
                </a:solidFill>
                <a:latin typeface="Cambria"/>
              </a:rPr>
              <a:t> (не подключены к Интернету), они найдут сообщения позднее, когда будут проверять свою почту. Если они подключены к Интернету, ответ от них можно получить через несколько минут.</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Заголовок 1" descr=""/>
          <p:cNvPicPr/>
          <p:nvPr/>
        </p:nvPicPr>
        <p:blipFill>
          <a:blip r:embed="rId1"/>
          <a:stretch/>
        </p:blipFill>
        <p:spPr>
          <a:xfrm>
            <a:off x="450720" y="249120"/>
            <a:ext cx="8553600" cy="1165320"/>
          </a:xfrm>
          <a:prstGeom prst="rect">
            <a:avLst/>
          </a:prstGeom>
          <a:ln w="0">
            <a:noFill/>
          </a:ln>
        </p:spPr>
      </p:pic>
      <p:sp>
        <p:nvSpPr>
          <p:cNvPr id="417"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Отправка электронной почты к тому же бесплатна. По сравнению с обычной почтой, не нужны ни марка, ни оплата, а также не имеет значения, где живет получатель. Приходится платить только за подключение к сети Интернет и, иногда, за используемую программу электронной почты.</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Заголовок 1" descr=""/>
          <p:cNvPicPr/>
          <p:nvPr/>
        </p:nvPicPr>
        <p:blipFill>
          <a:blip r:embed="rId1"/>
          <a:stretch/>
        </p:blipFill>
        <p:spPr>
          <a:xfrm>
            <a:off x="450720" y="249120"/>
            <a:ext cx="8491680" cy="1683000"/>
          </a:xfrm>
          <a:prstGeom prst="rect">
            <a:avLst/>
          </a:prstGeom>
          <a:ln w="0">
            <a:noFill/>
          </a:ln>
        </p:spPr>
      </p:pic>
      <p:sp>
        <p:nvSpPr>
          <p:cNvPr id="419"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Подключение к Интернету. </a:t>
            </a:r>
            <a:r>
              <a:rPr b="0" lang="ru-RU" sz="3200" spc="-1" strike="noStrike">
                <a:solidFill>
                  <a:srgbClr val="ffffff"/>
                </a:solidFill>
                <a:latin typeface="Cambria"/>
              </a:rPr>
              <a:t>Для подключения компьютера к Интернету необходимо сначала подписаться на услуги поставщика услуг Интернета. Поставщик услуг Интернета обеспечивает доступ в сеть обычно за месячную плату. Также потребуется устройство, называемое модем. </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Заголовок 1" descr=""/>
          <p:cNvPicPr/>
          <p:nvPr/>
        </p:nvPicPr>
        <p:blipFill>
          <a:blip r:embed="rId1"/>
          <a:stretch/>
        </p:blipFill>
        <p:spPr>
          <a:xfrm>
            <a:off x="450720" y="249120"/>
            <a:ext cx="8491680" cy="1158840"/>
          </a:xfrm>
          <a:prstGeom prst="rect">
            <a:avLst/>
          </a:prstGeom>
          <a:ln w="0">
            <a:noFill/>
          </a:ln>
        </p:spPr>
      </p:pic>
      <p:sp>
        <p:nvSpPr>
          <p:cNvPr id="421"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mbria"/>
              </a:rPr>
              <a:t>Программа электронной почты или веб-службы электронной почты.</a:t>
            </a:r>
            <a:r>
              <a:rPr b="0" lang="ru-RU" sz="2800" spc="-1" strike="noStrike">
                <a:solidFill>
                  <a:srgbClr val="ffffff"/>
                </a:solidFill>
                <a:latin typeface="Cambria"/>
              </a:rPr>
              <a:t> Можно загрузить или приобрести программу электронной почты корпорации Майкрософт или другого поставщика. Программы электронной почты часто обладают более широкими возможностями и обеспечивают более высокую скорость поиска, чем веб-службы электронной почты. </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Заголовок 1" descr=""/>
          <p:cNvPicPr/>
          <p:nvPr/>
        </p:nvPicPr>
        <p:blipFill>
          <a:blip r:embed="rId1"/>
          <a:stretch/>
        </p:blipFill>
        <p:spPr>
          <a:xfrm>
            <a:off x="450720" y="249120"/>
            <a:ext cx="8491680" cy="1158840"/>
          </a:xfrm>
          <a:prstGeom prst="rect">
            <a:avLst/>
          </a:prstGeom>
          <a:ln w="0">
            <a:noFill/>
          </a:ln>
        </p:spPr>
      </p:pic>
      <p:sp>
        <p:nvSpPr>
          <p:cNvPr id="423" name=""/>
          <p:cNvSpPr txBox="1"/>
          <p:nvPr/>
        </p:nvSpPr>
        <p:spPr>
          <a:xfrm>
            <a:off x="457200" y="1646280"/>
            <a:ext cx="8229600" cy="4525920"/>
          </a:xfrm>
          <a:prstGeom prst="rect">
            <a:avLst/>
          </a:prstGeom>
          <a:noFill/>
          <a:ln w="0">
            <a:noFill/>
          </a:ln>
        </p:spPr>
        <p:txBody>
          <a:bodyPr anchor="t">
            <a:normAutofit fontScale="90000"/>
          </a:bodyPr>
          <a:p>
            <a:pPr marL="262440" indent="-2624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Адрес электронной почты. </a:t>
            </a:r>
            <a:r>
              <a:rPr b="0" lang="ru-RU" sz="3200" spc="-1" strike="noStrike">
                <a:solidFill>
                  <a:srgbClr val="ffffff"/>
                </a:solidFill>
                <a:latin typeface="Cambria"/>
              </a:rPr>
              <a:t>Адрес электронной почты можно получить от поставщика услуг Интернета или при регистрации в почтовой службе с веб-интерфейсом. Адрес электронной почты состоит из имени пользователя (настоящее имя необязательно, можно использовать псевдоним), знака «@» и имени поставщика услуги, например </a:t>
            </a:r>
            <a:r>
              <a:rPr b="0" lang="ru-RU" sz="3200" spc="-1" strike="noStrike" u="sng">
                <a:solidFill>
                  <a:srgbClr val="ffffff"/>
                </a:solidFill>
                <a:uFillTx/>
                <a:latin typeface="Cambria"/>
              </a:rPr>
              <a:t>someone@example.com</a:t>
            </a:r>
            <a:r>
              <a:rPr b="0" lang="ru-RU" sz="3200" spc="-1" strike="noStrike">
                <a:solidFill>
                  <a:srgbClr val="ffffff"/>
                </a:solidFill>
                <a:latin typeface="Cambria"/>
              </a:rPr>
              <a:t>.</a:t>
            </a:r>
            <a:endParaRPr b="0" lang="en-US" sz="3200" spc="-1" strike="noStrike">
              <a:solidFill>
                <a:srgbClr val="ffffff"/>
              </a:solidFill>
              <a:latin typeface="Rockwell"/>
            </a:endParaRPr>
          </a:p>
          <a:p>
            <a:pPr marL="262440" indent="-26244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Заголовок 1" descr=""/>
          <p:cNvPicPr/>
          <p:nvPr/>
        </p:nvPicPr>
        <p:blipFill>
          <a:blip r:embed="rId1"/>
          <a:stretch/>
        </p:blipFill>
        <p:spPr>
          <a:xfrm>
            <a:off x="-6480" y="249120"/>
            <a:ext cx="8815680" cy="1470240"/>
          </a:xfrm>
          <a:prstGeom prst="rect">
            <a:avLst/>
          </a:prstGeom>
          <a:ln w="0">
            <a:noFill/>
          </a:ln>
        </p:spPr>
      </p:pic>
      <p:pic>
        <p:nvPicPr>
          <p:cNvPr id="425" name="Содержимое 3" descr="Изображение примера сообщения электронной почты"/>
          <p:cNvPicPr/>
          <p:nvPr/>
        </p:nvPicPr>
        <p:blipFill>
          <a:blip r:embed="rId2"/>
          <a:stretch/>
        </p:blipFill>
        <p:spPr>
          <a:xfrm>
            <a:off x="785880" y="1500120"/>
            <a:ext cx="7786800" cy="485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Заголовок 1" descr=""/>
          <p:cNvPicPr/>
          <p:nvPr/>
        </p:nvPicPr>
        <p:blipFill>
          <a:blip r:embed="rId1"/>
          <a:stretch/>
        </p:blipFill>
        <p:spPr>
          <a:xfrm>
            <a:off x="450720" y="249120"/>
            <a:ext cx="8358480" cy="1616040"/>
          </a:xfrm>
          <a:prstGeom prst="rect">
            <a:avLst/>
          </a:prstGeom>
          <a:ln w="0">
            <a:noFill/>
          </a:ln>
        </p:spPr>
      </p:pic>
      <p:sp>
        <p:nvSpPr>
          <p:cNvPr id="427"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поле </a:t>
            </a:r>
            <a:r>
              <a:rPr b="1" lang="ru-RU" sz="2000" spc="-1" strike="noStrike">
                <a:solidFill>
                  <a:srgbClr val="ffffff"/>
                </a:solidFill>
                <a:latin typeface="Cambria"/>
              </a:rPr>
              <a:t>Кому</a:t>
            </a:r>
            <a:r>
              <a:rPr b="0" lang="ru-RU" sz="2000" spc="-1" strike="noStrike">
                <a:solidFill>
                  <a:srgbClr val="ffffff"/>
                </a:solidFill>
                <a:latin typeface="Cambria"/>
              </a:rPr>
              <a:t> введите адрес электронной почты хотя бы одного получателя. Если получателей несколько, разделяйте адреса точкой с запятой (;).</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поле </a:t>
            </a:r>
            <a:r>
              <a:rPr b="1" lang="ru-RU" sz="2000" spc="-1" strike="noStrike">
                <a:solidFill>
                  <a:srgbClr val="ffffff"/>
                </a:solidFill>
                <a:latin typeface="Cambria"/>
              </a:rPr>
              <a:t>Копия</a:t>
            </a:r>
            <a:r>
              <a:rPr b="0" lang="ru-RU" sz="2000" spc="-1" strike="noStrike">
                <a:solidFill>
                  <a:srgbClr val="ffffff"/>
                </a:solidFill>
                <a:latin typeface="Cambria"/>
              </a:rPr>
              <a:t> можно ввести адреса дополнительных получателей, которым следует знать о сообщении, но не нужно реагировать на него. Они получат то же самое сообщение, что и получатели, указанные в поле </a:t>
            </a:r>
            <a:r>
              <a:rPr b="1" lang="ru-RU" sz="2000" spc="-1" strike="noStrike">
                <a:solidFill>
                  <a:srgbClr val="ffffff"/>
                </a:solidFill>
                <a:latin typeface="Cambria"/>
              </a:rPr>
              <a:t>Кому</a:t>
            </a:r>
            <a:r>
              <a:rPr b="0" lang="ru-RU" sz="2000" spc="-1" strike="noStrike">
                <a:solidFill>
                  <a:srgbClr val="ffffff"/>
                </a:solidFill>
                <a:latin typeface="Cambria"/>
              </a:rPr>
              <a:t>. </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поле </a:t>
            </a:r>
            <a:r>
              <a:rPr b="1" lang="ru-RU" sz="2000" spc="-1" strike="noStrike">
                <a:solidFill>
                  <a:srgbClr val="ffffff"/>
                </a:solidFill>
                <a:latin typeface="Cambria"/>
              </a:rPr>
              <a:t>Тема</a:t>
            </a:r>
            <a:r>
              <a:rPr b="0" lang="ru-RU" sz="2000" spc="-1" strike="noStrike">
                <a:solidFill>
                  <a:srgbClr val="ffffff"/>
                </a:solidFill>
                <a:latin typeface="Cambria"/>
              </a:rPr>
              <a:t> введите тему сообщения.</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 большой пустой области введите текст сообщения.</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Чтобы вложить файл в сообщение, нажмите кнопку. </a:t>
            </a:r>
            <a:r>
              <a:rPr b="1" lang="ru-RU" sz="2000" spc="-1" strike="noStrike">
                <a:solidFill>
                  <a:srgbClr val="ffffff"/>
                </a:solidFill>
                <a:latin typeface="Cambria"/>
              </a:rPr>
              <a:t>Вложить файл</a:t>
            </a:r>
            <a:r>
              <a:rPr b="0" lang="ru-RU" sz="2000" spc="-1" strike="noStrike">
                <a:solidFill>
                  <a:srgbClr val="ffffff"/>
                </a:solidFill>
                <a:latin typeface="Cambria"/>
              </a:rPr>
              <a:t>  на панели инструментов, расположенной под строкой меню. Найдите требуемый файл, выделите его и нажмите.  </a:t>
            </a:r>
            <a:r>
              <a:rPr b="1" lang="ru-RU" sz="2000" spc="-1" strike="noStrike">
                <a:solidFill>
                  <a:srgbClr val="ffffff"/>
                </a:solidFill>
                <a:latin typeface="Cambria"/>
              </a:rPr>
              <a:t>Открыть</a:t>
            </a:r>
            <a:r>
              <a:rPr b="0" lang="ru-RU" sz="2000" spc="-1" strike="noStrike">
                <a:solidFill>
                  <a:srgbClr val="ffffff"/>
                </a:solidFill>
                <a:latin typeface="Cambria"/>
              </a:rPr>
              <a:t>. Имя файла появится в поле.  </a:t>
            </a:r>
            <a:r>
              <a:rPr b="1" lang="ru-RU" sz="2000" spc="-1" strike="noStrike">
                <a:solidFill>
                  <a:srgbClr val="ffffff"/>
                </a:solidFill>
                <a:latin typeface="Cambria"/>
              </a:rPr>
              <a:t>Присоединить</a:t>
            </a:r>
            <a:r>
              <a:rPr b="0" lang="ru-RU" sz="2000" spc="-1" strike="noStrike">
                <a:solidFill>
                  <a:srgbClr val="ffffff"/>
                </a:solidFill>
                <a:latin typeface="Cambria"/>
              </a:rPr>
              <a:t> в заголовке сообщения.</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2" descr=""/>
          <p:cNvPicPr/>
          <p:nvPr/>
        </p:nvPicPr>
        <p:blipFill>
          <a:blip r:embed="rId1"/>
          <a:stretch/>
        </p:blipFill>
        <p:spPr>
          <a:xfrm>
            <a:off x="2419200" y="353880"/>
            <a:ext cx="4189680" cy="858960"/>
          </a:xfrm>
          <a:prstGeom prst="rect">
            <a:avLst/>
          </a:prstGeom>
          <a:ln w="0">
            <a:noFill/>
          </a:ln>
        </p:spPr>
      </p:pic>
      <p:sp>
        <p:nvSpPr>
          <p:cNvPr id="397" name=""/>
          <p:cNvSpPr txBox="1"/>
          <p:nvPr/>
        </p:nvSpPr>
        <p:spPr>
          <a:xfrm>
            <a:off x="468360" y="1926720"/>
            <a:ext cx="8229600" cy="452628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Навигация по сети Интернет</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Навигация по ресурсам сети Интернет</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семирная паутина</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Информационно поисковые системы Интернета</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Электронная почта</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Работа с Электронной почтой</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Создание и отправка электронных сообщений</a:t>
            </a: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Заголовок 1" descr=""/>
          <p:cNvPicPr/>
          <p:nvPr/>
        </p:nvPicPr>
        <p:blipFill>
          <a:blip r:embed="rId1"/>
          <a:stretch/>
        </p:blipFill>
        <p:spPr>
          <a:xfrm>
            <a:off x="566640" y="590400"/>
            <a:ext cx="8169480" cy="2775240"/>
          </a:xfrm>
          <a:prstGeom prst="rect">
            <a:avLst/>
          </a:prstGeom>
          <a:ln w="0">
            <a:noFill/>
          </a:ln>
        </p:spPr>
      </p:pic>
      <p:sp>
        <p:nvSpPr>
          <p:cNvPr id="399" name=""/>
          <p:cNvSpPr txBox="1"/>
          <p:nvPr/>
        </p:nvSpPr>
        <p:spPr>
          <a:xfrm>
            <a:off x="457200" y="2071800"/>
            <a:ext cx="8229600" cy="405432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Навигация по ресурсам сети Интернет:</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всемирная паутина (World Wide Web, WWW);</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электронная почта (e-mail);</a:t>
            </a:r>
            <a:endParaRPr b="0" lang="en-US" sz="28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файловые архивы FTP;</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Заголовок 1" descr=""/>
          <p:cNvPicPr/>
          <p:nvPr/>
        </p:nvPicPr>
        <p:blipFill>
          <a:blip r:embed="rId1"/>
          <a:stretch/>
        </p:blipFill>
        <p:spPr>
          <a:xfrm>
            <a:off x="493560" y="281160"/>
            <a:ext cx="8278920" cy="1584000"/>
          </a:xfrm>
          <a:prstGeom prst="rect">
            <a:avLst/>
          </a:prstGeom>
          <a:ln w="0">
            <a:noFill/>
          </a:ln>
        </p:spPr>
      </p:pic>
      <p:sp>
        <p:nvSpPr>
          <p:cNvPr id="401" name=""/>
          <p:cNvSpPr txBox="1"/>
          <p:nvPr/>
        </p:nvSpPr>
        <p:spPr>
          <a:xfrm>
            <a:off x="457200" y="1857240"/>
            <a:ext cx="8229600" cy="4268880"/>
          </a:xfrm>
          <a:prstGeom prst="rect">
            <a:avLst/>
          </a:prstGeom>
          <a:noFill/>
          <a:ln w="0">
            <a:noFill/>
          </a:ln>
        </p:spPr>
        <p:txBody>
          <a:bodyPr anchor="t">
            <a:normAutofit fontScale="97000"/>
          </a:bodyPr>
          <a:p>
            <a:pPr marL="282960" indent="-282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Самым популярным ресурсом Интернета является всемирная паутина или WWW, которая представляет собой огромное количество мультимедийных документов, отличительной особенностью которых является возможность ссылаться друг на друга.</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Заголовок 1" descr=""/>
          <p:cNvPicPr/>
          <p:nvPr/>
        </p:nvPicPr>
        <p:blipFill>
          <a:blip r:embed="rId1"/>
          <a:stretch/>
        </p:blipFill>
        <p:spPr>
          <a:xfrm>
            <a:off x="566640" y="353880"/>
            <a:ext cx="8053560" cy="1157400"/>
          </a:xfrm>
          <a:prstGeom prst="rect">
            <a:avLst/>
          </a:prstGeom>
          <a:ln w="0">
            <a:noFill/>
          </a:ln>
        </p:spPr>
      </p:pic>
      <p:sp>
        <p:nvSpPr>
          <p:cNvPr id="403" name=""/>
          <p:cNvSpPr txBox="1"/>
          <p:nvPr/>
        </p:nvSpPr>
        <p:spPr>
          <a:xfrm>
            <a:off x="457200" y="1999800"/>
            <a:ext cx="8229600" cy="412596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Гипертекст</a:t>
            </a:r>
            <a:r>
              <a:rPr b="0" lang="ru-RU" sz="2400" spc="-1" strike="noStrike">
                <a:solidFill>
                  <a:srgbClr val="ffffff"/>
                </a:solidFill>
                <a:latin typeface="Cambria"/>
              </a:rPr>
              <a:t> - множество отдельных документов (страниц), которые имеют ссылки друг на друга. В Интернете существует несколько способов передачи данных (протоколов). Самым популярным в сети является протокол передачи гипертекста – </a:t>
            </a:r>
            <a:r>
              <a:rPr b="0" lang="en-US" sz="2400" spc="-1" strike="noStrike">
                <a:solidFill>
                  <a:srgbClr val="ffffff"/>
                </a:solidFill>
                <a:latin typeface="Rockwell"/>
              </a:rPr>
              <a:t>http</a:t>
            </a:r>
            <a:r>
              <a:rPr b="0" lang="ru-RU" sz="2400" spc="-1" strike="noStrike">
                <a:solidFill>
                  <a:srgbClr val="ffffff"/>
                </a:solidFill>
                <a:latin typeface="Cambria"/>
              </a:rPr>
              <a:t> (</a:t>
            </a:r>
            <a:r>
              <a:rPr b="0" lang="en-US" sz="2400" spc="-1" strike="noStrike">
                <a:solidFill>
                  <a:srgbClr val="ffffff"/>
                </a:solidFill>
                <a:latin typeface="Rockwell"/>
              </a:rPr>
              <a:t>Hyper Text Transfer Protocol</a:t>
            </a:r>
            <a:r>
              <a:rPr b="0" lang="ru-RU" sz="2400" spc="-1" strike="noStrike">
                <a:solidFill>
                  <a:srgbClr val="ffffff"/>
                </a:solidFill>
                <a:latin typeface="Cambria"/>
              </a:rPr>
              <a:t>)</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ambria"/>
              </a:rPr>
              <a:t>Гипертекстовая ссылка</a:t>
            </a:r>
            <a:r>
              <a:rPr b="0" lang="ru-RU" sz="2400" spc="-1" strike="noStrike">
                <a:solidFill>
                  <a:srgbClr val="ffffff"/>
                </a:solidFill>
                <a:latin typeface="Cambria"/>
              </a:rPr>
              <a:t> - выделенная часть документа, реализующая переход к другому документу. Реализуется в виде подчеркнутого текста, кнопки или картинки.</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Заголовок 1" descr=""/>
          <p:cNvPicPr/>
          <p:nvPr/>
        </p:nvPicPr>
        <p:blipFill>
          <a:blip r:embed="rId1"/>
          <a:stretch/>
        </p:blipFill>
        <p:spPr>
          <a:xfrm>
            <a:off x="781200" y="566640"/>
            <a:ext cx="8028000" cy="1013040"/>
          </a:xfrm>
          <a:prstGeom prst="rect">
            <a:avLst/>
          </a:prstGeom>
          <a:ln w="0">
            <a:noFill/>
          </a:ln>
        </p:spPr>
      </p:pic>
      <p:sp>
        <p:nvSpPr>
          <p:cNvPr id="405" name=""/>
          <p:cNvSpPr txBox="1"/>
          <p:nvPr/>
        </p:nvSpPr>
        <p:spPr>
          <a:xfrm>
            <a:off x="457200" y="1857240"/>
            <a:ext cx="8229600" cy="426888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   </a:t>
            </a:r>
            <a:r>
              <a:rPr b="0" lang="ru-RU" sz="3200" spc="-1" strike="noStrike">
                <a:solidFill>
                  <a:srgbClr val="ffffff"/>
                </a:solidFill>
                <a:latin typeface="Cambria"/>
              </a:rPr>
              <a:t>Все поисковые системы объединяет то, что они расположены на специально-выделенных мощных серверах и привязаны к эффективным каналам связи. Поисковые системы называют еще информационно-поисковыми системами (ИПС).</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Заголовок 1" descr=""/>
          <p:cNvPicPr/>
          <p:nvPr/>
        </p:nvPicPr>
        <p:blipFill>
          <a:blip r:embed="rId1"/>
          <a:stretch/>
        </p:blipFill>
        <p:spPr>
          <a:xfrm>
            <a:off x="291960" y="122400"/>
            <a:ext cx="8523360" cy="1730160"/>
          </a:xfrm>
          <a:prstGeom prst="rect">
            <a:avLst/>
          </a:prstGeom>
          <a:ln w="0">
            <a:noFill/>
          </a:ln>
        </p:spPr>
      </p:pic>
      <p:sp>
        <p:nvSpPr>
          <p:cNvPr id="407" name=""/>
          <p:cNvSpPr txBox="1"/>
          <p:nvPr/>
        </p:nvSpPr>
        <p:spPr>
          <a:xfrm>
            <a:off x="457200" y="1928520"/>
            <a:ext cx="8229600" cy="419724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Электронная почта</a:t>
            </a:r>
            <a:r>
              <a:rPr b="0" lang="ru-RU" sz="2400" spc="-1" strike="noStrike">
                <a:solidFill>
                  <a:srgbClr val="ffffff"/>
                </a:solidFill>
                <a:latin typeface="Cambria"/>
              </a:rPr>
              <a:t> (</a:t>
            </a:r>
            <a:r>
              <a:rPr b="1" lang="ru-RU" sz="2400" spc="-1" strike="noStrike">
                <a:solidFill>
                  <a:srgbClr val="ffffff"/>
                </a:solidFill>
                <a:latin typeface="Cambria"/>
              </a:rPr>
              <a:t>E-mail</a:t>
            </a:r>
            <a:r>
              <a:rPr b="0" lang="ru-RU" sz="2400" spc="-1" strike="noStrike">
                <a:solidFill>
                  <a:srgbClr val="ffffff"/>
                </a:solidFill>
                <a:latin typeface="Cambria"/>
              </a:rPr>
              <a:t> - сокращение от electronic mail) является удобным и быстрым средством связи с другими людьми. Электронную почту можно использовать для различных целей.</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Заголовок 1" descr=""/>
          <p:cNvPicPr/>
          <p:nvPr/>
        </p:nvPicPr>
        <p:blipFill>
          <a:blip r:embed="rId1"/>
          <a:stretch/>
        </p:blipFill>
        <p:spPr>
          <a:xfrm>
            <a:off x="450720" y="249120"/>
            <a:ext cx="8553600" cy="1165320"/>
          </a:xfrm>
          <a:prstGeom prst="rect">
            <a:avLst/>
          </a:prstGeom>
          <a:ln w="0">
            <a:noFill/>
          </a:ln>
        </p:spPr>
      </p:pic>
      <p:sp>
        <p:nvSpPr>
          <p:cNvPr id="409"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Отправка и получение сообщений. </a:t>
            </a:r>
            <a:r>
              <a:rPr b="0" lang="ru-RU" sz="2400" spc="-1" strike="noStrike">
                <a:solidFill>
                  <a:srgbClr val="ffffff"/>
                </a:solidFill>
                <a:latin typeface="Cambria"/>
              </a:rPr>
              <a:t>Сообщение электронной почты можно отправить любому человеку, если у него есть адрес электронной почты. Сообщение доставляется в электронный почтовый ящик получателя за несколько секунд или минут независимо от того, живет ли он поблизости или на другом конце света. Можно получать сообщения от всех, кому известен ваш адрес электронной почты, а после прочтения писем писать ответы.</a:t>
            </a:r>
            <a:endParaRPr b="0" lang="en-US" sz="24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Заголовок 1" descr=""/>
          <p:cNvPicPr/>
          <p:nvPr/>
        </p:nvPicPr>
        <p:blipFill>
          <a:blip r:embed="rId1"/>
          <a:stretch/>
        </p:blipFill>
        <p:spPr>
          <a:xfrm>
            <a:off x="-6480" y="249120"/>
            <a:ext cx="8979120" cy="1165320"/>
          </a:xfrm>
          <a:prstGeom prst="rect">
            <a:avLst/>
          </a:prstGeom>
          <a:ln w="0">
            <a:noFill/>
          </a:ln>
        </p:spPr>
      </p:pic>
      <p:sp>
        <p:nvSpPr>
          <p:cNvPr id="411"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mbria"/>
              </a:rPr>
              <a:t>Отправка и получение файлов. </a:t>
            </a:r>
            <a:r>
              <a:rPr b="0" lang="ru-RU" sz="3200" spc="-1" strike="noStrike">
                <a:solidFill>
                  <a:srgbClr val="ffffff"/>
                </a:solidFill>
                <a:latin typeface="Cambria"/>
              </a:rPr>
              <a:t>Помимо обычных текстовых сообщений с электронной почтой можно отправлять почти все типы файлов, включая документы, изображения и музыку. Файл, отправляемый с сообщением электронной почты, называется </a:t>
            </a:r>
            <a:r>
              <a:rPr b="1" lang="ru-RU" sz="3200" spc="-1" strike="noStrike">
                <a:solidFill>
                  <a:srgbClr val="ffffff"/>
                </a:solidFill>
                <a:latin typeface="Cambria"/>
              </a:rPr>
              <a:t>вложением</a:t>
            </a:r>
            <a:r>
              <a:rPr b="0" lang="ru-RU" sz="3200" spc="-1" strike="noStrike">
                <a:solidFill>
                  <a:srgbClr val="ffffff"/>
                </a:solidFill>
                <a:latin typeface="Cambria"/>
              </a:rPr>
              <a:t>.</a:t>
            </a:r>
            <a:endParaRPr b="0" lang="en-US" sz="3200" spc="-1" strike="noStrike">
              <a:solidFill>
                <a:srgbClr val="ffffff"/>
              </a:solidFill>
              <a:latin typeface="Rockwell"/>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cp:lastModifiedBy>
  <dcterms:modified xsi:type="dcterms:W3CDTF">2016-06-14T06:46:03Z</dcterms:modified>
  <cp:revision>476</cp:revision>
  <dc:subject/>
  <dc:title>Diapositiva 1</dc:title>
</cp:coreProperties>
</file>