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99D-64CF-4006-B65D-9208C5F4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094-E578-4A1F-965F-F69D7988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1E9-47AD-4827-887C-0D45219E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F64-C9EF-41A2-9BE7-ADC60081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9E64-E03A-41B6-ADA7-FAB9D3D7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F0F-07F0-4562-87ED-148D8227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91B6-97EA-4995-8B01-5BF647F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C481-D518-41B1-9B79-DB4C951C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7468-E775-40A6-9CE7-5B6CDFC7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B12-E19E-4967-A919-4C2A14FF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A3F5-6029-4DD2-A6B0-0098D17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766-9CAF-436C-AF19-8D2C9A7B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64E0-E7AF-46BD-997E-6E1437E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3912-B095-45CA-B0DA-57A186A4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1258-8BD4-4898-B96F-BDAF90B7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F3CC-B4E9-4704-9E65-D9D98111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0FE6-FF51-4B78-B0C4-4E99ED0E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314-2B1F-410F-AAE8-76605A5B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D2C-A090-481E-9568-30B70DEE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15F-C8B3-4B73-9D0A-54573BE6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112-FC63-432D-9551-8B6BC29D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C88-6FE5-4328-8E99-B37ABD3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267-95EE-410D-82B2-60F89025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DD6-A8F8-4640-85F9-F170C14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C91F-6591-46C1-B047-7BA4996B8F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EA0-56E3-46A8-AA4A-41EAA25061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0" y="2685960"/>
            <a:ext cx="9144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анжевая песня</a:t>
            </a:r>
            <a:endParaRPr b="0" i="1" lang="en-US" sz="96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236232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Оранжевые песинки поют!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т уже подряд два дня я сижу рисую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расок много у меня - выбирай любую!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 раскрашу целый свет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самый свой любимый цвет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ут явился к нам домой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чень взрослый дядя.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качал он головой, на рисунок глядя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сказал мне : "Ерунда! Не бывает никогд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02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4648320" y="1590840"/>
            <a:ext cx="4114800" cy="4505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олько в небе в этот миг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лнце заблестело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раскрасило весь ми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ак, как я хотела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ядя посмотрел вокруг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тогда увидел вдруг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у песенку давно я пою повсюду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ла взрослой - все равно -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ть ее я буду!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аже если ты большой,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идеть очень хорошо -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ое небо, оранжевое море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ая зелень, оранжевый верблюд,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мамы оранжевым ребятам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ранжевые песни оранжево поют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64040" cy="4419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07:56:05Z</dcterms:created>
  <dc:creator>юля</dc:creator>
  <dc:description/>
  <dc:language>en-US</dc:language>
  <cp:lastModifiedBy>1</cp:lastModifiedBy>
  <dcterms:modified xsi:type="dcterms:W3CDTF">2015-04-21T07:3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