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44B-183A-4A13-BE97-F951B5FB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6A3-9E9A-4001-A95D-D4C52A74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682-BE5C-4B04-B4E2-DDF0CEB8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829-9D44-4D37-B0B1-98E82083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F999-D8B1-42F6-AEA0-6DFE49D5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21C3-1AE1-42C7-8925-8C22A492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6CD-C9EF-4107-8A09-34BD3AC8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819-CECE-4231-B513-339AFC7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76C-63C8-4460-87E8-D6576B42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9D5B-0522-49E9-AA90-1E899589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D1F-0928-4B73-B83B-DFE6970A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33C-EF3C-45F7-9538-F0860ECB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59B-F28A-41B4-90A9-7829C73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CC91-5E8F-46A0-B8A2-067F90A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804D-62A7-426F-9694-25DC2495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FDD4-83F4-4F01-888A-9EAC7139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FC5-4E96-42DB-BF44-3B58E94E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409-4B9E-4FF5-A2BA-81161BB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716-A835-4A44-9824-A7862CF5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5A4-A714-45F6-AFDF-A6AF3739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2EA-2472-41EC-A711-2AF7EFC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EFD-AF93-4CF3-A141-952D6E6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512-AD0F-49B8-A2D5-353505E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06D-C143-428D-AD8F-C658151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EFA-DFFE-464A-8E60-44A7AE54EE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CCE2-E639-4F44-AC16-F0931CAF61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2685960"/>
            <a:ext cx="9144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анжевая песня</a:t>
            </a:r>
            <a:endParaRPr b="0" i="1" lang="en-US" sz="96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236232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Оранжевые песинки поют!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т уже подряд два дня я сижу рисую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расок много у меня - выбирай любую!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 раскрашу целый свет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самый свой любимый цвет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ут явился к нам домой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чень взрослый дядя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качал он головой, на рисунок глядя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сказал мне : "Ерунда! Не бывает никогд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02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4648320" y="1590840"/>
            <a:ext cx="4114800" cy="4505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ько в небе в этот миг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лнце заблестело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раскрасило весь ми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ак, как я хотела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ядя посмотрел вокруг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тогда увидел вдруг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у песенку давно я пою повсюду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ла взрослой - все равно -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ть ее я буду!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аже если ты большой,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идеть очень хорошо -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07:56:05Z</dcterms:created>
  <dc:creator>юля</dc:creator>
  <dc:description/>
  <dc:language>en-US</dc:language>
  <cp:lastModifiedBy>1</cp:lastModifiedBy>
  <dcterms:modified xsi:type="dcterms:W3CDTF">2015-04-21T07:3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