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19E-6F67-47F4-963B-C49AFAA9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DE6-E7DE-4D39-B278-6ED5EAC8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B54-ED81-4B4D-BE0E-8C685E75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C9A-44E9-4FE9-A80B-5207FFEB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4602-AEA5-4CF2-8E9F-91E709A1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B0A6-FF93-4C50-AE1C-6B14687A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A973-8E5D-4633-A56C-DC7C3AA2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7A57-BB5E-49BE-88B6-C4B1B186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20FA-774F-4525-9A6C-04B9A1DD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D053-AC62-459F-A7D4-CAB2981A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1539-4BBE-4EF4-B6C9-E0C17B46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4E5-EFC5-434D-BF12-C67C4E50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5E56-40AE-449C-B1FB-4A9B8D2B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0D26-9C6B-472C-A1A1-603F748E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D1E5-EB1F-4B19-B2E3-1D7D2276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D0D8-B92A-4C55-8741-9D363465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5570-C0BA-481B-BCE9-262780AD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3BF-22FB-4740-B98B-861775BB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CB0-039C-4149-9CAC-162D7877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8BC-99ED-4632-91FF-187DFF53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EB7-3C32-4E29-9D12-564E67B9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3D1-EA4D-4F7D-ABBC-DC8223B7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A60-BEB9-415C-845B-AAD5F69A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48A-14BC-46A1-A5D2-2C2F0973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1CFF-1B72-4D54-9AC6-25D99746AEA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3E8D-80DF-4C81-89BD-6A54607976C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0" y="2685960"/>
            <a:ext cx="91440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анжевая песня</a:t>
            </a:r>
            <a:endParaRPr b="0" i="1" lang="en-US" sz="96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2362320"/>
            <a:ext cx="8229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Оранжевые песинки поют!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от уже подряд два дня я сижу рисую.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расок много у меня - выбирай любую!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Я раскрашу целый свет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самый свой любимый цвет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ое небо, оранжевое море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ая зелень, оранжевый верблюд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мамы оранжевым ребятам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песни оранжево поют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64040" cy="4419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ут явился к нам домой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чень взрослый дядя.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качал он головой, на рисунок глядя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сказал мне : "Ерунда! Не бывает никогд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5029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ое небо, оранжевое море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ая зелень, оранжевый верблюд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мамы оранжевым ребятам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песни оранжево поют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114800" cy="4495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4648320" y="1590840"/>
            <a:ext cx="4114800" cy="4505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4648320" y="160020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олько в небе в этот миг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олнце заблестело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раскрасило весь мир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ак, как я хотела!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ядя посмотрел вокруг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тогда увидел вдруг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ое небо, оранжевое море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ая зелень, оранжевый верблюд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мамы оранжевым ребятам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песни оранжево поют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64040" cy="4419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у песенку давно я пою повсюду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тала взрослой - все равно -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еть ее я буду!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аже если ты большой,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идеть очень хорошо -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ое небо, оранжевое море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ая зелень, оранжевый верблюд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мамы оранжевым ребятам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песни оранжево поют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64040" cy="4419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07:56:05Z</dcterms:created>
  <dc:creator>юля</dc:creator>
  <dc:description/>
  <dc:language>en-US</dc:language>
  <cp:lastModifiedBy>1</cp:lastModifiedBy>
  <dcterms:modified xsi:type="dcterms:W3CDTF">2015-04-21T07:35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