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5B5-F01A-4CE1-BA1A-E349668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608-F4CE-4DB9-AC1B-22E19F09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05F-762F-4677-92E5-66518D07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09E-3E75-4EB9-9D17-643EA15C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3D7-08C6-48DE-ACB3-1A2BEAE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8E9-66D6-4522-857C-903AC417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104-3F77-4842-91D2-ECD4719F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30D-65C5-457D-98C5-5CDEB8E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5E3-AA1F-4AA1-B304-E425310F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C5D-607F-49BF-B2C5-59974C26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450-6192-437D-9158-D76EE5E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512-3D7B-4BC5-8A4D-960D6959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3841-3309-4B19-A46B-7087B6EB0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914400"/>
            <a:ext cx="77724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7391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то на кого похож"/>
          <p:cNvPicPr/>
          <p:nvPr/>
        </p:nvPicPr>
        <p:blipFill>
          <a:blip r:embed="rId1"/>
          <a:stretch/>
        </p:blipFill>
        <p:spPr>
          <a:xfrm>
            <a:off x="762120" y="608040"/>
            <a:ext cx="73152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то на кого похож"/>
          <p:cNvPicPr/>
          <p:nvPr/>
        </p:nvPicPr>
        <p:blipFill>
          <a:blip r:embed="rId1"/>
          <a:stretch/>
        </p:blipFill>
        <p:spPr>
          <a:xfrm>
            <a:off x="304920" y="228600"/>
            <a:ext cx="82296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то на кого похож"/>
          <p:cNvPicPr/>
          <p:nvPr/>
        </p:nvPicPr>
        <p:blipFill>
          <a:blip r:embed="rId1"/>
          <a:stretch/>
        </p:blipFill>
        <p:spPr>
          <a:xfrm>
            <a:off x="533520" y="304920"/>
            <a:ext cx="7162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781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9343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781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5:10:46Z</dcterms:created>
  <dc:creator>Admin</dc:creator>
  <dc:description/>
  <dc:language>en-US</dc:language>
  <cp:lastModifiedBy>WiZaRd</cp:lastModifiedBy>
  <dcterms:modified xsi:type="dcterms:W3CDTF">2015-09-28T15:19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