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6FF-2C7E-4BD4-9D14-FD7A87C2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0F6-1E57-4E72-A9E0-28F10FD6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9CF-3F25-43DE-9405-A2B343CD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9C1-0711-437E-96F1-9DE4FC56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38E-838C-4930-98E7-1C4391BF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C6D-504F-4D04-8D69-080DF573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1F7-CAC8-44B3-A931-71276106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C10-6FF5-4D72-909B-314F4D5B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478-2FF7-471C-90A3-C915C8FD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38D-F0AC-46E5-AC63-EF9D2CAE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32B-DEA9-4734-9F32-7E9D6B9C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79F-35FA-4B10-964D-061AF79A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A1CF-C2ED-4520-9090-F528AB2D3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914400"/>
            <a:ext cx="77724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7391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то на кого похож"/>
          <p:cNvPicPr/>
          <p:nvPr/>
        </p:nvPicPr>
        <p:blipFill>
          <a:blip r:embed="rId1"/>
          <a:stretch/>
        </p:blipFill>
        <p:spPr>
          <a:xfrm>
            <a:off x="762120" y="608040"/>
            <a:ext cx="73152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то на кого похож"/>
          <p:cNvPicPr/>
          <p:nvPr/>
        </p:nvPicPr>
        <p:blipFill>
          <a:blip r:embed="rId1"/>
          <a:stretch/>
        </p:blipFill>
        <p:spPr>
          <a:xfrm>
            <a:off x="304920" y="228600"/>
            <a:ext cx="82296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то на кого похож"/>
          <p:cNvPicPr/>
          <p:nvPr/>
        </p:nvPicPr>
        <p:blipFill>
          <a:blip r:embed="rId1"/>
          <a:stretch/>
        </p:blipFill>
        <p:spPr>
          <a:xfrm>
            <a:off x="533520" y="304920"/>
            <a:ext cx="7162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67816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693432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67816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8T15:10:46Z</dcterms:created>
  <dc:creator>Admin</dc:creator>
  <dc:description/>
  <dc:language>en-US</dc:language>
  <cp:lastModifiedBy>WiZaRd</cp:lastModifiedBy>
  <dcterms:modified xsi:type="dcterms:W3CDTF">2015-09-28T15:19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