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A85-511D-4EE8-AC26-EB90F832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E93-E544-4244-AF6D-E19126D8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48D-AACA-4615-9885-AB5875E9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50E-FFC1-4B7F-AE9C-97C6C086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8A6-2266-42F0-ACC8-1DC4FF0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E65-7948-4409-A369-51978313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90D-85B7-409B-B35B-6CB61734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830-4F69-49EE-9227-3BCB51F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E29-DC88-4248-BAA9-7597702D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874-28E1-45A1-BA0C-5447296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A6D-CF2D-4D9E-A599-A90E921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8DD-903E-478C-B4F4-B1672DF5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F23-EDC0-4B08-95D6-1FDB2AA79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914400"/>
            <a:ext cx="77724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7391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то на кого похож"/>
          <p:cNvPicPr/>
          <p:nvPr/>
        </p:nvPicPr>
        <p:blipFill>
          <a:blip r:embed="rId1"/>
          <a:stretch/>
        </p:blipFill>
        <p:spPr>
          <a:xfrm>
            <a:off x="762120" y="608040"/>
            <a:ext cx="73152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то на кого похож"/>
          <p:cNvPicPr/>
          <p:nvPr/>
        </p:nvPicPr>
        <p:blipFill>
          <a:blip r:embed="rId1"/>
          <a:stretch/>
        </p:blipFill>
        <p:spPr>
          <a:xfrm>
            <a:off x="304920" y="228600"/>
            <a:ext cx="82296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то на кого похож"/>
          <p:cNvPicPr/>
          <p:nvPr/>
        </p:nvPicPr>
        <p:blipFill>
          <a:blip r:embed="rId1"/>
          <a:stretch/>
        </p:blipFill>
        <p:spPr>
          <a:xfrm>
            <a:off x="533520" y="304920"/>
            <a:ext cx="7162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781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9343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то на кого похож"/>
          <p:cNvPicPr/>
          <p:nvPr/>
        </p:nvPicPr>
        <p:blipFill>
          <a:blip r:embed="rId1"/>
          <a:stretch/>
        </p:blipFill>
        <p:spPr>
          <a:xfrm>
            <a:off x="457200" y="304920"/>
            <a:ext cx="6781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8T15:10:46Z</dcterms:created>
  <dc:creator>Admin</dc:creator>
  <dc:description/>
  <dc:language>en-US</dc:language>
  <cp:lastModifiedBy>WiZaRd</cp:lastModifiedBy>
  <dcterms:modified xsi:type="dcterms:W3CDTF">2015-09-28T15:19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