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B07-6D3F-4474-829E-D8D3BA2E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EC5-48A8-4AB3-B289-8001B94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F4C-4A32-4571-84CB-37069224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E2B-FB4F-4FA9-A51D-E1735313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AE8-A500-46F0-95B0-A7D9F011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853-EE10-43B7-9FE1-4875A00A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501-3D8C-4C8F-9490-BA05A7A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1BA-2BB3-4A31-80AB-BECF0B7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A3A-AB17-406C-B052-C681207F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5EC-1332-464D-9D54-8EB817E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719-2711-4100-BA93-E3D7D5B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B12-09C6-4DCB-AC18-AC09EA2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D10-B24C-4BA1-9717-D5330E0ABF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ГРЫ!!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езентацию подготовила : Петрушева Ольга и Пугаева Ксения 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басная фабр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команды. Каждая из них получает ворох старых газет и рулон скотча. Задача команды — скатать из газет колбаску диаметром примерно 5 сантиметров и обмотать ее скотчем. Побеждает та команда, которая сумеет за 10 минут изготовить самую длинную колба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астники делятся на команды. На определенном расстоянии от стартовой линии располагается «библиотекарь» — участник команды с комплектом книг. По команде «Старт» игра начинается: первый участник бежит к библиотекарю, берет у него книгу и возвращается, держа ее на голове и не поддерживая руками. Побеждает та команда, которая принесла из библиотеки больше книг за 5 мину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йная бук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дущий объявляет букву алфавита, которую называть нельзя. Например, это буква «Ш». Затем он задает участникам вопросы, а те должны подбирать ответы так, чтобы не называть эту букву. Так Саша на вопрос «Как тебя зовут?» ответит «Александр». А на вопрос, в каком он классе, шестиклассник может ответить так: «В следующем после пятого». Побеждает самый смекалисты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ы в ря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конкурса делятся на равные команды, и только после этого ведущий объявляет задание: каждой команде необходимо построиться в ряд по именам строго в алфавитном порядке. Побеждает та команда, которая сделает это быстрее друг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иг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nastol.com.ua-129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7:44:26Z</dcterms:created>
  <dc:creator>Алексей</dc:creator>
  <dc:description/>
  <dc:language>en-US</dc:language>
  <cp:lastModifiedBy>Алексей</cp:lastModifiedBy>
  <dcterms:modified xsi:type="dcterms:W3CDTF">2015-11-27T18:16:02Z</dcterms:modified>
  <cp:revision>2</cp:revision>
  <dc:subject/>
  <dc:title>ИГРЫ!!!</dc:title>
</cp:coreProperties>
</file>