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D93-522D-428C-B77E-9DF0D1B5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054-5CC4-4B98-8676-BF41C015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545-9E35-4EDB-B671-ABE0C70B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3D6-5C4F-4287-8560-21A22A96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594-6743-4E87-A775-9217929F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F3E-71EA-4459-AA7A-077B44BD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E1B-C3F4-457C-96CB-D0DC40C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C65-8753-465C-9A34-9B8C3FC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754-2AB1-4658-85B4-C02294BE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65E-D530-4FBB-8F66-0DCF472D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4B2-B063-4096-9A24-CF0665A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38A-724D-48A4-945F-4866F1A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3B24-6ED1-4C82-AFF1-5D8925FAE0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ГРЫ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езентацию подготовила : Петрушева Ольга и Пугаева Ксения 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басная фабр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астники конкурса делятся на команды. Каждая из них получает ворох старых газет и рулон скотча. Задача команды — скатать из газет колбаску диаметром примерно 5 сантиметров и обмотать ее скотчем. Побеждает та команда, которая сумеет за 10 минут изготовить самую длинную колба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астники делятся на команды. На определенном расстоянии от стартовой линии располагается «библиотекарь» — участник команды с комплектом книг. По команде «Старт» игра начинается: первый участник бежит к библиотекарю, берет у него книгу и возвращается, держа ее на голове и не поддерживая руками. Побеждает та команда, которая принесла из библиотеки больше книг за 5 мину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йная бу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дущий объявляет букву алфавита, которую называть нельзя. Например, это буква «Ш». Затем он задает участникам вопросы, а те должны подбирать ответы так, чтобы не называть эту букву. Так Саша на вопрос «Как тебя зовут?» ответит «Александр». А на вопрос, в каком он классе, шестиклассник может ответить так: «В следующем после пятого». Побеждает самый смекалисты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ы в ря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конкурса делятся на равные команды, и только после этого ведущий объявляет задание: каждой команде необходимо построиться в ряд по именам строго в алфавитном порядке. Побеждает та команда, которая сделает это быстрее друг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иг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nastol.com.ua-129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7:44:26Z</dcterms:created>
  <dc:creator>Алексей</dc:creator>
  <dc:description/>
  <dc:language>en-US</dc:language>
  <cp:lastModifiedBy>Алексей</cp:lastModifiedBy>
  <dcterms:modified xsi:type="dcterms:W3CDTF">2015-11-27T18:16:02Z</dcterms:modified>
  <cp:revision>2</cp:revision>
  <dc:subject/>
  <dc:title>ИГРЫ!!!</dc:title>
</cp:coreProperties>
</file>