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5FB-4742-4BF3-97A8-AA54FC2C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1B4-8651-4A7E-829C-C8734A36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13D-1C9D-48D3-9261-477821F2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3E3-72C4-42D0-ACBF-73FCBDC4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A61-1A3E-4F39-BC65-89101FFA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54C-6DDD-44D4-ACC1-5905CBB9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C49-3C3A-4025-ABB3-A7F19CA3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9DF-24B1-4781-BED0-99246CD7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E36-C365-4669-A6A1-DAA565BA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D87-298E-4FD6-A20E-0B4690E1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5D8-FFE3-4876-981C-B8335E3D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109-0C8C-46FB-8ECF-AF9F3B80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7619-98C0-46FC-891D-8F129616D5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ГРЫ!!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езентацию подготовила : Петрушева Ольга и Пугаева Ксения 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басная фабр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астники конкурса делятся на команды. Каждая из них получает ворох старых газет и рулон скотча. Задача команды — скатать из газет колбаску диаметром примерно 5 сантиметров и обмотать ее скотчем. Побеждает та команда, которая сумеет за 10 минут изготовить самую длинную колбас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иблиот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астники делятся на команды. На определенном расстоянии от стартовой линии располагается «библиотекарь» — участник команды с комплектом книг. По команде «Старт» игра начинается: первый участник бежит к библиотекарю, берет у него книгу и возвращается, держа ее на голове и не поддерживая руками. Побеждает та команда, которая принесла из библиотеки больше книг за 5 мину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йная бук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едущий объявляет букву алфавита, которую называть нельзя. Например, это буква «Ш». Затем он задает участникам вопросы, а те должны подбирать ответы так, чтобы не называть эту букву. Так Саша на вопрос «Как тебя зовут?» ответит «Александр». А на вопрос, в каком он классе, шестиклассник может ответить так: «В следующем после пятого». Побеждает самый смекалисты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квы в ря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и конкурса делятся на равные команды, и только после этого ведущий объявляет задание: каждой команде необходимо построиться в ряд по именам строго в алфавитном порядке. Побеждает та команда, которая сделает это быстрее друг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иг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nastol.com.ua-129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7:44:26Z</dcterms:created>
  <dc:creator>Алексей</dc:creator>
  <dc:description/>
  <dc:language>en-US</dc:language>
  <cp:lastModifiedBy>Алексей</cp:lastModifiedBy>
  <dcterms:modified xsi:type="dcterms:W3CDTF">2015-11-27T18:16:02Z</dcterms:modified>
  <cp:revision>2</cp:revision>
  <dc:subject/>
  <dc:title>ИГРЫ!!!</dc:title>
</cp:coreProperties>
</file>