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C68E2-1D98-4834-A959-6ABAAAB98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0FD23-0B53-411F-A69E-C32D0581F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D52C7-8D76-4D41-BAB2-F59C2D296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55BC1-5DC7-4B27-8EFB-67A91697C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17CE7-1FB3-465E-BEAF-6B84DC164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6FA9F-85B3-47B9-BE38-44922AA37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DC557-9D5C-4F4A-AE94-24F148982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53A8B-A182-48C8-9AF4-FE31111CD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8D94B-2F2D-4F88-AECB-16D905360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5362A-3176-4115-A1C9-42F3771EF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6D6BC-A982-4E72-918E-BB383FDE5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0086F-3896-4ABE-BBFC-54D917D08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4BFF7-CDB7-4C49-92CC-CCA4E605B9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Скачать картинки - Зелень , цветок , фон , растение , природа , макро , поляна , весна , цвета , размытость , краски , апельсино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908000" y="620640"/>
            <a:ext cx="640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оль комнатных растений в жизни  челове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Комнатные растения фотокаталог с названиями"/>
          <p:cNvPicPr/>
          <p:nvPr/>
        </p:nvPicPr>
        <p:blipFill>
          <a:blip r:embed="rId2"/>
          <a:stretch/>
        </p:blipFill>
        <p:spPr>
          <a:xfrm>
            <a:off x="1042920" y="1409760"/>
            <a:ext cx="7274160" cy="48276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Цветы - Фоны для оформления (87 фото) &quot; Картины, художники, фотографы на Nevsepic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395280" y="2205000"/>
            <a:ext cx="3708360" cy="403236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647640" y="189000"/>
            <a:ext cx="849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омнатные растения способствуют единению человека с природо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4427640" y="692280"/>
            <a:ext cx="4537080" cy="35272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Вегето-сосудистая дистония"/>
          <p:cNvPicPr/>
          <p:nvPr/>
        </p:nvPicPr>
        <p:blipFill>
          <a:blip r:embed="rId2"/>
          <a:stretch/>
        </p:blipFill>
        <p:spPr>
          <a:xfrm>
            <a:off x="4932360" y="2421000"/>
            <a:ext cx="4211640" cy="429264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30 советов, чтобы девушка улыбнулась"/>
          <p:cNvPicPr/>
          <p:nvPr/>
        </p:nvPicPr>
        <p:blipFill>
          <a:blip r:embed="rId3"/>
          <a:stretch/>
        </p:blipFill>
        <p:spPr>
          <a:xfrm>
            <a:off x="0" y="1484280"/>
            <a:ext cx="4788000" cy="407664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324000" y="333360"/>
            <a:ext cx="8351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расотой форм, окраской, благоуханием они благотворно влияют на человеческий организм, улучшают настроение, снимают нервное напряжени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Фоны нежные. Обсуждение на LiveInternet - Российский Сервис …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Декоративные комнатные растения фото"/>
          <p:cNvPicPr/>
          <p:nvPr/>
        </p:nvPicPr>
        <p:blipFill>
          <a:blip r:embed="rId2"/>
          <a:stretch/>
        </p:blipFill>
        <p:spPr>
          <a:xfrm>
            <a:off x="324000" y="2997360"/>
            <a:ext cx="4162320" cy="33811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О пользе комнатных растений"/>
          <p:cNvPicPr/>
          <p:nvPr/>
        </p:nvPicPr>
        <p:blipFill>
          <a:blip r:embed="rId3"/>
          <a:stretch/>
        </p:blipFill>
        <p:spPr>
          <a:xfrm>
            <a:off x="5076720" y="2997360"/>
            <a:ext cx="3638520" cy="34495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468360" y="404640"/>
            <a:ext cx="7920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стения-санитары жилых помещений. Они поглощают пыль, очищают воздух, способствуют его увлажнению, уничтожают вредоносные микроорганизм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95280" y="1773360"/>
            <a:ext cx="7056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боту выполняли: Ханенко Алёна, Кулагина Виктория. Ученицы 7 класса «В»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обои на рабочий стол - 8 марта - белые нежные цветы на белом фоне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826920" y="692280"/>
            <a:ext cx="7777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042920" y="260280"/>
            <a:ext cx="712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Жизнь человека связана с природой, а значит, и с жизнью растени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116000" y="2205000"/>
            <a:ext cx="684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Светодиоды - подсветка для растений, рассады и теплиц"/>
          <p:cNvPicPr/>
          <p:nvPr/>
        </p:nvPicPr>
        <p:blipFill>
          <a:blip r:embed="rId2"/>
          <a:stretch/>
        </p:blipFill>
        <p:spPr>
          <a:xfrm>
            <a:off x="1692360" y="1773360"/>
            <a:ext cx="6095880" cy="457200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Обои на рабочий стол Стиль:Весна, Росток, Растение, Зелень, Блики, Рисунок, Цветы - скачать бесплатно. . Обои-на-стол.com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1258920" y="907920"/>
            <a:ext cx="6696000" cy="54738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95280" y="260280"/>
            <a:ext cx="849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здавна люди украшали цветами и растениями себя и свои жилищ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фон &quot; Страница 215 &quot; Rylik.ru - сайт графики и дизайна. . Скачать клипарт, футажи, журналы, программы, скрап-наборы, уроки, все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Дом в цветах - Я Покупаю"/>
          <p:cNvPicPr/>
          <p:nvPr/>
        </p:nvPicPr>
        <p:blipFill>
          <a:blip r:embed="rId2"/>
          <a:stretch/>
        </p:blipFill>
        <p:spPr>
          <a:xfrm>
            <a:off x="755640" y="620640"/>
            <a:ext cx="7993080" cy="578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Скачать обои Белый, фон, цветы, рисунок - картинка #1508 c разрешением 1920x120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Создателям Олимпийских букетов необходимо вручить золотую медаль"/>
          <p:cNvPicPr/>
          <p:nvPr/>
        </p:nvPicPr>
        <p:blipFill>
          <a:blip r:embed="rId2"/>
          <a:stretch/>
        </p:blipFill>
        <p:spPr>
          <a:xfrm>
            <a:off x="0" y="2421000"/>
            <a:ext cx="5365800" cy="3672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771640" y="404640"/>
            <a:ext cx="576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92360" y="0"/>
            <a:ext cx="518508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ыражали благодарность за мужество и храбрость(дарили букеты),награждали  за заслуги перед отечеством (надевали венки из лавра) и т.д. Так, в Бирме, Индии и некоторых других стран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Пряности и приправы. . Полезные растения. . Корица.ru"/>
          <p:cNvPicPr/>
          <p:nvPr/>
        </p:nvPicPr>
        <p:blipFill>
          <a:blip r:embed="rId3"/>
          <a:stretch/>
        </p:blipFill>
        <p:spPr>
          <a:xfrm>
            <a:off x="5477040" y="1484280"/>
            <a:ext cx="3666960" cy="29052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Cepten bedava фон resimleri indir ve ya paylaş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Raks.com.ua * Просмотр темы - Гавайская культура * Танец живота, индийский танец, трайбл, восточный танец"/>
          <p:cNvPicPr/>
          <p:nvPr/>
        </p:nvPicPr>
        <p:blipFill>
          <a:blip r:embed="rId2"/>
          <a:stretch/>
        </p:blipFill>
        <p:spPr>
          <a:xfrm>
            <a:off x="3851280" y="1125360"/>
            <a:ext cx="4032360" cy="57326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2627280" y="189000"/>
            <a:ext cx="6192720" cy="22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радиционно на почетных гост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девали гирлянды из цве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in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Картинки цветы фоны скачать фотошоп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❶ КАК вырастить лимонное дерево :: Квартира и дача :: Популярное :: KakProsto.ru: как просто сделать всё"/>
          <p:cNvPicPr/>
          <p:nvPr/>
        </p:nvPicPr>
        <p:blipFill>
          <a:blip r:embed="rId2"/>
          <a:stretch/>
        </p:blipFill>
        <p:spPr>
          <a:xfrm>
            <a:off x="5219640" y="1773360"/>
            <a:ext cx="3284640" cy="46800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Ноябрь &quot; 2011 &quot; Модно не модно - Будь всегда в курсе того что сейчас модно! . - Page 91"/>
          <p:cNvPicPr/>
          <p:nvPr/>
        </p:nvPicPr>
        <p:blipFill>
          <a:blip r:embed="rId3"/>
          <a:stretch/>
        </p:blipFill>
        <p:spPr>
          <a:xfrm>
            <a:off x="900000" y="1700280"/>
            <a:ext cx="3743280" cy="468144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790560" y="333360"/>
            <a:ext cx="8353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дними из первых заморских диковинок были апельсиновые и лимонные деревь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l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Цветы wallpaper 28721 загрузил Hitman - iKartinka the best wallpaper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468360" y="189000"/>
            <a:ext cx="7993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пыт  многих поколений садоводов позволил отобрать из тепличных коллекций виды растений, наиболее устойчивы к микроклимату жилища. Их использовали для оформления парадных помещений и размещали на жардиньерках или подставках( Жардиньерка - специальный цветочный столик, снабженный жестяным или цинковым ящиком со сточной трубк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Итальянские рабочие столики, жардиньерки Gioie фабрики Tosato - рабочие столики и жардиньерки Gioie."/>
          <p:cNvPicPr/>
          <p:nvPr/>
        </p:nvPicPr>
        <p:blipFill>
          <a:blip r:embed="rId2"/>
          <a:stretch/>
        </p:blipFill>
        <p:spPr>
          <a:xfrm>
            <a:off x="1979640" y="2205000"/>
            <a:ext cx="5448240" cy="41720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Картинки фон - Смотреть картинки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ВСЁ О КОМНАТНЫХ ЦВЕТАХ. . Записи в рубрике ВСЁ О КОМНАТНЫХ ЦВЕТАХ. . НЕЗАБУДКА : LiveInternet - Российский Сервис Онлайн-Дневник"/>
          <p:cNvPicPr/>
          <p:nvPr/>
        </p:nvPicPr>
        <p:blipFill>
          <a:blip r:embed="rId2"/>
          <a:stretch/>
        </p:blipFill>
        <p:spPr>
          <a:xfrm>
            <a:off x="1547640" y="1628640"/>
            <a:ext cx="6096240" cy="487692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539640" y="549360"/>
            <a:ext cx="799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степенно сформировались правила содержания растений в закрытых помещения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lus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29T09:25:52Z</dcterms:created>
  <dc:creator>Алёна</dc:creator>
  <dc:description/>
  <dc:language>en-US</dc:language>
  <cp:lastModifiedBy>Алёна</cp:lastModifiedBy>
  <dcterms:modified xsi:type="dcterms:W3CDTF">2015-04-29T12:51:50Z</dcterms:modified>
  <cp:revision>7</cp:revision>
  <dc:subject/>
  <dc:title>Роль комнатных растений в жизни человека</dc:title>
</cp:coreProperties>
</file>