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641-486A-4DFF-BC25-7920701E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351-DF19-4D96-8A18-B8E0932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528-FC33-439A-A36D-6EC6DF9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02E-45EF-477B-9687-DC030A50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2E6-C32A-43EB-A233-E9EFEFE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1EB-5271-4D7B-ACE4-3037CDD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D48-7558-4BBB-8DDB-DC035C62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573-DB3D-4CC9-B605-E3087443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090-3811-46FB-BBB9-71E3AD6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137-769C-4BED-A7A0-ABA1878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A23-9A78-474C-9F92-23B47C2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10B-E69D-49F0-8E21-EA5430A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5CF-4CE2-4461-96BD-415D5B44A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Скачать картинки - Зелень , цветок , фон , растение , природа , макро , поляна , весна , цвета , размытость , краски , апельс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620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ль комнатных растений в жизни 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омнатные растения фотокаталог с названиями"/>
          <p:cNvPicPr/>
          <p:nvPr/>
        </p:nvPicPr>
        <p:blipFill>
          <a:blip r:embed="rId2"/>
          <a:stretch/>
        </p:blipFill>
        <p:spPr>
          <a:xfrm>
            <a:off x="1042920" y="1409760"/>
            <a:ext cx="727416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Цветы - Фоны для оформления (87 фото) &quot; Картины, художники, фотографы на Nevse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70836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64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натные растения способствуют единению человека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Вегето-сосудистая дистония"/>
          <p:cNvPicPr/>
          <p:nvPr/>
        </p:nvPicPr>
        <p:blipFill>
          <a:blip r:embed="rId2"/>
          <a:stretch/>
        </p:blipFill>
        <p:spPr>
          <a:xfrm>
            <a:off x="4932360" y="2421000"/>
            <a:ext cx="4211640" cy="4292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30 советов, чтобы девушка улыбнулась"/>
          <p:cNvPicPr/>
          <p:nvPr/>
        </p:nvPicPr>
        <p:blipFill>
          <a:blip r:embed="rId3"/>
          <a:stretch/>
        </p:blipFill>
        <p:spPr>
          <a:xfrm>
            <a:off x="0" y="1484280"/>
            <a:ext cx="4788000" cy="407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333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отой форм, окраской, благоуханием они благотворно влияют на человеческий организм, улучшают настроение, снимают нервное напр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оны нежные. Обсуждение на LiveInternet - Российский Сервис 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Декоративные комнатные растения фото"/>
          <p:cNvPicPr/>
          <p:nvPr/>
        </p:nvPicPr>
        <p:blipFill>
          <a:blip r:embed="rId2"/>
          <a:stretch/>
        </p:blipFill>
        <p:spPr>
          <a:xfrm>
            <a:off x="324000" y="2997360"/>
            <a:ext cx="4162320" cy="33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О пользе комнатных растений"/>
          <p:cNvPicPr/>
          <p:nvPr/>
        </p:nvPicPr>
        <p:blipFill>
          <a:blip r:embed="rId3"/>
          <a:stretch/>
        </p:blipFill>
        <p:spPr>
          <a:xfrm>
            <a:off x="5076720" y="2997360"/>
            <a:ext cx="3638520" cy="344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404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я-санитары жилых помещений. Они поглощают пыль, очищают воздух, способствуют его увлажнению, уничтожают вредоносные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77336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яли: Ханенко Алёна, Кулагина Виктория. Ученицы 7 класса «В»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обои на рабочий стол - 8 марта - белые нежные цветы на белом фон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9228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ь человека связана с природой, а значит, и с жизнью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Светодиоды - подсветка для растений, рассады и теплиц"/>
          <p:cNvPicPr/>
          <p:nvPr/>
        </p:nvPicPr>
        <p:blipFill>
          <a:blip r:embed="rId2"/>
          <a:stretch/>
        </p:blipFill>
        <p:spPr>
          <a:xfrm>
            <a:off x="1692360" y="177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Обои на рабочий стол Стиль:Весна, Росток, Растение, Зелень, Блики, Рисунок, Цветы - скачать бесплатно. . Обои-на-стол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696000" cy="547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давна люди украшали цветами и растениями себя и свои ж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фон &quot; Страница 215 &quot; Rylik.ru - сайт графики и дизайна. . Скачать клипарт, футажи, журналы, программы, скрап-наборы, уроки, в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Дом в цветах - Я Покупаю"/>
          <p:cNvPicPr/>
          <p:nvPr/>
        </p:nvPicPr>
        <p:blipFill>
          <a:blip r:embed="rId2"/>
          <a:stretch/>
        </p:blipFill>
        <p:spPr>
          <a:xfrm>
            <a:off x="755640" y="620640"/>
            <a:ext cx="79930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Скачать обои Белый, фон, цветы, рисунок - картинка #1508 c разрешением 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Создателям Олимпийских букетов необходимо вручить золотую медаль"/>
          <p:cNvPicPr/>
          <p:nvPr/>
        </p:nvPicPr>
        <p:blipFill>
          <a:blip r:embed="rId2"/>
          <a:stretch/>
        </p:blipFill>
        <p:spPr>
          <a:xfrm>
            <a:off x="0" y="2421000"/>
            <a:ext cx="536580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0"/>
            <a:ext cx="51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жали благодарность за мужество и храбрость(дарили букеты),награждали  за заслуги перед отечеством (надевали венки из лавра) и т.д. Так, в Бирме, Индии и некоторых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Пряности и приправы. . Полезные растения. . Корица.ru"/>
          <p:cNvPicPr/>
          <p:nvPr/>
        </p:nvPicPr>
        <p:blipFill>
          <a:blip r:embed="rId3"/>
          <a:stretch/>
        </p:blipFill>
        <p:spPr>
          <a:xfrm>
            <a:off x="5477040" y="1484280"/>
            <a:ext cx="366696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epten bedava фон resimleri indir ve ya payla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Raks.com.ua * Просмотр темы - Гавайская культура * Танец живота, индийский танец, трайбл, восточный танец"/>
          <p:cNvPicPr/>
          <p:nvPr/>
        </p:nvPicPr>
        <p:blipFill>
          <a:blip r:embed="rId2"/>
          <a:stretch/>
        </p:blipFill>
        <p:spPr>
          <a:xfrm>
            <a:off x="3851280" y="1125360"/>
            <a:ext cx="403236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189000"/>
            <a:ext cx="61927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но на почетных г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вали гирлянды из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и цветы фоны скачать фотошо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❶ КАК вырастить лимонное дерево :: Квартира и дача :: Популярное :: KakProsto.ru: как просто сделать всё"/>
          <p:cNvPicPr/>
          <p:nvPr/>
        </p:nvPicPr>
        <p:blipFill>
          <a:blip r:embed="rId2"/>
          <a:stretch/>
        </p:blipFill>
        <p:spPr>
          <a:xfrm>
            <a:off x="5219640" y="1773360"/>
            <a:ext cx="3284640" cy="468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Ноябрь &quot; 2011 &quot; Модно не модно - Будь всегда в курсе того что сейчас модно! . - Page 91"/>
          <p:cNvPicPr/>
          <p:nvPr/>
        </p:nvPicPr>
        <p:blipFill>
          <a:blip r:embed="rId3"/>
          <a:stretch/>
        </p:blipFill>
        <p:spPr>
          <a:xfrm>
            <a:off x="900000" y="1700280"/>
            <a:ext cx="3743280" cy="46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90560" y="333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ими из первых заморских диковинок были апельсиновые и лимонные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Цветы wallpaper 28721 загрузил Hitman - iKartinka the best 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189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 многих поколений садоводов позволил отобрать из тепличных коллекций виды растений, наиболее устойчивы к микроклимату жилища. Их использовали для оформления парадных помещений и размещали на жардиньерках или подставках( Жардиньерка - специальный цветочный столик, снабженный жестяным или цинковым ящиком со сточной тру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Итальянские рабочие столики, жардиньерки Gioie фабрики Tosato - рабочие столики и жардиньерки Gioie."/>
          <p:cNvPicPr/>
          <p:nvPr/>
        </p:nvPicPr>
        <p:blipFill>
          <a:blip r:embed="rId2"/>
          <a:stretch/>
        </p:blipFill>
        <p:spPr>
          <a:xfrm>
            <a:off x="1979640" y="2205000"/>
            <a:ext cx="5448240" cy="417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и фон - Смотреть карт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ВСЁ О КОМНАТНЫХ ЦВЕТАХ. . Записи в рубрике ВСЁ О КОМНАТНЫХ ЦВЕТАХ. . НЕЗАБУДКА : LiveInternet - Российский Сервис Онлайн-Дневник"/>
          <p:cNvPicPr/>
          <p:nvPr/>
        </p:nvPicPr>
        <p:blipFill>
          <a:blip r:embed="rId2"/>
          <a:stretch/>
        </p:blipFill>
        <p:spPr>
          <a:xfrm>
            <a:off x="1547640" y="1628640"/>
            <a:ext cx="609624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49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но сформировались правила содержания растений в закрытых поме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09:25:52Z</dcterms:created>
  <dc:creator>Алёна</dc:creator>
  <dc:description/>
  <dc:language>en-US</dc:language>
  <cp:lastModifiedBy>Алёна</cp:lastModifiedBy>
  <dcterms:modified xsi:type="dcterms:W3CDTF">2015-04-29T12:51:50Z</dcterms:modified>
  <cp:revision>7</cp:revision>
  <dc:subject/>
  <dc:title>Роль комнатных растений в жизни человека</dc:title>
</cp:coreProperties>
</file>