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6.jpeg" ContentType="image/jpeg"/>
  <Override PartName="/ppt/media/image18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C0B02-6483-4BC3-8E7B-7CB2E4822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04359-B7BF-45FB-8C62-88D217813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1CFCA-B0D8-4B53-9E3D-5647C626E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A9AFD-2BDD-47A8-A4DF-926B7DCAD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B25EC-979E-46D3-A707-2F14F4B43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A6623-CC5D-45C1-93F3-E9318655F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B9940-8B06-4BA0-ABFA-A7F9461F9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881C3-7534-4024-8208-251427D7B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70E2A-982A-4205-B339-84D9F8DF1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DF167-616D-4704-AB41-669C65DD7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6F6D6-1C95-4307-993F-8A3736198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AB1CE-E7CA-4D88-ACF6-A4FF418F1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38F34-B95B-47B4-B8EC-77E41EF5E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F64C0-F9BF-4B1B-B693-55BF1708E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C821A-2C67-4C6C-8B09-D08479C46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788D3-086C-4CF7-AEBD-0C50F3308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653F4-DEA9-4366-BEE0-F59CA4D0C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20C6B-2BDB-42CE-AA48-83737458E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CDC91-0CF2-4CCE-A4EF-3510EC662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62851-3A1B-45C1-973F-6F1577C4A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A8880-113F-44E3-A66C-D5AAD590D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05967-1956-4ED8-BF74-2AD547967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78AB0-68C8-4365-8D71-F8C213196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AB3F4-4268-4E30-A5A6-F9C89758F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90E82-A6B5-4BE3-83F8-BCEF9F3FD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395AE-B9D9-4D4D-9CBE-259E08252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E02BD-073B-42AF-B019-F0153F8D1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7084F-2748-4C01-AEE4-52A89BD42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66326-0AF7-41E2-B9A4-1EC6E8306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82F49-E37D-4948-8014-96D723ADE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48890-8D65-47B5-A034-6FFDD7BC4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B1F5-92EB-4896-A618-547FCDB89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CEA3-575D-4C9C-BC5A-7F90FFB87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278A-5A98-4C06-A5A5-7A8D62D38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D88A-985A-4266-892C-2BBFD6D93E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17D0-4DAB-4938-8C93-3B18EBD6B2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48C0-6312-4507-ABDC-4F1620698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9164-7191-470E-8B21-2EDDF383F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E679-3631-4FE3-B8C4-1F867D20C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746B-DDC2-446F-97B8-BF99B8D7F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03C4-66AD-4716-906A-E5E5CBFF1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A81D-0EAE-4B8D-8248-8A3A4D5BE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54D1-1A05-4479-9119-894CBA984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7B345C-A2E7-4AAB-B80C-AAF6404397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10711" t="0" r="12145" b="0"/>
          <a:stretch/>
        </p:blipFill>
        <p:spPr>
          <a:xfrm>
            <a:off x="0" y="0"/>
            <a:ext cx="10080720" cy="692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5475240" y="34920"/>
            <a:ext cx="4533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узыкаль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ллюстрац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еоргия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виридова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 пове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. С. Пушки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"Метель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184720" y="176364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311640" y="6659640"/>
            <a:ext cx="676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2200"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Автор: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езева Наталья Никол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Учитель музыки МАОУ Упоровская СО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8630" t="6089" r="3457" b="6774"/>
          <a:stretch/>
        </p:blipFill>
        <p:spPr>
          <a:xfrm>
            <a:off x="5616720" y="0"/>
            <a:ext cx="4464000" cy="315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6335" r="0" b="16465"/>
          <a:stretch/>
        </p:blipFill>
        <p:spPr>
          <a:xfrm>
            <a:off x="5661000" y="3132000"/>
            <a:ext cx="441972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"/>
          <p:cNvSpPr/>
          <p:nvPr/>
        </p:nvSpPr>
        <p:spPr>
          <a:xfrm>
            <a:off x="0" y="0"/>
            <a:ext cx="44658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енч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0" y="1152360"/>
            <a:ext cx="5545080" cy="65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понятная, непростительная ветренность... я стал подле нее перед налоем; священник торопился; трое мужчин и горничная поддерживали невесту и заняты были только ею. Нас обвенча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Поцелуйтесь", - сказали нам. Жена моя обратила ко мне бледное свое лицо. Я хотел было ее поцеловать... Она вскрикнула: "Ай, не он! не он!"  - и упала без памяти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291360" y="6840360"/>
            <a:ext cx="549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07 - Г. Свиридов - Метель - Венчание.mp3" descr=""/>
          <p:cNvPicPr/>
          <p:nvPr/>
        </p:nvPicPr>
        <p:blipFill>
          <a:blip r:embed="rId4"/>
          <a:stretch/>
        </p:blipFill>
        <p:spPr>
          <a:xfrm>
            <a:off x="639756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324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0"/>
            <a:ext cx="907092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есна и ос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0328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15160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0328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0" y="2658960"/>
            <a:ext cx="5111640" cy="4900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5040360" y="2700360"/>
            <a:ext cx="5040360" cy="483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8999640" y="665964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03 - Г. Свиридов - Метель - Весна. Осень.mp3" descr=""/>
          <p:cNvPicPr/>
          <p:nvPr/>
        </p:nvPicPr>
        <p:blipFill>
          <a:blip r:embed="rId4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5"/>
          <a:srcRect l="5613" t="13806" r="0" b="0"/>
          <a:stretch/>
        </p:blipFill>
        <p:spPr>
          <a:xfrm>
            <a:off x="0" y="922320"/>
            <a:ext cx="518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2" descr=""/>
          <p:cNvPicPr/>
          <p:nvPr/>
        </p:nvPicPr>
        <p:blipFill>
          <a:blip r:embed="rId6"/>
          <a:srcRect l="1763" t="0" r="13782" b="0"/>
          <a:stretch/>
        </p:blipFill>
        <p:spPr>
          <a:xfrm>
            <a:off x="5040360" y="887400"/>
            <a:ext cx="504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752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2"/>
          <a:srcRect l="0" t="0" r="8224" b="0"/>
          <a:stretch/>
        </p:blipFill>
        <p:spPr>
          <a:xfrm>
            <a:off x="4464000" y="0"/>
            <a:ext cx="5616720" cy="4008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rcRect l="0" t="20096" r="0" b="0"/>
          <a:stretch/>
        </p:blipFill>
        <p:spPr>
          <a:xfrm>
            <a:off x="0" y="0"/>
            <a:ext cx="5394240" cy="6156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"/>
          <p:cNvSpPr/>
          <p:nvPr/>
        </p:nvSpPr>
        <p:spPr>
          <a:xfrm>
            <a:off x="0" y="0"/>
            <a:ext cx="4176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Пастора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0" y="971640"/>
            <a:ext cx="5400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переводе с латинского означает "пастушечий"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Это музыкальное произведение, рисующее сцены безмятежной сельской жизни, картины природы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4"/>
          <a:stretch/>
        </p:blipFill>
        <p:spPr>
          <a:xfrm>
            <a:off x="0" y="5176800"/>
            <a:ext cx="5400720" cy="238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5400720" y="4027320"/>
            <a:ext cx="4680000" cy="3532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9058320" y="6721560"/>
            <a:ext cx="54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05 - Г. Свиридов - Метель - Пастораль.mp3" descr=""/>
          <p:cNvPicPr/>
          <p:nvPr/>
        </p:nvPicPr>
        <p:blipFill>
          <a:blip r:embed="rId6"/>
          <a:stretch/>
        </p:blipFill>
        <p:spPr>
          <a:xfrm>
            <a:off x="932652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423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0" y="573120"/>
            <a:ext cx="3527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оенн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ар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384720" y="216000"/>
            <a:ext cx="66960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жду тем война со славою была конч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ки наши возвращались из-за грани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род бежал им навстречу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мя незабвенное! Время славы и восторг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0" y="2521080"/>
            <a:ext cx="10080720" cy="5038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8999640" y="665640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06 - Г. Свиридов - Метель - Военный марш.mp3" descr=""/>
          <p:cNvPicPr/>
          <p:nvPr/>
        </p:nvPicPr>
        <p:blipFill>
          <a:blip r:embed="rId3"/>
          <a:stretch/>
        </p:blipFill>
        <p:spPr>
          <a:xfrm>
            <a:off x="918360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450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7540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"/>
          <p:cNvSpPr/>
          <p:nvPr/>
        </p:nvSpPr>
        <p:spPr>
          <a:xfrm>
            <a:off x="6335640" y="301680"/>
            <a:ext cx="36734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оман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680000" y="2700360"/>
            <a:ext cx="5040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льминацией пушкинской повести является момент объяснения в любв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 кульминацией музыкальных иллюст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"Романс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9171000" y="6480000"/>
            <a:ext cx="549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04 - Г. Свиридов - Метель - Романс.mp3" descr=""/>
          <p:cNvPicPr/>
          <p:nvPr/>
        </p:nvPicPr>
        <p:blipFill>
          <a:blip r:embed="rId3"/>
          <a:stretch/>
        </p:blipFill>
        <p:spPr>
          <a:xfrm>
            <a:off x="9398160" y="66373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3428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0441080" cy="7594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863640" y="466560"/>
            <a:ext cx="4489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тзвуки валь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0" y="-757080"/>
            <a:ext cx="10080720" cy="8638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977080" y="900000"/>
            <a:ext cx="37796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имняя дорог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545080" y="0"/>
            <a:ext cx="453564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Так что же объединяет А. С. Пушкина и Г.В. Свиридов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...Любовь к Родине, русскому народу, его культуре, традициям, простым человеческим чувствам. Всё это выражено глубоко, по-русски задушевно как у великого поэта А.С.Пушкина, так и в музыке Свирид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6624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0" y="-419040"/>
            <a:ext cx="10080720" cy="79786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289080" y="689040"/>
            <a:ext cx="907092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шая музыку Свиридова так и видишь бесконечные заснеженные просторы России, занесенную дорогу, и по ней мчится вдаль русская трой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и преодолевают снежную пелену, ямщик напряженно вглядывается вдаль, а путник, укутанный в теплую шубу, мирно дремлет под однозвучную песню русского колокольчика. Метель! Как бы беде не случиться, не сбиться с дор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7280280" cy="755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128000" y="755640"/>
            <a:ext cx="2716200" cy="295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6827760" y="3995640"/>
            <a:ext cx="32529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0" y="250920"/>
            <a:ext cx="60483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Части сю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1476360"/>
            <a:ext cx="547200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ойк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"Вальс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"Весна и осень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"Романс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"Пастораль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"Военный марш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"Венчани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"Отзвуки вальс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"Зимняя дорог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96000" y="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96000" y="3386160"/>
            <a:ext cx="5184720" cy="41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0" y="12600"/>
            <a:ext cx="10728360" cy="75470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"/>
          <p:cNvSpPr/>
          <p:nvPr/>
        </p:nvSpPr>
        <p:spPr>
          <a:xfrm>
            <a:off x="5256360" y="184320"/>
            <a:ext cx="4357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Трой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5688000" y="1590840"/>
            <a:ext cx="49687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и мчатся по бугр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пчут снег глубокий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т, в сторонке божий хр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иден одинокий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друг метелица круг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нег валит кло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рный вран, свистя крыл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ьется над сан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щий стон гласит печал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и тороп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утко смотрят в темну дал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здымая гривы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уко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9180360" y="6480000"/>
            <a:ext cx="5493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01 - Г. Свиридов - Метель - Тройка.mp3" descr=""/>
          <p:cNvPicPr/>
          <p:nvPr/>
        </p:nvPicPr>
        <p:blipFill>
          <a:blip r:embed="rId3"/>
          <a:stretch/>
        </p:blipFill>
        <p:spPr>
          <a:xfrm>
            <a:off x="9255240" y="6566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99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8421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0" y="5364000"/>
            <a:ext cx="80643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вая мелодия – легкая, игривая, полет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торая – яркая, празднич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етья – энергичная, торжествен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7346880" y="0"/>
            <a:ext cx="27338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аль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10080720" cy="8018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9171000" y="6675480"/>
            <a:ext cx="549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326520" y="6851520"/>
            <a:ext cx="30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02 - Г. Свиридов - Метель - Вальс.mp3" descr=""/>
          <p:cNvPicPr/>
          <p:nvPr/>
        </p:nvPicPr>
        <p:blipFill>
          <a:blip r:embed="rId3"/>
          <a:stretch/>
        </p:blipFill>
        <p:spPr>
          <a:xfrm>
            <a:off x="9398160" y="6923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582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9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36360"/>
            <a:ext cx="10080720" cy="78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0" y="0"/>
            <a:ext cx="44658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енч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1224000"/>
            <a:ext cx="511164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вошел в церковь, слабо освещенную двумя или тремя свечами. Девушка сидела на лавочке в темном углу церкви; другая терла ей виски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рый священник подошел ко мне с вопросом: "Прикажете начинать?" - "Начинайте, начинайте, батюшка", - отвечал я рассеянно. Девушку подняли. Она показалась мне недурна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291360" y="6840360"/>
            <a:ext cx="549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07 - Г. Свиридов - Метель - Венчание.mp3" descr=""/>
          <p:cNvPicPr/>
          <p:nvPr/>
        </p:nvPicPr>
        <p:blipFill>
          <a:blip r:embed="rId2"/>
          <a:stretch/>
        </p:blipFill>
        <p:spPr>
          <a:xfrm>
            <a:off x="6397560" y="6780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035760" y="0"/>
            <a:ext cx="404496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324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3Z</dcterms:created>
  <dc:creator/>
  <dc:description/>
  <dc:language>en-US</dc:language>
  <cp:lastModifiedBy>Пользователь</cp:lastModifiedBy>
  <dcterms:modified xsi:type="dcterms:W3CDTF">2014-02-17T17:53:25Z</dcterms:modified>
  <cp:revision>16</cp:revision>
  <dc:subject/>
  <dc:title>Музыкальные иллюстрации Г.В.Свиридова  к повести А. С. Пушкина "Метель"</dc:title>
</cp:coreProperties>
</file>