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6.jpeg" ContentType="image/jpeg"/>
  <Override PartName="/ppt/media/image18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58AE3-9ABA-4614-BEB5-687F93F7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72545-FC6C-4A96-993F-16B046413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6FB7A-2F8D-494C-A395-75DC13BE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503EB-BCCD-4265-8F99-7EF2315E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A08D-27D6-4F6B-B2A0-21355430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B4AA1-85D6-409C-A57F-7D3968AA0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8CDE7-2DAE-4C0F-A246-DEF1B2FBF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B3FE2-DADB-4793-B784-81A2459F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EA75-1CA8-4796-A1F1-E63FF024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72E02-DAFA-443A-8C48-5E15C664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BD4FD-3D33-4E3E-AC0F-F38159F1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70225-5E43-458C-865B-A1876368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4E0E5-DC95-4381-8B45-22F3EC99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C208A-CD22-43CD-99B8-68D03A73D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1419-884E-4CC8-8E12-EF39FCD83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590EC-BDF6-4B1B-8D68-1D8A7C782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97F65-C656-46A1-B41D-5CDE2F81C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3125B-909C-436A-BBD1-E629EDAFA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0A92B-3063-40B6-80DC-06542B3F6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C4195-586A-406D-91EE-D18D974B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DDE79-5995-4C19-9B6C-71E0EEAE2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6D828-5F1C-4FF6-8F02-77376C5BD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E9A05-8B26-42AB-A5A5-1496B786D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C8DF7-3AA7-4E32-B32D-CEBE721CC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45A8-6A99-44FD-A051-6214AED8A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DE692-AAAE-40C8-9681-2F996D2A4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5CBE0-A50D-467B-BC1A-B3C56FFF2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9B08-3688-438D-872A-B5BEC5402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47BF5-0CE2-4DDA-BA5B-4A28BA563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EC110-8A60-48CE-895D-92034F607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EE1F4-EE60-452C-9A73-1FD048FC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12BC-505B-4D37-AD96-C667EDD4D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5774-AB5C-4C6E-B634-248EE0D60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72F6-E873-4890-BDE1-813E963BA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A06A-546F-458F-B45E-9C9021C15F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F34D-D14F-49DF-A78C-02DBC131D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E347-365C-4C58-8908-98253DF98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958F-593D-4A74-ADB9-BF268A1A6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A8CF-77D1-40BD-AE81-150626F42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0F41-6716-4C48-91DD-DCB358E71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B332-C860-4C05-9DF2-B0A55A592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975B-E997-4C8A-AB7F-7A7695488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A9CB-B9ED-41DC-9A8B-92483A87C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CCD98D-715C-4A07-8C64-03CFEF9D64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0711" t="0" r="12145" b="0"/>
          <a:stretch/>
        </p:blipFill>
        <p:spPr>
          <a:xfrm>
            <a:off x="0" y="0"/>
            <a:ext cx="10080720" cy="692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475240" y="34920"/>
            <a:ext cx="45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узыкаль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ллюстр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оргия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виридова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 пове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. С. Пушки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"Метель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84720" y="176364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311640" y="6659640"/>
            <a:ext cx="676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втор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езева Наталья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читель музыки МАОУ Упоров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8630" t="6089" r="3457" b="6774"/>
          <a:stretch/>
        </p:blipFill>
        <p:spPr>
          <a:xfrm>
            <a:off x="5616720" y="0"/>
            <a:ext cx="4464000" cy="31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6335" r="0" b="16465"/>
          <a:stretch/>
        </p:blipFill>
        <p:spPr>
          <a:xfrm>
            <a:off x="5661000" y="3132000"/>
            <a:ext cx="441972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1152360"/>
            <a:ext cx="5545080" cy="65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07 - Г. Свиридов - Метель - Венчание.mp3" descr=""/>
          <p:cNvPicPr/>
          <p:nvPr/>
        </p:nvPicPr>
        <p:blipFill>
          <a:blip r:embed="rId4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324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0"/>
            <a:ext cx="90709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0" y="2658960"/>
            <a:ext cx="5111640" cy="490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040360" y="2700360"/>
            <a:ext cx="5040360" cy="483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03 - Г. Свиридов - Метель - Весна. Осень.mp3" descr=""/>
          <p:cNvPicPr/>
          <p:nvPr/>
        </p:nvPicPr>
        <p:blipFill>
          <a:blip r:embed="rId4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5"/>
          <a:srcRect l="5613" t="13806" r="0" b="0"/>
          <a:stretch/>
        </p:blipFill>
        <p:spPr>
          <a:xfrm>
            <a:off x="0" y="922320"/>
            <a:ext cx="518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"/>
          <p:cNvPicPr/>
          <p:nvPr/>
        </p:nvPicPr>
        <p:blipFill>
          <a:blip r:embed="rId6"/>
          <a:srcRect l="1763" t="0" r="13782" b="0"/>
          <a:stretch/>
        </p:blipFill>
        <p:spPr>
          <a:xfrm>
            <a:off x="5040360" y="88740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52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2"/>
          <a:srcRect l="0" t="0" r="8224" b="0"/>
          <a:stretch/>
        </p:blipFill>
        <p:spPr>
          <a:xfrm>
            <a:off x="4464000" y="0"/>
            <a:ext cx="5616720" cy="400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rcRect l="0" t="20096" r="0" b="0"/>
          <a:stretch/>
        </p:blipFill>
        <p:spPr>
          <a:xfrm>
            <a:off x="0" y="0"/>
            <a:ext cx="5394240" cy="6156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"/>
          <p:cNvSpPr/>
          <p:nvPr/>
        </p:nvSpPr>
        <p:spPr>
          <a:xfrm>
            <a:off x="0" y="0"/>
            <a:ext cx="417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971640"/>
            <a:ext cx="540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ереводе с латинского означает "пастушечий"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Это музыкальное произведение, рисующее сцены безмятежной сельской жизни, картины природы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0" y="517680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5400720" y="4027320"/>
            <a:ext cx="4680000" cy="3532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42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0" y="573120"/>
            <a:ext cx="3527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е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384720" y="216000"/>
            <a:ext cx="66960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2521080"/>
            <a:ext cx="1008072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6 - Г. Свиридов - Метель - Военный марш.mp3" descr=""/>
          <p:cNvPicPr/>
          <p:nvPr/>
        </p:nvPicPr>
        <p:blipFill>
          <a:blip r:embed="rId3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50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7540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"/>
          <p:cNvSpPr/>
          <p:nvPr/>
        </p:nvSpPr>
        <p:spPr>
          <a:xfrm>
            <a:off x="6335640" y="301680"/>
            <a:ext cx="3673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04 - Г. Свиридов - Метель - Романс.mp3" descr=""/>
          <p:cNvPicPr/>
          <p:nvPr/>
        </p:nvPicPr>
        <p:blipFill>
          <a:blip r:embed="rId3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428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441080" cy="759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863640" y="466560"/>
            <a:ext cx="4489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тзвуки валь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0" y="-757080"/>
            <a:ext cx="10080720" cy="8638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77080" y="900000"/>
            <a:ext cx="3779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имняя доро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545080" y="0"/>
            <a:ext cx="453564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662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0" y="-419040"/>
            <a:ext cx="10080720" cy="7978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280280" cy="755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128000" y="75564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27760" y="3995640"/>
            <a:ext cx="32529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0" y="250920"/>
            <a:ext cx="6048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Части сю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1476360"/>
            <a:ext cx="54720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ой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"Валь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"Весна и осен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"Роман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"Пасторал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"Военный марш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"Венч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"Отзвуки вальс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"Зимняя дорог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96000" y="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96000" y="3386160"/>
            <a:ext cx="518472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2600"/>
            <a:ext cx="10728360" cy="7547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"/>
          <p:cNvSpPr/>
          <p:nvPr/>
        </p:nvSpPr>
        <p:spPr>
          <a:xfrm>
            <a:off x="5256360" y="184320"/>
            <a:ext cx="435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688000" y="1590840"/>
            <a:ext cx="4968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мчатся по буг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чут снег глуб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, в сторонке божий х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ден один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друг метелица круг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ег валит кло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ый вран, свистя крыл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ьется над сан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щий стон гласит печа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тороп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тко смотрят в темну дал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дымая гривы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01 - Г. Свиридов - Метель - Тройка.mp3" descr=""/>
          <p:cNvPicPr/>
          <p:nvPr/>
        </p:nvPicPr>
        <p:blipFill>
          <a:blip r:embed="rId3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8421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0" y="5364000"/>
            <a:ext cx="80643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7346880" y="0"/>
            <a:ext cx="27338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10080720" cy="801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02 - Г. Свиридов - Метель - Вальс.mp3" descr=""/>
          <p:cNvPicPr/>
          <p:nvPr/>
        </p:nvPicPr>
        <p:blipFill>
          <a:blip r:embed="rId3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9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10080720" cy="78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1224000"/>
            <a:ext cx="511164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035760" y="0"/>
            <a:ext cx="40449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Пользователь</cp:lastModifiedBy>
  <dcterms:modified xsi:type="dcterms:W3CDTF">2014-02-17T17:53:25Z</dcterms:modified>
  <cp:revision>16</cp:revision>
  <dc:subject/>
  <dc:title>Музыкальные иллюстрации Г.В.Свиридова  к повести А. С. Пушкина "Метель"</dc:title>
</cp:coreProperties>
</file>