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6.jpeg" ContentType="image/jpeg"/>
  <Override PartName="/ppt/media/image18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49F19-1D02-4AA1-A0C5-F88EEB647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D285A-81B7-48CA-97EB-8872AE40B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B0B64-3373-43C2-B80B-074A5947B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A31AE-E27B-4841-9FD1-619E2E1DE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0A9A4-761C-4350-B483-EEA6E5BF0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ED83C-E750-48D3-BEFB-C483CAC2B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6522B-0E91-4FCD-ACFE-1A5FB81DF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73A95-7B92-4B39-B46D-22B9AD29A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97718-DCA6-478A-B441-EB4E37821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FF525-6585-4F7C-923F-7E83DE763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3B976-C182-403E-9309-73E1660E0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55262-F6A5-4161-9132-1C9C1BF1C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D336E-D396-4E85-8DAF-B38B386DC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59F41-DF8F-4A29-8115-6EA187D66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DEE47-A4B7-4E62-9CC5-D2AF85C8E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178EF-E061-4659-B789-D11A3EBC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5D42E-904F-4C2F-8595-A1843DA97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31492-7498-4686-8D92-497F701FD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0FFCA-B7C4-4282-88AD-1BCAAF405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D7798-1D75-442B-A3FF-37956DA33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35CD7-04BD-44A6-AE55-4F773D5CF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9A55E-240D-4A08-9550-B3ABA13D3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64AF5-85A9-477D-B97B-0A493D2DC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060DE-CF77-460F-9E46-579944895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40E2F-1171-4626-B923-2333DFF8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355B5-AB8E-4CFF-A94C-3CDF2C75E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4DA1B-E75D-47AF-80E3-86B4CE67A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0409B-4A64-4C25-9EFD-1BB77F5CE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A1BA4-A415-4F76-AB30-A05AD92E2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08A03-4E71-4C5F-9235-E26034002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F2E95-E5D5-4D3B-8FCE-CCDF741A3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ECE0-1C4E-4E42-968F-0DF18865A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FC8C-C9B3-4557-9CE3-E2C9DE036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205F-EA54-4AB3-A0E1-C25487C9A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EF0D-3D2A-439F-B616-3AC9D0D98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6FB6-ADC9-4445-893B-DDA364AC1B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78BF-9FA3-4DE8-879B-5B1AFF14A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56D2-575E-4349-8D2B-751464FFB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0123-ED87-46DE-89AF-A4B5F2F93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4997-953F-464F-8FCD-921E6EAB1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194A-CB60-447E-8560-214C91B88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1596-B466-4A2E-8065-B89468674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3F8F-80FF-4467-B8A5-B928978E5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459522-4769-4D07-9BF6-3873B40C79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0711" t="0" r="12145" b="0"/>
          <a:stretch/>
        </p:blipFill>
        <p:spPr>
          <a:xfrm>
            <a:off x="0" y="0"/>
            <a:ext cx="10080720" cy="6921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5475240" y="34920"/>
            <a:ext cx="453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узыкаль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ллюстр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еоргия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виридова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 пове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. С. Пушки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"Метель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184720" y="176364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311640" y="6659640"/>
            <a:ext cx="6769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Автор: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езева Наталья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Учитель музыки МАОУ Упоровская С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8630" t="6089" r="3457" b="6774"/>
          <a:stretch/>
        </p:blipFill>
        <p:spPr>
          <a:xfrm>
            <a:off x="5616720" y="0"/>
            <a:ext cx="4464000" cy="3151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6335" r="0" b="16465"/>
          <a:stretch/>
        </p:blipFill>
        <p:spPr>
          <a:xfrm>
            <a:off x="5661000" y="3132000"/>
            <a:ext cx="441972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"/>
          <p:cNvSpPr/>
          <p:nvPr/>
        </p:nvSpPr>
        <p:spPr>
          <a:xfrm>
            <a:off x="0" y="0"/>
            <a:ext cx="4465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1152360"/>
            <a:ext cx="5545080" cy="65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онятная, непростительная ветренность... я стал подле нее перед налоем; священник торопился; трое мужчин и горничная поддерживали невесту и заняты были только ею. Нас обвенча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Поцелуйтесь", - сказали нам. Жена моя обратила ко мне бледное свое лицо. Я хотел было ее поцеловать... Она вскрикнула: "Ай, не он! не он!"  - и упала без памят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07 - Г. Свиридов - Метель - Венчание.mp3" descr=""/>
          <p:cNvPicPr/>
          <p:nvPr/>
        </p:nvPicPr>
        <p:blipFill>
          <a:blip r:embed="rId4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324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0"/>
            <a:ext cx="90709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сна и ос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0328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15160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03280" y="4375080"/>
            <a:ext cx="44258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0" y="2658960"/>
            <a:ext cx="5111640" cy="4900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5040360" y="2700360"/>
            <a:ext cx="5040360" cy="483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8999640" y="665964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03 - Г. Свиридов - Метель - Весна. Осень.mp3" descr=""/>
          <p:cNvPicPr/>
          <p:nvPr/>
        </p:nvPicPr>
        <p:blipFill>
          <a:blip r:embed="rId4"/>
          <a:stretch/>
        </p:blipFill>
        <p:spPr>
          <a:xfrm>
            <a:off x="9469440" y="692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5"/>
          <a:srcRect l="5613" t="13806" r="0" b="0"/>
          <a:stretch/>
        </p:blipFill>
        <p:spPr>
          <a:xfrm>
            <a:off x="0" y="922320"/>
            <a:ext cx="518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2" descr=""/>
          <p:cNvPicPr/>
          <p:nvPr/>
        </p:nvPicPr>
        <p:blipFill>
          <a:blip r:embed="rId6"/>
          <a:srcRect l="1763" t="0" r="13782" b="0"/>
          <a:stretch/>
        </p:blipFill>
        <p:spPr>
          <a:xfrm>
            <a:off x="5040360" y="887400"/>
            <a:ext cx="504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752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2"/>
          <a:srcRect l="0" t="0" r="8224" b="0"/>
          <a:stretch/>
        </p:blipFill>
        <p:spPr>
          <a:xfrm>
            <a:off x="4464000" y="0"/>
            <a:ext cx="5616720" cy="400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rcRect l="0" t="20096" r="0" b="0"/>
          <a:stretch/>
        </p:blipFill>
        <p:spPr>
          <a:xfrm>
            <a:off x="0" y="0"/>
            <a:ext cx="5394240" cy="6156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"/>
          <p:cNvSpPr/>
          <p:nvPr/>
        </p:nvSpPr>
        <p:spPr>
          <a:xfrm>
            <a:off x="0" y="0"/>
            <a:ext cx="4176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Пастора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0" y="971640"/>
            <a:ext cx="5400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переводе с латинского означает "пастушечий"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Это музыкальное произведение, рисующее сцены безмятежной сельской жизни, картины природы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4"/>
          <a:stretch/>
        </p:blipFill>
        <p:spPr>
          <a:xfrm>
            <a:off x="0" y="5176800"/>
            <a:ext cx="5400720" cy="238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5400720" y="4027320"/>
            <a:ext cx="4680000" cy="3532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9058320" y="6721560"/>
            <a:ext cx="549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05 - Г. Свиридов - Метель - Пастораль.mp3" descr=""/>
          <p:cNvPicPr/>
          <p:nvPr/>
        </p:nvPicPr>
        <p:blipFill>
          <a:blip r:embed="rId6"/>
          <a:stretch/>
        </p:blipFill>
        <p:spPr>
          <a:xfrm>
            <a:off x="9326520" y="6923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4238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0" y="573120"/>
            <a:ext cx="3527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оенн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ар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384720" y="216000"/>
            <a:ext cx="66960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жду тем война со славою была конч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ки наши возвращались из-за грани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од бежал им навстречу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ремя незабвенное! Время славы и восторг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0" y="2521080"/>
            <a:ext cx="10080720" cy="5038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8999640" y="6656400"/>
            <a:ext cx="54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06 - Г. Свиридов - Метель - Военный марш.mp3" descr=""/>
          <p:cNvPicPr/>
          <p:nvPr/>
        </p:nvPicPr>
        <p:blipFill>
          <a:blip r:embed="rId3"/>
          <a:stretch/>
        </p:blipFill>
        <p:spPr>
          <a:xfrm>
            <a:off x="9183600" y="6780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450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7540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"/>
          <p:cNvSpPr/>
          <p:nvPr/>
        </p:nvSpPr>
        <p:spPr>
          <a:xfrm>
            <a:off x="6335640" y="301680"/>
            <a:ext cx="36734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оман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680000" y="2700360"/>
            <a:ext cx="5040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льминацией пушкинской повести является момент объяснения в любв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 кульминацией музыкальных иллюст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вляется "Романс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171000" y="6480000"/>
            <a:ext cx="549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04 - Г. Свиридов - Метель - Романс.mp3" descr=""/>
          <p:cNvPicPr/>
          <p:nvPr/>
        </p:nvPicPr>
        <p:blipFill>
          <a:blip r:embed="rId3"/>
          <a:stretch/>
        </p:blipFill>
        <p:spPr>
          <a:xfrm>
            <a:off x="9398160" y="66373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3428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0441080" cy="7594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863640" y="466560"/>
            <a:ext cx="44895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тзвуки валь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0" y="-757080"/>
            <a:ext cx="10080720" cy="86389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77080" y="900000"/>
            <a:ext cx="37796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имняя дорог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5545080" y="0"/>
            <a:ext cx="453564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Так что же объединяет А. С. Пушкина и Г.В. Свиридов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...Любовь к Родине, русскому народу, его культуре, традициям, простым человеческим чувствам. Всё это выражено глубоко, по-русски задушевно как у великого поэта А.С.Пушкина, так и в музыке Свирид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6624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0" y="-419040"/>
            <a:ext cx="10080720" cy="79786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289080" y="689040"/>
            <a:ext cx="907092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шая музыку Свиридова так и видишь бесконечные заснеженные просторы России, занесенную дорогу, и по ней мчится вдаль русская трой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и преодолевают снежную пелену, ямщик напряженно вглядывается вдаль, а путник, укутанный в теплую шубу, мирно дремлет под однозвучную песню русского колокольчика. Метель! Как бы беде не случиться, не сбиться с дор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7280280" cy="755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128000" y="755640"/>
            <a:ext cx="2716200" cy="2955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827760" y="3995640"/>
            <a:ext cx="32529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0" y="250920"/>
            <a:ext cx="60483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Части сю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0" y="1476360"/>
            <a:ext cx="54720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ойк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"Валь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"Весна и осен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"Романс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"Пастораль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"Военный марш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"Венчани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"Отзвуки вальс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"Зимняя дорога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96000" y="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96000" y="3386160"/>
            <a:ext cx="5184720" cy="41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12600"/>
            <a:ext cx="10728360" cy="7547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"/>
          <p:cNvSpPr/>
          <p:nvPr/>
        </p:nvSpPr>
        <p:spPr>
          <a:xfrm>
            <a:off x="5256360" y="184320"/>
            <a:ext cx="435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Тро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5688000" y="1590840"/>
            <a:ext cx="4968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и мчатся по буг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чут снег глубоки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т, в сторонке божий хр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иден одинокий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друг метелица круг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ег валит кло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ный вран, свистя крыл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ьется над сан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щий стон гласит печал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и тороп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утко смотрят в темну дал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здымая гривы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 algn="r">
              <a:lnSpc>
                <a:spcPct val="93000"/>
              </a:lnSpc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к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9180360" y="6480000"/>
            <a:ext cx="5493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01 - Г. Свиридов - Метель - Тройка.mp3" descr=""/>
          <p:cNvPicPr/>
          <p:nvPr/>
        </p:nvPicPr>
        <p:blipFill>
          <a:blip r:embed="rId3"/>
          <a:stretch/>
        </p:blipFill>
        <p:spPr>
          <a:xfrm>
            <a:off x="9255240" y="6566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99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8421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0" y="5364000"/>
            <a:ext cx="80643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вая мелодия – легкая, игривая, полет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торая – яркая, празднич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етья – энергичная, торжеств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7346880" y="0"/>
            <a:ext cx="27338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аль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10080720" cy="8018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9171000" y="6675480"/>
            <a:ext cx="549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326520" y="685152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02 - Г. Свиридов - Метель - Вальс.mp3" descr=""/>
          <p:cNvPicPr/>
          <p:nvPr/>
        </p:nvPicPr>
        <p:blipFill>
          <a:blip r:embed="rId3"/>
          <a:stretch/>
        </p:blipFill>
        <p:spPr>
          <a:xfrm>
            <a:off x="9398160" y="6923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58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9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36360"/>
            <a:ext cx="10080720" cy="78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44658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енч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1224000"/>
            <a:ext cx="511164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вошел в церковь, слабо освещенную двумя или тремя свечами. Девушка сидела на лавочке в темном углу церкви; другая терла ей виски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рый священник подошел ко мне с вопросом: "Прикажете начинать?" - "Начинайте, начинайте, батюшка", - отвечал я рассеянно. Девушку подняли. Она показалась мне недурна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291360" y="6840360"/>
            <a:ext cx="54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07 - Г. Свиридов - Метель - Венчание.mp3" descr=""/>
          <p:cNvPicPr/>
          <p:nvPr/>
        </p:nvPicPr>
        <p:blipFill>
          <a:blip r:embed="rId2"/>
          <a:stretch/>
        </p:blipFill>
        <p:spPr>
          <a:xfrm>
            <a:off x="6397560" y="6780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035760" y="0"/>
            <a:ext cx="4044960" cy="755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324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>Пользователь</cp:lastModifiedBy>
  <dcterms:modified xsi:type="dcterms:W3CDTF">2014-02-17T17:53:25Z</dcterms:modified>
  <cp:revision>16</cp:revision>
  <dc:subject/>
  <dc:title>Музыкальные иллюстрации Г.В.Свиридова  к повести А. С. Пушкина "Метель"</dc:title>
</cp:coreProperties>
</file>