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6368-7D6F-4E56-89C0-638FB6CD5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6B48-2F41-4434-A399-68FC35410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3DB1-CDD6-4325-A50D-3809CD799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FD30-F585-49B0-8BB9-5AE1A5740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4E21-E3D0-4530-BF3D-0679D9AD6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E407-B39A-4ECA-A28F-0F8FD0661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F4A4-EFCD-422E-9A0A-1603A4B60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3AF4-5511-435B-942C-727BB891C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BC2A-40CB-4C44-AD63-753C0C0C3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92FB-41CE-460B-9E12-D8F579BF5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81B0-A430-4655-A95B-1A370F425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5AB1-418B-4090-A7E5-B1233DF1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91E1D-5825-4941-8BE4-95170F0BE5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коричневой фасоли - Китай коричневой фасоли производители и поставщики от ru.Made-in-China.com-страница 2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828800" y="2209680"/>
            <a:ext cx="5791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Ка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ина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и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з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солёного </a:t>
            </a:r>
            <a:r>
              <a:rPr b="1" lang="en-US" sz="3600" spc="-1" strike="noStrike">
                <a:solidFill>
                  <a:srgbClr val="ffc1c1"/>
                </a:solidFill>
                <a:latin typeface="Arial"/>
              </a:rPr>
              <a:t>тест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«ГРОЗДЬ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ВИНОГРАД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 flipV="1">
            <a:off x="990720" y="1205280"/>
            <a:ext cx="769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266652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26668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380520"/>
            <a:ext cx="891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Обои нежно-розовый фон, блики 1680x10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62120" y="533520"/>
            <a:ext cx="77724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У МОЕЙ ПОДРУГИ 30 МАЯ ДЕНЬ РОЖДЕНИЯ, У МЕНЯ ВОЗНИКЛА ПРОБЛЕМА КАКОЙ СДЕЛАТЬ ПОДАРОК, И ИЗ Ч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"/>
          <p:cNvCxnSpPr/>
          <p:nvPr/>
        </p:nvCxnSpPr>
        <p:spPr>
          <a:xfrm>
            <a:off x="2819160" y="2590920"/>
            <a:ext cx="6102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"/>
          <p:cNvCxnSpPr>
            <a:endCxn id="52" idx="3"/>
          </p:cNvCxnSpPr>
          <p:nvPr/>
        </p:nvCxnSpPr>
        <p:spPr>
          <a:xfrm flipH="1">
            <a:off x="5333400" y="2361960"/>
            <a:ext cx="1639080" cy="72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/>
          <p:nvPr/>
        </p:nvCxnSpPr>
        <p:spPr>
          <a:xfrm flipH="1" flipV="1">
            <a:off x="4495680" y="3504960"/>
            <a:ext cx="766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endCxn id="55" idx="1"/>
          </p:cNvCxnSpPr>
          <p:nvPr/>
        </p:nvCxnSpPr>
        <p:spPr>
          <a:xfrm flipV="1">
            <a:off x="2895480" y="3459960"/>
            <a:ext cx="991440" cy="111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/>
          <p:nvPr/>
        </p:nvCxnSpPr>
        <p:spPr>
          <a:xfrm flipH="1" flipV="1">
            <a:off x="5180760" y="3504600"/>
            <a:ext cx="83916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0" y="2255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2441520"/>
            <a:ext cx="1380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2441520"/>
            <a:ext cx="2976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800" y="239544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475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3475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2441520"/>
            <a:ext cx="2973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40845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19320" y="1752480"/>
            <a:ext cx="1752480" cy="8384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5320" y="2743200"/>
            <a:ext cx="18288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943600" y="1676520"/>
            <a:ext cx="2057400" cy="8380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3733920"/>
            <a:ext cx="1981080" cy="990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05320" y="4724280"/>
            <a:ext cx="2209680" cy="9907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5880" y="3505320"/>
            <a:ext cx="1905120" cy="990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23880" y="19810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В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86200" y="3276720"/>
            <a:ext cx="1219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09880" y="28954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одар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58000" y="2438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324480" y="19051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.Карт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19320" y="403848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3.Брас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09880" y="5029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5.Шкатул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00800" y="38098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4.Магн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60958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 решила,что сделаю подарок под № 2,так как моя подруга любит карт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Скачать обои нежно, небо, Облака, розовый, белый, фиолетовый - картинка #10901 c разрешением 480x27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28600" y="533520"/>
            <a:ext cx="2666880" cy="182880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2438280"/>
            <a:ext cx="1981440" cy="167652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781680" y="2209680"/>
            <a:ext cx="1981440" cy="167652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172200" y="4038480"/>
            <a:ext cx="2286000" cy="175284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4191120"/>
            <a:ext cx="2209680" cy="175248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72200" y="0"/>
            <a:ext cx="2514600" cy="182880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05320" y="1905120"/>
            <a:ext cx="2133360" cy="1904760"/>
          </a:xfrm>
          <a:custGeom>
            <a:avLst/>
            <a:gdLst>
              <a:gd name="textAreaLeft" fmla="*/ 487080 w 2133360"/>
              <a:gd name="textAreaRight" fmla="*/ 1646280 w 2133360"/>
              <a:gd name="textAreaTop" fmla="*/ 434880 h 1904760"/>
              <a:gd name="textAreaBottom" fmla="*/ 146988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1" idx="1"/>
            <a:endCxn id="85" idx="0"/>
          </p:cNvCxnSpPr>
          <p:nvPr/>
        </p:nvCxnSpPr>
        <p:spPr>
          <a:xfrm flipH="1" flipV="1">
            <a:off x="5637960" y="2857320"/>
            <a:ext cx="1143720" cy="20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0" idx="3"/>
          </p:cNvCxnSpPr>
          <p:nvPr/>
        </p:nvCxnSpPr>
        <p:spPr>
          <a:xfrm flipV="1">
            <a:off x="2362320" y="3047400"/>
            <a:ext cx="1296000" cy="42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"/>
          <p:cNvCxnSpPr/>
          <p:nvPr/>
        </p:nvCxnSpPr>
        <p:spPr>
          <a:xfrm>
            <a:off x="2666520" y="1676160"/>
            <a:ext cx="1600920" cy="41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"/>
          <p:cNvCxnSpPr>
            <a:stCxn id="83" idx="0"/>
            <a:endCxn id="85" idx="1"/>
          </p:cNvCxnSpPr>
          <p:nvPr/>
        </p:nvCxnSpPr>
        <p:spPr>
          <a:xfrm flipV="1">
            <a:off x="3390480" y="3809160"/>
            <a:ext cx="118188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3962520" y="2286000"/>
            <a:ext cx="121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 чего буду делать подар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14400" y="1219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Из тка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53080" y="6858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Из Вяз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30481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Из гл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010280" y="28195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Из бума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48769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Из бис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29400" y="441972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Из солёного те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89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Далее, стояла задача из чего я буду делать карти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"/>
          <p:cNvCxnSpPr>
            <a:stCxn id="82" idx="1"/>
            <a:endCxn id="85" idx="2"/>
          </p:cNvCxnSpPr>
          <p:nvPr/>
        </p:nvCxnSpPr>
        <p:spPr>
          <a:xfrm flipH="1" flipV="1">
            <a:off x="4571280" y="3809520"/>
            <a:ext cx="1600920" cy="928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84" idx="1"/>
            <a:endCxn id="85" idx="3"/>
          </p:cNvCxnSpPr>
          <p:nvPr/>
        </p:nvCxnSpPr>
        <p:spPr>
          <a:xfrm flipH="1">
            <a:off x="4571280" y="728640"/>
            <a:ext cx="1600920" cy="117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0" y="6324480"/>
            <a:ext cx="8686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5942160"/>
            <a:ext cx="891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Я решил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д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ать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ртину из солёного теста потому, что тесто, это экологически чистый продукт. У него очень долгий срок службы. Поделка остаётся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очень долго 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воначальном ви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Скачать обои цветы, фон, тюльпаны картинка 2560x1600 на рабочий стол бесплатно"/>
          <p:cNvPicPr/>
          <p:nvPr/>
        </p:nvPicPr>
        <p:blipFill>
          <a:blip r:embed="rId1"/>
          <a:stretch/>
        </p:blipFill>
        <p:spPr>
          <a:xfrm>
            <a:off x="0" y="-304920"/>
            <a:ext cx="9144000" cy="7162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Зверье мое. Страна Мастеров"/>
          <p:cNvPicPr/>
          <p:nvPr/>
        </p:nvPicPr>
        <p:blipFill>
          <a:blip r:embed="rId2"/>
          <a:stretch/>
        </p:blipFill>
        <p:spPr>
          <a:xfrm>
            <a:off x="685800" y="228600"/>
            <a:ext cx="2819520" cy="2666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Браслет Страна Мастеров"/>
          <p:cNvPicPr/>
          <p:nvPr/>
        </p:nvPicPr>
        <p:blipFill>
          <a:blip r:embed="rId3"/>
          <a:stretch/>
        </p:blipFill>
        <p:spPr>
          <a:xfrm>
            <a:off x="5257800" y="304920"/>
            <a:ext cx="3048120" cy="26668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-152280" y="-366840"/>
            <a:ext cx="54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СКИЗ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шкатулка из солёного теста everlastpro.ru"/>
          <p:cNvPicPr/>
          <p:nvPr/>
        </p:nvPicPr>
        <p:blipFill>
          <a:blip r:embed="rId4"/>
          <a:stretch/>
        </p:blipFill>
        <p:spPr>
          <a:xfrm>
            <a:off x="5334120" y="3276720"/>
            <a:ext cx="2971800" cy="27432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Виноградные повторюшки Страна Мастеров"/>
          <p:cNvPicPr/>
          <p:nvPr/>
        </p:nvPicPr>
        <p:blipFill>
          <a:blip r:embed="rId5"/>
          <a:stretch/>
        </p:blipFill>
        <p:spPr>
          <a:xfrm>
            <a:off x="533520" y="3276720"/>
            <a:ext cx="2895480" cy="27432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52280" y="6216480"/>
            <a:ext cx="899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 выбрала поделку под №3, потому что моя подруга обожает виноград, и просто, для подарка это лучш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289548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Картина «Гроздь виноград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181480" y="297180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Шкатул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57800" y="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Брасл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-1843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Магнити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обои Рисунки на досках еда. Картинки для рабочего стол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971800" y="380880"/>
            <a:ext cx="2971800" cy="32767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Бакалея, доставка продуктов и еды на дом в Красноярске"/>
          <p:cNvPicPr/>
          <p:nvPr/>
        </p:nvPicPr>
        <p:blipFill>
          <a:blip r:embed="rId3"/>
          <a:stretch/>
        </p:blipFill>
        <p:spPr>
          <a:xfrm>
            <a:off x="0" y="380880"/>
            <a:ext cx="2895480" cy="32767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Фокусы для детского праздника NosKurnos.ru"/>
          <p:cNvPicPr/>
          <p:nvPr/>
        </p:nvPicPr>
        <p:blipFill>
          <a:blip r:embed="rId4"/>
          <a:stretch/>
        </p:blipFill>
        <p:spPr>
          <a:xfrm>
            <a:off x="6019920" y="304920"/>
            <a:ext cx="3124080" cy="3276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РАДУГА ХОББИ - &quot;Радуга Хобби&quot; - Рамка деревянная прямоугольн…"/>
          <p:cNvPicPr/>
          <p:nvPr/>
        </p:nvPicPr>
        <p:blipFill>
          <a:blip r:embed="rId5"/>
          <a:stretch/>
        </p:blipFill>
        <p:spPr>
          <a:xfrm>
            <a:off x="838080" y="3809880"/>
            <a:ext cx="3381480" cy="2886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PA002 Сетка альпс крупная клетка Доставка цветов"/>
          <p:cNvPicPr/>
          <p:nvPr/>
        </p:nvPicPr>
        <p:blipFill>
          <a:blip r:embed="rId6"/>
          <a:stretch/>
        </p:blipFill>
        <p:spPr>
          <a:xfrm>
            <a:off x="5105520" y="3886200"/>
            <a:ext cx="3657600" cy="28195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905120" y="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ля изготовления картины понадоби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Сердца, фон, текстура, светлый обои, фото, картинки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838080" y="380880"/>
            <a:ext cx="1952640" cy="1467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410080" y="304920"/>
            <a:ext cx="1952640" cy="14666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838080" y="2133720"/>
            <a:ext cx="1952640" cy="14666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5486400" y="1981080"/>
            <a:ext cx="1952640" cy="1467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838080" y="3809880"/>
            <a:ext cx="1952640" cy="1467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7"/>
          <a:stretch/>
        </p:blipFill>
        <p:spPr>
          <a:xfrm>
            <a:off x="5486400" y="3657600"/>
            <a:ext cx="1905120" cy="14335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8"/>
          <a:stretch/>
        </p:blipFill>
        <p:spPr>
          <a:xfrm>
            <a:off x="838080" y="5486400"/>
            <a:ext cx="1905120" cy="13716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9"/>
          <a:stretch/>
        </p:blipFill>
        <p:spPr>
          <a:xfrm>
            <a:off x="5562720" y="5334120"/>
            <a:ext cx="1752480" cy="15238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09480" y="1676520"/>
            <a:ext cx="228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атериа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месить тес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18288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шабло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16765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резать по шаблон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35053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катать виноградин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86400" y="33526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скраси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крыть лак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50292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формить в рамочку покрыть ла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Скачать обои Текстура сердечки (1280 x 720 HDTV 720p). Обои на рабочий стол, фотографи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Health Benefits Of Saffron Good for heart health Photos - Pics 243244 - Boldsky Gallery"/>
          <p:cNvPicPr/>
          <p:nvPr/>
        </p:nvPicPr>
        <p:blipFill>
          <a:blip r:embed="rId2"/>
          <a:stretch/>
        </p:blipFill>
        <p:spPr>
          <a:xfrm>
            <a:off x="0" y="0"/>
            <a:ext cx="5334120" cy="4419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Здоровье ребенка и сквозняки"/>
          <p:cNvPicPr/>
          <p:nvPr/>
        </p:nvPicPr>
        <p:blipFill>
          <a:blip r:embed="rId3"/>
          <a:stretch/>
        </p:blipFill>
        <p:spPr>
          <a:xfrm>
            <a:off x="5334120" y="3809880"/>
            <a:ext cx="3809880" cy="30481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В копилку родителю - МДОУ детский сад 92 &quot;Лебедушка&quot;"/>
          <p:cNvPicPr/>
          <p:nvPr/>
        </p:nvPicPr>
        <p:blipFill>
          <a:blip r:embed="rId4"/>
          <a:stretch/>
        </p:blipFill>
        <p:spPr>
          <a:xfrm>
            <a:off x="0" y="3828960"/>
            <a:ext cx="5334120" cy="30290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Статьи о сердце - страница 244"/>
          <p:cNvPicPr/>
          <p:nvPr/>
        </p:nvPicPr>
        <p:blipFill>
          <a:blip r:embed="rId5"/>
          <a:stretch/>
        </p:blipFill>
        <p:spPr>
          <a:xfrm>
            <a:off x="5334120" y="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Happy Birthday Wallpaper Wallpaper Desktop"/>
          <p:cNvPicPr/>
          <p:nvPr/>
        </p:nvPicPr>
        <p:blipFill>
          <a:blip r:embed="rId1"/>
          <a:stretch/>
        </p:blipFill>
        <p:spPr>
          <a:xfrm>
            <a:off x="0" y="0"/>
            <a:ext cx="8610480" cy="6858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smiley, smile, Stifte, 3D - Tapeten, Foto auf dem Desktop, Hintergrundbilder, Bilder, 3d wallpapers"/>
          <p:cNvPicPr/>
          <p:nvPr/>
        </p:nvPicPr>
        <p:blipFill>
          <a:blip r:embed="rId2"/>
          <a:stretch/>
        </p:blipFill>
        <p:spPr>
          <a:xfrm>
            <a:off x="4038480" y="2514600"/>
            <a:ext cx="4800600" cy="34354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724280" y="380880"/>
            <a:ext cx="456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 ИТОГЕ,У МЕНЯ ПОЛУЧИЛСЯ ОТЛИЧ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ОДАРОК КО ДНЮ РОЖ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586728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80880" y="228240"/>
            <a:ext cx="841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И В ИТОГЕ,У МЕНЯ ПОЛУЧИЛСЯ ОТЛИЧНЫЙ ПОДАРОК КО ДНЮ РОЖ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1280x800 капли, виноград, гроздь, листья картинки на рабочий стол обои фото скачать"/>
          <p:cNvPicPr/>
          <p:nvPr/>
        </p:nvPicPr>
        <p:blipFill>
          <a:blip r:embed="rId1"/>
          <a:stretch/>
        </p:blipFill>
        <p:spPr>
          <a:xfrm>
            <a:off x="0" y="0"/>
            <a:ext cx="9144000" cy="75153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666880" y="1523880"/>
            <a:ext cx="4286520" cy="59436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6400800" y="68580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66"/>
                </a:solidFill>
                <a:latin typeface="Arial"/>
              </a:rPr>
              <a:t>АВТОР:ХАНЕНКО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Алёна   7 «В»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0"/>
            <a:ext cx="8534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Картины и панно из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солёного теста идеальный подарок родным и друзьям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Материал, из которого изготовлена наша композиция, экологически безопасен. При правильной эксплуатации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изделия долго будут радовать Ва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4T08:32:44Z</dcterms:created>
  <dc:creator>Алёна</dc:creator>
  <dc:description/>
  <dc:language>en-US</dc:language>
  <cp:lastModifiedBy>Алёна</cp:lastModifiedBy>
  <dcterms:modified xsi:type="dcterms:W3CDTF">2015-03-04T13:37:08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