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3F3-FA42-46F6-AB26-E172BDF6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5AA-A594-4E4A-BBE1-E6E2AA27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257-990A-4B44-8064-F791A2B7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E21-5314-48D8-8323-0171641A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7E0-D409-4DCF-A2FE-8BC278A4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0F2-9017-4C9A-A375-1CCDDB62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C73-3E7B-4E20-8019-52D6CD81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AE9-A94E-4171-8E4B-84AD2074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797-8A4D-4341-96D1-C1AC321D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99F-1320-40B8-A5E3-D2A8FB06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72B-36B6-47F5-8DD8-B003E60D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9C4-C4FF-4C70-BF12-43BE150A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D407-910F-42C2-8569-E26B1DE8E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оричневой фасоли - Китай коричневой фасоли производители и поставщики от ru.Made-in-China.com-страница 2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20968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Ка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н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з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олёного </a:t>
            </a:r>
            <a:r>
              <a:rPr b="1" lang="en-US" sz="3600" spc="-1" strike="noStrike">
                <a:solidFill>
                  <a:srgbClr val="ffc1c1"/>
                </a:solidFill>
                <a:latin typeface="Arial"/>
              </a:rPr>
              <a:t>тес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«ГРОЗДЬ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ВИНОГРА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V="1">
            <a:off x="990720" y="12052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66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6668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5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Обои нежно-розовый фон, блики 1680x1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53352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МОЕЙ ПОДРУГИ 30 МАЯ ДЕНЬ РОЖДЕНИЯ, У МЕНЯ ВОЗНИКЛА ПРОБЛЕМА КАКОЙ СДЕЛАТЬ ПОДАРОК, И ИЗ 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/>
          <p:nvPr/>
        </p:nvCxnSpPr>
        <p:spPr>
          <a:xfrm>
            <a:off x="2819160" y="259092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endCxn id="52" idx="3"/>
          </p:cNvCxnSpPr>
          <p:nvPr/>
        </p:nvCxnSpPr>
        <p:spPr>
          <a:xfrm flipH="1">
            <a:off x="5333400" y="2361960"/>
            <a:ext cx="163908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H="1" flipV="1">
            <a:off x="4495680" y="3504960"/>
            <a:ext cx="766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55" idx="1"/>
          </p:cNvCxnSpPr>
          <p:nvPr/>
        </p:nvCxnSpPr>
        <p:spPr>
          <a:xfrm flipV="1">
            <a:off x="2895480" y="3459960"/>
            <a:ext cx="991440" cy="11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/>
          <p:nvPr/>
        </p:nvCxnSpPr>
        <p:spPr>
          <a:xfrm flipH="1" flipV="1">
            <a:off x="5180760" y="3504600"/>
            <a:ext cx="839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0" y="225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4152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41520"/>
            <a:ext cx="2976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00" y="23954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475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475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441520"/>
            <a:ext cx="297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8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752480"/>
            <a:ext cx="1752480" cy="8384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2743200"/>
            <a:ext cx="1828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1676520"/>
            <a:ext cx="2057400" cy="838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733920"/>
            <a:ext cx="1981080" cy="99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724280"/>
            <a:ext cx="2209680" cy="99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3505320"/>
            <a:ext cx="1905120" cy="99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В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276720"/>
            <a:ext cx="121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а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038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Брас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.Шкату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3809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Маг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решила,что сделаю подарок под № 2,так как моя подруга любит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Скачать обои нежно, небо, Облака, розовый, белый, фиолетовый - картинка #10901 c разрешением 480x2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533520"/>
            <a:ext cx="2666880" cy="18288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438280"/>
            <a:ext cx="1981440" cy="16765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2209680"/>
            <a:ext cx="1981440" cy="16765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4038480"/>
            <a:ext cx="2286000" cy="17528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4191120"/>
            <a:ext cx="2209680" cy="17524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0"/>
            <a:ext cx="2514600" cy="18288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1905120"/>
            <a:ext cx="2133360" cy="190476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1" idx="1"/>
            <a:endCxn id="85" idx="0"/>
          </p:cNvCxnSpPr>
          <p:nvPr/>
        </p:nvCxnSpPr>
        <p:spPr>
          <a:xfrm flipH="1" flipV="1">
            <a:off x="5637960" y="2857320"/>
            <a:ext cx="1143720" cy="2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0" idx="3"/>
          </p:cNvCxnSpPr>
          <p:nvPr/>
        </p:nvCxnSpPr>
        <p:spPr>
          <a:xfrm flipV="1">
            <a:off x="2362320" y="3047400"/>
            <a:ext cx="1296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>
            <a:off x="2666520" y="1676160"/>
            <a:ext cx="160092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0"/>
            <a:endCxn id="85" idx="1"/>
          </p:cNvCxnSpPr>
          <p:nvPr/>
        </p:nvCxnSpPr>
        <p:spPr>
          <a:xfrm flipV="1">
            <a:off x="3390480" y="3809160"/>
            <a:ext cx="11818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962520" y="22860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чего буду делать пода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219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Из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685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Из Вя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Из г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2819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Из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876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Из бис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419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Из солёного т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Далее, стояла задача из чего я буду делать карт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82" idx="1"/>
            <a:endCxn id="85" idx="2"/>
          </p:cNvCxnSpPr>
          <p:nvPr/>
        </p:nvCxnSpPr>
        <p:spPr>
          <a:xfrm flipH="1" flipV="1">
            <a:off x="4571280" y="3809520"/>
            <a:ext cx="1600920" cy="92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4" idx="1"/>
            <a:endCxn id="85" idx="3"/>
          </p:cNvCxnSpPr>
          <p:nvPr/>
        </p:nvCxnSpPr>
        <p:spPr>
          <a:xfrm flipH="1">
            <a:off x="4571280" y="728640"/>
            <a:ext cx="1600920" cy="11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0" y="63244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94216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Я реши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ть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ину из солёного теста потому, что тесто, это экологически чистый продукт. У него очень долгий срок службы. Поделка остаётся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очень долго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оначаль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Скачать обои цветы, фон, тюльпаны картинка 2560x1600 на рабочий стол бесплатно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Зверье мое. Страна Мастеров"/>
          <p:cNvPicPr/>
          <p:nvPr/>
        </p:nvPicPr>
        <p:blipFill>
          <a:blip r:embed="rId2"/>
          <a:stretch/>
        </p:blipFill>
        <p:spPr>
          <a:xfrm>
            <a:off x="685800" y="2286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Браслет Страна Мастеров"/>
          <p:cNvPicPr/>
          <p:nvPr/>
        </p:nvPicPr>
        <p:blipFill>
          <a:blip r:embed="rId3"/>
          <a:stretch/>
        </p:blipFill>
        <p:spPr>
          <a:xfrm>
            <a:off x="5257800" y="30492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152280" y="-36684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СКИ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шкатулка из солёного теста everlastpro.ru"/>
          <p:cNvPicPr/>
          <p:nvPr/>
        </p:nvPicPr>
        <p:blipFill>
          <a:blip r:embed="rId4"/>
          <a:stretch/>
        </p:blipFill>
        <p:spPr>
          <a:xfrm>
            <a:off x="5334120" y="32767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Виноградные повторюшки Страна Мастеров"/>
          <p:cNvPicPr/>
          <p:nvPr/>
        </p:nvPicPr>
        <p:blipFill>
          <a:blip r:embed="rId5"/>
          <a:stretch/>
        </p:blipFill>
        <p:spPr>
          <a:xfrm>
            <a:off x="533520" y="3276720"/>
            <a:ext cx="2895480" cy="2743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62164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выбрала поделку под №3, потому что моя подруга обожает виноград, и просто, для подарка это лучш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895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Картина «Гроздь виногра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2971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Шкату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Брас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-184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Магнит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обои Рисунки на досках еда. Картинки для рабочего стол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297180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Бакалея, доставка продуктов и еды на дом в Красноярске"/>
          <p:cNvPicPr/>
          <p:nvPr/>
        </p:nvPicPr>
        <p:blipFill>
          <a:blip r:embed="rId3"/>
          <a:stretch/>
        </p:blipFill>
        <p:spPr>
          <a:xfrm>
            <a:off x="0" y="380880"/>
            <a:ext cx="2895480" cy="32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Фокусы для детского праздника NosKurnos.ru"/>
          <p:cNvPicPr/>
          <p:nvPr/>
        </p:nvPicPr>
        <p:blipFill>
          <a:blip r:embed="rId4"/>
          <a:stretch/>
        </p:blipFill>
        <p:spPr>
          <a:xfrm>
            <a:off x="6019920" y="304920"/>
            <a:ext cx="3124080" cy="32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РАДУГА ХОББИ - &quot;Радуга Хобби&quot; - Рамка деревянная прямоугольн…"/>
          <p:cNvPicPr/>
          <p:nvPr/>
        </p:nvPicPr>
        <p:blipFill>
          <a:blip r:embed="rId5"/>
          <a:stretch/>
        </p:blipFill>
        <p:spPr>
          <a:xfrm>
            <a:off x="838080" y="3809880"/>
            <a:ext cx="3381480" cy="2886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PA002 Сетка альпс крупная клетка Доставка цветов"/>
          <p:cNvPicPr/>
          <p:nvPr/>
        </p:nvPicPr>
        <p:blipFill>
          <a:blip r:embed="rId6"/>
          <a:stretch/>
        </p:blipFill>
        <p:spPr>
          <a:xfrm>
            <a:off x="5105520" y="3886200"/>
            <a:ext cx="3657600" cy="281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5120" y="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изготовления картины понадоби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Сердца, фон, текстура, светлый обои, фото, картинки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1952640" cy="146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410080" y="304920"/>
            <a:ext cx="1952640" cy="1466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838080" y="2133720"/>
            <a:ext cx="1952640" cy="1466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86400" y="1981080"/>
            <a:ext cx="1952640" cy="146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38080" y="3809880"/>
            <a:ext cx="1952640" cy="146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5486400" y="3657600"/>
            <a:ext cx="1905120" cy="1433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838080" y="548640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5562720" y="533412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16765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есить те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828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бл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676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езать по шабл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505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катать виногради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3352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рас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рыть л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0292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формить в рамочку покрыть ла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Скачать обои Текстура сердечки (1280 x 720 HDTV 720p). Обои на рабочий стол, фотограф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Health Benefits Of Saffron Good for heart health Photos - Pics 243244 - Boldsky Gallery"/>
          <p:cNvPicPr/>
          <p:nvPr/>
        </p:nvPicPr>
        <p:blipFill>
          <a:blip r:embed="rId2"/>
          <a:stretch/>
        </p:blipFill>
        <p:spPr>
          <a:xfrm>
            <a:off x="0" y="0"/>
            <a:ext cx="5334120" cy="4419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Здоровье ребенка и сквозняки"/>
          <p:cNvPicPr/>
          <p:nvPr/>
        </p:nvPicPr>
        <p:blipFill>
          <a:blip r:embed="rId3"/>
          <a:stretch/>
        </p:blipFill>
        <p:spPr>
          <a:xfrm>
            <a:off x="533412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В копилку родителю - МДОУ детский сад 92 &quot;Лебедушка&quot;"/>
          <p:cNvPicPr/>
          <p:nvPr/>
        </p:nvPicPr>
        <p:blipFill>
          <a:blip r:embed="rId4"/>
          <a:stretch/>
        </p:blipFill>
        <p:spPr>
          <a:xfrm>
            <a:off x="0" y="3828960"/>
            <a:ext cx="5334120" cy="3029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Статьи о сердце - страница 244"/>
          <p:cNvPicPr/>
          <p:nvPr/>
        </p:nvPicPr>
        <p:blipFill>
          <a:blip r:embed="rId5"/>
          <a:stretch/>
        </p:blipFill>
        <p:spPr>
          <a:xfrm>
            <a:off x="5334120" y="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Happy Birthday Wallpaper Wallpaper Desktop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smiley, smile, Stifte, 3D - Tapeten, Foto auf dem Desktop, Hintergrundbilder, Bilder, 3d wallpapers"/>
          <p:cNvPicPr/>
          <p:nvPr/>
        </p:nvPicPr>
        <p:blipFill>
          <a:blip r:embed="rId2"/>
          <a:stretch/>
        </p:blipFill>
        <p:spPr>
          <a:xfrm>
            <a:off x="4038480" y="2514600"/>
            <a:ext cx="4800600" cy="3435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724280" y="3808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ИТОГЕ,У МЕНЯ ПОЛУЧИЛСЯ ОТЛИЧ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АРОК КО ДНЮ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8672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228240"/>
            <a:ext cx="84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В ИТОГЕ,У МЕНЯ ПОЛУЧИЛСЯ ОТЛИЧНЫЙ ПОДАРОК КО ДНЮ 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1280x800 капли, виноград, гроздь, листья картинки на рабочий стол обои фото скачать"/>
          <p:cNvPicPr/>
          <p:nvPr/>
        </p:nvPicPr>
        <p:blipFill>
          <a:blip r:embed="rId1"/>
          <a:stretch/>
        </p:blipFill>
        <p:spPr>
          <a:xfrm>
            <a:off x="0" y="0"/>
            <a:ext cx="9144000" cy="7515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4286520" cy="594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00800" y="6858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АВТОР:ХАНЕНКО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лёна   7 «В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Картины и панно из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солёного теста идеальный подарок родным и друзья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атериал, из которого изготовлена наша композиция, экологически безопасен. При правильной эксплуатаци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изделия долго будут радовать В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8:32:44Z</dcterms:created>
  <dc:creator>Алёна</dc:creator>
  <dc:description/>
  <dc:language>en-US</dc:language>
  <cp:lastModifiedBy>Алёна</cp:lastModifiedBy>
  <dcterms:modified xsi:type="dcterms:W3CDTF">2015-03-04T13:37:0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