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.jpeg" ContentType="image/jpeg"/>
  <Override PartName="/ppt/media/image26.wmf" ContentType="image/x-wmf"/>
  <Override PartName="/ppt/media/image25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17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1BC-0453-4C29-A53A-C15C8B19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0A6-0641-40BD-B415-E097195A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946-1467-42EF-A2C2-EF646561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A56-44A1-4750-90B0-3CDF95D6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5BB8-7091-4A31-923F-93F07F49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71DE-1FD9-44AD-92D7-B4A90063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AFF7-9533-4284-8069-6BFFB5A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2B6-BE7C-4097-A461-70CDA3B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7A6-B738-4E79-9998-D3EFFB3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0E72-2255-4164-ADA7-683FCC11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67A-BA2A-465D-9A65-9A44F8BE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C63-C1CA-46F9-B8E1-2C41F6A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6E40-CEB9-4483-B38D-0724DB5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988-57A8-4688-AA44-484CE6A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FE67-04E7-479F-935F-1446660C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D65-3657-41CE-97CE-CBC29C18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F2C8-66C1-4F22-BEF0-BAE4EEA5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F57-B352-44EC-9E6D-07B4C5C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9FF-AA30-477B-9788-165275F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D5F-CF9B-4721-843E-706E1BC0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48C-A7D8-4E86-8B83-1D6A677F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E36-86BF-46B0-AA56-8844BCF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57D-CD0C-4F6E-BE70-6BB4C72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289-ECCB-48BE-9C3E-47F5ADA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4C1-80E3-461E-BFD6-B0D9D8CBEA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B012-77BE-4443-A916-C143538EAE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1.png"/><Relationship Id="rId6" Type="http://schemas.openxmlformats.org/officeDocument/2006/relationships/slide" Target="slide6.xml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008" dir="13983909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есь мир представлен из множества линий, которые являются для него золотым сечением.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1165320"/>
            <a:ext cx="360" cy="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6836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58920" y="76500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сечение в городе Елец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309760"/>
            <a:ext cx="653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1165320"/>
            <a:ext cx="360" cy="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41640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01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bf014"/>
                </a:solidFill>
                <a:latin typeface="Arial"/>
              </a:rPr>
              <a:t>Презентацию составили: Голубева Елена и Тинькова Наталья ученицы 8Б класса МОУ Лицея №5 города Ельца Липецкой обла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94120" y="5013360"/>
            <a:ext cx="1366920" cy="1052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417920" y="5013360"/>
            <a:ext cx="1362240" cy="1052640"/>
          </a:xfrm>
          <a:prstGeom prst="rect">
            <a:avLst/>
          </a:prstGeom>
          <a:ln w="22320">
            <a:solidFill>
              <a:srgbClr val="ffff66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2560" y="403200"/>
            <a:ext cx="80964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"золотого сечения" в архитектуре Ельца.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1219320"/>
            <a:ext cx="79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еперь рассмотрим ДШИ №4 на площади Ленина и докажем,  что архитектура здания основана на «золотом сечени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577880" y="2151000"/>
            <a:ext cx="6275520" cy="4357800"/>
          </a:xfrm>
          <a:prstGeom prst="rect">
            <a:avLst/>
          </a:prstGeom>
          <a:ln w="47520">
            <a:solidFill>
              <a:srgbClr val="ffff00"/>
            </a:solidFill>
            <a:miter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68440" y="1598760"/>
            <a:ext cx="6095880" cy="296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9040" y="5378400"/>
            <a:ext cx="84996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918640" y="1196640"/>
            <a:ext cx="0" cy="418140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18480" y="4575240"/>
            <a:ext cx="1440" cy="126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8680" y="1892160"/>
            <a:ext cx="4010040" cy="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30200" y="1196640"/>
            <a:ext cx="3240" cy="41814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4572000"/>
            <a:ext cx="0" cy="12636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336760"/>
            <a:ext cx="374976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02080" y="4560840"/>
            <a:ext cx="361656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0760" y="4560840"/>
            <a:ext cx="1440" cy="817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55880" y="4560840"/>
            <a:ext cx="1800" cy="817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9680" y="4560840"/>
            <a:ext cx="1440" cy="817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0640" y="4560840"/>
            <a:ext cx="1440" cy="817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18680" y="4560840"/>
            <a:ext cx="197316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8680" y="3854520"/>
            <a:ext cx="197028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7320" y="369720"/>
            <a:ext cx="895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мерение школы искусств с помощью линейки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 rot="16200000">
            <a:off x="8289720" y="3074400"/>
            <a:ext cx="876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,2см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041720" y="4995720"/>
            <a:ext cx="7905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6см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2011320" y="5835600"/>
            <a:ext cx="490860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041720" y="5478480"/>
            <a:ext cx="936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ffff66"/>
                    </a:gs>
                    <a:gs pos="100000">
                      <a:srgbClr val="66ff66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,3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ffff66"/>
                  </a:gs>
                  <a:gs pos="100000">
                    <a:srgbClr val="66ff66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178200" y="3062880"/>
            <a:ext cx="8766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66"/>
                    </a:gs>
                    <a:gs pos="100000">
                      <a:srgbClr val="66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,3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66"/>
                  </a:gs>
                  <a:gs pos="100000">
                    <a:srgbClr val="66ff33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 rot="5400000">
            <a:off x="275040" y="4021920"/>
            <a:ext cx="7063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50000">
                      <a:srgbClr val="ffff66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6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50000">
                    <a:srgbClr val="ffff66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389320" y="4984920"/>
            <a:ext cx="46836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50000">
                      <a:srgbClr val="ffff66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0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50000">
                    <a:srgbClr val="ffff66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10040" y="4441680"/>
            <a:ext cx="5145120" cy="2433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509920" y="200160"/>
            <a:ext cx="4081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чёт размеров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38040" y="1127160"/>
            <a:ext cx="84898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.Отношение высоты к длине передней части школы искусст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6,3 : 11,3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2.Окна первого этажа. Отношение ширины к высот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1,0 : 1,6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3.Колонны и вход. Отношение ширины к высот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3,6 : 5,2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Примечание: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если одна величина относится к другой как 0,6 (приблизительно), то можно считать, что данный предмет построен по принципу золотого сечения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13080" y="380196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1227000">
            <a:off x="7140600" y="1533240"/>
            <a:ext cx="1246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rot="60000">
            <a:off x="5524560" y="2487600"/>
            <a:ext cx="3143160" cy="4206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0480" y="1438200"/>
            <a:ext cx="808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Произведя ряд вычислений, в результате проделанной работы, мы выявили и определили, что рассмотренные нами  здания, а именно –ДШИ №4 и Вознесенский собор  города Ельца, действительно построены по принципу «золотого сечения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82840" y="343080"/>
            <a:ext cx="1942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" y="3422520"/>
            <a:ext cx="480528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9080" y="-17640"/>
            <a:ext cx="3086280" cy="1600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928880" y="285840"/>
            <a:ext cx="52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ая литература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90680" y="1006560"/>
            <a:ext cx="4562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работе над проектом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360360" y="17506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Елец / под ред. В. П. Горлова. — Воронеж, 1978. — С. 143—14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Липецкая Энциклопедия : в 3 т. / ред.—сост. Б. М. Шальнев, В. В. Шахов. — Липецк, 1999. — Т.1. — С. 212—21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Путеводитель по Липецкому краю / сост. З. И. Есипова, Г. В. Тарасова. — Липецк, 2003. — С. 8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4932360" y="4838760"/>
            <a:ext cx="274644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76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3840" y="183024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Цель исследований: воспользовавшись различной литературой по геометрии, по черчению, различными справочными материалами для более подробного изучения темы «Золотое сечение», понять основную       мысль и рассмотреть применение «золотого сечения» в архитектуре города Ельц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2880" y="595440"/>
            <a:ext cx="4773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64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д работы.</a:t>
            </a:r>
            <a:endParaRPr b="0" lang="en-US" sz="4800" spc="1" strike="noStrike">
              <a:ln w="64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Изображение:Elets sobor4.jpg"/>
          <p:cNvPicPr/>
          <p:nvPr/>
        </p:nvPicPr>
        <p:blipFill>
          <a:blip r:embed="rId1"/>
          <a:stretch/>
        </p:blipFill>
        <p:spPr>
          <a:xfrm>
            <a:off x="7026120" y="22320"/>
            <a:ext cx="2140200" cy="310968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65160" y="2185920"/>
            <a:ext cx="822960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атериалы для исследований: фотографии памятников архитектуры города Ельца, построенных по принципу «золотого сечен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70040" y="630360"/>
            <a:ext cx="5086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работы.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687840" y="4768920"/>
            <a:ext cx="2923920" cy="2031840"/>
          </a:xfrm>
          <a:prstGeom prst="rect">
            <a:avLst/>
          </a:prstGeom>
          <a:ln w="47520">
            <a:solidFill>
              <a:srgbClr val="010199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482920" y="692280"/>
            <a:ext cx="4343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проекта.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090880"/>
            <a:ext cx="784836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Ввести понятие «золотого сечения» (геометрическое построение «золотого сечения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Частично изучив архитектуру города Ельца, указать наиболее известные здания с применением золотого се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20934600">
            <a:off x="219240" y="256680"/>
            <a:ext cx="1795320" cy="183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607400">
            <a:off x="6825960" y="5263920"/>
            <a:ext cx="117324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48096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«Золотое сечение» - это деление в крайнем и среднем отношении, т.е. деление отрезка  АВ  на две части таким образом, что большая часть АС является средней пропорциональной между  всем отрезком  АВ и меньшей его частью С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6480" y="2130480"/>
            <a:ext cx="3089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5" idx="0"/>
            <a:endCxn id="125" idx="0"/>
          </p:cNvCxnSpPr>
          <p:nvPr/>
        </p:nvCxnSpPr>
        <p:spPr>
          <a:xfrm>
            <a:off x="4476240" y="24966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293220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708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996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75000" y="21304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А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496960"/>
            <a:ext cx="7872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еометрическое построение «золотого сечения» отрезка  АВ  осуществляется так: в точке В восстанавливают перпендикуляр к АВ, на нём откладывают отрезок ВЕ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АВ, соединяют А и Е, откладывают 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= ЕВ и, наконец, АС = 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, тогда будет АВ : АС = АС : СВ ( рис.1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10800000">
            <a:off x="2932200" y="4889520"/>
            <a:ext cx="2395440" cy="1060560"/>
          </a:xfrm>
          <a:prstGeom prst="rtTriangle">
            <a:avLst/>
          </a:prstGeom>
          <a:solidFill>
            <a:srgbClr val="ffff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092200">
            <a:off x="3899160" y="1464840"/>
            <a:ext cx="4343760" cy="464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81" y="391"/>
                </a:moveTo>
                <a:arcTo wR="10800" hR="10800" stAng="-4471716" swAng="2906475"/>
                <a:lnTo>
                  <a:pt x="10800" y="10800"/>
                </a:lnTo>
                <a:close/>
              </a:path>
              <a:path fill="none" w="21600" h="21600">
                <a:moveTo>
                  <a:pt x="13681" y="391"/>
                </a:moveTo>
                <a:arcTo wR="10800" hR="10800" stAng="-4471716" swAng="2906475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43400">
            <a:off x="2437560" y="4772160"/>
            <a:ext cx="2038320" cy="23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71" y="593"/>
                </a:moveTo>
                <a:arcTo wR="10800" hR="10800" stAng="-6544427" swAng="5773184"/>
                <a:lnTo>
                  <a:pt x="10800" y="10800"/>
                </a:lnTo>
                <a:close/>
              </a:path>
              <a:path fill="none" w="21600" h="21600">
                <a:moveTo>
                  <a:pt x="7271" y="593"/>
                </a:moveTo>
                <a:arcTo wR="10800" hR="10800" stAng="-6544427" swAng="577318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3760" y="592596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59259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        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4720" y="48895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02080" y="45655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9120" y="6292800"/>
            <a:ext cx="86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ис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4280" y="228600"/>
            <a:ext cx="851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ания с применением золотого сечения.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Изображение:Elets sobor4.jpg"/>
          <p:cNvPicPr/>
          <p:nvPr/>
        </p:nvPicPr>
        <p:blipFill>
          <a:blip r:embed="rId3"/>
          <a:stretch/>
        </p:blipFill>
        <p:spPr>
          <a:xfrm>
            <a:off x="5326200" y="1108080"/>
            <a:ext cx="3189240" cy="4400640"/>
          </a:xfrm>
          <a:prstGeom prst="rect">
            <a:avLst/>
          </a:prstGeom>
          <a:ln w="38160">
            <a:solidFill>
              <a:srgbClr val="ffff66"/>
            </a:solidFill>
            <a:prstDash val="dashDot"/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0880" y="1652760"/>
            <a:ext cx="4534200" cy="3151080"/>
          </a:xfrm>
          <a:prstGeom prst="rect">
            <a:avLst/>
          </a:prstGeom>
          <a:ln w="38160">
            <a:solidFill>
              <a:srgbClr val="ffff66"/>
            </a:solidFill>
            <a:prstDash val="dashDot"/>
            <a:miter/>
          </a:ln>
        </p:spPr>
      </p:pic>
      <p:sp>
        <p:nvSpPr>
          <p:cNvPr id="141" name=""/>
          <p:cNvSpPr/>
          <p:nvPr/>
        </p:nvSpPr>
        <p:spPr>
          <a:xfrm>
            <a:off x="674640" y="495468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Школа искус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6200" y="5559480"/>
            <a:ext cx="30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ознесенский со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Изображение:Elets sobor4.jpg"/>
          <p:cNvPicPr/>
          <p:nvPr/>
        </p:nvPicPr>
        <p:blipFill>
          <a:blip r:embed="rId1"/>
          <a:stretch/>
        </p:blipFill>
        <p:spPr>
          <a:xfrm>
            <a:off x="7004160" y="3747960"/>
            <a:ext cx="2139840" cy="311004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144" name=""/>
          <p:cNvSpPr txBox="1"/>
          <p:nvPr/>
        </p:nvSpPr>
        <p:spPr>
          <a:xfrm>
            <a:off x="152280" y="361800"/>
            <a:ext cx="8928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ческая справка о Вознесенском соборе.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345600" y="2853360"/>
            <a:ext cx="86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2 августа 1845 года торжественный звон-благовест всех семнадца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Елецких церквей возвестил о закладке крупнейшего храма Ельц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Вознесенского собора. Главным строителем бы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азначен И.Г.Петров, его помощниками - И.И. Попов и И.И. Укле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1720" y="4104360"/>
            <a:ext cx="89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Высота собора с крестом 74 метра. Строительство храма велось 44 год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39680" y="1273680"/>
            <a:ext cx="9283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Разработал проект Константин Тон. 25 ноября 1843 года Государь Имп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иколай I утвердил представленный ему архитектором Константин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Андреевичем Тоном (1794 - 1881) проект Вознесенского собора гор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Ельца Орловской (ныне Липецкой области) губерни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57280" y="998640"/>
            <a:ext cx="3484440" cy="302004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первую очередь рассмотрим Вознесенский собор в нашем городе и докажем, что он построен по принципу «золотого сечен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Изображение:Elets sobor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02240" y="0"/>
            <a:ext cx="4757760" cy="6913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000" y="6013440"/>
            <a:ext cx="42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Примечание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змерения проводим по фотографиям с помощью линей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60000">
            <a:off x="5819400" y="1004400"/>
            <a:ext cx="3333600" cy="44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06400" y="1305000"/>
          <a:ext cx="5311800" cy="5146560"/>
        </p:xfrm>
        <a:graphic>
          <a:graphicData uri="http://schemas.openxmlformats.org/drawingml/2006/table">
            <a:tbl>
              <a:tblPr/>
              <a:tblGrid>
                <a:gridCol w="676440"/>
                <a:gridCol w="2716200"/>
                <a:gridCol w="191916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зличные части собора, необходимые для доказательства принципа строитель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ношения размеров для вычислени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дняя часть собор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4,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 : 4,0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рхняя часть собора, расположенная над вхо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8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8 : 2,7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 : 0,8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собора, расположенная под главным центральным купо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4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4 : 2,1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10160" y="15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89280" y="279360"/>
            <a:ext cx="340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еры собора.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7:28Z</dcterms:created>
  <dc:creator>user</dc:creator>
  <dc:description/>
  <dc:language>en-US</dc:language>
  <cp:lastModifiedBy>Добрины</cp:lastModifiedBy>
  <dcterms:modified xsi:type="dcterms:W3CDTF">2008-01-29T12:26:12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