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8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9.wmf" ContentType="image/x-wmf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6E95-6A58-46D4-AE7F-F82C63AD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69AD-88FE-4251-853D-DF1C7262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EB1E-6378-46D8-8DDF-5153DF21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882F-6EBD-40BE-968C-650B758E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26EC-A591-4BC5-9392-F6DAA059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26A7-0DB7-4D14-BAE8-EB9E6763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B12-D153-4EBA-808D-50F0866A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B0CB-AC97-418F-843E-EF141CDD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4AF3-3E17-432F-A60D-24E4F096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21B0-FB84-45E4-A0DB-CEAD2DDD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861E-4FC0-49C2-B8B9-65A594D0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2F3B-45B4-4ECA-9A18-DF175000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8CF6-D02E-40E1-B25F-0E11E3094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%7BB32F2B43-36F8-4221-A37B-05D8E98D5AA8%7D.avi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360" y="476280"/>
            <a:ext cx="41734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инская че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внутренние нравственные качества и убеждения воина (воинского коллектива), характеризующие его поведение и отношение к выполнению воинского д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3954600" cy="264924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028000" y="5950080"/>
            <a:ext cx="647640" cy="3585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8997" h="21600">
                <a:moveTo>
                  <a:pt x="0" y="0"/>
                </a:moveTo>
                <a:lnTo>
                  <a:pt x="38997" y="0"/>
                </a:lnTo>
                <a:lnTo>
                  <a:pt x="38997" y="21600"/>
                </a:lnTo>
                <a:lnTo>
                  <a:pt x="0" y="21600"/>
                </a:lnTo>
                <a:close/>
              </a:path>
              <a:path fill="lightenLess" w="38997" h="21600">
                <a:moveTo>
                  <a:pt x="0" y="0"/>
                </a:moveTo>
                <a:lnTo>
                  <a:pt x="38997" y="0"/>
                </a:lnTo>
                <a:lnTo>
                  <a:pt x="37597" y="1400"/>
                </a:lnTo>
                <a:lnTo>
                  <a:pt x="1400" y="1400"/>
                </a:lnTo>
                <a:close/>
              </a:path>
              <a:path fill="darken" w="38997" h="21600">
                <a:moveTo>
                  <a:pt x="38997" y="0"/>
                </a:moveTo>
                <a:lnTo>
                  <a:pt x="38997" y="21600"/>
                </a:lnTo>
                <a:lnTo>
                  <a:pt x="37597" y="20200"/>
                </a:lnTo>
                <a:lnTo>
                  <a:pt x="37597" y="1400"/>
                </a:lnTo>
                <a:close/>
              </a:path>
              <a:path fill="darkenLess" w="38997" h="21600">
                <a:moveTo>
                  <a:pt x="38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97" y="20200"/>
                </a:lnTo>
                <a:close/>
              </a:path>
              <a:path fill="lighten" w="38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97" h="21600">
                <a:moveTo>
                  <a:pt x="12492" y="3794"/>
                </a:moveTo>
                <a:lnTo>
                  <a:pt x="26505" y="10800"/>
                </a:lnTo>
                <a:lnTo>
                  <a:pt x="124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29700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643280" y="2852640"/>
            <a:ext cx="4176720" cy="3132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56000" y="83664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95640" y="549360"/>
            <a:ext cx="468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мая 2001 года состоялась торжественная церемония вручения Президентом России Знамени Вооруженных сил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3357720"/>
            <a:ext cx="381636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Штандарт во образе креста Святого Андрея» - Андреевский флаг является Знаменем Воено-Морского флота России и признан одним из красивейших в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жден Указом Президента Российской Федер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6.07.1992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8028000" y="6165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3794"/>
                </a:moveTo>
                <a:lnTo>
                  <a:pt x="26485" y="10800"/>
                </a:lnTo>
                <a:lnTo>
                  <a:pt x="124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7380360" y="616572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73" h="21600">
                <a:moveTo>
                  <a:pt x="10330" y="10800"/>
                </a:moveTo>
                <a:lnTo>
                  <a:pt x="24343" y="3794"/>
                </a:lnTo>
                <a:lnTo>
                  <a:pt x="243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ория государственных наград с древних времен до 1917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34900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 17 века четкой наградной системы в Российском государстве не бы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ины в качестве наград получали доспехи, золотые монеты, оружие и даже домашнюю ж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истории древних веков есть упоминание о первом знаке отличия за военную храбрость – гривне, золотом или серебряном обруче, который носили на ш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459640" y="6093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7740720" y="616572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73" h="21600">
                <a:moveTo>
                  <a:pt x="10330" y="10800"/>
                </a:moveTo>
                <a:lnTo>
                  <a:pt x="24343" y="3794"/>
                </a:lnTo>
                <a:lnTo>
                  <a:pt x="243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63640" y="171360"/>
            <a:ext cx="5904000" cy="4049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00000" y="4508640"/>
            <a:ext cx="7704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698 году Пет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 знак особой монаршей милости установил награждение орде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й высшей российской наградой стал орден Святого Апостола Андрея Первозва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8459640" y="6093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7812000" y="609300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10800"/>
                </a:moveTo>
                <a:lnTo>
                  <a:pt x="19642" y="3794"/>
                </a:lnTo>
                <a:lnTo>
                  <a:pt x="196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3959280" cy="2968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3672000" cy="2754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8360" y="549360"/>
            <a:ext cx="38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714 году в честь жены Петра 1 был учрежден первый женский орден – Святой великомученницы Екатер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4149720"/>
            <a:ext cx="36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чуть позже, в 1725 году – орден Святого Александра Нев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459640" y="623736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7812000" y="623736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10800"/>
                </a:moveTo>
                <a:lnTo>
                  <a:pt x="19642" y="3794"/>
                </a:lnTo>
                <a:lnTo>
                  <a:pt x="196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63640" y="404640"/>
            <a:ext cx="5761080" cy="4319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71640" y="486900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арствование Екатер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 учрежден орден Святого Великомученика и Победоносца Георгия. Согласно статуса орден вручался как дворянину, так и безродному офицеру, что автоматически давало последнему право на потомственное дворя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7812000" y="609300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10800"/>
                </a:moveTo>
                <a:lnTo>
                  <a:pt x="19642" y="3794"/>
                </a:lnTo>
                <a:lnTo>
                  <a:pt x="196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8459640" y="6093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665520" cy="2749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356000" y="2637000"/>
            <a:ext cx="4392720" cy="3295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00720" y="333360"/>
            <a:ext cx="396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Российской империи было учреждено большое количество разнообразных наградных медалей для воинов, отличившихся усердием по служ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500280"/>
            <a:ext cx="34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высшей наградой считался солдатский Георгиевский крест четырех степе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459640" y="6093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7812000" y="609300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10800"/>
                </a:moveTo>
                <a:lnTo>
                  <a:pt x="19642" y="3794"/>
                </a:lnTo>
                <a:lnTo>
                  <a:pt x="196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4056120" cy="3041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00720" y="466560"/>
            <a:ext cx="4319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градой за воинскую доблесть могло быть оружие. Хорошее оружие всегда было желанным подарком на Руси, ведь от его качества в бою зависела жизнь владель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3645000"/>
            <a:ext cx="345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1800 года была утверждена коллективная награда, вручение наградных знамен, при этом на полотнище делалась надпись о причине пожалования награ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76360" y="620640"/>
            <a:ext cx="6330960" cy="391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1476360" y="5300640"/>
          <a:ext cx="6264360" cy="1008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5300640"/>
                    <a:ext cx="62643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028000" y="5950080"/>
            <a:ext cx="647640" cy="3585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8997" h="21600">
                <a:moveTo>
                  <a:pt x="0" y="0"/>
                </a:moveTo>
                <a:lnTo>
                  <a:pt x="38997" y="0"/>
                </a:lnTo>
                <a:lnTo>
                  <a:pt x="38997" y="21600"/>
                </a:lnTo>
                <a:lnTo>
                  <a:pt x="0" y="21600"/>
                </a:lnTo>
                <a:close/>
              </a:path>
              <a:path fill="lightenLess" w="38997" h="21600">
                <a:moveTo>
                  <a:pt x="0" y="0"/>
                </a:moveTo>
                <a:lnTo>
                  <a:pt x="38997" y="0"/>
                </a:lnTo>
                <a:lnTo>
                  <a:pt x="37597" y="1400"/>
                </a:lnTo>
                <a:lnTo>
                  <a:pt x="1400" y="1400"/>
                </a:lnTo>
                <a:close/>
              </a:path>
              <a:path fill="darken" w="38997" h="21600">
                <a:moveTo>
                  <a:pt x="38997" y="0"/>
                </a:moveTo>
                <a:lnTo>
                  <a:pt x="38997" y="21600"/>
                </a:lnTo>
                <a:lnTo>
                  <a:pt x="37597" y="20200"/>
                </a:lnTo>
                <a:lnTo>
                  <a:pt x="37597" y="1400"/>
                </a:lnTo>
                <a:close/>
              </a:path>
              <a:path fill="darkenLess" w="38997" h="21600">
                <a:moveTo>
                  <a:pt x="38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97" y="20200"/>
                </a:lnTo>
                <a:close/>
              </a:path>
              <a:path fill="lighten" w="38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97" h="21600">
                <a:moveTo>
                  <a:pt x="12492" y="3794"/>
                </a:moveTo>
                <a:lnTo>
                  <a:pt x="26505" y="10800"/>
                </a:lnTo>
                <a:lnTo>
                  <a:pt x="124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576360" cy="3585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4707" h="21600">
                <a:moveTo>
                  <a:pt x="0" y="0"/>
                </a:moveTo>
                <a:lnTo>
                  <a:pt x="34707" y="0"/>
                </a:lnTo>
                <a:lnTo>
                  <a:pt x="34707" y="21600"/>
                </a:lnTo>
                <a:lnTo>
                  <a:pt x="0" y="21600"/>
                </a:lnTo>
                <a:close/>
              </a:path>
              <a:path fill="lightenLess" w="34707" h="21600">
                <a:moveTo>
                  <a:pt x="0" y="0"/>
                </a:moveTo>
                <a:lnTo>
                  <a:pt x="34707" y="0"/>
                </a:lnTo>
                <a:lnTo>
                  <a:pt x="33307" y="1400"/>
                </a:lnTo>
                <a:lnTo>
                  <a:pt x="1400" y="1400"/>
                </a:lnTo>
                <a:close/>
              </a:path>
              <a:path fill="darken" w="34707" h="21600">
                <a:moveTo>
                  <a:pt x="34707" y="0"/>
                </a:moveTo>
                <a:lnTo>
                  <a:pt x="34707" y="21600"/>
                </a:lnTo>
                <a:lnTo>
                  <a:pt x="33307" y="20200"/>
                </a:lnTo>
                <a:lnTo>
                  <a:pt x="33307" y="1400"/>
                </a:lnTo>
                <a:close/>
              </a:path>
              <a:path fill="darkenLess" w="34707" h="21600">
                <a:moveTo>
                  <a:pt x="34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07" y="20200"/>
                </a:lnTo>
                <a:close/>
              </a:path>
              <a:path fill="lighten" w="34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707" h="21600">
                <a:moveTo>
                  <a:pt x="10347" y="10800"/>
                </a:moveTo>
                <a:lnTo>
                  <a:pt x="24360" y="3794"/>
                </a:lnTo>
                <a:lnTo>
                  <a:pt x="2436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7620120" cy="416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755640" y="5013360"/>
          <a:ext cx="7704000" cy="1225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5013360"/>
                    <a:ext cx="770400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028000" y="5950080"/>
            <a:ext cx="647640" cy="3585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8997" h="21600">
                <a:moveTo>
                  <a:pt x="0" y="0"/>
                </a:moveTo>
                <a:lnTo>
                  <a:pt x="38997" y="0"/>
                </a:lnTo>
                <a:lnTo>
                  <a:pt x="38997" y="21600"/>
                </a:lnTo>
                <a:lnTo>
                  <a:pt x="0" y="21600"/>
                </a:lnTo>
                <a:close/>
              </a:path>
              <a:path fill="lightenLess" w="38997" h="21600">
                <a:moveTo>
                  <a:pt x="0" y="0"/>
                </a:moveTo>
                <a:lnTo>
                  <a:pt x="38997" y="0"/>
                </a:lnTo>
                <a:lnTo>
                  <a:pt x="37597" y="1400"/>
                </a:lnTo>
                <a:lnTo>
                  <a:pt x="1400" y="1400"/>
                </a:lnTo>
                <a:close/>
              </a:path>
              <a:path fill="darken" w="38997" h="21600">
                <a:moveTo>
                  <a:pt x="38997" y="0"/>
                </a:moveTo>
                <a:lnTo>
                  <a:pt x="38997" y="21600"/>
                </a:lnTo>
                <a:lnTo>
                  <a:pt x="37597" y="20200"/>
                </a:lnTo>
                <a:lnTo>
                  <a:pt x="37597" y="1400"/>
                </a:lnTo>
                <a:close/>
              </a:path>
              <a:path fill="darkenLess" w="38997" h="21600">
                <a:moveTo>
                  <a:pt x="38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97" y="20200"/>
                </a:lnTo>
                <a:close/>
              </a:path>
              <a:path fill="lighten" w="38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97" h="21600">
                <a:moveTo>
                  <a:pt x="12492" y="3794"/>
                </a:moveTo>
                <a:lnTo>
                  <a:pt x="26505" y="10800"/>
                </a:lnTo>
                <a:lnTo>
                  <a:pt x="124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7380360" y="602136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576360" cy="3585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4707" h="21600">
                <a:moveTo>
                  <a:pt x="0" y="0"/>
                </a:moveTo>
                <a:lnTo>
                  <a:pt x="34707" y="0"/>
                </a:lnTo>
                <a:lnTo>
                  <a:pt x="34707" y="21600"/>
                </a:lnTo>
                <a:lnTo>
                  <a:pt x="0" y="21600"/>
                </a:lnTo>
                <a:close/>
              </a:path>
              <a:path fill="lightenLess" w="34707" h="21600">
                <a:moveTo>
                  <a:pt x="0" y="0"/>
                </a:moveTo>
                <a:lnTo>
                  <a:pt x="34707" y="0"/>
                </a:lnTo>
                <a:lnTo>
                  <a:pt x="33307" y="1400"/>
                </a:lnTo>
                <a:lnTo>
                  <a:pt x="1400" y="1400"/>
                </a:lnTo>
                <a:close/>
              </a:path>
              <a:path fill="darken" w="34707" h="21600">
                <a:moveTo>
                  <a:pt x="34707" y="0"/>
                </a:moveTo>
                <a:lnTo>
                  <a:pt x="34707" y="21600"/>
                </a:lnTo>
                <a:lnTo>
                  <a:pt x="33307" y="20200"/>
                </a:lnTo>
                <a:lnTo>
                  <a:pt x="33307" y="1400"/>
                </a:lnTo>
                <a:close/>
              </a:path>
              <a:path fill="darkenLess" w="34707" h="21600">
                <a:moveTo>
                  <a:pt x="34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07" y="20200"/>
                </a:lnTo>
                <a:close/>
              </a:path>
              <a:path fill="lighten" w="34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707" h="21600">
                <a:moveTo>
                  <a:pt x="10347" y="10800"/>
                </a:moveTo>
                <a:lnTo>
                  <a:pt x="24360" y="3794"/>
                </a:lnTo>
                <a:lnTo>
                  <a:pt x="2436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7122960" cy="5342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031840" y="5897520"/>
            <a:ext cx="49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ижды Герой Советского Сою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8028000" y="5950080"/>
            <a:ext cx="647640" cy="3585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8997" h="21600">
                <a:moveTo>
                  <a:pt x="0" y="0"/>
                </a:moveTo>
                <a:lnTo>
                  <a:pt x="38997" y="0"/>
                </a:lnTo>
                <a:lnTo>
                  <a:pt x="38997" y="21600"/>
                </a:lnTo>
                <a:lnTo>
                  <a:pt x="0" y="21600"/>
                </a:lnTo>
                <a:close/>
              </a:path>
              <a:path fill="lightenLess" w="38997" h="21600">
                <a:moveTo>
                  <a:pt x="0" y="0"/>
                </a:moveTo>
                <a:lnTo>
                  <a:pt x="38997" y="0"/>
                </a:lnTo>
                <a:lnTo>
                  <a:pt x="37597" y="1400"/>
                </a:lnTo>
                <a:lnTo>
                  <a:pt x="1400" y="1400"/>
                </a:lnTo>
                <a:close/>
              </a:path>
              <a:path fill="darken" w="38997" h="21600">
                <a:moveTo>
                  <a:pt x="38997" y="0"/>
                </a:moveTo>
                <a:lnTo>
                  <a:pt x="38997" y="21600"/>
                </a:lnTo>
                <a:lnTo>
                  <a:pt x="37597" y="20200"/>
                </a:lnTo>
                <a:lnTo>
                  <a:pt x="37597" y="1400"/>
                </a:lnTo>
                <a:close/>
              </a:path>
              <a:path fill="darkenLess" w="38997" h="21600">
                <a:moveTo>
                  <a:pt x="38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97" y="20200"/>
                </a:lnTo>
                <a:close/>
              </a:path>
              <a:path fill="lighten" w="38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97" h="21600">
                <a:moveTo>
                  <a:pt x="12492" y="3794"/>
                </a:moveTo>
                <a:lnTo>
                  <a:pt x="26505" y="10800"/>
                </a:lnTo>
                <a:lnTo>
                  <a:pt x="124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576360" cy="3585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4707" h="21600">
                <a:moveTo>
                  <a:pt x="0" y="0"/>
                </a:moveTo>
                <a:lnTo>
                  <a:pt x="34707" y="0"/>
                </a:lnTo>
                <a:lnTo>
                  <a:pt x="34707" y="21600"/>
                </a:lnTo>
                <a:lnTo>
                  <a:pt x="0" y="21600"/>
                </a:lnTo>
                <a:close/>
              </a:path>
              <a:path fill="lightenLess" w="34707" h="21600">
                <a:moveTo>
                  <a:pt x="0" y="0"/>
                </a:moveTo>
                <a:lnTo>
                  <a:pt x="34707" y="0"/>
                </a:lnTo>
                <a:lnTo>
                  <a:pt x="33307" y="1400"/>
                </a:lnTo>
                <a:lnTo>
                  <a:pt x="1400" y="1400"/>
                </a:lnTo>
                <a:close/>
              </a:path>
              <a:path fill="darken" w="34707" h="21600">
                <a:moveTo>
                  <a:pt x="34707" y="0"/>
                </a:moveTo>
                <a:lnTo>
                  <a:pt x="34707" y="21600"/>
                </a:lnTo>
                <a:lnTo>
                  <a:pt x="33307" y="20200"/>
                </a:lnTo>
                <a:lnTo>
                  <a:pt x="33307" y="1400"/>
                </a:lnTo>
                <a:close/>
              </a:path>
              <a:path fill="darkenLess" w="34707" h="21600">
                <a:moveTo>
                  <a:pt x="34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07" y="20200"/>
                </a:lnTo>
                <a:close/>
              </a:path>
              <a:path fill="lighten" w="34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707" h="21600">
                <a:moveTo>
                  <a:pt x="10347" y="10800"/>
                </a:moveTo>
                <a:lnTo>
                  <a:pt x="24360" y="3794"/>
                </a:lnTo>
                <a:lnTo>
                  <a:pt x="2436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7620120" cy="511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1332000" y="5589720"/>
          <a:ext cx="6137280" cy="874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5589720"/>
                    <a:ext cx="613728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028000" y="5950080"/>
            <a:ext cx="647640" cy="3585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8997" h="21600">
                <a:moveTo>
                  <a:pt x="0" y="0"/>
                </a:moveTo>
                <a:lnTo>
                  <a:pt x="38997" y="0"/>
                </a:lnTo>
                <a:lnTo>
                  <a:pt x="38997" y="21600"/>
                </a:lnTo>
                <a:lnTo>
                  <a:pt x="0" y="21600"/>
                </a:lnTo>
                <a:close/>
              </a:path>
              <a:path fill="lightenLess" w="38997" h="21600">
                <a:moveTo>
                  <a:pt x="0" y="0"/>
                </a:moveTo>
                <a:lnTo>
                  <a:pt x="38997" y="0"/>
                </a:lnTo>
                <a:lnTo>
                  <a:pt x="37597" y="1400"/>
                </a:lnTo>
                <a:lnTo>
                  <a:pt x="1400" y="1400"/>
                </a:lnTo>
                <a:close/>
              </a:path>
              <a:path fill="darken" w="38997" h="21600">
                <a:moveTo>
                  <a:pt x="38997" y="0"/>
                </a:moveTo>
                <a:lnTo>
                  <a:pt x="38997" y="21600"/>
                </a:lnTo>
                <a:lnTo>
                  <a:pt x="37597" y="20200"/>
                </a:lnTo>
                <a:lnTo>
                  <a:pt x="37597" y="1400"/>
                </a:lnTo>
                <a:close/>
              </a:path>
              <a:path fill="darkenLess" w="38997" h="21600">
                <a:moveTo>
                  <a:pt x="38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97" y="20200"/>
                </a:lnTo>
                <a:close/>
              </a:path>
              <a:path fill="lighten" w="38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97" h="21600">
                <a:moveTo>
                  <a:pt x="12492" y="3794"/>
                </a:moveTo>
                <a:lnTo>
                  <a:pt x="26505" y="10800"/>
                </a:lnTo>
                <a:lnTo>
                  <a:pt x="124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576360" cy="3585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4707" h="21600">
                <a:moveTo>
                  <a:pt x="0" y="0"/>
                </a:moveTo>
                <a:lnTo>
                  <a:pt x="34707" y="0"/>
                </a:lnTo>
                <a:lnTo>
                  <a:pt x="34707" y="21600"/>
                </a:lnTo>
                <a:lnTo>
                  <a:pt x="0" y="21600"/>
                </a:lnTo>
                <a:close/>
              </a:path>
              <a:path fill="lightenLess" w="34707" h="21600">
                <a:moveTo>
                  <a:pt x="0" y="0"/>
                </a:moveTo>
                <a:lnTo>
                  <a:pt x="34707" y="0"/>
                </a:lnTo>
                <a:lnTo>
                  <a:pt x="33307" y="1400"/>
                </a:lnTo>
                <a:lnTo>
                  <a:pt x="1400" y="1400"/>
                </a:lnTo>
                <a:close/>
              </a:path>
              <a:path fill="darken" w="34707" h="21600">
                <a:moveTo>
                  <a:pt x="34707" y="0"/>
                </a:moveTo>
                <a:lnTo>
                  <a:pt x="34707" y="21600"/>
                </a:lnTo>
                <a:lnTo>
                  <a:pt x="33307" y="20200"/>
                </a:lnTo>
                <a:lnTo>
                  <a:pt x="33307" y="1400"/>
                </a:lnTo>
                <a:close/>
              </a:path>
              <a:path fill="darkenLess" w="34707" h="21600">
                <a:moveTo>
                  <a:pt x="34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07" y="20200"/>
                </a:lnTo>
                <a:close/>
              </a:path>
              <a:path fill="lighten" w="34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707" h="21600">
                <a:moveTo>
                  <a:pt x="10347" y="10800"/>
                </a:moveTo>
                <a:lnTo>
                  <a:pt x="24360" y="3794"/>
                </a:lnTo>
                <a:lnTo>
                  <a:pt x="2436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76360" y="476280"/>
            <a:ext cx="51814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евое знамя ч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евое знамя части – особо почетный знак, отличающий особенности боевого предназначения, истории и заслуг  воинской части, указывающий на ее принадлежность к Вооруженным силам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3673440" cy="280836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172360" y="6093000"/>
            <a:ext cx="503280" cy="288720"/>
          </a:xfrm>
          <a:custGeom>
            <a:avLst/>
            <a:gdLst>
              <a:gd name="textAreaLeft" fmla="*/ 18720 w 503280"/>
              <a:gd name="textAreaRight" fmla="*/ 484560 w 5032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632" h="21600">
                <a:moveTo>
                  <a:pt x="0" y="0"/>
                </a:moveTo>
                <a:lnTo>
                  <a:pt x="37632" y="0"/>
                </a:lnTo>
                <a:lnTo>
                  <a:pt x="37632" y="21600"/>
                </a:lnTo>
                <a:lnTo>
                  <a:pt x="0" y="21600"/>
                </a:lnTo>
                <a:close/>
              </a:path>
              <a:path fill="lightenLess" w="37632" h="21600">
                <a:moveTo>
                  <a:pt x="0" y="0"/>
                </a:moveTo>
                <a:lnTo>
                  <a:pt x="37632" y="0"/>
                </a:lnTo>
                <a:lnTo>
                  <a:pt x="36232" y="1400"/>
                </a:lnTo>
                <a:lnTo>
                  <a:pt x="1400" y="1400"/>
                </a:lnTo>
                <a:close/>
              </a:path>
              <a:path fill="darken" w="37632" h="21600">
                <a:moveTo>
                  <a:pt x="37632" y="0"/>
                </a:moveTo>
                <a:lnTo>
                  <a:pt x="37632" y="21600"/>
                </a:lnTo>
                <a:lnTo>
                  <a:pt x="36232" y="20200"/>
                </a:lnTo>
                <a:lnTo>
                  <a:pt x="36232" y="1400"/>
                </a:lnTo>
                <a:close/>
              </a:path>
              <a:path fill="darkenLess" w="37632" h="21600">
                <a:moveTo>
                  <a:pt x="37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32" y="20200"/>
                </a:lnTo>
                <a:close/>
              </a:path>
              <a:path fill="lighten" w="37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32" h="21600">
                <a:moveTo>
                  <a:pt x="11809" y="3794"/>
                </a:moveTo>
                <a:lnTo>
                  <a:pt x="25822" y="10800"/>
                </a:lnTo>
                <a:lnTo>
                  <a:pt x="1180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7451640" y="602136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73" h="21600">
                <a:moveTo>
                  <a:pt x="10330" y="10800"/>
                </a:moveTo>
                <a:lnTo>
                  <a:pt x="24343" y="3794"/>
                </a:lnTo>
                <a:lnTo>
                  <a:pt x="243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354348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356000" y="620640"/>
            <a:ext cx="45370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незапамятных времен наши предки почитали знамена свои. Разным было их наименование: стяг, форугвь, штандар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яг был местом сбора для войск, он «стягивал» отдельные отря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всегда Знамя олицетворяло честь, доблесть, славу, верность Отечеству, стремление к поб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172360" y="60930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7596360" y="60930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rcRect l="0" t="-768" r="61707" b="0"/>
          <a:stretch/>
        </p:blipFill>
        <p:spPr>
          <a:xfrm>
            <a:off x="395280" y="260280"/>
            <a:ext cx="2376360" cy="4689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03640" y="692280"/>
            <a:ext cx="5472000" cy="59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 веке Пет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л сложившиеся в веках традиции почитания знамени и ввел в армии клятву перед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 Обещаюсь и клянусь всемогущим Богом, что от команды и знамя, где принадлежу, хотя в поле, обозе или гарнизоне, никогда не отлучаться, но за оным, пока жив, следовать буд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рата знамени влекла жестокое наказ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оторые…знамя свое или штандарт до последней капли крови оборонять не будут, оные имеют ошельмованы быть, а когда поймаются, убиты буду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 наши дни при утрате Боевого Знамени часть расформировывается, а виновные подлежат су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8172360" y="6093000"/>
            <a:ext cx="503280" cy="288720"/>
          </a:xfrm>
          <a:custGeom>
            <a:avLst/>
            <a:gdLst>
              <a:gd name="textAreaLeft" fmla="*/ 18720 w 503280"/>
              <a:gd name="textAreaRight" fmla="*/ 484560 w 5032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632" h="21600">
                <a:moveTo>
                  <a:pt x="0" y="0"/>
                </a:moveTo>
                <a:lnTo>
                  <a:pt x="37632" y="0"/>
                </a:lnTo>
                <a:lnTo>
                  <a:pt x="37632" y="21600"/>
                </a:lnTo>
                <a:lnTo>
                  <a:pt x="0" y="21600"/>
                </a:lnTo>
                <a:close/>
              </a:path>
              <a:path fill="lightenLess" w="37632" h="21600">
                <a:moveTo>
                  <a:pt x="0" y="0"/>
                </a:moveTo>
                <a:lnTo>
                  <a:pt x="37632" y="0"/>
                </a:lnTo>
                <a:lnTo>
                  <a:pt x="36232" y="1400"/>
                </a:lnTo>
                <a:lnTo>
                  <a:pt x="1400" y="1400"/>
                </a:lnTo>
                <a:close/>
              </a:path>
              <a:path fill="darken" w="37632" h="21600">
                <a:moveTo>
                  <a:pt x="37632" y="0"/>
                </a:moveTo>
                <a:lnTo>
                  <a:pt x="37632" y="21600"/>
                </a:lnTo>
                <a:lnTo>
                  <a:pt x="36232" y="20200"/>
                </a:lnTo>
                <a:lnTo>
                  <a:pt x="36232" y="1400"/>
                </a:lnTo>
                <a:close/>
              </a:path>
              <a:path fill="darkenLess" w="37632" h="21600">
                <a:moveTo>
                  <a:pt x="37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32" y="20200"/>
                </a:lnTo>
                <a:close/>
              </a:path>
              <a:path fill="lighten" w="37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32" h="21600">
                <a:moveTo>
                  <a:pt x="11809" y="3794"/>
                </a:moveTo>
                <a:lnTo>
                  <a:pt x="25822" y="10800"/>
                </a:lnTo>
                <a:lnTo>
                  <a:pt x="1180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7596360" y="60930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4360" y="549360"/>
            <a:ext cx="7704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жесточенных схватках слава доставалась тому, кому удавалось пробиться к неприятельскому знамени, подрубить его и водрузить свое зна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узеях России хранятся сотни шведских знамен эпохи Кар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усских знамен короля Фридриха, армий Наполеона и Гитл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ни в одном музее мира нет Российских знамен, взятых в б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57340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ид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8172360" y="6093000"/>
            <a:ext cx="503280" cy="288720"/>
          </a:xfrm>
          <a:custGeom>
            <a:avLst/>
            <a:gdLst>
              <a:gd name="textAreaLeft" fmla="*/ 18720 w 503280"/>
              <a:gd name="textAreaRight" fmla="*/ 484560 w 5032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632" h="21600">
                <a:moveTo>
                  <a:pt x="0" y="0"/>
                </a:moveTo>
                <a:lnTo>
                  <a:pt x="37632" y="0"/>
                </a:lnTo>
                <a:lnTo>
                  <a:pt x="37632" y="21600"/>
                </a:lnTo>
                <a:lnTo>
                  <a:pt x="0" y="21600"/>
                </a:lnTo>
                <a:close/>
              </a:path>
              <a:path fill="lightenLess" w="37632" h="21600">
                <a:moveTo>
                  <a:pt x="0" y="0"/>
                </a:moveTo>
                <a:lnTo>
                  <a:pt x="37632" y="0"/>
                </a:lnTo>
                <a:lnTo>
                  <a:pt x="36232" y="1400"/>
                </a:lnTo>
                <a:lnTo>
                  <a:pt x="1400" y="1400"/>
                </a:lnTo>
                <a:close/>
              </a:path>
              <a:path fill="darken" w="37632" h="21600">
                <a:moveTo>
                  <a:pt x="37632" y="0"/>
                </a:moveTo>
                <a:lnTo>
                  <a:pt x="37632" y="21600"/>
                </a:lnTo>
                <a:lnTo>
                  <a:pt x="36232" y="20200"/>
                </a:lnTo>
                <a:lnTo>
                  <a:pt x="36232" y="1400"/>
                </a:lnTo>
                <a:close/>
              </a:path>
              <a:path fill="darkenLess" w="37632" h="21600">
                <a:moveTo>
                  <a:pt x="37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32" y="20200"/>
                </a:lnTo>
                <a:close/>
              </a:path>
              <a:path fill="lighten" w="37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32" h="21600">
                <a:moveTo>
                  <a:pt x="11809" y="3794"/>
                </a:moveTo>
                <a:lnTo>
                  <a:pt x="25822" y="10800"/>
                </a:lnTo>
                <a:lnTo>
                  <a:pt x="1180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7596360" y="60930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5:46:41Z</dcterms:created>
  <dc:creator>Home</dc:creator>
  <dc:description/>
  <dc:language>en-US</dc:language>
  <cp:lastModifiedBy>User</cp:lastModifiedBy>
  <dcterms:modified xsi:type="dcterms:W3CDTF">2008-02-18T13:49:14Z</dcterms:modified>
  <cp:revision>10</cp:revision>
  <dc:subject/>
  <dc:title>Воинская честь</dc:title>
</cp:coreProperties>
</file>