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8.jpeg" ContentType="image/jpeg"/>
  <Override PartName="/ppt/media/image7.jpeg" ContentType="image/jpeg"/>
  <Override PartName="/ppt/media/image6.wmf" ContentType="image/x-wmf"/>
  <Override PartName="/ppt/media/image19.jpeg" ContentType="image/jpeg"/>
  <Override PartName="/ppt/media/image9.wmf" ContentType="image/x-wmf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22.jpeg" ContentType="image/jpeg"/>
  <Override PartName="/ppt/media/image1.jpeg" ContentType="image/jpeg"/>
  <Override PartName="/ppt/media/image4.wmf" ContentType="image/x-wmf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F67F-16C1-44EA-9F21-C421B91F7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AD6D-0142-42C8-B47F-02D188AD4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BE77-0F4D-4A49-A1CB-5AF49A485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3B8F-21DE-4457-8D2A-5F0B46B7C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FB55-3B51-4BDA-A98B-C21991797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8535-10E9-49F4-A1C1-5C358BDD3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5420-2F29-42C1-8963-A454147C0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AE8F-7EAA-412F-93BC-115C8EB09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C3CA-1473-4CEF-A15F-3A6A7EAB5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2A21-5C68-4E57-9528-AA16A332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F8BA-64CD-4B17-BD1F-0F0E91BA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6A09-9D95-4234-BF63-FC6A817E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BD1C3-0E20-42A6-9445-6636955A6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package" Target="../embeddings/oleObject1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package" Target="../embeddings/oleObject1.doc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package" Target="../embeddings/oleObject1.doc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%7BB32F2B43-36F8-4221-A37B-05D8E98D5AA8%7D.avi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4360" y="476280"/>
            <a:ext cx="417348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инская че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60280"/>
            <a:ext cx="6400800" cy="17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то внутренние нравственные качества и убеждения воина (воинского коллектива), характеризующие его поведение и отношение к выполнению воинского дол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55640" y="692280"/>
            <a:ext cx="3954600" cy="2649240"/>
          </a:xfrm>
          <a:prstGeom prst="rect">
            <a:avLst/>
          </a:prstGeom>
          <a:ln w="0">
            <a:noFill/>
          </a:ln>
        </p:spPr>
      </p:pic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8028000" y="5950080"/>
            <a:ext cx="647640" cy="3585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8997" h="21600">
                <a:moveTo>
                  <a:pt x="0" y="0"/>
                </a:moveTo>
                <a:lnTo>
                  <a:pt x="38997" y="0"/>
                </a:lnTo>
                <a:lnTo>
                  <a:pt x="38997" y="21600"/>
                </a:lnTo>
                <a:lnTo>
                  <a:pt x="0" y="21600"/>
                </a:lnTo>
                <a:close/>
              </a:path>
              <a:path fill="lightenLess" w="38997" h="21600">
                <a:moveTo>
                  <a:pt x="0" y="0"/>
                </a:moveTo>
                <a:lnTo>
                  <a:pt x="38997" y="0"/>
                </a:lnTo>
                <a:lnTo>
                  <a:pt x="37597" y="1400"/>
                </a:lnTo>
                <a:lnTo>
                  <a:pt x="1400" y="1400"/>
                </a:lnTo>
                <a:close/>
              </a:path>
              <a:path fill="darken" w="38997" h="21600">
                <a:moveTo>
                  <a:pt x="38997" y="0"/>
                </a:moveTo>
                <a:lnTo>
                  <a:pt x="38997" y="21600"/>
                </a:lnTo>
                <a:lnTo>
                  <a:pt x="37597" y="20200"/>
                </a:lnTo>
                <a:lnTo>
                  <a:pt x="37597" y="1400"/>
                </a:lnTo>
                <a:close/>
              </a:path>
              <a:path fill="darkenLess" w="38997" h="21600">
                <a:moveTo>
                  <a:pt x="389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597" y="20200"/>
                </a:lnTo>
                <a:close/>
              </a:path>
              <a:path fill="lighten" w="389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997" h="21600">
                <a:moveTo>
                  <a:pt x="12492" y="3794"/>
                </a:moveTo>
                <a:lnTo>
                  <a:pt x="26505" y="10800"/>
                </a:lnTo>
                <a:lnTo>
                  <a:pt x="1249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95280" y="297000"/>
            <a:ext cx="3529080" cy="2646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643280" y="2852640"/>
            <a:ext cx="4176720" cy="3132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356000" y="836640"/>
            <a:ext cx="42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95640" y="549360"/>
            <a:ext cx="4681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мая 2001 года состоялась торжественная церемония вручения Президентом России Знамени Вооруженных сил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1280" y="3357720"/>
            <a:ext cx="381636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Штандарт во образе креста Святого Андрея» - Андреевский флаг является Знаменем Воено-Морского флота России и признан одним из красивейших в ми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вержден Указом Президента Российской Федера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6.07.1992 го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" action="ppaction://hlinkshowjump?jump=nextslide"/>
          </p:cNvPr>
          <p:cNvSpPr/>
          <p:nvPr/>
        </p:nvSpPr>
        <p:spPr>
          <a:xfrm>
            <a:off x="8028000" y="6165720"/>
            <a:ext cx="647640" cy="35892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8958" h="21600">
                <a:moveTo>
                  <a:pt x="0" y="0"/>
                </a:moveTo>
                <a:lnTo>
                  <a:pt x="38958" y="0"/>
                </a:lnTo>
                <a:lnTo>
                  <a:pt x="38958" y="21600"/>
                </a:lnTo>
                <a:lnTo>
                  <a:pt x="0" y="21600"/>
                </a:lnTo>
                <a:close/>
              </a:path>
              <a:path fill="lightenLess" w="38958" h="21600">
                <a:moveTo>
                  <a:pt x="0" y="0"/>
                </a:moveTo>
                <a:lnTo>
                  <a:pt x="38958" y="0"/>
                </a:lnTo>
                <a:lnTo>
                  <a:pt x="37558" y="1400"/>
                </a:lnTo>
                <a:lnTo>
                  <a:pt x="1400" y="1400"/>
                </a:lnTo>
                <a:close/>
              </a:path>
              <a:path fill="darken" w="38958" h="21600">
                <a:moveTo>
                  <a:pt x="38958" y="0"/>
                </a:moveTo>
                <a:lnTo>
                  <a:pt x="38958" y="21600"/>
                </a:lnTo>
                <a:lnTo>
                  <a:pt x="37558" y="20200"/>
                </a:lnTo>
                <a:lnTo>
                  <a:pt x="37558" y="1400"/>
                </a:lnTo>
                <a:close/>
              </a:path>
              <a:path fill="darkenLess" w="38958" h="21600">
                <a:moveTo>
                  <a:pt x="389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558" y="20200"/>
                </a:lnTo>
                <a:close/>
              </a:path>
              <a:path fill="lighten" w="389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958" h="21600">
                <a:moveTo>
                  <a:pt x="12472" y="3794"/>
                </a:moveTo>
                <a:lnTo>
                  <a:pt x="26485" y="10800"/>
                </a:lnTo>
                <a:lnTo>
                  <a:pt x="1247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" action="ppaction://hlinkshowjump?jump=previousslide"/>
          </p:cNvPr>
          <p:cNvSpPr/>
          <p:nvPr/>
        </p:nvSpPr>
        <p:spPr>
          <a:xfrm>
            <a:off x="7380360" y="6165720"/>
            <a:ext cx="576360" cy="35892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4673" h="21600">
                <a:moveTo>
                  <a:pt x="0" y="0"/>
                </a:moveTo>
                <a:lnTo>
                  <a:pt x="34673" y="0"/>
                </a:lnTo>
                <a:lnTo>
                  <a:pt x="34673" y="21600"/>
                </a:lnTo>
                <a:lnTo>
                  <a:pt x="0" y="21600"/>
                </a:lnTo>
                <a:close/>
              </a:path>
              <a:path fill="lightenLess" w="34673" h="21600">
                <a:moveTo>
                  <a:pt x="0" y="0"/>
                </a:moveTo>
                <a:lnTo>
                  <a:pt x="34673" y="0"/>
                </a:lnTo>
                <a:lnTo>
                  <a:pt x="33273" y="1400"/>
                </a:lnTo>
                <a:lnTo>
                  <a:pt x="1400" y="1400"/>
                </a:lnTo>
                <a:close/>
              </a:path>
              <a:path fill="darken" w="34673" h="21600">
                <a:moveTo>
                  <a:pt x="34673" y="0"/>
                </a:moveTo>
                <a:lnTo>
                  <a:pt x="34673" y="21600"/>
                </a:lnTo>
                <a:lnTo>
                  <a:pt x="33273" y="20200"/>
                </a:lnTo>
                <a:lnTo>
                  <a:pt x="33273" y="1400"/>
                </a:lnTo>
                <a:close/>
              </a:path>
              <a:path fill="darkenLess" w="34673" h="21600">
                <a:moveTo>
                  <a:pt x="3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273" y="20200"/>
                </a:lnTo>
                <a:close/>
              </a:path>
              <a:path fill="lighten" w="3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673" h="21600">
                <a:moveTo>
                  <a:pt x="10330" y="10800"/>
                </a:moveTo>
                <a:lnTo>
                  <a:pt x="24343" y="3794"/>
                </a:lnTo>
                <a:lnTo>
                  <a:pt x="2434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тория государственных наград с древних времен до 1917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2349000"/>
            <a:ext cx="6400800" cy="32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 17 века четкой наградной системы в Российском государстве не бы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ины в качестве наград получали доспехи, золотые монеты, оружие и даже домашнюю жив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истории древних веков есть упоминание о первом знаке отличия за военную храбрость – гривне, золотом или серебряном обруче, который носили на ш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" action="ppaction://hlinkshowjump?jump=nextslide"/>
          </p:cNvPr>
          <p:cNvSpPr/>
          <p:nvPr/>
        </p:nvSpPr>
        <p:spPr>
          <a:xfrm>
            <a:off x="8459640" y="6093000"/>
            <a:ext cx="360360" cy="431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1640"/>
              <a:gd name="textAreaBottom" fmla="*/ 408600 h 431640"/>
            </a:gdLst>
            <a:ahLst/>
            <a:rect l="textAreaLeft" t="textAreaTop" r="textAreaRight" b="textAreaBottom"/>
            <a:pathLst>
              <a:path w="21600" h="25868">
                <a:moveTo>
                  <a:pt x="0" y="0"/>
                </a:moveTo>
                <a:lnTo>
                  <a:pt x="21600" y="0"/>
                </a:lnTo>
                <a:lnTo>
                  <a:pt x="21600" y="25868"/>
                </a:lnTo>
                <a:lnTo>
                  <a:pt x="0" y="25868"/>
                </a:lnTo>
                <a:close/>
              </a:path>
              <a:path fill="lightenLess" w="21600" h="2586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68">
                <a:moveTo>
                  <a:pt x="21600" y="0"/>
                </a:moveTo>
                <a:lnTo>
                  <a:pt x="21600" y="25868"/>
                </a:lnTo>
                <a:lnTo>
                  <a:pt x="20200" y="24468"/>
                </a:lnTo>
                <a:lnTo>
                  <a:pt x="20200" y="1400"/>
                </a:lnTo>
                <a:close/>
              </a:path>
              <a:path fill="darkenLess" w="21600" h="25868">
                <a:moveTo>
                  <a:pt x="21600" y="25868"/>
                </a:moveTo>
                <a:lnTo>
                  <a:pt x="0" y="25868"/>
                </a:lnTo>
                <a:lnTo>
                  <a:pt x="1400" y="24468"/>
                </a:lnTo>
                <a:lnTo>
                  <a:pt x="20200" y="24468"/>
                </a:lnTo>
                <a:close/>
              </a:path>
              <a:path fill="lighten" w="21600" h="25868">
                <a:moveTo>
                  <a:pt x="0" y="2586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68"/>
                </a:lnTo>
                <a:close/>
              </a:path>
              <a:path fill="darken" w="21600" h="25868">
                <a:moveTo>
                  <a:pt x="3794" y="5928"/>
                </a:moveTo>
                <a:lnTo>
                  <a:pt x="17806" y="12934"/>
                </a:lnTo>
                <a:lnTo>
                  <a:pt x="3794" y="1994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previousslide"/>
          </p:cNvPr>
          <p:cNvSpPr/>
          <p:nvPr/>
        </p:nvSpPr>
        <p:spPr>
          <a:xfrm>
            <a:off x="7740720" y="6165720"/>
            <a:ext cx="576360" cy="35892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4673" h="21600">
                <a:moveTo>
                  <a:pt x="0" y="0"/>
                </a:moveTo>
                <a:lnTo>
                  <a:pt x="34673" y="0"/>
                </a:lnTo>
                <a:lnTo>
                  <a:pt x="34673" y="21600"/>
                </a:lnTo>
                <a:lnTo>
                  <a:pt x="0" y="21600"/>
                </a:lnTo>
                <a:close/>
              </a:path>
              <a:path fill="lightenLess" w="34673" h="21600">
                <a:moveTo>
                  <a:pt x="0" y="0"/>
                </a:moveTo>
                <a:lnTo>
                  <a:pt x="34673" y="0"/>
                </a:lnTo>
                <a:lnTo>
                  <a:pt x="33273" y="1400"/>
                </a:lnTo>
                <a:lnTo>
                  <a:pt x="1400" y="1400"/>
                </a:lnTo>
                <a:close/>
              </a:path>
              <a:path fill="darken" w="34673" h="21600">
                <a:moveTo>
                  <a:pt x="34673" y="0"/>
                </a:moveTo>
                <a:lnTo>
                  <a:pt x="34673" y="21600"/>
                </a:lnTo>
                <a:lnTo>
                  <a:pt x="33273" y="20200"/>
                </a:lnTo>
                <a:lnTo>
                  <a:pt x="33273" y="1400"/>
                </a:lnTo>
                <a:close/>
              </a:path>
              <a:path fill="darkenLess" w="34673" h="21600">
                <a:moveTo>
                  <a:pt x="3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273" y="20200"/>
                </a:lnTo>
                <a:close/>
              </a:path>
              <a:path fill="lighten" w="3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673" h="21600">
                <a:moveTo>
                  <a:pt x="10330" y="10800"/>
                </a:moveTo>
                <a:lnTo>
                  <a:pt x="24343" y="3794"/>
                </a:lnTo>
                <a:lnTo>
                  <a:pt x="2434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763640" y="171360"/>
            <a:ext cx="5904000" cy="4049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900000" y="4508640"/>
            <a:ext cx="77043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698 году Пет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ак знак особой монаршей милости установил награждение орден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ой высшей российской наградой стал орден Святого Апостола Андрея Первозванн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" action="ppaction://hlinkshowjump?jump=nextslide"/>
          </p:cNvPr>
          <p:cNvSpPr/>
          <p:nvPr/>
        </p:nvSpPr>
        <p:spPr>
          <a:xfrm>
            <a:off x="8459640" y="6093000"/>
            <a:ext cx="360360" cy="431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1640"/>
              <a:gd name="textAreaBottom" fmla="*/ 408600 h 431640"/>
            </a:gdLst>
            <a:ahLst/>
            <a:rect l="textAreaLeft" t="textAreaTop" r="textAreaRight" b="textAreaBottom"/>
            <a:pathLst>
              <a:path w="21600" h="25868">
                <a:moveTo>
                  <a:pt x="0" y="0"/>
                </a:moveTo>
                <a:lnTo>
                  <a:pt x="21600" y="0"/>
                </a:lnTo>
                <a:lnTo>
                  <a:pt x="21600" y="25868"/>
                </a:lnTo>
                <a:lnTo>
                  <a:pt x="0" y="25868"/>
                </a:lnTo>
                <a:close/>
              </a:path>
              <a:path fill="lightenLess" w="21600" h="2586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68">
                <a:moveTo>
                  <a:pt x="21600" y="0"/>
                </a:moveTo>
                <a:lnTo>
                  <a:pt x="21600" y="25868"/>
                </a:lnTo>
                <a:lnTo>
                  <a:pt x="20200" y="24468"/>
                </a:lnTo>
                <a:lnTo>
                  <a:pt x="20200" y="1400"/>
                </a:lnTo>
                <a:close/>
              </a:path>
              <a:path fill="darkenLess" w="21600" h="25868">
                <a:moveTo>
                  <a:pt x="21600" y="25868"/>
                </a:moveTo>
                <a:lnTo>
                  <a:pt x="0" y="25868"/>
                </a:lnTo>
                <a:lnTo>
                  <a:pt x="1400" y="24468"/>
                </a:lnTo>
                <a:lnTo>
                  <a:pt x="20200" y="24468"/>
                </a:lnTo>
                <a:close/>
              </a:path>
              <a:path fill="lighten" w="21600" h="25868">
                <a:moveTo>
                  <a:pt x="0" y="2586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68"/>
                </a:lnTo>
                <a:close/>
              </a:path>
              <a:path fill="darken" w="21600" h="25868">
                <a:moveTo>
                  <a:pt x="3794" y="5928"/>
                </a:moveTo>
                <a:lnTo>
                  <a:pt x="17806" y="12934"/>
                </a:lnTo>
                <a:lnTo>
                  <a:pt x="3794" y="1994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previousslide"/>
          </p:cNvPr>
          <p:cNvSpPr/>
          <p:nvPr/>
        </p:nvSpPr>
        <p:spPr>
          <a:xfrm>
            <a:off x="7812000" y="6093000"/>
            <a:ext cx="505080" cy="43164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72" h="21600">
                <a:moveTo>
                  <a:pt x="0" y="0"/>
                </a:moveTo>
                <a:lnTo>
                  <a:pt x="25272" y="0"/>
                </a:lnTo>
                <a:lnTo>
                  <a:pt x="25272" y="21600"/>
                </a:lnTo>
                <a:lnTo>
                  <a:pt x="0" y="21600"/>
                </a:lnTo>
                <a:close/>
              </a:path>
              <a:path fill="lightenLess" w="25272" h="21600">
                <a:moveTo>
                  <a:pt x="0" y="0"/>
                </a:moveTo>
                <a:lnTo>
                  <a:pt x="25272" y="0"/>
                </a:lnTo>
                <a:lnTo>
                  <a:pt x="23872" y="1400"/>
                </a:lnTo>
                <a:lnTo>
                  <a:pt x="1400" y="1400"/>
                </a:lnTo>
                <a:close/>
              </a:path>
              <a:path fill="darken" w="25272" h="21600">
                <a:moveTo>
                  <a:pt x="25272" y="0"/>
                </a:moveTo>
                <a:lnTo>
                  <a:pt x="25272" y="21600"/>
                </a:lnTo>
                <a:lnTo>
                  <a:pt x="23872" y="20200"/>
                </a:lnTo>
                <a:lnTo>
                  <a:pt x="23872" y="1400"/>
                </a:lnTo>
                <a:close/>
              </a:path>
              <a:path fill="darkenLess" w="25272" h="21600">
                <a:moveTo>
                  <a:pt x="252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72" y="20200"/>
                </a:lnTo>
                <a:close/>
              </a:path>
              <a:path fill="lighten" w="252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72" h="21600">
                <a:moveTo>
                  <a:pt x="5630" y="10800"/>
                </a:moveTo>
                <a:lnTo>
                  <a:pt x="19642" y="3794"/>
                </a:lnTo>
                <a:lnTo>
                  <a:pt x="1964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43280" y="189000"/>
            <a:ext cx="3959280" cy="29685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643280" y="3357720"/>
            <a:ext cx="3672000" cy="2754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68360" y="549360"/>
            <a:ext cx="381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714 году в честь жены Петра 1 был учрежден первый женский орден – Святой великомученницы Екатер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4360" y="4149720"/>
            <a:ext cx="360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 чуть позже, в 1725 году – орден Святого Александра Невск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8459640" y="6237360"/>
            <a:ext cx="360360" cy="431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1640"/>
              <a:gd name="textAreaBottom" fmla="*/ 408600 h 431640"/>
            </a:gdLst>
            <a:ahLst/>
            <a:rect l="textAreaLeft" t="textAreaTop" r="textAreaRight" b="textAreaBottom"/>
            <a:pathLst>
              <a:path w="21600" h="25868">
                <a:moveTo>
                  <a:pt x="0" y="0"/>
                </a:moveTo>
                <a:lnTo>
                  <a:pt x="21600" y="0"/>
                </a:lnTo>
                <a:lnTo>
                  <a:pt x="21600" y="25868"/>
                </a:lnTo>
                <a:lnTo>
                  <a:pt x="0" y="25868"/>
                </a:lnTo>
                <a:close/>
              </a:path>
              <a:path fill="lightenLess" w="21600" h="2586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68">
                <a:moveTo>
                  <a:pt x="21600" y="0"/>
                </a:moveTo>
                <a:lnTo>
                  <a:pt x="21600" y="25868"/>
                </a:lnTo>
                <a:lnTo>
                  <a:pt x="20200" y="24468"/>
                </a:lnTo>
                <a:lnTo>
                  <a:pt x="20200" y="1400"/>
                </a:lnTo>
                <a:close/>
              </a:path>
              <a:path fill="darkenLess" w="21600" h="25868">
                <a:moveTo>
                  <a:pt x="21600" y="25868"/>
                </a:moveTo>
                <a:lnTo>
                  <a:pt x="0" y="25868"/>
                </a:lnTo>
                <a:lnTo>
                  <a:pt x="1400" y="24468"/>
                </a:lnTo>
                <a:lnTo>
                  <a:pt x="20200" y="24468"/>
                </a:lnTo>
                <a:close/>
              </a:path>
              <a:path fill="lighten" w="21600" h="25868">
                <a:moveTo>
                  <a:pt x="0" y="2586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68"/>
                </a:lnTo>
                <a:close/>
              </a:path>
              <a:path fill="darken" w="21600" h="25868">
                <a:moveTo>
                  <a:pt x="3794" y="5928"/>
                </a:moveTo>
                <a:lnTo>
                  <a:pt x="17806" y="12934"/>
                </a:lnTo>
                <a:lnTo>
                  <a:pt x="3794" y="1994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previousslide"/>
          </p:cNvPr>
          <p:cNvSpPr/>
          <p:nvPr/>
        </p:nvSpPr>
        <p:spPr>
          <a:xfrm>
            <a:off x="7812000" y="6237360"/>
            <a:ext cx="505080" cy="43164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72" h="21600">
                <a:moveTo>
                  <a:pt x="0" y="0"/>
                </a:moveTo>
                <a:lnTo>
                  <a:pt x="25272" y="0"/>
                </a:lnTo>
                <a:lnTo>
                  <a:pt x="25272" y="21600"/>
                </a:lnTo>
                <a:lnTo>
                  <a:pt x="0" y="21600"/>
                </a:lnTo>
                <a:close/>
              </a:path>
              <a:path fill="lightenLess" w="25272" h="21600">
                <a:moveTo>
                  <a:pt x="0" y="0"/>
                </a:moveTo>
                <a:lnTo>
                  <a:pt x="25272" y="0"/>
                </a:lnTo>
                <a:lnTo>
                  <a:pt x="23872" y="1400"/>
                </a:lnTo>
                <a:lnTo>
                  <a:pt x="1400" y="1400"/>
                </a:lnTo>
                <a:close/>
              </a:path>
              <a:path fill="darken" w="25272" h="21600">
                <a:moveTo>
                  <a:pt x="25272" y="0"/>
                </a:moveTo>
                <a:lnTo>
                  <a:pt x="25272" y="21600"/>
                </a:lnTo>
                <a:lnTo>
                  <a:pt x="23872" y="20200"/>
                </a:lnTo>
                <a:lnTo>
                  <a:pt x="23872" y="1400"/>
                </a:lnTo>
                <a:close/>
              </a:path>
              <a:path fill="darkenLess" w="25272" h="21600">
                <a:moveTo>
                  <a:pt x="252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72" y="20200"/>
                </a:lnTo>
                <a:close/>
              </a:path>
              <a:path fill="lighten" w="252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72" h="21600">
                <a:moveTo>
                  <a:pt x="5630" y="10800"/>
                </a:moveTo>
                <a:lnTo>
                  <a:pt x="19642" y="3794"/>
                </a:lnTo>
                <a:lnTo>
                  <a:pt x="1964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763640" y="404640"/>
            <a:ext cx="5761080" cy="4319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971640" y="4869000"/>
            <a:ext cx="763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арствование Екатерин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л учрежден орден Святого Великомученика и Победоносца Георгия. Согласно статуса орден вручался как дворянину, так и безродному офицеру, что автоматически давало последнему право на потомственное дворян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previousslide"/>
          </p:cNvPr>
          <p:cNvSpPr/>
          <p:nvPr/>
        </p:nvSpPr>
        <p:spPr>
          <a:xfrm>
            <a:off x="7812000" y="6093000"/>
            <a:ext cx="505080" cy="43164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72" h="21600">
                <a:moveTo>
                  <a:pt x="0" y="0"/>
                </a:moveTo>
                <a:lnTo>
                  <a:pt x="25272" y="0"/>
                </a:lnTo>
                <a:lnTo>
                  <a:pt x="25272" y="21600"/>
                </a:lnTo>
                <a:lnTo>
                  <a:pt x="0" y="21600"/>
                </a:lnTo>
                <a:close/>
              </a:path>
              <a:path fill="lightenLess" w="25272" h="21600">
                <a:moveTo>
                  <a:pt x="0" y="0"/>
                </a:moveTo>
                <a:lnTo>
                  <a:pt x="25272" y="0"/>
                </a:lnTo>
                <a:lnTo>
                  <a:pt x="23872" y="1400"/>
                </a:lnTo>
                <a:lnTo>
                  <a:pt x="1400" y="1400"/>
                </a:lnTo>
                <a:close/>
              </a:path>
              <a:path fill="darken" w="25272" h="21600">
                <a:moveTo>
                  <a:pt x="25272" y="0"/>
                </a:moveTo>
                <a:lnTo>
                  <a:pt x="25272" y="21600"/>
                </a:lnTo>
                <a:lnTo>
                  <a:pt x="23872" y="20200"/>
                </a:lnTo>
                <a:lnTo>
                  <a:pt x="23872" y="1400"/>
                </a:lnTo>
                <a:close/>
              </a:path>
              <a:path fill="darkenLess" w="25272" h="21600">
                <a:moveTo>
                  <a:pt x="252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72" y="20200"/>
                </a:lnTo>
                <a:close/>
              </a:path>
              <a:path fill="lighten" w="252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72" h="21600">
                <a:moveTo>
                  <a:pt x="5630" y="10800"/>
                </a:moveTo>
                <a:lnTo>
                  <a:pt x="19642" y="3794"/>
                </a:lnTo>
                <a:lnTo>
                  <a:pt x="1964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nextslide"/>
          </p:cNvPr>
          <p:cNvSpPr/>
          <p:nvPr/>
        </p:nvSpPr>
        <p:spPr>
          <a:xfrm>
            <a:off x="8459640" y="6093000"/>
            <a:ext cx="360360" cy="431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1640"/>
              <a:gd name="textAreaBottom" fmla="*/ 408600 h 431640"/>
            </a:gdLst>
            <a:ahLst/>
            <a:rect l="textAreaLeft" t="textAreaTop" r="textAreaRight" b="textAreaBottom"/>
            <a:pathLst>
              <a:path w="21600" h="25868">
                <a:moveTo>
                  <a:pt x="0" y="0"/>
                </a:moveTo>
                <a:lnTo>
                  <a:pt x="21600" y="0"/>
                </a:lnTo>
                <a:lnTo>
                  <a:pt x="21600" y="25868"/>
                </a:lnTo>
                <a:lnTo>
                  <a:pt x="0" y="25868"/>
                </a:lnTo>
                <a:close/>
              </a:path>
              <a:path fill="lightenLess" w="21600" h="2586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68">
                <a:moveTo>
                  <a:pt x="21600" y="0"/>
                </a:moveTo>
                <a:lnTo>
                  <a:pt x="21600" y="25868"/>
                </a:lnTo>
                <a:lnTo>
                  <a:pt x="20200" y="24468"/>
                </a:lnTo>
                <a:lnTo>
                  <a:pt x="20200" y="1400"/>
                </a:lnTo>
                <a:close/>
              </a:path>
              <a:path fill="darkenLess" w="21600" h="25868">
                <a:moveTo>
                  <a:pt x="21600" y="25868"/>
                </a:moveTo>
                <a:lnTo>
                  <a:pt x="0" y="25868"/>
                </a:lnTo>
                <a:lnTo>
                  <a:pt x="1400" y="24468"/>
                </a:lnTo>
                <a:lnTo>
                  <a:pt x="20200" y="24468"/>
                </a:lnTo>
                <a:close/>
              </a:path>
              <a:path fill="lighten" w="21600" h="25868">
                <a:moveTo>
                  <a:pt x="0" y="2586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68"/>
                </a:lnTo>
                <a:close/>
              </a:path>
              <a:path fill="darken" w="21600" h="25868">
                <a:moveTo>
                  <a:pt x="3794" y="5928"/>
                </a:moveTo>
                <a:lnTo>
                  <a:pt x="17806" y="12934"/>
                </a:lnTo>
                <a:lnTo>
                  <a:pt x="3794" y="1994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3665520" cy="27496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356000" y="2637000"/>
            <a:ext cx="4392720" cy="3295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500720" y="333360"/>
            <a:ext cx="3960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Российской империи было учреждено большое количество разнообразных наградных медалей для воинов, отличившихся усердием по служб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3500280"/>
            <a:ext cx="345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о высшей наградой считался солдатский Георгиевский крест четырех степе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" action="ppaction://hlinkshowjump?jump=nextslide"/>
          </p:cNvPr>
          <p:cNvSpPr/>
          <p:nvPr/>
        </p:nvSpPr>
        <p:spPr>
          <a:xfrm>
            <a:off x="8459640" y="6093000"/>
            <a:ext cx="360360" cy="431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1640"/>
              <a:gd name="textAreaBottom" fmla="*/ 408600 h 431640"/>
            </a:gdLst>
            <a:ahLst/>
            <a:rect l="textAreaLeft" t="textAreaTop" r="textAreaRight" b="textAreaBottom"/>
            <a:pathLst>
              <a:path w="21600" h="25868">
                <a:moveTo>
                  <a:pt x="0" y="0"/>
                </a:moveTo>
                <a:lnTo>
                  <a:pt x="21600" y="0"/>
                </a:lnTo>
                <a:lnTo>
                  <a:pt x="21600" y="25868"/>
                </a:lnTo>
                <a:lnTo>
                  <a:pt x="0" y="25868"/>
                </a:lnTo>
                <a:close/>
              </a:path>
              <a:path fill="lightenLess" w="21600" h="2586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68">
                <a:moveTo>
                  <a:pt x="21600" y="0"/>
                </a:moveTo>
                <a:lnTo>
                  <a:pt x="21600" y="25868"/>
                </a:lnTo>
                <a:lnTo>
                  <a:pt x="20200" y="24468"/>
                </a:lnTo>
                <a:lnTo>
                  <a:pt x="20200" y="1400"/>
                </a:lnTo>
                <a:close/>
              </a:path>
              <a:path fill="darkenLess" w="21600" h="25868">
                <a:moveTo>
                  <a:pt x="21600" y="25868"/>
                </a:moveTo>
                <a:lnTo>
                  <a:pt x="0" y="25868"/>
                </a:lnTo>
                <a:lnTo>
                  <a:pt x="1400" y="24468"/>
                </a:lnTo>
                <a:lnTo>
                  <a:pt x="20200" y="24468"/>
                </a:lnTo>
                <a:close/>
              </a:path>
              <a:path fill="lighten" w="21600" h="25868">
                <a:moveTo>
                  <a:pt x="0" y="2586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68"/>
                </a:lnTo>
                <a:close/>
              </a:path>
              <a:path fill="darken" w="21600" h="25868">
                <a:moveTo>
                  <a:pt x="3794" y="5928"/>
                </a:moveTo>
                <a:lnTo>
                  <a:pt x="17806" y="12934"/>
                </a:lnTo>
                <a:lnTo>
                  <a:pt x="3794" y="1994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" action="ppaction://hlinkshowjump?jump=previousslide"/>
          </p:cNvPr>
          <p:cNvSpPr/>
          <p:nvPr/>
        </p:nvSpPr>
        <p:spPr>
          <a:xfrm>
            <a:off x="7812000" y="6093000"/>
            <a:ext cx="505080" cy="43164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72" h="21600">
                <a:moveTo>
                  <a:pt x="0" y="0"/>
                </a:moveTo>
                <a:lnTo>
                  <a:pt x="25272" y="0"/>
                </a:lnTo>
                <a:lnTo>
                  <a:pt x="25272" y="21600"/>
                </a:lnTo>
                <a:lnTo>
                  <a:pt x="0" y="21600"/>
                </a:lnTo>
                <a:close/>
              </a:path>
              <a:path fill="lightenLess" w="25272" h="21600">
                <a:moveTo>
                  <a:pt x="0" y="0"/>
                </a:moveTo>
                <a:lnTo>
                  <a:pt x="25272" y="0"/>
                </a:lnTo>
                <a:lnTo>
                  <a:pt x="23872" y="1400"/>
                </a:lnTo>
                <a:lnTo>
                  <a:pt x="1400" y="1400"/>
                </a:lnTo>
                <a:close/>
              </a:path>
              <a:path fill="darken" w="25272" h="21600">
                <a:moveTo>
                  <a:pt x="25272" y="0"/>
                </a:moveTo>
                <a:lnTo>
                  <a:pt x="25272" y="21600"/>
                </a:lnTo>
                <a:lnTo>
                  <a:pt x="23872" y="20200"/>
                </a:lnTo>
                <a:lnTo>
                  <a:pt x="23872" y="1400"/>
                </a:lnTo>
                <a:close/>
              </a:path>
              <a:path fill="darkenLess" w="25272" h="21600">
                <a:moveTo>
                  <a:pt x="252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72" y="20200"/>
                </a:lnTo>
                <a:close/>
              </a:path>
              <a:path fill="lighten" w="252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72" h="21600">
                <a:moveTo>
                  <a:pt x="5630" y="10800"/>
                </a:moveTo>
                <a:lnTo>
                  <a:pt x="19642" y="3794"/>
                </a:lnTo>
                <a:lnTo>
                  <a:pt x="1964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572000" y="2924280"/>
            <a:ext cx="4321080" cy="3240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4056120" cy="30416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500720" y="466560"/>
            <a:ext cx="4319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градой за воинскую доблесть могло быть оружие. Хорошее оружие всегда было желанным подарком на Руси, ведь от его качества в бою зависела жизнь владель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8360" y="3645000"/>
            <a:ext cx="3456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 1800 года была утверждена коллективная награда, вручение наградных знамен, при этом на полотнище делалась надпись о причине пожалования награ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476360" y="620640"/>
            <a:ext cx="6330960" cy="3917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1476360" y="5300640"/>
          <a:ext cx="6264360" cy="1008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76360" y="5300640"/>
                    <a:ext cx="626436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8028000" y="5950080"/>
            <a:ext cx="647640" cy="3585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8997" h="21600">
                <a:moveTo>
                  <a:pt x="0" y="0"/>
                </a:moveTo>
                <a:lnTo>
                  <a:pt x="38997" y="0"/>
                </a:lnTo>
                <a:lnTo>
                  <a:pt x="38997" y="21600"/>
                </a:lnTo>
                <a:lnTo>
                  <a:pt x="0" y="21600"/>
                </a:lnTo>
                <a:close/>
              </a:path>
              <a:path fill="lightenLess" w="38997" h="21600">
                <a:moveTo>
                  <a:pt x="0" y="0"/>
                </a:moveTo>
                <a:lnTo>
                  <a:pt x="38997" y="0"/>
                </a:lnTo>
                <a:lnTo>
                  <a:pt x="37597" y="1400"/>
                </a:lnTo>
                <a:lnTo>
                  <a:pt x="1400" y="1400"/>
                </a:lnTo>
                <a:close/>
              </a:path>
              <a:path fill="darken" w="38997" h="21600">
                <a:moveTo>
                  <a:pt x="38997" y="0"/>
                </a:moveTo>
                <a:lnTo>
                  <a:pt x="38997" y="21600"/>
                </a:lnTo>
                <a:lnTo>
                  <a:pt x="37597" y="20200"/>
                </a:lnTo>
                <a:lnTo>
                  <a:pt x="37597" y="1400"/>
                </a:lnTo>
                <a:close/>
              </a:path>
              <a:path fill="darkenLess" w="38997" h="21600">
                <a:moveTo>
                  <a:pt x="389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597" y="20200"/>
                </a:lnTo>
                <a:close/>
              </a:path>
              <a:path fill="lighten" w="389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997" h="21600">
                <a:moveTo>
                  <a:pt x="12492" y="3794"/>
                </a:moveTo>
                <a:lnTo>
                  <a:pt x="26505" y="10800"/>
                </a:lnTo>
                <a:lnTo>
                  <a:pt x="1249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7380360" y="5950080"/>
            <a:ext cx="576360" cy="3585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4707" h="21600">
                <a:moveTo>
                  <a:pt x="0" y="0"/>
                </a:moveTo>
                <a:lnTo>
                  <a:pt x="34707" y="0"/>
                </a:lnTo>
                <a:lnTo>
                  <a:pt x="34707" y="21600"/>
                </a:lnTo>
                <a:lnTo>
                  <a:pt x="0" y="21600"/>
                </a:lnTo>
                <a:close/>
              </a:path>
              <a:path fill="lightenLess" w="34707" h="21600">
                <a:moveTo>
                  <a:pt x="0" y="0"/>
                </a:moveTo>
                <a:lnTo>
                  <a:pt x="34707" y="0"/>
                </a:lnTo>
                <a:lnTo>
                  <a:pt x="33307" y="1400"/>
                </a:lnTo>
                <a:lnTo>
                  <a:pt x="1400" y="1400"/>
                </a:lnTo>
                <a:close/>
              </a:path>
              <a:path fill="darken" w="34707" h="21600">
                <a:moveTo>
                  <a:pt x="34707" y="0"/>
                </a:moveTo>
                <a:lnTo>
                  <a:pt x="34707" y="21600"/>
                </a:lnTo>
                <a:lnTo>
                  <a:pt x="33307" y="20200"/>
                </a:lnTo>
                <a:lnTo>
                  <a:pt x="33307" y="1400"/>
                </a:lnTo>
                <a:close/>
              </a:path>
              <a:path fill="darkenLess" w="34707" h="21600">
                <a:moveTo>
                  <a:pt x="347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07" y="20200"/>
                </a:lnTo>
                <a:close/>
              </a:path>
              <a:path fill="lighten" w="347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707" h="21600">
                <a:moveTo>
                  <a:pt x="10347" y="10800"/>
                </a:moveTo>
                <a:lnTo>
                  <a:pt x="24360" y="3794"/>
                </a:lnTo>
                <a:lnTo>
                  <a:pt x="2436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55640" y="404640"/>
            <a:ext cx="7620120" cy="4162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"/>
          <p:cNvGraphicFramePr/>
          <p:nvPr/>
        </p:nvGraphicFramePr>
        <p:xfrm>
          <a:off x="755640" y="5013360"/>
          <a:ext cx="7704000" cy="1225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5640" y="5013360"/>
                    <a:ext cx="7704000" cy="12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>
            <a:hlinkClick r:id="" action="ppaction://hlinkshowjump?jump=nextslide"/>
          </p:cNvPr>
          <p:cNvSpPr/>
          <p:nvPr/>
        </p:nvSpPr>
        <p:spPr>
          <a:xfrm>
            <a:off x="8028000" y="5950080"/>
            <a:ext cx="647640" cy="3585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8997" h="21600">
                <a:moveTo>
                  <a:pt x="0" y="0"/>
                </a:moveTo>
                <a:lnTo>
                  <a:pt x="38997" y="0"/>
                </a:lnTo>
                <a:lnTo>
                  <a:pt x="38997" y="21600"/>
                </a:lnTo>
                <a:lnTo>
                  <a:pt x="0" y="21600"/>
                </a:lnTo>
                <a:close/>
              </a:path>
              <a:path fill="lightenLess" w="38997" h="21600">
                <a:moveTo>
                  <a:pt x="0" y="0"/>
                </a:moveTo>
                <a:lnTo>
                  <a:pt x="38997" y="0"/>
                </a:lnTo>
                <a:lnTo>
                  <a:pt x="37597" y="1400"/>
                </a:lnTo>
                <a:lnTo>
                  <a:pt x="1400" y="1400"/>
                </a:lnTo>
                <a:close/>
              </a:path>
              <a:path fill="darken" w="38997" h="21600">
                <a:moveTo>
                  <a:pt x="38997" y="0"/>
                </a:moveTo>
                <a:lnTo>
                  <a:pt x="38997" y="21600"/>
                </a:lnTo>
                <a:lnTo>
                  <a:pt x="37597" y="20200"/>
                </a:lnTo>
                <a:lnTo>
                  <a:pt x="37597" y="1400"/>
                </a:lnTo>
                <a:close/>
              </a:path>
              <a:path fill="darkenLess" w="38997" h="21600">
                <a:moveTo>
                  <a:pt x="389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597" y="20200"/>
                </a:lnTo>
                <a:close/>
              </a:path>
              <a:path fill="lighten" w="389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997" h="21600">
                <a:moveTo>
                  <a:pt x="12492" y="3794"/>
                </a:moveTo>
                <a:lnTo>
                  <a:pt x="26505" y="10800"/>
                </a:lnTo>
                <a:lnTo>
                  <a:pt x="1249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" action="ppaction://hlinkshowjump?jump=previousslide"/>
          </p:cNvPr>
          <p:cNvSpPr/>
          <p:nvPr/>
        </p:nvSpPr>
        <p:spPr>
          <a:xfrm>
            <a:off x="7380360" y="602136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" action="ppaction://hlinkshowjump?jump=previousslide"/>
          </p:cNvPr>
          <p:cNvSpPr/>
          <p:nvPr/>
        </p:nvSpPr>
        <p:spPr>
          <a:xfrm>
            <a:off x="7380360" y="5950080"/>
            <a:ext cx="576360" cy="3585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4707" h="21600">
                <a:moveTo>
                  <a:pt x="0" y="0"/>
                </a:moveTo>
                <a:lnTo>
                  <a:pt x="34707" y="0"/>
                </a:lnTo>
                <a:lnTo>
                  <a:pt x="34707" y="21600"/>
                </a:lnTo>
                <a:lnTo>
                  <a:pt x="0" y="21600"/>
                </a:lnTo>
                <a:close/>
              </a:path>
              <a:path fill="lightenLess" w="34707" h="21600">
                <a:moveTo>
                  <a:pt x="0" y="0"/>
                </a:moveTo>
                <a:lnTo>
                  <a:pt x="34707" y="0"/>
                </a:lnTo>
                <a:lnTo>
                  <a:pt x="33307" y="1400"/>
                </a:lnTo>
                <a:lnTo>
                  <a:pt x="1400" y="1400"/>
                </a:lnTo>
                <a:close/>
              </a:path>
              <a:path fill="darken" w="34707" h="21600">
                <a:moveTo>
                  <a:pt x="34707" y="0"/>
                </a:moveTo>
                <a:lnTo>
                  <a:pt x="34707" y="21600"/>
                </a:lnTo>
                <a:lnTo>
                  <a:pt x="33307" y="20200"/>
                </a:lnTo>
                <a:lnTo>
                  <a:pt x="33307" y="1400"/>
                </a:lnTo>
                <a:close/>
              </a:path>
              <a:path fill="darkenLess" w="34707" h="21600">
                <a:moveTo>
                  <a:pt x="347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07" y="20200"/>
                </a:lnTo>
                <a:close/>
              </a:path>
              <a:path fill="lighten" w="347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707" h="21600">
                <a:moveTo>
                  <a:pt x="10347" y="10800"/>
                </a:moveTo>
                <a:lnTo>
                  <a:pt x="24360" y="3794"/>
                </a:lnTo>
                <a:lnTo>
                  <a:pt x="2436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7122960" cy="5342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031840" y="5897520"/>
            <a:ext cx="49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рижды Герой Советского Сою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" action="ppaction://hlinkshowjump?jump=nextslide"/>
          </p:cNvPr>
          <p:cNvSpPr/>
          <p:nvPr/>
        </p:nvSpPr>
        <p:spPr>
          <a:xfrm>
            <a:off x="8028000" y="5950080"/>
            <a:ext cx="647640" cy="3585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8997" h="21600">
                <a:moveTo>
                  <a:pt x="0" y="0"/>
                </a:moveTo>
                <a:lnTo>
                  <a:pt x="38997" y="0"/>
                </a:lnTo>
                <a:lnTo>
                  <a:pt x="38997" y="21600"/>
                </a:lnTo>
                <a:lnTo>
                  <a:pt x="0" y="21600"/>
                </a:lnTo>
                <a:close/>
              </a:path>
              <a:path fill="lightenLess" w="38997" h="21600">
                <a:moveTo>
                  <a:pt x="0" y="0"/>
                </a:moveTo>
                <a:lnTo>
                  <a:pt x="38997" y="0"/>
                </a:lnTo>
                <a:lnTo>
                  <a:pt x="37597" y="1400"/>
                </a:lnTo>
                <a:lnTo>
                  <a:pt x="1400" y="1400"/>
                </a:lnTo>
                <a:close/>
              </a:path>
              <a:path fill="darken" w="38997" h="21600">
                <a:moveTo>
                  <a:pt x="38997" y="0"/>
                </a:moveTo>
                <a:lnTo>
                  <a:pt x="38997" y="21600"/>
                </a:lnTo>
                <a:lnTo>
                  <a:pt x="37597" y="20200"/>
                </a:lnTo>
                <a:lnTo>
                  <a:pt x="37597" y="1400"/>
                </a:lnTo>
                <a:close/>
              </a:path>
              <a:path fill="darkenLess" w="38997" h="21600">
                <a:moveTo>
                  <a:pt x="389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597" y="20200"/>
                </a:lnTo>
                <a:close/>
              </a:path>
              <a:path fill="lighten" w="389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997" h="21600">
                <a:moveTo>
                  <a:pt x="12492" y="3794"/>
                </a:moveTo>
                <a:lnTo>
                  <a:pt x="26505" y="10800"/>
                </a:lnTo>
                <a:lnTo>
                  <a:pt x="1249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previousslide"/>
          </p:cNvPr>
          <p:cNvSpPr/>
          <p:nvPr/>
        </p:nvSpPr>
        <p:spPr>
          <a:xfrm>
            <a:off x="7380360" y="595008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10800"/>
                </a:moveTo>
                <a:lnTo>
                  <a:pt x="22129" y="3794"/>
                </a:lnTo>
                <a:lnTo>
                  <a:pt x="2212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previousslide"/>
          </p:cNvPr>
          <p:cNvSpPr/>
          <p:nvPr/>
        </p:nvSpPr>
        <p:spPr>
          <a:xfrm>
            <a:off x="7380360" y="5950080"/>
            <a:ext cx="576360" cy="3585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4707" h="21600">
                <a:moveTo>
                  <a:pt x="0" y="0"/>
                </a:moveTo>
                <a:lnTo>
                  <a:pt x="34707" y="0"/>
                </a:lnTo>
                <a:lnTo>
                  <a:pt x="34707" y="21600"/>
                </a:lnTo>
                <a:lnTo>
                  <a:pt x="0" y="21600"/>
                </a:lnTo>
                <a:close/>
              </a:path>
              <a:path fill="lightenLess" w="34707" h="21600">
                <a:moveTo>
                  <a:pt x="0" y="0"/>
                </a:moveTo>
                <a:lnTo>
                  <a:pt x="34707" y="0"/>
                </a:lnTo>
                <a:lnTo>
                  <a:pt x="33307" y="1400"/>
                </a:lnTo>
                <a:lnTo>
                  <a:pt x="1400" y="1400"/>
                </a:lnTo>
                <a:close/>
              </a:path>
              <a:path fill="darken" w="34707" h="21600">
                <a:moveTo>
                  <a:pt x="34707" y="0"/>
                </a:moveTo>
                <a:lnTo>
                  <a:pt x="34707" y="21600"/>
                </a:lnTo>
                <a:lnTo>
                  <a:pt x="33307" y="20200"/>
                </a:lnTo>
                <a:lnTo>
                  <a:pt x="33307" y="1400"/>
                </a:lnTo>
                <a:close/>
              </a:path>
              <a:path fill="darkenLess" w="34707" h="21600">
                <a:moveTo>
                  <a:pt x="347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07" y="20200"/>
                </a:lnTo>
                <a:close/>
              </a:path>
              <a:path fill="lighten" w="347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707" h="21600">
                <a:moveTo>
                  <a:pt x="10347" y="10800"/>
                </a:moveTo>
                <a:lnTo>
                  <a:pt x="24360" y="3794"/>
                </a:lnTo>
                <a:lnTo>
                  <a:pt x="2436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55640" y="333360"/>
            <a:ext cx="7620120" cy="5114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1332000" y="5589720"/>
          <a:ext cx="6137280" cy="874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2000" y="5589720"/>
                    <a:ext cx="6137280" cy="87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8028000" y="5950080"/>
            <a:ext cx="647640" cy="3585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8997" h="21600">
                <a:moveTo>
                  <a:pt x="0" y="0"/>
                </a:moveTo>
                <a:lnTo>
                  <a:pt x="38997" y="0"/>
                </a:lnTo>
                <a:lnTo>
                  <a:pt x="38997" y="21600"/>
                </a:lnTo>
                <a:lnTo>
                  <a:pt x="0" y="21600"/>
                </a:lnTo>
                <a:close/>
              </a:path>
              <a:path fill="lightenLess" w="38997" h="21600">
                <a:moveTo>
                  <a:pt x="0" y="0"/>
                </a:moveTo>
                <a:lnTo>
                  <a:pt x="38997" y="0"/>
                </a:lnTo>
                <a:lnTo>
                  <a:pt x="37597" y="1400"/>
                </a:lnTo>
                <a:lnTo>
                  <a:pt x="1400" y="1400"/>
                </a:lnTo>
                <a:close/>
              </a:path>
              <a:path fill="darken" w="38997" h="21600">
                <a:moveTo>
                  <a:pt x="38997" y="0"/>
                </a:moveTo>
                <a:lnTo>
                  <a:pt x="38997" y="21600"/>
                </a:lnTo>
                <a:lnTo>
                  <a:pt x="37597" y="20200"/>
                </a:lnTo>
                <a:lnTo>
                  <a:pt x="37597" y="1400"/>
                </a:lnTo>
                <a:close/>
              </a:path>
              <a:path fill="darkenLess" w="38997" h="21600">
                <a:moveTo>
                  <a:pt x="389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597" y="20200"/>
                </a:lnTo>
                <a:close/>
              </a:path>
              <a:path fill="lighten" w="389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997" h="21600">
                <a:moveTo>
                  <a:pt x="12492" y="3794"/>
                </a:moveTo>
                <a:lnTo>
                  <a:pt x="26505" y="10800"/>
                </a:lnTo>
                <a:lnTo>
                  <a:pt x="1249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" action="ppaction://hlinkshowjump?jump=previousslide"/>
          </p:cNvPr>
          <p:cNvSpPr/>
          <p:nvPr/>
        </p:nvSpPr>
        <p:spPr>
          <a:xfrm>
            <a:off x="7380360" y="5950080"/>
            <a:ext cx="576360" cy="3585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4707" h="21600">
                <a:moveTo>
                  <a:pt x="0" y="0"/>
                </a:moveTo>
                <a:lnTo>
                  <a:pt x="34707" y="0"/>
                </a:lnTo>
                <a:lnTo>
                  <a:pt x="34707" y="21600"/>
                </a:lnTo>
                <a:lnTo>
                  <a:pt x="0" y="21600"/>
                </a:lnTo>
                <a:close/>
              </a:path>
              <a:path fill="lightenLess" w="34707" h="21600">
                <a:moveTo>
                  <a:pt x="0" y="0"/>
                </a:moveTo>
                <a:lnTo>
                  <a:pt x="34707" y="0"/>
                </a:lnTo>
                <a:lnTo>
                  <a:pt x="33307" y="1400"/>
                </a:lnTo>
                <a:lnTo>
                  <a:pt x="1400" y="1400"/>
                </a:lnTo>
                <a:close/>
              </a:path>
              <a:path fill="darken" w="34707" h="21600">
                <a:moveTo>
                  <a:pt x="34707" y="0"/>
                </a:moveTo>
                <a:lnTo>
                  <a:pt x="34707" y="21600"/>
                </a:lnTo>
                <a:lnTo>
                  <a:pt x="33307" y="20200"/>
                </a:lnTo>
                <a:lnTo>
                  <a:pt x="33307" y="1400"/>
                </a:lnTo>
                <a:close/>
              </a:path>
              <a:path fill="darkenLess" w="34707" h="21600">
                <a:moveTo>
                  <a:pt x="347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07" y="20200"/>
                </a:lnTo>
                <a:close/>
              </a:path>
              <a:path fill="lighten" w="347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707" h="21600">
                <a:moveTo>
                  <a:pt x="10347" y="10800"/>
                </a:moveTo>
                <a:lnTo>
                  <a:pt x="24360" y="3794"/>
                </a:lnTo>
                <a:lnTo>
                  <a:pt x="2436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76360" y="476280"/>
            <a:ext cx="518148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оевое знамя ча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оевое знамя части – особо почетный знак, отличающий особенности боевого предназначения, истории и заслуг  воинской части, указывающий на ее принадлежность к Вооруженным силам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50920" y="476280"/>
            <a:ext cx="3673440" cy="2808360"/>
          </a:xfrm>
          <a:prstGeom prst="rect">
            <a:avLst/>
          </a:prstGeom>
          <a:ln w="0">
            <a:noFill/>
          </a:ln>
        </p:spPr>
      </p:pic>
      <p:sp>
        <p:nvSpPr>
          <p:cNvPr id="69" name="">
            <a:hlinkClick r:id="" action="ppaction://hlinkshowjump?jump=nextslide"/>
          </p:cNvPr>
          <p:cNvSpPr/>
          <p:nvPr/>
        </p:nvSpPr>
        <p:spPr>
          <a:xfrm>
            <a:off x="8172360" y="6093000"/>
            <a:ext cx="503280" cy="288720"/>
          </a:xfrm>
          <a:custGeom>
            <a:avLst/>
            <a:gdLst>
              <a:gd name="textAreaLeft" fmla="*/ 18720 w 503280"/>
              <a:gd name="textAreaRight" fmla="*/ 484560 w 5032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7632" h="21600">
                <a:moveTo>
                  <a:pt x="0" y="0"/>
                </a:moveTo>
                <a:lnTo>
                  <a:pt x="37632" y="0"/>
                </a:lnTo>
                <a:lnTo>
                  <a:pt x="37632" y="21600"/>
                </a:lnTo>
                <a:lnTo>
                  <a:pt x="0" y="21600"/>
                </a:lnTo>
                <a:close/>
              </a:path>
              <a:path fill="lightenLess" w="37632" h="21600">
                <a:moveTo>
                  <a:pt x="0" y="0"/>
                </a:moveTo>
                <a:lnTo>
                  <a:pt x="37632" y="0"/>
                </a:lnTo>
                <a:lnTo>
                  <a:pt x="36232" y="1400"/>
                </a:lnTo>
                <a:lnTo>
                  <a:pt x="1400" y="1400"/>
                </a:lnTo>
                <a:close/>
              </a:path>
              <a:path fill="darken" w="37632" h="21600">
                <a:moveTo>
                  <a:pt x="37632" y="0"/>
                </a:moveTo>
                <a:lnTo>
                  <a:pt x="37632" y="21600"/>
                </a:lnTo>
                <a:lnTo>
                  <a:pt x="36232" y="20200"/>
                </a:lnTo>
                <a:lnTo>
                  <a:pt x="36232" y="1400"/>
                </a:lnTo>
                <a:close/>
              </a:path>
              <a:path fill="darkenLess" w="37632" h="21600">
                <a:moveTo>
                  <a:pt x="376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32" y="20200"/>
                </a:lnTo>
                <a:close/>
              </a:path>
              <a:path fill="lighten" w="376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32" h="21600">
                <a:moveTo>
                  <a:pt x="11809" y="3794"/>
                </a:moveTo>
                <a:lnTo>
                  <a:pt x="25822" y="10800"/>
                </a:lnTo>
                <a:lnTo>
                  <a:pt x="1180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" action="ppaction://hlinkshowjump?jump=previousslide"/>
          </p:cNvPr>
          <p:cNvSpPr/>
          <p:nvPr/>
        </p:nvSpPr>
        <p:spPr>
          <a:xfrm>
            <a:off x="7451640" y="6021360"/>
            <a:ext cx="576360" cy="35892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4673" h="21600">
                <a:moveTo>
                  <a:pt x="0" y="0"/>
                </a:moveTo>
                <a:lnTo>
                  <a:pt x="34673" y="0"/>
                </a:lnTo>
                <a:lnTo>
                  <a:pt x="34673" y="21600"/>
                </a:lnTo>
                <a:lnTo>
                  <a:pt x="0" y="21600"/>
                </a:lnTo>
                <a:close/>
              </a:path>
              <a:path fill="lightenLess" w="34673" h="21600">
                <a:moveTo>
                  <a:pt x="0" y="0"/>
                </a:moveTo>
                <a:lnTo>
                  <a:pt x="34673" y="0"/>
                </a:lnTo>
                <a:lnTo>
                  <a:pt x="33273" y="1400"/>
                </a:lnTo>
                <a:lnTo>
                  <a:pt x="1400" y="1400"/>
                </a:lnTo>
                <a:close/>
              </a:path>
              <a:path fill="darken" w="34673" h="21600">
                <a:moveTo>
                  <a:pt x="34673" y="0"/>
                </a:moveTo>
                <a:lnTo>
                  <a:pt x="34673" y="21600"/>
                </a:lnTo>
                <a:lnTo>
                  <a:pt x="33273" y="20200"/>
                </a:lnTo>
                <a:lnTo>
                  <a:pt x="33273" y="1400"/>
                </a:lnTo>
                <a:close/>
              </a:path>
              <a:path fill="darkenLess" w="34673" h="21600">
                <a:moveTo>
                  <a:pt x="3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273" y="20200"/>
                </a:lnTo>
                <a:close/>
              </a:path>
              <a:path fill="lighten" w="3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673" h="21600">
                <a:moveTo>
                  <a:pt x="10330" y="10800"/>
                </a:moveTo>
                <a:lnTo>
                  <a:pt x="24343" y="3794"/>
                </a:lnTo>
                <a:lnTo>
                  <a:pt x="2434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39640" y="404640"/>
            <a:ext cx="3543480" cy="5715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356000" y="620640"/>
            <a:ext cx="453708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незапамятных времен наши предки почитали знамена свои. Разным было их наименование: стяг, форугвь, штандар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яг был местом сбора для войск, он «стягивал» отдельные отря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 всегда Знамя олицетворяло честь, доблесть, славу, верность Отечеству, стремление к побе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8172360" y="6093000"/>
            <a:ext cx="360360" cy="28872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6470" y="3794"/>
                </a:moveTo>
                <a:lnTo>
                  <a:pt x="20483" y="10800"/>
                </a:lnTo>
                <a:lnTo>
                  <a:pt x="647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" action="ppaction://hlinkshowjump?jump=previousslide"/>
          </p:cNvPr>
          <p:cNvSpPr/>
          <p:nvPr/>
        </p:nvSpPr>
        <p:spPr>
          <a:xfrm>
            <a:off x="7596360" y="609300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rcRect l="0" t="-768" r="61707" b="0"/>
          <a:stretch/>
        </p:blipFill>
        <p:spPr>
          <a:xfrm>
            <a:off x="395280" y="260280"/>
            <a:ext cx="2376360" cy="46897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203640" y="692280"/>
            <a:ext cx="5472000" cy="59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8 веке Пет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вердил сложившиеся в веках традиции почитания знамени и ввел в армии клятву перед н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 Обещаюсь и клянусь всемогущим Богом, что от команды и знамя, где принадлежу, хотя в поле, обозе или гарнизоне, никогда не отлучаться, но за оным, пока жив, следовать буду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рата знамени влекла жестокое наказ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Которые…знамя свое или штандарт до последней капли крови оборонять не будут, оные имеют ошельмованы быть, а когда поймаются, убиты будут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в наши дни при утрате Боевого Знамени часть расформировывается, а виновные подлежат су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" action="ppaction://hlinkshowjump?jump=nextslide"/>
          </p:cNvPr>
          <p:cNvSpPr/>
          <p:nvPr/>
        </p:nvSpPr>
        <p:spPr>
          <a:xfrm>
            <a:off x="8172360" y="6093000"/>
            <a:ext cx="503280" cy="288720"/>
          </a:xfrm>
          <a:custGeom>
            <a:avLst/>
            <a:gdLst>
              <a:gd name="textAreaLeft" fmla="*/ 18720 w 503280"/>
              <a:gd name="textAreaRight" fmla="*/ 484560 w 5032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7632" h="21600">
                <a:moveTo>
                  <a:pt x="0" y="0"/>
                </a:moveTo>
                <a:lnTo>
                  <a:pt x="37632" y="0"/>
                </a:lnTo>
                <a:lnTo>
                  <a:pt x="37632" y="21600"/>
                </a:lnTo>
                <a:lnTo>
                  <a:pt x="0" y="21600"/>
                </a:lnTo>
                <a:close/>
              </a:path>
              <a:path fill="lightenLess" w="37632" h="21600">
                <a:moveTo>
                  <a:pt x="0" y="0"/>
                </a:moveTo>
                <a:lnTo>
                  <a:pt x="37632" y="0"/>
                </a:lnTo>
                <a:lnTo>
                  <a:pt x="36232" y="1400"/>
                </a:lnTo>
                <a:lnTo>
                  <a:pt x="1400" y="1400"/>
                </a:lnTo>
                <a:close/>
              </a:path>
              <a:path fill="darken" w="37632" h="21600">
                <a:moveTo>
                  <a:pt x="37632" y="0"/>
                </a:moveTo>
                <a:lnTo>
                  <a:pt x="37632" y="21600"/>
                </a:lnTo>
                <a:lnTo>
                  <a:pt x="36232" y="20200"/>
                </a:lnTo>
                <a:lnTo>
                  <a:pt x="36232" y="1400"/>
                </a:lnTo>
                <a:close/>
              </a:path>
              <a:path fill="darkenLess" w="37632" h="21600">
                <a:moveTo>
                  <a:pt x="376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32" y="20200"/>
                </a:lnTo>
                <a:close/>
              </a:path>
              <a:path fill="lighten" w="376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32" h="21600">
                <a:moveTo>
                  <a:pt x="11809" y="3794"/>
                </a:moveTo>
                <a:lnTo>
                  <a:pt x="25822" y="10800"/>
                </a:lnTo>
                <a:lnTo>
                  <a:pt x="1180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" action="ppaction://hlinkshowjump?jump=previousslide"/>
          </p:cNvPr>
          <p:cNvSpPr/>
          <p:nvPr/>
        </p:nvSpPr>
        <p:spPr>
          <a:xfrm>
            <a:off x="7596360" y="609300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4360" y="549360"/>
            <a:ext cx="7704000" cy="48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жесточенных схватках слава доставалась тому, кому удавалось пробиться к неприятельскому знамени, подрубить его и водрузить свое знам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музеях России хранятся сотни шведских знамен эпохи Карл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прусских знамен короля Фридриха, армий Наполеона и Гитл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 ни в одном музее мира нет Российских знамен, взятых в бо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71640" y="57340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виде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" action="ppaction://hlinkshowjump?jump=nextslide"/>
          </p:cNvPr>
          <p:cNvSpPr/>
          <p:nvPr/>
        </p:nvSpPr>
        <p:spPr>
          <a:xfrm>
            <a:off x="8172360" y="6093000"/>
            <a:ext cx="503280" cy="288720"/>
          </a:xfrm>
          <a:custGeom>
            <a:avLst/>
            <a:gdLst>
              <a:gd name="textAreaLeft" fmla="*/ 18720 w 503280"/>
              <a:gd name="textAreaRight" fmla="*/ 484560 w 5032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7632" h="21600">
                <a:moveTo>
                  <a:pt x="0" y="0"/>
                </a:moveTo>
                <a:lnTo>
                  <a:pt x="37632" y="0"/>
                </a:lnTo>
                <a:lnTo>
                  <a:pt x="37632" y="21600"/>
                </a:lnTo>
                <a:lnTo>
                  <a:pt x="0" y="21600"/>
                </a:lnTo>
                <a:close/>
              </a:path>
              <a:path fill="lightenLess" w="37632" h="21600">
                <a:moveTo>
                  <a:pt x="0" y="0"/>
                </a:moveTo>
                <a:lnTo>
                  <a:pt x="37632" y="0"/>
                </a:lnTo>
                <a:lnTo>
                  <a:pt x="36232" y="1400"/>
                </a:lnTo>
                <a:lnTo>
                  <a:pt x="1400" y="1400"/>
                </a:lnTo>
                <a:close/>
              </a:path>
              <a:path fill="darken" w="37632" h="21600">
                <a:moveTo>
                  <a:pt x="37632" y="0"/>
                </a:moveTo>
                <a:lnTo>
                  <a:pt x="37632" y="21600"/>
                </a:lnTo>
                <a:lnTo>
                  <a:pt x="36232" y="20200"/>
                </a:lnTo>
                <a:lnTo>
                  <a:pt x="36232" y="1400"/>
                </a:lnTo>
                <a:close/>
              </a:path>
              <a:path fill="darkenLess" w="37632" h="21600">
                <a:moveTo>
                  <a:pt x="376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32" y="20200"/>
                </a:lnTo>
                <a:close/>
              </a:path>
              <a:path fill="lighten" w="376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32" h="21600">
                <a:moveTo>
                  <a:pt x="11809" y="3794"/>
                </a:moveTo>
                <a:lnTo>
                  <a:pt x="25822" y="10800"/>
                </a:lnTo>
                <a:lnTo>
                  <a:pt x="1180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" action="ppaction://hlinkshowjump?jump=previousslide"/>
          </p:cNvPr>
          <p:cNvSpPr/>
          <p:nvPr/>
        </p:nvSpPr>
        <p:spPr>
          <a:xfrm>
            <a:off x="7596360" y="609300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05:46:41Z</dcterms:created>
  <dc:creator>Home</dc:creator>
  <dc:description/>
  <dc:language>en-US</dc:language>
  <cp:lastModifiedBy>User</cp:lastModifiedBy>
  <dcterms:modified xsi:type="dcterms:W3CDTF">2008-02-18T13:49:14Z</dcterms:modified>
  <cp:revision>10</cp:revision>
  <dc:subject/>
  <dc:title>Воинская честь</dc:title>
</cp:coreProperties>
</file>