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C1FA-E786-46E5-8E4D-18483EC3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955A-15F4-4653-BFFD-218A0560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84C8-72EF-4E5F-A1AE-6804C8C6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73E-4B69-41D3-B02D-B0FDA572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0BBF-18C5-45FB-8378-42AA779F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18D5-959F-4CAF-8236-A5CFF5A8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F0E6-746D-4BAF-AE4A-312A0D88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8F21-4E0E-4CC6-8D9D-9840D844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BF02-3BDB-4825-9F5A-7F72A49D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7A71-97E1-4BD0-B3BA-9128EDC4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F71E-A832-415B-A6B0-2F9EDD09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C50-9B44-46DE-AC3A-2F8EB335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93EA-169F-46BC-91E2-5811D99F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BD33-431B-4DEA-9A28-1D732744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968C-5258-46EA-B572-080BC41A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1C9E-5719-4A71-884A-8C2DE946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753E-DAFD-4FAD-814A-DD4801CA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8A05-0281-4A36-96ED-242B944D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D73-25AF-4FBF-B8A8-38D3DC62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D01-E9A3-4758-B5B2-57A4287E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65BF-BC53-4371-8569-47615B81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4C7-EA45-4432-B679-D2CF080C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DC34-7D07-44A0-A446-B4F2ECBE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9EB-1934-4DF8-823A-7BDB2845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E014-3796-4368-B59E-3EBA3E14B7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966C-51D0-4715-8DE1-9B1AD7FB697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50920" y="981000"/>
            <a:ext cx="889308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"Внутренняя среда организ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и ее значение"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нутреннюю среду организма составляют: кровь, тканевая жидкость и лимфа. Внутренняя среда организма – совокупность жидкостей, принимающих участие в процессах обмена веществ и поддержания постоянства внутренней сред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«Внутренняя среда организма»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0"/>
          <a:ext cx="9144000" cy="6999120"/>
        </p:xfrm>
        <a:graphic>
          <a:graphicData uri="http://schemas.openxmlformats.org/drawingml/2006/table">
            <a:tbl>
              <a:tblPr/>
              <a:tblGrid>
                <a:gridCol w="1547640"/>
                <a:gridCol w="1838520"/>
                <a:gridCol w="2709720"/>
                <a:gridCol w="3048120"/>
              </a:tblGrid>
              <a:tr h="166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нутренняя сре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Тканевая жидк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Лимф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ров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оста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ода, органические и неорганические вещества, кислород, продукты распада, выделившиеся из клеток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ода с растворенными в ней продуктами жизнедеятельности, белки -1-2%, лимфоциты, лейкоцит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Плазма, форменные элементы: эритроциты, лейкоциты и кровяные пластинки(тромбоциты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нахожд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Промежутки между клетками всех тка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Лимфатическая систе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ердце и кровеносные сосу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унк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Дыхание клеток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питание клеток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очищение от продуктов распада клеток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Защита организма от болезнетворных микроорганизм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Транспортная, дыхательная, питательная, выделительная, терморегуляторная, защитная, гуморальная регуляц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«Состав тканевой жидкости»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8930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«Кровь»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893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Гомеостаз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Гомеостаз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держание постоянства внутренней среды организ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стигается постоянство внутренней среды благодаря нервной и эндокринной системами, которые «следят» за составом и свойствами внутренней среды и при их изменениях влияют на работу выделительной, пищеварительной, дыхательной и других систем организма таким образом, чтобы эти изменения были устранен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утренняя среда обеспечивает клетки веществами, необходимыми для их жизнедеятельности, и через неё удаляются продукты распа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утренняя среда организма имеет относительное постоянство состава и физико-химических свойств. Только при этом условии клетки могут нормально функционирова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оянство внутренней среды обеспечивается за счёт процессов саморегуляц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547640" y="2205000"/>
            <a:ext cx="56595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Работу выполнял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Кринальд Ир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7:07:48Z</dcterms:created>
  <dc:creator>Admin</dc:creator>
  <dc:description/>
  <dc:language>en-US</dc:language>
  <cp:lastModifiedBy>Lena</cp:lastModifiedBy>
  <dcterms:modified xsi:type="dcterms:W3CDTF">2011-01-20T15:15:22Z</dcterms:modified>
  <cp:revision>5</cp:revision>
  <dc:subject/>
  <dc:title>Слайд 1</dc:title>
</cp:coreProperties>
</file>