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D30-1D0C-4D93-A802-D7848135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17E-7FAE-462C-8D99-9EC0FBF8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158-E367-4BFA-8812-C85BBE0A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A45-5B97-4CBD-A184-2E1358B1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0919-737E-4D00-B2D8-6EB79A5E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513-64A2-4B9F-B373-5B8BB27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6AEF-895A-4E14-B20E-80E5D614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ABCE-1A9F-4036-80EE-6AB0059C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418-E924-4B7E-A561-F314A6CB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529-6E57-435E-AD9C-D1399D06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035D-C97A-4707-B9DA-085A230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0A0-47EC-4720-88FF-3A38F4D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C5C-283C-43F4-93F6-CA87E9D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2145-28AD-497D-9357-6270632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6F4-0FF0-44DD-937D-3FA432D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547C-C0B3-4E1B-B1BC-FA0E4A62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FE54-A3C6-4934-B56D-68973063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FC2-2D6C-478D-A5BB-74727A6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193-666C-49A2-94AD-84311DF4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5A0-A312-411B-8FB1-44EA67D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981-74A7-4B20-994D-928F591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C4B-5928-404E-AEF0-BC99191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B88-64AF-48BA-89F8-723C562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990-D138-4781-9DAC-11DEBD5C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9F9-DAC1-48A2-ADFF-27C5E14D38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F80-099B-4895-9ECD-CEBB6B66A7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920" y="981000"/>
            <a:ext cx="8893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Внутренняя среда орган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 ее значение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утреннюю среду организма составляют: кровь, тканевая жидкость и лимфа. Внутренняя среда организма – совокупность жидкостей, принимающих участие в процессах обмена веществ и поддержания постоянства внутренне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«Внутренняя среда организма»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999120"/>
        </p:xfrm>
        <a:graphic>
          <a:graphicData uri="http://schemas.openxmlformats.org/drawingml/2006/table">
            <a:tbl>
              <a:tblPr/>
              <a:tblGrid>
                <a:gridCol w="1547640"/>
                <a:gridCol w="1838520"/>
                <a:gridCol w="2709720"/>
                <a:gridCol w="3048120"/>
              </a:tblGrid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нутрення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каневая жидк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ров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, органические и неорганические вещества, кислород, продукты распада, выделившиеся из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ода с растворенными в ней продуктами жизнедеятельности, белки -1-2%, лимфоциты, лейкоци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лазма, форменные элементы: эритроциты, лейкоциты и кровяные пластинки(тромбоцит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ахож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Промежутки между клетками всех тка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Лимфатическая сис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ердце и кровеносные сосу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Дых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питание клеток;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очищение от продуктов распада клето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щита организма от болезнетворных микроорганиз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ранспортная, дыхательная, питательная, выделительная, терморегуляторная, защитная, гуморальная регуляц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Состав тканевой жидкости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Кровь»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Гомеоста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Гомеост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ание постоянства внутренней среды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остигается постоянство внутренней среды благодаря нервной и эндокринной системами, которые «следят» за составом и свойствами внутренней среды и при их изменениях влияют на работу выделительной, пищеварительной, дыхательной и других систем организма таким образом, чтобы эти изменения были устране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беспечивает клетки веществами, необходимыми для их жизнедеятельности, и через неё удаляются продукты распа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нутренняя среда организма имеет относительное постоянство состава и физико-химических свойств. Только при этом условии клетки могут нормально функциониро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ство внутренней среды обеспечивается за счёт процессов саморегуля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47640" y="2205000"/>
            <a:ext cx="56595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Работу выполнял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Кринальд И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7:07:48Z</dcterms:created>
  <dc:creator>Admin</dc:creator>
  <dc:description/>
  <dc:language>en-US</dc:language>
  <cp:lastModifiedBy>Lena</cp:lastModifiedBy>
  <dcterms:modified xsi:type="dcterms:W3CDTF">2011-01-20T15:15:22Z</dcterms:modified>
  <cp:revision>5</cp:revision>
  <dc:subject/>
  <dc:title>Слайд 1</dc:title>
</cp:coreProperties>
</file>