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FC5-AE24-47AC-88B7-D6FB70DF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797-79E1-4D4C-9D60-722511C1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31E-F95D-417D-A8FB-8F493FB6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4FD-B0B5-45BC-8AD9-BFD774E3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5756-391C-4972-AB60-36018DEF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76AF-EC1F-4BC3-96F2-E7094CFE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63D0-1C76-4060-B051-57F5AB68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9A81-40FC-4549-9025-667DA8A9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405F-2720-4627-81CE-4CA9A614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BDAD-5C47-4C08-8915-E97F3A14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5B8D-C720-423F-85E0-E17299F7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D42-34C6-460A-9AFF-630F7CC9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14DF-2E59-4205-BF0D-F77963A7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7A52-A3E1-4E70-8627-C50095B4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C60A-2DEE-4C1F-A182-75570E67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7762-1865-42CC-95AA-731240C1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76D-B168-436E-8B21-22EECAC1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55D-AFE4-4AA2-882B-09A85B93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704-1B03-4BF3-8641-A5D64E18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348-9F73-402E-8331-F65A254F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E6F-1D9E-4844-A630-3358B943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151-AD5B-4A01-8F70-923F593D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EB5-CF46-4B06-A201-9CC093AD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384-ADC5-4C0D-82AC-8214F3C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31BA-38DD-4B77-B098-EACBBA096F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9F6A-F6BF-4E15-944C-064EDC6012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0920" y="981000"/>
            <a:ext cx="889308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"Внутренняя среда орган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 ее значение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утреннюю среду организма составляют: кровь, тканевая жидкость и лимфа. Внутренняя среда организма – совокупность жидкостей, принимающих участие в процессах обмена веществ и поддержания постоянства внутренней сре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«Внутренняя среда организма»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999120"/>
        </p:xfrm>
        <a:graphic>
          <a:graphicData uri="http://schemas.openxmlformats.org/drawingml/2006/table">
            <a:tbl>
              <a:tblPr/>
              <a:tblGrid>
                <a:gridCol w="1547640"/>
                <a:gridCol w="1838520"/>
                <a:gridCol w="2709720"/>
                <a:gridCol w="3048120"/>
              </a:tblGrid>
              <a:tr h="166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нутренняя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каневая жидк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Лимф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ров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оста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ода, органические и неорганические вещества, кислород, продукты распада, выделившиеся из клето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ода с растворенными в ней продуктами жизнедеятельности, белки -1-2%, лимфоциты, лейкоци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лазма, форменные элементы: эритроциты, лейкоциты и кровяные пластинки(тромбоцит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ахож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ромежутки между клетками всех тка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Лимфатическая систе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ердце и кровеносные сосу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Дыхание клеток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питание клеток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очищение от продуктов распада клето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Защита организма от болезнетворных микроорганиз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ранспортная, дыхательная, питательная, выделительная, терморегуляторная, защитная, гуморальная регуляц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Состав тканевой жидкости»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893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Кровь»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893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Гомеостаз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Гомеостаз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держание постоянства внутренней среды орг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стигается постоянство внутренней среды благодаря нервной и эндокринной системами, которые «следят» за составом и свойствами внутренней среды и при их изменениях влияют на работу выделительной, пищеварительной, дыхательной и других систем организма таким образом, чтобы эти изменения были устране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яя среда обеспечивает клетки веществами, необходимыми для их жизнедеятельности, и через неё удаляются продукты распа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яя среда организма имеет относительное постоянство состава и физико-химических свойств. Только при этом условии клетки могут нормально функциониров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оянство внутренней среды обеспечивается за счёт процессов саморегуля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47640" y="2205000"/>
            <a:ext cx="56595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Работу выполнял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Кринальд И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7:07:48Z</dcterms:created>
  <dc:creator>Admin</dc:creator>
  <dc:description/>
  <dc:language>en-US</dc:language>
  <cp:lastModifiedBy>Lena</cp:lastModifiedBy>
  <dcterms:modified xsi:type="dcterms:W3CDTF">2011-01-20T15:15:22Z</dcterms:modified>
  <cp:revision>5</cp:revision>
  <dc:subject/>
  <dc:title>Слайд 1</dc:title>
</cp:coreProperties>
</file>