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F60-5D4F-4C99-9DF8-485F29F6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6C6-E59B-4779-AFC2-5734E57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E41-335B-4AF5-A747-0A22DF4C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35A-EDAD-4C29-96A6-95C275BB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C63-F107-4272-A6B3-14274CA5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C20-C6FA-41ED-ACD0-480672A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0E2-A835-43DC-BDEA-6EEE8CB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41B-BCB1-4495-AD47-3A51526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2B2-1AEB-4BCB-8368-11ED697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5D6-A214-467F-B244-918CC99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495-B201-4170-B8EA-F95D5DE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307-8368-4FD2-8F6F-0ACB743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8F7-251E-4121-B28A-884C8E52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еликие зарубежные компози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2084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470240" cy="18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1363680" cy="16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27640" y="5151600"/>
            <a:ext cx="1423800" cy="17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852640"/>
            <a:ext cx="140328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124000" y="260280"/>
            <a:ext cx="1300320" cy="160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800840" y="2492280"/>
            <a:ext cx="1343160" cy="167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700360" y="3789360"/>
            <a:ext cx="146988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rcRect l="10704" t="13682" r="25799" b="0"/>
          <a:stretch/>
        </p:blipFill>
        <p:spPr>
          <a:xfrm>
            <a:off x="1187280" y="4724280"/>
            <a:ext cx="134784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84360" y="692280"/>
            <a:ext cx="1209600" cy="158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780000" y="692280"/>
            <a:ext cx="1042920" cy="156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20996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икколо Паганин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82 – 18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скрипач,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извёл переворот в скрипичном исполнительском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писал около 200 пьес для гит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его сочинений особенно славятся «24 каприса» для скрипичного с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60400" y="1989000"/>
            <a:ext cx="3567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идерик Шоп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0 – 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льский композитор, пиан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одоначальник польской музыкальной клас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Жанры и формы творчества Шопена обобщают тенденции музыкального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жанра инструментальной бал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3 сонаты, 4 баллады, 27 этюдов, 17 вальсов (№7), 60 мазурок, 16 полоне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49240" y="1916280"/>
            <a:ext cx="3516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лод Дебю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рубежа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-ХХ веков. Представитель импрессионизма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65800" y="3141720"/>
            <a:ext cx="2978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орис Рав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омпозитор первой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Х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«Болеро». Симфонические вариации на тему испанского т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84600" cy="27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640" y="3716280"/>
            <a:ext cx="2090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Жорж Б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оперы «Карме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92920" y="2637000"/>
            <a:ext cx="315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жузеппе Вер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3 – 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ершинные творения – музыкальная драма «Отелло» и комическая опера «Фальст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ворчество Верди – высшая точка развития итальянской оперы 19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276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н Дворжак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1 –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ешский композитор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лен Чешской академии наук и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ереписывался с П.И. Чайков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ыл директором консерватории в Нью-Йо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ы «Король и угольщик», «Упрямцы», «Ванда»; гимн «Наследники Белой Горы», кантаты «Свадебные руба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2130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Иоганн Себастьян Бах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85 – 17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мецкий композитор, органист. Автор «Шутки»,Токкаты и фуги, Х.Т.К, Высокой мессы си мин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657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о Виваль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78 – 17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, скрипач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л жанр сольного инструментального конц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икл «Времена года» - один из ранних образцов программной оркестров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более 40 оп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8720" y="18622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Йозеф Гайд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стрий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VIII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119 симфо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103- «Прощальная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опол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европей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имфо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91040" y="4089240"/>
            <a:ext cx="4152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ольфганг Амадей Моца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56 – 17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ийский композитор-вундерки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р «Турецкого рондо», 41 симфоний( знаменита №4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перы «Свадьбы Фигаро». Последнее произведение- заупокойная месса «Реквием»,7 часть « Лакримоза» (слез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А. Пушкин «Моцарт и Саль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2065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юдвиг ван Бетхов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70 – 18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мецкий композитор, пианист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ставитель венской классическ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ворчество:  «Элизе», «Лунная соната № 14, симфонии №5, №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вертюра «Эгмо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анц Шубе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97 – 18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стрийский компози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из крупнейших мело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формировал жанр пес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тор «Неоконченной симфонии», баллады «Лесной царь», пе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ia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759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Эдвард Григ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3 – 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орвежский композитор, пианист, дириж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музыки к пьесе «Пер Гюнт». « Утро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В пещере горного короля», «Песня Сольвей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9162" t="9102" r="24847" b="0"/>
          <a:stretch/>
        </p:blipFill>
        <p:spPr>
          <a:xfrm>
            <a:off x="1116000" y="1844640"/>
            <a:ext cx="3292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еренц Лис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1 – 18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енгерский композитор, пианист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едставитель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нового музыкального жанра – симфонической поэ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а «Дон Санчо, или Замок любви»; оратории «Легенда о св.Елизавете», «Христос»; мессы; кан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460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8:21:16Z</dcterms:created>
  <dc:creator>Ирина</dc:creator>
  <dc:description/>
  <dc:language>en-US</dc:language>
  <cp:lastModifiedBy>USER</cp:lastModifiedBy>
  <dcterms:modified xsi:type="dcterms:W3CDTF">2012-02-16T16:30:41Z</dcterms:modified>
  <cp:revision>9</cp:revision>
  <dc:subject/>
  <dc:title>Великие зарубежные композиторы</dc:title>
</cp:coreProperties>
</file>