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C8D-01C4-44F6-9E60-BAF19A82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9E1-D745-4D96-822C-9651EE22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334-18CB-425E-B30D-4BA93050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252-C27E-4E6B-B890-F95FA186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0C5-555F-4514-8F54-FFAECCE6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32D-9CD3-4C12-B772-2ABA369F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205-B222-43A3-B67F-FDECFAF2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96F-7930-4983-8872-087F969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7C9-AE12-4F00-B31F-2C4FFEED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EB8-7DE5-4B8E-9D39-7DB552E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DAB-5F74-4918-8927-653BD68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B11-F806-47E9-914A-09D3615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44EF-149A-471F-A837-F84DDDB2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еликие зарубежные компози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320840" cy="176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470240" cy="18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1363680" cy="16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27640" y="5151600"/>
            <a:ext cx="1423800" cy="17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2852640"/>
            <a:ext cx="140328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124000" y="260280"/>
            <a:ext cx="1300320" cy="160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800840" y="2492280"/>
            <a:ext cx="1343160" cy="167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700360" y="3789360"/>
            <a:ext cx="146988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rcRect l="10704" t="13682" r="25799" b="0"/>
          <a:stretch/>
        </p:blipFill>
        <p:spPr>
          <a:xfrm>
            <a:off x="1187280" y="4724280"/>
            <a:ext cx="1347840" cy="167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84360" y="692280"/>
            <a:ext cx="1209600" cy="158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780000" y="692280"/>
            <a:ext cx="1042920" cy="156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826920" y="692280"/>
            <a:ext cx="120996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икколо Паганин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82 – 18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скрипач,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извёл переворот в скрипичном исполнительском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писал около 200 пьес для гит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еди его сочинений особенно славятся «24 каприса» для скрипичного с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60400" y="1989000"/>
            <a:ext cx="35672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ридерик Шопен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0 – 18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льский композитор, пиан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одоначальник польской музыкальной класс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Жанры и формы творчества Шопена обобщают тенденции музыкального роман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здатель жанра инструментальной балл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3 сонаты, 4 баллады, 27 этюдов, 17 вальсов (№7), 60 мазурок, 16 полоне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49240" y="1916280"/>
            <a:ext cx="3516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лод Дебю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ранцузский композитор рубежа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-ХХ веков. Представитель импрессионизма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65800" y="3141720"/>
            <a:ext cx="2978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орис Рав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омпозитор первой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ХХ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«Болеро». Симфонические вариации на тему испанского та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84600" cy="27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640" y="3716280"/>
            <a:ext cx="2090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Жорж Би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ранцузский композитор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оперы «Карме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92920" y="2637000"/>
            <a:ext cx="315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Джузеппе Верд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3 – 19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ершинные творения – музыкальная драма «Отелло» и комическая опера «Фальст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ворчество Верди – высшая точка развития итальянской оперы 19 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276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Антонин Дворжак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41 – 19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ешский композитор, 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лен Чешской академии наук и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ереписывался с П.И. Чайков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ыл директором консерватории в Нью-Йо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оперы «Король и угольщик», «Упрямцы», «Ванда»; гимн «Наследники Белой Горы», кантаты «Свадебные рубаш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2130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Иоганн Себастьян Бах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685 – 17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мецкий композитор, органист. Автор «Шутки»,Токкаты и фуги, Х.Т.К, Высокой мессы си мин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657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Антонио Вивальд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678 – 17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композитор, скрипач, дири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л жанр сольного инструментального конц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икл «Времена года» - один из ранних образцов программной оркестровой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втор более 40 оп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8720" y="1862280"/>
            <a:ext cx="3295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Йозеф Гайд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стрийский композитор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VIII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119 симфо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103- «Прощальная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опол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европей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имфо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91040" y="4089240"/>
            <a:ext cx="4152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ольфганг Амадей Моцар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56 – 17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ийский композитор-вундерки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р «Турецкого рондо», 41 симфоний( знаменита №4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перы «Свадьбы Фигаро». Последнее произведение- заупокойная месса «Реквием»,7 часть « Лакримоза» (слез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А. Пушкин «Моцарт и Саль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2065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Людвиг ван Бетховен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70 – 18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мецкий композитор, пианист, дири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дставитель венской классическ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ворчество:  «Элизе», «Лунная соната № 14, симфонии №5, №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вертюра «Эгмо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ранц Шубер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97 – 18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стрийский компози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ин из крупнейших мело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формировал жанр пес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тор «Неоконченной симфонии», баллады «Лесной царь», пе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ia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759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Эдвард Григ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43 – 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орвежский композитор, пианист, дириж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втор музыки к пьесе «Пер Гюнт». « Утро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«В пещере горного короля», «Песня Сольвей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9162" t="9102" r="24847" b="0"/>
          <a:stretch/>
        </p:blipFill>
        <p:spPr>
          <a:xfrm>
            <a:off x="1116000" y="1844640"/>
            <a:ext cx="32925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еренц Лис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1 – 18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енгерский композитор, пианист, 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едставитель роман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здатель нового музыкального жанра – симфонической поэ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опера «Дон Санчо, или Замок любви»; оратории «Легенда о св.Елизавете», «Христос»; мессы; кан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460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8:21:16Z</dcterms:created>
  <dc:creator>Ирина</dc:creator>
  <dc:description/>
  <dc:language>en-US</dc:language>
  <cp:lastModifiedBy>USER</cp:lastModifiedBy>
  <dcterms:modified xsi:type="dcterms:W3CDTF">2012-02-16T16:30:41Z</dcterms:modified>
  <cp:revision>9</cp:revision>
  <dc:subject/>
  <dc:title>Великие зарубежные композиторы</dc:title>
</cp:coreProperties>
</file>