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F97-C8E8-4566-9DAD-60DB120A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E6C-26AA-4C2C-87B9-9E1DB378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42C-C10E-48DB-8C9F-548F1DD2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7CD-791D-4149-A4D3-17D0C060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D73-D7E7-4576-A7EB-8CC65E6E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EA9-2812-4F8B-8686-83F77250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BEF-9981-4E5B-8437-B1FACC35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3D3-1B0F-4EFC-9EDC-264468DF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472-5CDA-4DFB-A54E-03C4FD3C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29A-B948-48E4-907E-38E5694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270-CD24-4765-AEAC-D05A9BE5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4BA-3D69-446D-8CD8-CD18016D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277D-C92A-4DCE-B84C-48B2E771C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Великие зарубежные компози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948360" y="476280"/>
            <a:ext cx="1320840" cy="176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1470240" cy="181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19640" y="333360"/>
            <a:ext cx="1363680" cy="164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27640" y="5151600"/>
            <a:ext cx="1423800" cy="170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2852640"/>
            <a:ext cx="1403280" cy="1627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124000" y="260280"/>
            <a:ext cx="1300320" cy="1603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800840" y="2492280"/>
            <a:ext cx="1343160" cy="1679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700360" y="3789360"/>
            <a:ext cx="1469880" cy="178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rcRect l="10704" t="13682" r="25799" b="0"/>
          <a:stretch/>
        </p:blipFill>
        <p:spPr>
          <a:xfrm>
            <a:off x="1187280" y="4724280"/>
            <a:ext cx="1347840" cy="167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684360" y="692280"/>
            <a:ext cx="1209600" cy="1587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3780000" y="692280"/>
            <a:ext cx="1042920" cy="1563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826920" y="692280"/>
            <a:ext cx="120996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Никколо Паганини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782 – 18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тальянский скрипач, композ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оизвёл переворот в скрипичном исполнительском искус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аписал около 200 пьес для гит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реди его сочинений особенно славятся «24 каприса» для скрипичного со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60400" y="1989000"/>
            <a:ext cx="35672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Фридерик Шопен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10 – 18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льский композитор, пиан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Родоначальник польской музыкальной класс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Жанры и формы творчества Шопена обобщают тенденции музыкального роман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оздатель жанра инструментальной балл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ворчество: 3 сонаты, 4 баллады, 27 этюдов, 17 вальсов (№7), 60 мазурок, 16 полоне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49240" y="1916280"/>
            <a:ext cx="35164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лод Дебюс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Французский композитор рубежа Х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Х-ХХ веков. Представитель импрессионизма в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65800" y="3141720"/>
            <a:ext cx="2978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Морис Равел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Композитор первой полов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ХХ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«Болеро». Симфонические вариации на тему испанского та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32360" y="4005360"/>
            <a:ext cx="3684600" cy="274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7640" y="3716280"/>
            <a:ext cx="2090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Жорж Биз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Французский композитор Х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Х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втор оперы «Кармен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992920" y="2637000"/>
            <a:ext cx="3151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Джузеппе Верди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13 – 19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тальянский композ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ершинные творения – музыкальная драма «Отелло» и комическая опера «Фальст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ворчество Верди – высшая точка развития итальянской оперы 19 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276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Антонин Дворжак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41 – 19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Чешский композитор, дирижё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Член Чешской академии наук и искус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ереписывался с П.И. Чайков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ыл директором консерватории в Нью-Йо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ворчество: оперы «Король и угольщик», «Упрямцы», «Ванда»; гимн «Наследники Белой Горы», кантаты «Свадебные рубаш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21300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Иоганн Себастьян Бах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685 – 17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мецкий композитор, органист. Автор «Шутки»,Токкаты и фуги, Х.Т.К, Высокой мессы си мин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3657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Антонио Вивальди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678 – 174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тальянский композитор, скрипач, дири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оздал жанр сольного инструментального конце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Цикл «Времена года» - один из ранних образцов программной оркестровой му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Автор более 40 оп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8720" y="1862280"/>
            <a:ext cx="3295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Йозеф Гайд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встрийский композитор Х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VIII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втор 119 симфо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103- «Прощальная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сновополо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европей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имфо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91040" y="4089240"/>
            <a:ext cx="41529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ольфганг Амадей Моцарт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756 – 179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ийский композитор-вундерки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тор «Турецкого рондо», 41 симфоний( знаменита №4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перы «Свадьбы Фигаро». Последнее произведение- заупокойная месса «Реквием»,7 часть « Лакримоза» (слезна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 А. Пушкин «Моцарт и Сальер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2065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Людвиг ван Бетховен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770 – 18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мецкий композитор, пианист, дириж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дставитель венской классическ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ворчество:  «Элизе», «Лунная соната № 14, симфонии №5, №9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вертюра «Эгмон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65280" y="1600200"/>
            <a:ext cx="3620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Франц Шуберт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797 – 18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встрийский компози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дин из крупнейших мелод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еформировал жанр пес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втор «Неоконченной симфонии», баллады «Лесной царь», пе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ve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ria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759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Эдвард Григ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43 – 19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орвежский композитор, пианист, дириж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Автор музыки к пьесе «Пер Гюнт». « Утро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«В пещере горного короля», «Песня Сольвейг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9162" t="9102" r="24847" b="0"/>
          <a:stretch/>
        </p:blipFill>
        <p:spPr>
          <a:xfrm>
            <a:off x="1116000" y="1844640"/>
            <a:ext cx="32925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Ференц Лист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(1811 – 188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енгерский композитор, пианист, дирижё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едставитель роман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оздатель нового музыкального жанра – симфонической поэ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Творчество: опера «Дон Санчо, или Замок любви»; оратории «Легенда о св.Елизавете», «Христос»; мессы; кан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4606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8:21:16Z</dcterms:created>
  <dc:creator>Ирина</dc:creator>
  <dc:description/>
  <dc:language>en-US</dc:language>
  <cp:lastModifiedBy>USER</cp:lastModifiedBy>
  <dcterms:modified xsi:type="dcterms:W3CDTF">2012-02-16T16:30:41Z</dcterms:modified>
  <cp:revision>9</cp:revision>
  <dc:subject/>
  <dc:title>Великие зарубежные композиторы</dc:title>
</cp:coreProperties>
</file>