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682-6E36-4A33-8654-A0BF3928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441-929F-44F3-BAC6-19FEB29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D84-6E9C-4F21-8797-B33233A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5C1-0477-4B34-88CE-66485587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D74B-6FB2-4354-8244-385D97F3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64B-D73F-4270-822A-108A286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ED3-8E9C-4EF8-974B-FD7B4471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07E-FEDA-4545-834C-EE316120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F759-0026-45C0-BFD6-D31BEED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3CB-B76E-4235-8435-2762E36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86F7-54AA-45F2-B04B-3CDCAFD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021-7517-4EF1-9928-77F0B24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A2EC-AD9A-470A-89DB-D92771E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2C55-5096-4F19-B098-071A9C1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31D-7B06-4AB4-B581-3121D0A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AC03-CA29-4FDA-BFF3-75687B31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5BD9-E6F3-4D1F-92E5-92C0203F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950D-00A6-4001-B7B7-F0A6521B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9A1D-26AC-40AF-BE35-8F6C7C75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A4B2-295E-4223-9B26-B40F11D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B2C3-1D81-41FE-8638-57228CD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B650-663B-4E6D-BC2C-D4A383D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584-0B9B-43C3-BE93-A43941B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04A2-71D3-4628-8C29-EEFF0491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BE2A-6F01-4BF8-B0C4-F28113C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40F5-5DEC-4410-B2BF-742ED8A2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61D9-60CB-4471-9C14-E44558D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1BA8-8188-468C-8407-9F38A45F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038B-C22B-4CF0-8B18-364E04F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DEFD-7E6D-4421-BE3F-202870D6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0BD9-910C-4209-8B69-1DA89F5D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C212-5FAF-4898-BF75-16C6794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F74D-2401-489B-902A-45C9BD9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8A2-E77D-45C4-9302-DFE6614A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A9B6-2864-42B4-989B-C65AF68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D39B-1E83-43E5-BB16-5BF794F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C74A-E0D5-4A4E-B32C-0EEFD40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B813-343E-441B-B8C5-B55EA47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055E-3DE6-4E1E-9F70-F9F19DA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A9C0-E8E6-4D2A-BF73-62A175A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963B-2B50-4DD6-83EC-A26C67D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D7EB-93AB-44E6-B090-44C2BAD0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2140-5931-44C8-8235-522DCF88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9E6A-D7EE-4B41-9E41-A840E787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A8B-A97A-479A-9664-BED1A5F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373D-CD5B-4EC1-9D54-DBF23C24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12E0-F93A-4EB8-A3EF-67A2817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F35F-DCCF-4252-89C2-9867FFC8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1770-6E2E-4F82-B323-87E9FECB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8176-D796-42BE-8A77-3FEEFC1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A943-C04C-40C1-B8F4-B8C962A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F19F-6ACF-4F93-B82E-D32447D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6F0A-FDB7-4E72-8944-F07BAF0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88AB-D197-438D-AADF-72A4803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8F59-6462-4B55-8D36-5879A99A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E27-F4D4-4C60-9BF2-7837100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DFE13-0083-4508-8386-E23D9635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512D-1164-4A04-A986-4E9BBD44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C3A2-F885-4770-88FE-CCDB45D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9CC0-B79F-4201-9079-C0EC2AD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22A6-D612-4FE4-BF9D-5D20FC2A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34A1-F66D-4DBF-90DD-1C361764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E9FE2-5D6F-4278-8B2A-40E4653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65ED-A5B0-412A-9176-7E9BEAA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BCF3-3F68-4988-ABFC-1CF981E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6221-1E5C-4021-B9D4-1A794F3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2EF-CBA7-41BB-A9CA-CC7DC04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8991-15B3-4B70-96BF-BB50F12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F5B2C-5A07-498C-8F40-FDD341D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F2DE-DD01-4B4C-BBF8-156065F1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92B4-76A6-4BFF-8496-4914E80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A239-101A-484E-A8FA-5703454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EA32-6E9C-4884-BEB4-3F2452F8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15125-991E-4462-8846-2A164D5E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1455-498D-416C-8D6D-1ECA1BB9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65231-EB07-45F8-A303-63DDE650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89F2-FA33-4C6C-B2CA-22A5FBC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240-4B01-4806-8070-0E1C5501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C9E1-63EE-4A73-A1A5-9090662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27F5-6978-4EF4-98F0-37E4739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E3860-6600-4BFA-822A-16F5019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A0A2-527E-4B31-8090-B6D73DF0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2F8F-48C1-4182-B733-FDF5B83C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94CB4-8142-4F83-9AB8-CC1E9AC0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B1A61-22C6-4EA9-8353-9370F32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CD46-260B-4AFD-B5F6-B11E990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B331-9242-49BB-BBF3-EDAC9FA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61F7-60F9-476F-A1CD-059F301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DED-7007-4EE8-9EA2-3C2586C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7116-855B-48A6-B9B7-502C6A6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06C5-30AE-4226-A171-F18038A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AF197-4D07-434E-BD9D-D336D6B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7699-4626-4C1C-B5C3-56CCD4A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ABDF-1BF1-4284-B389-29DFC4D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87F0E-387C-4ABE-BFD1-A26B6014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C4FDB-C2E2-48DC-A48F-3DCBC647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F455-642A-4E87-93C0-AFB68CE96F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D511-BA1C-4755-8063-0E980EB9E2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93CB-88D4-4987-BE86-B191EDFEDE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7A7-127C-4570-97FD-326DC005C0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7C5-31E8-4C7F-A1A3-3C05F948B9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A969-0372-4751-85FD-E5E0CAB06F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0664-AE4D-41C0-BFBF-C84D87EF19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4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4F7-C605-4C7E-9D08-317631E9619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тематика – гимнастика ума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й, смекай, отгады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10" name="Line 19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4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        </a:t>
            </a: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  70   54  52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2700360" y="33336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зовут моего кота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851280" y="184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j0216724"/>
          <p:cNvPicPr/>
          <p:nvPr/>
        </p:nvPicPr>
        <p:blipFill>
          <a:blip r:embed="rId3"/>
          <a:stretch/>
        </p:blipFill>
        <p:spPr>
          <a:xfrm>
            <a:off x="5940360" y="227664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623" name="Line 7"/>
          <p:cNvSpPr/>
          <p:nvPr/>
        </p:nvSpPr>
        <p:spPr>
          <a:xfrm>
            <a:off x="3780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3851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385128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227640" y="5589720"/>
            <a:ext cx="287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680400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38036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7885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8317080" y="5589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6227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6804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738036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788508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8317080" y="551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26920" y="2781000"/>
            <a:ext cx="3600720" cy="360036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0" y="2781000"/>
            <a:ext cx="3772080" cy="360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7c4d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38b4"/>
                </a:solidFill>
                <a:latin typeface="Verdana"/>
              </a:rPr>
              <a:t>Сколько треугольник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1042920" y="549360"/>
            <a:ext cx="68421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читай!</a:t>
            </a:r>
            <a:endParaRPr b="1" i="1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0" name="AutoShape 10"/>
          <p:cNvSpPr/>
          <p:nvPr/>
        </p:nvSpPr>
        <p:spPr>
          <a:xfrm>
            <a:off x="1258920" y="3573360"/>
            <a:ext cx="2592360" cy="24480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/>
          <p:cNvSpPr/>
          <p:nvPr/>
        </p:nvSpPr>
        <p:spPr>
          <a:xfrm rot="18432000">
            <a:off x="1836000" y="4507200"/>
            <a:ext cx="1284120" cy="1285920"/>
          </a:xfrm>
          <a:prstGeom prst="triangle">
            <a:avLst>
              <a:gd name="adj" fmla="val 261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5364000" y="3789360"/>
            <a:ext cx="2303640" cy="2448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 rot="2688600">
            <a:off x="5657760" y="4194000"/>
            <a:ext cx="1698840" cy="16257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5940360" y="4437000"/>
            <a:ext cx="1152720" cy="11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5940360" y="4437000"/>
            <a:ext cx="11527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 flipH="1">
            <a:off x="5940000" y="4437000"/>
            <a:ext cx="1150920" cy="115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971640" y="1341360"/>
            <a:ext cx="6985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о знает и дошкольник, что такое треугольни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 уж вам – то как не знат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о совсем другое дело – быстро, точно и ум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еугольники счи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6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7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66ff"/>
                </a:solidFill>
                <a:latin typeface="Verdana"/>
              </a:rPr>
              <a:t>500 : 10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9966"/>
                </a:solidFill>
                <a:latin typeface="Verdana"/>
              </a:rPr>
              <a:t>600 : 10 =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00 : 100=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9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00 : 10 =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80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cc3399"/>
                </a:solidFill>
                <a:latin typeface="Verdana"/>
              </a:rPr>
              <a:t>900 : 10 =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60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539640" y="549360"/>
            <a:ext cx="748836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 примеры</a:t>
            </a:r>
            <a:endParaRPr b="1" i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У бабушки 6 яблок. Каждой внучке она дала по 2 яблока. Сколько внучек у бабушк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Выбери верное реш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+ 2 = 8               2 * 6 = 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 Black"/>
              </a:rPr>
              <a:t>6 – 2 = 4               6 : 2 = 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68360" y="692280"/>
            <a:ext cx="68403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ши задачу.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ши – 8 ящиков по 5 кг в каж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нослив - ? кг, в 2 раза больше, чем гру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кг          42кг         15кг            8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расная черешня – 20 корз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лая черешня - ? корзин, в 2 раза меньше, ч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0к.           10к.           22к.              18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WordArt 11"/>
          <p:cNvSpPr txBox="1"/>
          <p:nvPr/>
        </p:nvSpPr>
        <p:spPr>
          <a:xfrm>
            <a:off x="1042920" y="836640"/>
            <a:ext cx="720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7" name="Line 25"/>
          <p:cNvSpPr/>
          <p:nvPr/>
        </p:nvSpPr>
        <p:spPr>
          <a:xfrm flipH="1">
            <a:off x="7019640" y="256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8317080" y="2565360"/>
            <a:ext cx="0" cy="57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7740720" y="314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7885080" y="5661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9"/>
          <p:cNvSpPr/>
          <p:nvPr/>
        </p:nvSpPr>
        <p:spPr>
          <a:xfrm flipV="1">
            <a:off x="8317080" y="51577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H="1">
            <a:off x="5795640" y="515772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47:58Z</dcterms:created>
  <dc:creator>Валентина</dc:creator>
  <dc:description/>
  <dc:language>en-US</dc:language>
  <cp:lastModifiedBy>Admin</cp:lastModifiedBy>
  <dcterms:modified xsi:type="dcterms:W3CDTF">2012-08-27T16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e0000000000010250300207f7000400038000</vt:lpwstr>
  </property>
</Properties>
</file>