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0.wmf" ContentType="image/x-wmf"/>
  <Override PartName="/ppt/media/image7.png" ContentType="image/png"/>
  <Override PartName="/ppt/media/image9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D792-68DF-4311-8E0E-47AB19702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F0F9-5338-45D4-A4B0-943E50530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D55A-9CC8-4B37-A487-48498D425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10FA-5CA4-4D34-9ADC-79CEEC681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F3E26-D1FC-4186-96C9-CB2E39A0B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8C3D9-99F4-4C65-936D-5810A56AB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923E0-5CF0-4801-A888-DA3C90036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AECC3-DCC4-459E-A7FA-7849E455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824B4-88DA-46D0-AA71-674F3ADF1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BF86C-678A-4CBE-A330-61F7A68B7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F8636-ED23-4875-A495-F5398C9E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950E-FE5B-4885-9000-EA889090C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9ACD5-5313-4346-B3A0-7F5788A1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80F09-7549-4FD9-B8D9-E250EE65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71C34-51A0-463B-BA56-0F9C256C1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FF292-A4F5-4D9D-921D-E039B10CE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1874B-1F84-451F-88E3-750EEC4E8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A9FC6-C4C2-4663-81CD-84918C3FF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78C3D-0971-49B3-B2FC-22A1DE319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8CEC5-EF2B-47EB-82B9-4B56A0986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B2BB2-2D3D-452E-AD89-B0A152853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26650-2CA7-4DCB-B20A-F92031401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5684-3E2D-4824-9ED9-F3DFB2CBA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D0E08-8F16-4100-A0F8-B7A7C81BF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F26DE-9C99-4218-BC0C-C2BDDBDB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2EEDA-B788-4038-911D-FF15861C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8ECB7-6FDC-4E1D-825F-F13D8BA9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B1CC8-D5CF-494F-B6F4-2645A9044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0A6A3-FFCA-451D-8DAA-72712C7EA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DCEB8-9E00-4583-A3E4-3221BB605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10E96-0928-47B8-8F49-19F105C0B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9153C-884A-4C6B-AC9E-BF8C96A5D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EEFD7-C12F-449F-AD00-579709E2F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D4D2-6B9B-474D-B1F5-A084752D7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A45BE-6845-4E81-9398-E2327A890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17C87-859A-4B39-B76A-0688253D9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5CAF2-03C4-4D3A-A1BC-9C8030747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C4AA7-8186-4837-ADBC-51F42CB5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E1741-D27A-4DCC-B074-B699188D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5ED23-A093-4E6D-9797-A8F2FEA5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6E284-83FB-4911-A50F-1B105695E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4970A-0FBF-4C96-AA91-AB5A77C70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5AD9C-BF0A-4197-913B-ECA51D03F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F4DCC-525C-41C9-BF75-87B2F91F3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4476-CC1D-403E-8792-532472B09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32049-189B-4B25-A51A-2A4C418BB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A5E03-696C-4F64-AC43-D83F45F71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7F496-A96A-4378-927C-B298F6B11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BA850-363F-40E6-BEF0-14DE3C4AB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1EFC9-A9D1-407E-9ED2-E7BCA10E5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D0899-E191-43F4-BA3C-5AE07227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43833-AE6A-45A4-910A-A8BBF93F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555B3-72AE-4070-BEC0-286773F8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8696D-5A3C-4D06-B482-E6255666C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34213-015F-4550-A425-8016DB4FE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59D8-3AB3-4481-B52E-59D384154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4A2DC-6192-412E-A751-F4F0EA4EB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65ACF-74FE-4716-BFB9-5F357E2DD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AFDE5-7DAD-499E-B275-C659031FF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22DA84-F44C-4D5A-8A31-F031BCCC3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5D781-AA7D-45B5-A876-0B6344DB3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5818A-72CC-406C-9216-DFAA65354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46FED7-06E0-47CB-BCD7-DBCFC7A64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B6C801-FF3A-47BD-A9A3-AAA7AB9A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3494B-EF6C-4642-AA3B-6465A8F1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094BC-3156-4D1D-BD77-67EF7326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153E-68CE-4E01-B26F-8E228041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2CAFF-3DDD-4A95-ABE4-41C3B4425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93E0E-1240-4E40-BD4E-A5A9B4E56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A6ADC-06C3-4DDE-9D1B-DFB515E11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F37698-2C24-4940-9504-DE667EA9C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9CEB4-635A-4B2B-B330-FDA9D55E5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66BD6-E596-434E-B757-0726E52CD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36C90-6491-40DD-9FFC-F1C5E1191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B61A9D-AF98-45FA-A600-E69BA9AC2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9723DD-D06D-4621-86E1-4318856C5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FE357D-D2C9-4CF6-8452-420165D9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C445-C4D8-4F52-AA7C-73F65128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A6383-46DC-4F6E-8312-B5C71D8C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5D2BFF-D35B-4466-A7C8-DAA6FFAC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5BC7DB-B799-42B5-920E-01A2CCEC8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2CD900-7542-4599-973A-8E0C7D91E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39156-7857-4FE5-8CF2-B265174AF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AACF47-D614-4BE7-ADEC-339B294CF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F8CBB-F82E-4DA3-B320-2BE174FF9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3E70FF-AEE8-446D-8748-5F8A62E43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775BEA-978F-480F-B9F5-911EDCFA6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CE0660-11D5-4BF7-A489-4593367D3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5C0C-799A-41D1-809B-E76E02C6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70FF8-D214-4620-BCD4-39F2AB114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C8B0C1-9A72-4BE6-8B7D-8D31EE28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6BDCB8-C078-49A9-B2FB-5FE36E18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81BE9-DCF5-4A80-83CC-FDB0E1D3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C4E79F-EAA7-4748-B599-7265021AD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522B41-C504-4FC2-A533-616413300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66F8F1-7685-4191-9E42-0F8461BAB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61.xml"/><Relationship Id="rId35" Type="http://schemas.openxmlformats.org/officeDocument/2006/relationships/slideLayout" Target="../slideLayouts/slideLayout62.xml"/><Relationship Id="rId36" Type="http://schemas.openxmlformats.org/officeDocument/2006/relationships/slideLayout" Target="../slideLayouts/slideLayout63.xml"/><Relationship Id="rId37" Type="http://schemas.openxmlformats.org/officeDocument/2006/relationships/slideLayout" Target="../slideLayouts/slideLayout64.xml"/><Relationship Id="rId38" Type="http://schemas.openxmlformats.org/officeDocument/2006/relationships/slideLayout" Target="../slideLayouts/slideLayout65.xml"/><Relationship Id="rId39" Type="http://schemas.openxmlformats.org/officeDocument/2006/relationships/slideLayout" Target="../slideLayouts/slideLayout66.xml"/><Relationship Id="rId40" Type="http://schemas.openxmlformats.org/officeDocument/2006/relationships/slideLayout" Target="../slideLayouts/slideLayout67.xml"/><Relationship Id="rId41" Type="http://schemas.openxmlformats.org/officeDocument/2006/relationships/slideLayout" Target="../slideLayouts/slideLayout68.xml"/><Relationship Id="rId42" Type="http://schemas.openxmlformats.org/officeDocument/2006/relationships/slideLayout" Target="../slideLayouts/slideLayout69.xml"/><Relationship Id="rId43" Type="http://schemas.openxmlformats.org/officeDocument/2006/relationships/slideLayout" Target="../slideLayouts/slideLayout70.xml"/><Relationship Id="rId44" Type="http://schemas.openxmlformats.org/officeDocument/2006/relationships/slideLayout" Target="../slideLayouts/slideLayout71.xml"/><Relationship Id="rId4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54B80-A604-4334-8B82-FC15AEA7E01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45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49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50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51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52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4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60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8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9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88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27E7A-3CAC-411C-AA7B-2CAB95DC779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4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4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5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7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9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0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C4EB8-8A28-40B9-B076-8DDA255200E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47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6A35B-7027-4D90-B80F-F3D05685514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3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C0E5F-739D-49CB-9028-6DA57F0F412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46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50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51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52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53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5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61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2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3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4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5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6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7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8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69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70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1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2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3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4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5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6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7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8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9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0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1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2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3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4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5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6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7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8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89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1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1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1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F98DA-D5A1-4EAA-B28E-BDA1D8DA020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4"/>
    <p:sldLayoutId id="2147483715" r:id="rId35"/>
    <p:sldLayoutId id="2147483716" r:id="rId36"/>
    <p:sldLayoutId id="2147483717" r:id="rId37"/>
    <p:sldLayoutId id="2147483718" r:id="rId38"/>
    <p:sldLayoutId id="2147483719" r:id="rId39"/>
    <p:sldLayoutId id="2147483720" r:id="rId40"/>
    <p:sldLayoutId id="2147483721" r:id="rId41"/>
    <p:sldLayoutId id="2147483722" r:id="rId42"/>
    <p:sldLayoutId id="2147483723" r:id="rId43"/>
    <p:sldLayoutId id="2147483724" r:id="rId44"/>
    <p:sldLayoutId id="2147483725" r:id="rId4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42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3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44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456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4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475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493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0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501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8D130-CCA9-4E5A-B13E-D763BB183A7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47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A158C-D656-4D7C-B74A-5B64DE43F51B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Математика – гимнастика ума.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читай, смекай, отгадыв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8 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3       </a:t>
            </a:r>
            <a:r>
              <a:rPr b="1" lang="ru-RU" sz="2800" spc="-1" strike="noStrike">
                <a:solidFill>
                  <a:srgbClr val="8c0039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       </a:t>
            </a:r>
            <a:r>
              <a:rPr b="1" lang="ru-RU" sz="2800" spc="-1" strike="noStrike">
                <a:solidFill>
                  <a:srgbClr val="8c0039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4 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5        </a:t>
            </a:r>
            <a:r>
              <a:rPr b="1" lang="ru-RU" sz="2800" spc="-1" strike="noStrike">
                <a:solidFill>
                  <a:srgbClr val="8c0039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3 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4         </a:t>
            </a:r>
            <a:r>
              <a:rPr b="1" lang="ru-RU" sz="2800" spc="-1" strike="noStrike">
                <a:solidFill>
                  <a:srgbClr val="8c0039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724000" y="177336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0   70   54  52 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WordArt 14"/>
          <p:cNvSpPr txBox="1"/>
          <p:nvPr/>
        </p:nvSpPr>
        <p:spPr>
          <a:xfrm>
            <a:off x="2700360" y="333360"/>
            <a:ext cx="5832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Как зовут моего кота?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608" name="Line 15"/>
          <p:cNvSpPr/>
          <p:nvPr/>
        </p:nvSpPr>
        <p:spPr>
          <a:xfrm>
            <a:off x="3851280" y="184464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17" descr="j0216724"/>
          <p:cNvPicPr/>
          <p:nvPr/>
        </p:nvPicPr>
        <p:blipFill>
          <a:blip r:embed="rId3"/>
          <a:stretch/>
        </p:blipFill>
        <p:spPr>
          <a:xfrm>
            <a:off x="5940360" y="2276640"/>
            <a:ext cx="2737080" cy="2376360"/>
          </a:xfrm>
          <a:prstGeom prst="rect">
            <a:avLst/>
          </a:prstGeom>
          <a:ln w="0">
            <a:noFill/>
          </a:ln>
        </p:spPr>
      </p:pic>
      <p:sp>
        <p:nvSpPr>
          <p:cNvPr id="610" name="Line 19"/>
          <p:cNvSpPr/>
          <p:nvPr/>
        </p:nvSpPr>
        <p:spPr>
          <a:xfrm>
            <a:off x="3780000" y="321300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20"/>
          <p:cNvSpPr/>
          <p:nvPr/>
        </p:nvSpPr>
        <p:spPr>
          <a:xfrm>
            <a:off x="3851280" y="4653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21"/>
          <p:cNvSpPr/>
          <p:nvPr/>
        </p:nvSpPr>
        <p:spPr>
          <a:xfrm>
            <a:off x="3851280" y="6093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22"/>
          <p:cNvSpPr/>
          <p:nvPr/>
        </p:nvSpPr>
        <p:spPr>
          <a:xfrm>
            <a:off x="6227640" y="5589720"/>
            <a:ext cx="28764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23"/>
          <p:cNvSpPr/>
          <p:nvPr/>
        </p:nvSpPr>
        <p:spPr>
          <a:xfrm>
            <a:off x="6804000" y="5589720"/>
            <a:ext cx="287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24"/>
          <p:cNvSpPr/>
          <p:nvPr/>
        </p:nvSpPr>
        <p:spPr>
          <a:xfrm>
            <a:off x="7380360" y="5589720"/>
            <a:ext cx="287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25"/>
          <p:cNvSpPr/>
          <p:nvPr/>
        </p:nvSpPr>
        <p:spPr>
          <a:xfrm>
            <a:off x="7885080" y="5589720"/>
            <a:ext cx="287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26"/>
          <p:cNvSpPr/>
          <p:nvPr/>
        </p:nvSpPr>
        <p:spPr>
          <a:xfrm>
            <a:off x="8317080" y="5589720"/>
            <a:ext cx="287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8 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3       </a:t>
            </a:r>
            <a:r>
              <a:rPr b="1" lang="ru-RU" sz="2800" spc="-1" strike="noStrike">
                <a:solidFill>
                  <a:srgbClr val="8c0039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       </a:t>
            </a:r>
            <a:r>
              <a:rPr b="1" lang="ru-RU" sz="2800" spc="-1" strike="noStrike">
                <a:solidFill>
                  <a:srgbClr val="8c0039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4 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5        </a:t>
            </a:r>
            <a:r>
              <a:rPr b="1" lang="ru-RU" sz="2800" spc="-1" strike="noStrike">
                <a:solidFill>
                  <a:srgbClr val="8c0039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3 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4         </a:t>
            </a:r>
            <a:r>
              <a:rPr b="1" lang="ru-RU" sz="2800" spc="-1" strike="noStrike">
                <a:solidFill>
                  <a:srgbClr val="8c0039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724000" y="177336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0   70   54  52 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WordArt 4"/>
          <p:cNvSpPr txBox="1"/>
          <p:nvPr/>
        </p:nvSpPr>
        <p:spPr>
          <a:xfrm>
            <a:off x="2700360" y="333360"/>
            <a:ext cx="5832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Как зовут моего кота?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621" name="Line 5"/>
          <p:cNvSpPr/>
          <p:nvPr/>
        </p:nvSpPr>
        <p:spPr>
          <a:xfrm>
            <a:off x="3851280" y="184464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6" descr="j0216724"/>
          <p:cNvPicPr/>
          <p:nvPr/>
        </p:nvPicPr>
        <p:blipFill>
          <a:blip r:embed="rId3"/>
          <a:stretch/>
        </p:blipFill>
        <p:spPr>
          <a:xfrm>
            <a:off x="5940360" y="2276640"/>
            <a:ext cx="2737080" cy="2376360"/>
          </a:xfrm>
          <a:prstGeom prst="rect">
            <a:avLst/>
          </a:prstGeom>
          <a:ln w="0">
            <a:noFill/>
          </a:ln>
        </p:spPr>
      </p:pic>
      <p:sp>
        <p:nvSpPr>
          <p:cNvPr id="623" name="Line 7"/>
          <p:cNvSpPr/>
          <p:nvPr/>
        </p:nvSpPr>
        <p:spPr>
          <a:xfrm>
            <a:off x="3780000" y="321300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8"/>
          <p:cNvSpPr/>
          <p:nvPr/>
        </p:nvSpPr>
        <p:spPr>
          <a:xfrm>
            <a:off x="3851280" y="4653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9"/>
          <p:cNvSpPr/>
          <p:nvPr/>
        </p:nvSpPr>
        <p:spPr>
          <a:xfrm>
            <a:off x="3851280" y="6093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10"/>
          <p:cNvSpPr/>
          <p:nvPr/>
        </p:nvSpPr>
        <p:spPr>
          <a:xfrm>
            <a:off x="6227640" y="5589720"/>
            <a:ext cx="28764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11"/>
          <p:cNvSpPr/>
          <p:nvPr/>
        </p:nvSpPr>
        <p:spPr>
          <a:xfrm>
            <a:off x="6804000" y="5589720"/>
            <a:ext cx="287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12"/>
          <p:cNvSpPr/>
          <p:nvPr/>
        </p:nvSpPr>
        <p:spPr>
          <a:xfrm>
            <a:off x="7380360" y="5589720"/>
            <a:ext cx="287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13"/>
          <p:cNvSpPr/>
          <p:nvPr/>
        </p:nvSpPr>
        <p:spPr>
          <a:xfrm>
            <a:off x="7885080" y="5589720"/>
            <a:ext cx="287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14"/>
          <p:cNvSpPr/>
          <p:nvPr/>
        </p:nvSpPr>
        <p:spPr>
          <a:xfrm>
            <a:off x="8317080" y="5589720"/>
            <a:ext cx="287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16"/>
          <p:cNvSpPr/>
          <p:nvPr/>
        </p:nvSpPr>
        <p:spPr>
          <a:xfrm>
            <a:off x="6227640" y="5516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17"/>
          <p:cNvSpPr/>
          <p:nvPr/>
        </p:nvSpPr>
        <p:spPr>
          <a:xfrm>
            <a:off x="6804000" y="5516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18"/>
          <p:cNvSpPr/>
          <p:nvPr/>
        </p:nvSpPr>
        <p:spPr>
          <a:xfrm>
            <a:off x="7380360" y="5516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9"/>
          <p:cNvSpPr/>
          <p:nvPr/>
        </p:nvSpPr>
        <p:spPr>
          <a:xfrm>
            <a:off x="7885080" y="5516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20"/>
          <p:cNvSpPr/>
          <p:nvPr/>
        </p:nvSpPr>
        <p:spPr>
          <a:xfrm>
            <a:off x="8317080" y="551664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826920" y="2781000"/>
            <a:ext cx="3600720" cy="360036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ae38b4"/>
                </a:solidFill>
                <a:latin typeface="Verdana"/>
              </a:rPr>
              <a:t>Сколько треугольников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572000" y="2781000"/>
            <a:ext cx="3772080" cy="360036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87c4d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e38b4"/>
                </a:solidFill>
                <a:latin typeface="Verdana"/>
              </a:rPr>
              <a:t>Сколько треугольников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9" name="WordArt 4"/>
          <p:cNvSpPr txBox="1"/>
          <p:nvPr/>
        </p:nvSpPr>
        <p:spPr>
          <a:xfrm>
            <a:off x="1042920" y="549360"/>
            <a:ext cx="6842160" cy="76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считай!</a:t>
            </a:r>
            <a:endParaRPr b="1" i="1" lang="en-US" sz="2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40" name="AutoShape 10"/>
          <p:cNvSpPr/>
          <p:nvPr/>
        </p:nvSpPr>
        <p:spPr>
          <a:xfrm>
            <a:off x="1258920" y="3573360"/>
            <a:ext cx="2592360" cy="2448000"/>
          </a:xfrm>
          <a:prstGeom prst="triangle">
            <a:avLst>
              <a:gd name="adj" fmla="val 50000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AutoShape 11"/>
          <p:cNvSpPr/>
          <p:nvPr/>
        </p:nvSpPr>
        <p:spPr>
          <a:xfrm rot="18432000">
            <a:off x="1836000" y="4507200"/>
            <a:ext cx="1284120" cy="1285920"/>
          </a:xfrm>
          <a:prstGeom prst="triangle">
            <a:avLst>
              <a:gd name="adj" fmla="val 26106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12"/>
          <p:cNvSpPr/>
          <p:nvPr/>
        </p:nvSpPr>
        <p:spPr>
          <a:xfrm>
            <a:off x="5364000" y="3789360"/>
            <a:ext cx="2303640" cy="244800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13"/>
          <p:cNvSpPr/>
          <p:nvPr/>
        </p:nvSpPr>
        <p:spPr>
          <a:xfrm rot="2688600">
            <a:off x="5657760" y="4194000"/>
            <a:ext cx="1698840" cy="162576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14"/>
          <p:cNvSpPr/>
          <p:nvPr/>
        </p:nvSpPr>
        <p:spPr>
          <a:xfrm>
            <a:off x="5940360" y="4437000"/>
            <a:ext cx="1152720" cy="115272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Line 19"/>
          <p:cNvSpPr/>
          <p:nvPr/>
        </p:nvSpPr>
        <p:spPr>
          <a:xfrm>
            <a:off x="5940360" y="4437000"/>
            <a:ext cx="1152720" cy="11527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20"/>
          <p:cNvSpPr/>
          <p:nvPr/>
        </p:nvSpPr>
        <p:spPr>
          <a:xfrm flipH="1">
            <a:off x="5940000" y="4437000"/>
            <a:ext cx="1150920" cy="11527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21"/>
          <p:cNvSpPr/>
          <p:nvPr/>
        </p:nvSpPr>
        <p:spPr>
          <a:xfrm>
            <a:off x="971640" y="1341360"/>
            <a:ext cx="698508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Часто знает и дошкольник, что такое треугольник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А уж вам – то как не знать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Но совсем другое дело – быстро, точно и уме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Треугольники считать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60 : 10 =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                       7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ff3300"/>
                </a:solidFill>
                <a:latin typeface="Verdana"/>
              </a:rPr>
              <a:t>70 : 10 =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                       6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3366ff"/>
                </a:solidFill>
                <a:latin typeface="Verdana"/>
              </a:rPr>
              <a:t>500 : 100 =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                   5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339966"/>
                </a:solidFill>
                <a:latin typeface="Verdana"/>
              </a:rPr>
              <a:t>600 : 10 =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8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800 : 100=                     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90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800 : 10 =                      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80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99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cc3399"/>
                </a:solidFill>
                <a:latin typeface="Verdana"/>
              </a:rPr>
              <a:t>900 : 10 =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                    60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50" name="WordArt 4"/>
          <p:cNvSpPr txBox="1"/>
          <p:nvPr/>
        </p:nvSpPr>
        <p:spPr>
          <a:xfrm>
            <a:off x="539640" y="549360"/>
            <a:ext cx="7488360" cy="91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ши примеры</a:t>
            </a:r>
            <a:endParaRPr b="1" i="1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 Black"/>
              </a:rPr>
              <a:t>У бабушки 6 яблок. Каждой внучке она дала по 2 яблока. Сколько внучек у бабушки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 Black"/>
              </a:rPr>
              <a:t>Выбери верное решение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 Black"/>
              </a:rPr>
              <a:t>    </a:t>
            </a:r>
            <a:r>
              <a:rPr b="0" lang="ru-RU" sz="2800" spc="-1" strike="noStrike">
                <a:solidFill>
                  <a:srgbClr val="2f1311"/>
                </a:solidFill>
                <a:latin typeface="Arial Black"/>
              </a:rPr>
              <a:t>6 + 2 = 8               2 * 6 = 12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 Black"/>
              </a:rPr>
              <a:t>    </a:t>
            </a:r>
            <a:r>
              <a:rPr b="0" lang="ru-RU" sz="2800" spc="-1" strike="noStrike">
                <a:solidFill>
                  <a:srgbClr val="2f1311"/>
                </a:solidFill>
                <a:latin typeface="Arial Black"/>
              </a:rPr>
              <a:t>6 – 2 = 4               6 : 2 = 3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53" name="WordArt 7"/>
          <p:cNvSpPr txBox="1"/>
          <p:nvPr/>
        </p:nvSpPr>
        <p:spPr>
          <a:xfrm>
            <a:off x="468360" y="692280"/>
            <a:ext cx="6840360" cy="70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9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Реши задачу.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17928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руши – 8 ящиков по 5 кг в кажд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ернослив - ? кг, в 2 раза больше, чем гру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6кг          42кг         15кг            80к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Красная черешня – 20 корзин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Белая черешня - ? корзин, в 2 раза меньше, чем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40к.           10к.           22к.              18к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WordArt 11"/>
          <p:cNvSpPr txBox="1"/>
          <p:nvPr/>
        </p:nvSpPr>
        <p:spPr>
          <a:xfrm>
            <a:off x="1042920" y="836640"/>
            <a:ext cx="72010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Реши задач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57" name="Line 25"/>
          <p:cNvSpPr/>
          <p:nvPr/>
        </p:nvSpPr>
        <p:spPr>
          <a:xfrm flipH="1">
            <a:off x="7019640" y="2565360"/>
            <a:ext cx="1297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26"/>
          <p:cNvSpPr/>
          <p:nvPr/>
        </p:nvSpPr>
        <p:spPr>
          <a:xfrm>
            <a:off x="8317080" y="2565360"/>
            <a:ext cx="0" cy="577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Line 27"/>
          <p:cNvSpPr/>
          <p:nvPr/>
        </p:nvSpPr>
        <p:spPr>
          <a:xfrm>
            <a:off x="7740720" y="314172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28"/>
          <p:cNvSpPr/>
          <p:nvPr/>
        </p:nvSpPr>
        <p:spPr>
          <a:xfrm>
            <a:off x="7885080" y="566100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29"/>
          <p:cNvSpPr/>
          <p:nvPr/>
        </p:nvSpPr>
        <p:spPr>
          <a:xfrm flipV="1">
            <a:off x="8317080" y="515772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Line 31"/>
          <p:cNvSpPr/>
          <p:nvPr/>
        </p:nvSpPr>
        <p:spPr>
          <a:xfrm flipH="1">
            <a:off x="5795640" y="5157720"/>
            <a:ext cx="2521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8T13:47:58Z</dcterms:created>
  <dc:creator>Валентина</dc:creator>
  <dc:description/>
  <dc:language>en-US</dc:language>
  <cp:lastModifiedBy>Admin</cp:lastModifiedBy>
  <dcterms:modified xsi:type="dcterms:W3CDTF">2012-08-27T16:51:00Z</dcterms:modified>
  <cp:revision>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e0e0000000000010250300207f7000400038000</vt:lpwstr>
  </property>
</Properties>
</file>