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115D-9EDA-44CC-9C2D-0A6A4A91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BEE-B996-4586-9BD4-84DD4355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E06-66A0-4D6D-9166-BD97CE76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D5C-F3C2-45A8-8511-64E9D04B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C7FB-811C-4363-837F-4ED80997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A884-3D32-4801-B546-5569D50B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166F-F18F-4D13-B292-41020D21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E9D8-1F0C-4E87-B961-D0E6FFC8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B1B8-B6C9-4013-A1A9-52B56575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ACD3-5AE9-4A88-8B59-572F36F1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205D-E62F-463D-99B0-F379DA8F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B2C-2D3B-4B12-8BC2-DAA934CF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1C30-6D36-47EE-ABDE-97CBA36D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5A07-B9FA-46E2-A59A-D7DF8D33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0AEE-E2EF-45F6-B963-77A21F2B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76FA-FCE9-43B7-B093-A8A9851F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02BD-20BB-4E9E-9533-4D98904A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3FBC7-25FF-4E80-816B-515B4773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F60BB-FBF9-4E51-9AA3-9735E753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13B69-3587-4FC7-A9BB-DA975FCC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18567-4D7D-4F55-A954-CA03DE16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F6800-FE67-45FE-9673-698C6782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0EC-0885-4AA2-81B8-B521B356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E2900-90E5-4196-8E9F-CDD34273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16F5C-9B85-4D3D-B384-A1FD718D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F74B7-AA16-4E88-94ED-97E13691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D2316-2281-4C64-82B9-AD8E1A9B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1BF20-D464-4EE0-98FF-1C5E74C5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239D4-56F6-46B7-AFAF-C3EEE463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94F57-4AE9-4560-9923-0EE2A0C5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5171C-EDDD-4309-84B1-06A99A4E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65233-C99B-43B3-84EC-53BFF6C4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6A205-6E65-4699-AA1E-EE57DC38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72F-F37F-435A-B4B0-42D11E76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E94E5-DC50-4F2E-8223-37558E1F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5D5FC-67F2-49DB-B326-F0B03B2E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08FFB-559E-4C38-95FF-28C73761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5BC50-C8E3-4E96-80B4-9B420B87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58034-61BC-4FF9-B485-E56890DF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B3096-6E40-48FD-9DD7-D3E3B413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8651C-7857-4AA9-A10A-D316B243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6351E-7E92-4C52-9A34-380FDA25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70B73-BE93-45C4-AEA3-083007EE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4558F-0428-46FF-871B-845D5A36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22E-A835-434A-B2B8-E43F4857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AC227-2E08-49FF-BC4E-D32F5380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FE7F8-CB47-4E21-8D5A-0BFB4AB8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A571C-B346-41FD-8BBC-99327934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C8CB7-3AE2-4E11-B900-C332D4F5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4FC77-A53E-4C95-A45A-C2F2B4AF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55E2F-829B-47FB-BA2E-411DB063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7FB89-3B35-46F5-B998-870E4BB4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751F3-F525-4936-B6B9-72037585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3778B-01FF-4C7A-B87A-5BB40FA5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7D721-8059-44C5-BD99-D1E57A2B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A39D-DC3E-491D-BA1C-CD2B0FDF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A31F6-6298-4D28-B991-3030F17B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A8508-1A5A-4B3D-B508-336D2652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D75DF-1AD0-4E57-BF37-A9DF23A9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4E5C9-9B76-433B-AEF6-CBF939A8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A9960-AF28-4615-922F-7BA814BD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B082C-7551-46B4-8344-63695F16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827AD-A6BE-4C6C-A87C-18A9618E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8852B-ACE8-4A0D-83A1-748E5E0C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52012-8966-46C3-AB84-F84C8514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5FEC3-B008-4EB8-AB6B-A8C9164D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69C-17E9-4A77-A786-E2866E99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82212-7A19-42CE-8DF8-96167F89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45E80-3C7B-4529-AF8C-D9C3FC11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CD4D1-0396-4610-B9E4-8B4701BD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CE097-D7B7-4BF2-BF83-F1CBC8C8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E0E2C-0034-4E62-ADB4-FE37F7DA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1BA4B-DA45-41EC-A6AE-6A3F79CD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58B9B-938A-4013-84F2-01296754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DAD30-AC91-4DC5-898B-3E1854B6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C9617-0E44-4B04-83BF-6E392B6C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AFA01-F58D-48F0-B228-6036C771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D37-C504-4ED1-99CA-892007CF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053B4-1808-4166-AE43-F6BAD990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CE8E7-C656-4435-86BE-E6918C79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264DB-9EBB-4C19-840B-99144261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0BFDB-F840-4F23-A2E2-8CFB03D5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CB871-03C6-4882-BA45-DC2DDDAF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961F5-6D2C-4E33-A6BD-C8D1EBD5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C14EC-8F32-440C-A587-E84AB3E4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85D39-821D-4377-A3A7-3A7DD0A2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128FB-4452-4F80-943B-0600706A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571E8-65DD-40B7-9B10-580EB490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7B9-0F87-48C2-85C2-F8A772CD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635EA-C2F0-49C4-BF16-5BD8427B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60116-72DB-437B-A924-7799B883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D0468-1836-4B76-8248-E6B66A09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572D7-4774-4F8F-92AE-3DFA9577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812E9-CC76-40FB-8F9E-A9F6DD1E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77A1D-DCB6-447D-8DA4-55BAF156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EBF14-01F2-45AB-96D6-37EFAD43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17EF-3B07-407A-9FD0-C90F6E5F6A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9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0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2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8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C778-6A8D-454F-8A39-E273D1958A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7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F8E0-4833-467E-8BFA-C9046FC6CF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4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954C-E085-4C1D-8D54-7EB8BCB1274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5D92-CCE6-4D91-BB3E-44AFE937A71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46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50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51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52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53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5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61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2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9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70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9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7229-967E-4A50-BF07-09EA3D90013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4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FB25-EE22-44D3-99EA-9406DD3C71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4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C873-2BB4-479A-8C39-8AB7898D35F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атематика – гимнастика ума.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читай, смекай, отгадыв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3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5 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4  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24000" y="177336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0   70   54  52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WordArt 14"/>
          <p:cNvSpPr txBox="1"/>
          <p:nvPr/>
        </p:nvSpPr>
        <p:spPr>
          <a:xfrm>
            <a:off x="2700360" y="333360"/>
            <a:ext cx="583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ак зовут моего кота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08" name="Line 15"/>
          <p:cNvSpPr/>
          <p:nvPr/>
        </p:nvSpPr>
        <p:spPr>
          <a:xfrm>
            <a:off x="3851280" y="1844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17" descr="j0216724"/>
          <p:cNvPicPr/>
          <p:nvPr/>
        </p:nvPicPr>
        <p:blipFill>
          <a:blip r:embed="rId3"/>
          <a:stretch/>
        </p:blipFill>
        <p:spPr>
          <a:xfrm>
            <a:off x="5940360" y="2276640"/>
            <a:ext cx="2737080" cy="2376360"/>
          </a:xfrm>
          <a:prstGeom prst="rect">
            <a:avLst/>
          </a:prstGeom>
          <a:ln w="0">
            <a:noFill/>
          </a:ln>
        </p:spPr>
      </p:pic>
      <p:sp>
        <p:nvSpPr>
          <p:cNvPr id="610" name="Line 19"/>
          <p:cNvSpPr/>
          <p:nvPr/>
        </p:nvSpPr>
        <p:spPr>
          <a:xfrm>
            <a:off x="3780000" y="321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0"/>
          <p:cNvSpPr/>
          <p:nvPr/>
        </p:nvSpPr>
        <p:spPr>
          <a:xfrm>
            <a:off x="3851280" y="465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1"/>
          <p:cNvSpPr/>
          <p:nvPr/>
        </p:nvSpPr>
        <p:spPr>
          <a:xfrm>
            <a:off x="3851280" y="609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2"/>
          <p:cNvSpPr/>
          <p:nvPr/>
        </p:nvSpPr>
        <p:spPr>
          <a:xfrm>
            <a:off x="6227640" y="5589720"/>
            <a:ext cx="28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3"/>
          <p:cNvSpPr/>
          <p:nvPr/>
        </p:nvSpPr>
        <p:spPr>
          <a:xfrm>
            <a:off x="680400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4"/>
          <p:cNvSpPr/>
          <p:nvPr/>
        </p:nvSpPr>
        <p:spPr>
          <a:xfrm>
            <a:off x="738036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5"/>
          <p:cNvSpPr/>
          <p:nvPr/>
        </p:nvSpPr>
        <p:spPr>
          <a:xfrm>
            <a:off x="788508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6"/>
          <p:cNvSpPr/>
          <p:nvPr/>
        </p:nvSpPr>
        <p:spPr>
          <a:xfrm>
            <a:off x="831708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3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5 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4  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724000" y="177336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0   70   54  52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WordArt 4"/>
          <p:cNvSpPr txBox="1"/>
          <p:nvPr/>
        </p:nvSpPr>
        <p:spPr>
          <a:xfrm>
            <a:off x="2700360" y="333360"/>
            <a:ext cx="583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ак зовут моего кота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21" name="Line 5"/>
          <p:cNvSpPr/>
          <p:nvPr/>
        </p:nvSpPr>
        <p:spPr>
          <a:xfrm>
            <a:off x="3851280" y="1844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6" descr="j0216724"/>
          <p:cNvPicPr/>
          <p:nvPr/>
        </p:nvPicPr>
        <p:blipFill>
          <a:blip r:embed="rId3"/>
          <a:stretch/>
        </p:blipFill>
        <p:spPr>
          <a:xfrm>
            <a:off x="5940360" y="2276640"/>
            <a:ext cx="2737080" cy="2376360"/>
          </a:xfrm>
          <a:prstGeom prst="rect">
            <a:avLst/>
          </a:prstGeom>
          <a:ln w="0">
            <a:noFill/>
          </a:ln>
        </p:spPr>
      </p:pic>
      <p:sp>
        <p:nvSpPr>
          <p:cNvPr id="623" name="Line 7"/>
          <p:cNvSpPr/>
          <p:nvPr/>
        </p:nvSpPr>
        <p:spPr>
          <a:xfrm>
            <a:off x="3780000" y="321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8"/>
          <p:cNvSpPr/>
          <p:nvPr/>
        </p:nvSpPr>
        <p:spPr>
          <a:xfrm>
            <a:off x="3851280" y="465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9"/>
          <p:cNvSpPr/>
          <p:nvPr/>
        </p:nvSpPr>
        <p:spPr>
          <a:xfrm>
            <a:off x="3851280" y="609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0"/>
          <p:cNvSpPr/>
          <p:nvPr/>
        </p:nvSpPr>
        <p:spPr>
          <a:xfrm>
            <a:off x="6227640" y="5589720"/>
            <a:ext cx="287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1"/>
          <p:cNvSpPr/>
          <p:nvPr/>
        </p:nvSpPr>
        <p:spPr>
          <a:xfrm>
            <a:off x="680400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2"/>
          <p:cNvSpPr/>
          <p:nvPr/>
        </p:nvSpPr>
        <p:spPr>
          <a:xfrm>
            <a:off x="738036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3"/>
          <p:cNvSpPr/>
          <p:nvPr/>
        </p:nvSpPr>
        <p:spPr>
          <a:xfrm>
            <a:off x="788508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4"/>
          <p:cNvSpPr/>
          <p:nvPr/>
        </p:nvSpPr>
        <p:spPr>
          <a:xfrm>
            <a:off x="831708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622764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6804000" y="551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8"/>
          <p:cNvSpPr/>
          <p:nvPr/>
        </p:nvSpPr>
        <p:spPr>
          <a:xfrm>
            <a:off x="738036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788508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8317080" y="5516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26920" y="2781000"/>
            <a:ext cx="3600720" cy="360036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ae38b4"/>
                </a:solidFill>
                <a:latin typeface="Verdana"/>
              </a:rPr>
              <a:t>Сколько треугольник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0" y="2781000"/>
            <a:ext cx="3772080" cy="3600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87c4d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e38b4"/>
                </a:solidFill>
                <a:latin typeface="Verdana"/>
              </a:rPr>
              <a:t>Сколько треугольник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9" name="WordArt 4"/>
          <p:cNvSpPr txBox="1"/>
          <p:nvPr/>
        </p:nvSpPr>
        <p:spPr>
          <a:xfrm>
            <a:off x="1042920" y="549360"/>
            <a:ext cx="684216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считай!</a:t>
            </a:r>
            <a:endParaRPr b="1" i="1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0" name="AutoShape 10"/>
          <p:cNvSpPr/>
          <p:nvPr/>
        </p:nvSpPr>
        <p:spPr>
          <a:xfrm>
            <a:off x="1258920" y="3573360"/>
            <a:ext cx="2592360" cy="244800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1"/>
          <p:cNvSpPr/>
          <p:nvPr/>
        </p:nvSpPr>
        <p:spPr>
          <a:xfrm rot="18432000">
            <a:off x="1836000" y="4507200"/>
            <a:ext cx="1284120" cy="1285920"/>
          </a:xfrm>
          <a:prstGeom prst="triangle">
            <a:avLst>
              <a:gd name="adj" fmla="val 2610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2"/>
          <p:cNvSpPr/>
          <p:nvPr/>
        </p:nvSpPr>
        <p:spPr>
          <a:xfrm>
            <a:off x="5364000" y="3789360"/>
            <a:ext cx="2303640" cy="2448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3"/>
          <p:cNvSpPr/>
          <p:nvPr/>
        </p:nvSpPr>
        <p:spPr>
          <a:xfrm rot="2688600">
            <a:off x="5657760" y="4194000"/>
            <a:ext cx="1698840" cy="16257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4"/>
          <p:cNvSpPr/>
          <p:nvPr/>
        </p:nvSpPr>
        <p:spPr>
          <a:xfrm>
            <a:off x="5940360" y="4437000"/>
            <a:ext cx="1152720" cy="11527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9"/>
          <p:cNvSpPr/>
          <p:nvPr/>
        </p:nvSpPr>
        <p:spPr>
          <a:xfrm>
            <a:off x="5940360" y="4437000"/>
            <a:ext cx="1152720" cy="1152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20"/>
          <p:cNvSpPr/>
          <p:nvPr/>
        </p:nvSpPr>
        <p:spPr>
          <a:xfrm flipH="1">
            <a:off x="5940000" y="4437000"/>
            <a:ext cx="1150920" cy="1152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1"/>
          <p:cNvSpPr/>
          <p:nvPr/>
        </p:nvSpPr>
        <p:spPr>
          <a:xfrm>
            <a:off x="971640" y="1341360"/>
            <a:ext cx="69850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Часто знает и дошкольник, что такое треугольни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 уж вам – то как не знать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о совсем другое дело – быстро, точно и уме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реугольники считат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60 : 10 =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              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3300"/>
                </a:solidFill>
                <a:latin typeface="Verdana"/>
              </a:rPr>
              <a:t>70 : 10 =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              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3366ff"/>
                </a:solidFill>
                <a:latin typeface="Verdana"/>
              </a:rPr>
              <a:t>500 : 100 =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          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339966"/>
                </a:solidFill>
                <a:latin typeface="Verdana"/>
              </a:rPr>
              <a:t>600 : 10 =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00 : 100=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9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800 : 10 =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80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99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cc3399"/>
                </a:solidFill>
                <a:latin typeface="Verdana"/>
              </a:rPr>
              <a:t>900 : 10 =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           60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0" name="WordArt 4"/>
          <p:cNvSpPr txBox="1"/>
          <p:nvPr/>
        </p:nvSpPr>
        <p:spPr>
          <a:xfrm>
            <a:off x="539640" y="549360"/>
            <a:ext cx="7488360" cy="91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ши примеры</a:t>
            </a:r>
            <a:endParaRPr b="1" i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 Black"/>
              </a:rPr>
              <a:t>У бабушки 6 яблок. Каждой внучке она дала по 2 яблока. Сколько внучек у бабушки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 Black"/>
              </a:rPr>
              <a:t>Выбери верное решение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 Black"/>
              </a:rPr>
              <a:t>    </a:t>
            </a:r>
            <a:r>
              <a:rPr b="0" lang="ru-RU" sz="2800" spc="-1" strike="noStrike">
                <a:solidFill>
                  <a:srgbClr val="2f1311"/>
                </a:solidFill>
                <a:latin typeface="Arial Black"/>
              </a:rPr>
              <a:t>6 + 2 = 8               2 * 6 = 12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 Black"/>
              </a:rPr>
              <a:t>    </a:t>
            </a:r>
            <a:r>
              <a:rPr b="0" lang="ru-RU" sz="2800" spc="-1" strike="noStrike">
                <a:solidFill>
                  <a:srgbClr val="2f1311"/>
                </a:solidFill>
                <a:latin typeface="Arial Black"/>
              </a:rPr>
              <a:t>6 – 2 = 4               6 : 2 = 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3" name="WordArt 7"/>
          <p:cNvSpPr txBox="1"/>
          <p:nvPr/>
        </p:nvSpPr>
        <p:spPr>
          <a:xfrm>
            <a:off x="468360" y="692280"/>
            <a:ext cx="684036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Реши задачу.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79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уши – 8 ящиков по 5 кг в кажд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рнослив - ? кг, в 2 раза больше, чем гру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6кг          42кг         15кг            80к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расная черешня – 20 корзи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елая черешня - ? корзин, в 2 раза меньше, че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40к.           10к.           22к.              18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WordArt 11"/>
          <p:cNvSpPr txBox="1"/>
          <p:nvPr/>
        </p:nvSpPr>
        <p:spPr>
          <a:xfrm>
            <a:off x="1042920" y="836640"/>
            <a:ext cx="7201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ши зада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57" name="Line 25"/>
          <p:cNvSpPr/>
          <p:nvPr/>
        </p:nvSpPr>
        <p:spPr>
          <a:xfrm flipH="1">
            <a:off x="7019640" y="256536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26"/>
          <p:cNvSpPr/>
          <p:nvPr/>
        </p:nvSpPr>
        <p:spPr>
          <a:xfrm>
            <a:off x="8317080" y="2565360"/>
            <a:ext cx="0" cy="577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27"/>
          <p:cNvSpPr/>
          <p:nvPr/>
        </p:nvSpPr>
        <p:spPr>
          <a:xfrm>
            <a:off x="7740720" y="3141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8"/>
          <p:cNvSpPr/>
          <p:nvPr/>
        </p:nvSpPr>
        <p:spPr>
          <a:xfrm>
            <a:off x="7885080" y="5661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29"/>
          <p:cNvSpPr/>
          <p:nvPr/>
        </p:nvSpPr>
        <p:spPr>
          <a:xfrm flipV="1">
            <a:off x="8317080" y="515772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31"/>
          <p:cNvSpPr/>
          <p:nvPr/>
        </p:nvSpPr>
        <p:spPr>
          <a:xfrm flipH="1">
            <a:off x="5795640" y="515772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13:47:58Z</dcterms:created>
  <dc:creator>Валентина</dc:creator>
  <dc:description/>
  <dc:language>en-US</dc:language>
  <cp:lastModifiedBy>Admin</cp:lastModifiedBy>
  <dcterms:modified xsi:type="dcterms:W3CDTF">2012-08-27T16:51:00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e0000000000010250300207f7000400038000</vt:lpwstr>
  </property>
</Properties>
</file>