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8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5.gif" ContentType="image/gif"/>
  <Override PartName="/ppt/media/image30.gif" ContentType="image/gif"/>
  <Override PartName="/ppt/media/image29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31.gif" ContentType="image/gif"/>
  <Override PartName="/ppt/media/image11.jpeg" ContentType="image/jpeg"/>
  <Override PartName="/ppt/media/image1.gif" ContentType="image/gif"/>
  <Override PartName="/ppt/media/image24.gif" ContentType="image/gif"/>
  <Override PartName="/ppt/media/image27.png" ContentType="image/png"/>
  <Override PartName="/ppt/media/image4.gif" ContentType="image/gif"/>
  <Override PartName="/ppt/media/image15.jpeg" ContentType="image/jpeg"/>
  <Override PartName="/ppt/media/image16.gif" ContentType="image/gif"/>
  <Override PartName="/ppt/media/image19.png" ContentType="image/png"/>
  <Override PartName="/ppt/media/image17.gif" ContentType="image/gif"/>
  <Override PartName="/ppt/media/image13.png" ContentType="image/png"/>
  <Override PartName="/ppt/media/image20.gif" ContentType="image/gif"/>
  <Override PartName="/ppt/media/image21.gif" ContentType="image/gif"/>
  <Override PartName="/ppt/media/image22.gif" ContentType="image/gif"/>
  <Override PartName="/ppt/media/image2.gif" ContentType="image/gif"/>
  <Override PartName="/ppt/media/image25.png" ContentType="image/pn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DF7-507D-43DE-B302-947D1FAB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2CA-F093-41FA-9103-80EAB04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7D1-E0C9-4326-934E-24291226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D0A-CCC9-4E6D-A21F-F56EB199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029-D60D-4A2A-989C-5087E04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147-6583-410C-8AD2-57072A62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249-B5DF-481D-8B9A-F6536710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573-16D6-4CC2-BCCD-4DED934D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562-4511-4FA2-8CFA-A6B80B16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307-CEA0-4A8F-B3AB-4AAE68E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155-D907-49DC-9213-6B7F37F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C59-A4BA-494E-8988-C88F3379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F0A6-BB58-4606-86B0-455DB8887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рок математики в 4 классе по теме: « Приёмы письменного умножения трёхзначных чисел на однозначны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addc13bb0c3e1064bdd3da7e4078ac"/>
          <p:cNvPicPr/>
          <p:nvPr/>
        </p:nvPicPr>
        <p:blipFill>
          <a:blip r:embed="rId2"/>
          <a:stretch/>
        </p:blipFill>
        <p:spPr>
          <a:xfrm>
            <a:off x="324000" y="2852640"/>
            <a:ext cx="84276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b31910dbf788580a245587d52a8d603"/>
          <p:cNvPicPr/>
          <p:nvPr/>
        </p:nvPicPr>
        <p:blipFill>
          <a:blip r:embed="rId3"/>
          <a:stretch/>
        </p:blipFill>
        <p:spPr>
          <a:xfrm rot="19905600">
            <a:off x="7812000" y="2636640"/>
            <a:ext cx="916200" cy="116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1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46 C 0.10521 -0.21929 0.26094 -0.35669 0.43421 -0.35669 C 0.60747 -0.35669 0.7632 -0.21929 0.86736 -0.00046 C 0.7632 0.2186 0.60747 0.3567 0.43421 0.3567 C 0.26094 0.3567 0.10521 0.2186 0.00122 -0.00046 Z">
                                      <p:cBhvr>
                                        <p:cTn id="20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2547E-006 C -0.00365 -0.01943 -0.0092 -0.03701 -0.0158 -0.05459 C -0.01892 -0.06292 -0.01927 -0.07171 -0.02535 -0.07703 C -0.0309 -0.09947 -0.04861 -0.12283 -0.06146 -0.1381 C -0.06892 -0.14689 -0.07483 -0.15799 -0.08316 -0.16539 C -0.08715 -0.17326 -0.0941 -0.1839 -0.1 -0.18945 C -0.10486 -0.19917 -0.12014 -0.21305 -0.12778 -0.21999 C -0.13177 -0.22346 -0.13333 -0.22901 -0.13733 -0.23271 C -0.13872 -0.23849 -0.14219 -0.24196 -0.14583 -0.24566 C -0.14809 -0.24798 -0.15313 -0.25214 -0.15313 -0.25214 C -0.15868 -0.26255 -0.17014 -0.26417 -0.1783 -0.26972 C -0.18542 -0.27458 -0.19132 -0.28129 -0.19879 -0.28568 C -0.20486 -0.28915 -0.21094 -0.29308 -0.21702 -0.29702 C -0.21962 -0.29864 -0.22274 -0.29864 -0.22535 -0.30025 C -0.23229 -0.30488 -0.23837 -0.31205 -0.24583 -0.3146 C -0.24983 -0.3183 -0.25313 -0.31945 -0.25781 -0.32107 C -0.26372 -0.32616 -0.27083 -0.32824 -0.27708 -0.33241 C -0.2809 -0.33495 -0.28021 -0.33611 -0.28438 -0.33703 C -0.28802 -0.33773 -0.29167 -0.33819 -0.29531 -0.33865 C -0.3033 -0.34143 -0.31146 -0.34374 -0.31927 -0.34675 C -0.32327 -0.34837 -0.32604 -0.3523 -0.33021 -0.35323 C -0.33733 -0.35461 -0.34462 -0.35531 -0.35191 -0.35647 C -0.3625 -0.36109 -0.36563 -0.36294 -0.3783 -0.36433 C -0.44427 -0.36387 -0.51354 -0.38746 -0.57604 -0.3597 C -0.5783 -0.35762 -0.58108 -0.35716 -0.58316 -0.35485 C -0.59097 -0.34652 -0.58004 -0.35253 -0.58924 -0.34837 C -0.59514 -0.3405 -0.60174 -0.33426 -0.60972 -0.33079 C -0.61094 -0.32917 -0.61181 -0.32709 -0.61337 -0.32593 C -0.61563 -0.32431 -0.62049 -0.32269 -0.62049 -0.32269 C -0.62396 -0.31807 -0.62656 -0.31251 -0.63021 -0.30835 C -0.63611 -0.30141 -0.6375 -0.30187 -0.64462 -0.29864 C -0.64861 -0.29678 -0.65156 -0.29239 -0.65556 -0.29054 C -0.66997 -0.27712 -0.68368 -0.27319 -0.70122 -0.27134 C -0.70764 -0.26856 -0.70382 -0.27065 -0.71215 -0.26324 C -0.71354 -0.26209 -0.71424 -0.25931 -0.7158 -0.25839 C -0.7191 -0.2563 -0.72309 -0.25677 -0.72656 -0.25515 C -0.73368 -0.24173 -0.72413 -0.25792 -0.73264 -0.2489 C -0.74132 -0.23965 -0.74236 -0.2304 -0.75434 -0.22646 C -0.75556 -0.22531 -0.7566 -0.22415 -0.75781 -0.22322 C -0.75903 -0.22253 -0.76042 -0.22253 -0.76146 -0.22161 C -0.76406 -0.21929 -0.76615 -0.21582 -0.76875 -0.21351 C -0.7691 -0.21189 -0.7691 -0.20981 -0.76997 -0.20865 C -0.77083 -0.20749 -0.77257 -0.20796 -0.77361 -0.20703 C -0.775 -0.20588 -0.77587 -0.20356 -0.77708 -0.20217 C -0.77813 -0.20102 -0.77952 -0.20009 -0.78073 -0.19917 C -0.78264 -0.19523 -0.78715 -0.1883 -0.79045 -0.18621 C -0.79861 -0.18112 -0.80399 -0.18436 -0.81094 -0.17511 C -0.81545 -0.1691 -0.81754 -0.16192 -0.82292 -0.1573 C -0.82847 -0.14643 -0.8309 -0.1344 -0.83629 -0.12353 C -0.83906 -0.11103 -0.84531 -0.09901 -0.8507 -0.08836 C -0.85417 -0.08142 -0.85469 -0.07587 -0.86024 -0.07055 C -0.8625 -0.06199 -0.86615 -0.05413 -0.86997 -0.0465 C -0.87257 -0.04118 -0.87517 -0.02868 -0.87708 -0.02244 C -0.88125 -0.00879 -0.88542 0.00486 -0.88802 0.0192 C -0.8875 0.06639 -0.90695 0.12723 -0.88195 0.16054 C -0.87986 0.17164 -0.86892 0.1876 -0.86146 0.19431 C -0.85868 0.19963 -0.85799 0.20333 -0.85313 0.20541 C -0.8507 0.21027 -0.84827 0.21513 -0.84583 0.21999 C -0.84375 0.22415 -0.84427 0.23016 -0.84219 0.23433 C -0.84063 0.23757 -0.83733 0.24404 -0.83733 0.24404 C -0.8342 0.25885 -0.83889 0.23849 -0.83386 0.25353 C -0.83247 0.25769 -0.83195 0.26463 -0.82899 0.2681 C -0.82361 0.27435 -0.81771 0.27666 -0.81094 0.2792 C -0.80573 0.28383 -0.80122 0.28938 -0.79531 0.29216 C -0.78559 0.30187 -0.77413 0.30257 -0.76267 0.3065 C -0.75764 0.3109 -0.75035 0.31529 -0.74462 0.31783 C -0.74149 0.32408 -0.73663 0.32917 -0.73142 0.33218 C -0.72899 0.33356 -0.72622 0.33356 -0.72413 0.33542 C -0.7158 0.34305 -0.71945 0.33981 -0.71337 0.34513 C -0.71215 0.34629 -0.70972 0.34837 -0.70972 0.34837 C -0.70243 0.36294 -0.68351 0.37011 -0.67118 0.37243 C -0.66146 0.38538 -0.64549 0.38816 -0.63264 0.39163 C -0.62379 0.39394 -0.61632 0.39949 -0.60729 0.40134 C -0.59757 0.40574 -0.58802 0.40967 -0.5783 0.41406 C -0.57465 0.41568 -0.57136 0.41985 -0.56754 0.42054 C -0.56267 0.42147 -0.55799 0.4217 -0.55313 0.42216 C -0.54774 0.42401 -0.54288 0.42586 -0.53733 0.42702 C -0.5092 0.44645 -0.44219 0.43511 -0.44219 0.43511 C -0.43559 0.4365 -0.43038 0.43858 -0.42413 0.44136 C -0.39757 0.44067 -0.37118 0.44067 -0.34462 0.43974 C -0.34063 0.43951 -0.33646 0.43488 -0.33264 0.4335 C -0.31806 0.42794 -0.30521 0.4173 -0.29045 0.41245 C -0.28247 0.40527 -0.27413 0.3988 -0.26511 0.39486 C -0.26181 0.38816 -0.25747 0.38469 -0.25191 0.38214 C -0.24358 0.37104 -0.2533 0.38237 -0.2434 0.37567 C -0.2408 0.37405 -0.23906 0.37034 -0.23629 0.36919 C -0.23177 0.36711 -0.22865 0.36341 -0.22413 0.36109 C -0.21563 0.35693 -0.20747 0.3523 -0.19879 0.34837 C -0.19045 0.34074 -0.18108 0.33611 -0.1724 0.32917 C -0.16632 0.32431 -0.1625 0.3183 -0.15677 0.31298 C -0.15174 0.30303 -0.14306 0.29609 -0.13507 0.29054 C -0.13351 0.28753 -0.13299 0.28383 -0.13142 0.28082 C -0.12587 0.26972 -0.11719 0.26209 -0.10972 0.25353 C -0.10452 0.24751 -0.09636 0.23849 -0.09167 0.23109 C -0.0908 0.2297 -0.09045 0.22739 -0.08924 0.22623 C -0.0882 0.22508 -0.08681 0.22531 -0.08559 0.22461 C -0.08438 0.22369 -0.08299 0.22276 -0.08195 0.22161 C -0.06927 0.20796 -0.08629 0.22415 -0.07483 0.21351 C -0.07309 0.2068 -0.07083 0.20426 -0.06754 0.19894 C -0.06337 0.19176 -0.06198 0.18621 -0.05677 0.18136 C -0.05313 0.16678 -0.04462 0.14712 -0.03507 0.1381 C -0.03247 0.12121 -0.02274 0.11474 -0.01927 0.10109 C -0.01736 0.09322 -0.01406 0.08767 -0.00972 0.08189 C -0.00781 0.07402 -0.0033 0.06384 0.00121 0.05783 C 0.00521 0.0421 0.00121 0.05922 0.00347 0.02082 C 0.00364 0.01758 0.00677 0.0074 0.0059 0.00486 C 0.00503 0.00208 0.00191 0.00162 1.66667E-006 -1.32547E-006 Z">
                                      <p:cBhvr>
                                        <p:cTn id="210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lack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8686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8,39 стр. 10- 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3,стр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C:\Users\1\Pictures\2014-05-25\Mail0012.JPG"/>
          <p:cNvPicPr/>
          <p:nvPr/>
        </p:nvPicPr>
        <p:blipFill>
          <a:blip r:embed="rId2"/>
          <a:stretch/>
        </p:blipFill>
        <p:spPr>
          <a:xfrm>
            <a:off x="6084720" y="3429000"/>
            <a:ext cx="12956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дачное призе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de67bf1cb641f9e93d9215a4d957b7a3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повтори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де можно использовать эти зн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осталось не понят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4211640" y="2492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5" descr=""/>
          <p:cNvPicPr/>
          <p:nvPr/>
        </p:nvPicPr>
        <p:blipFill>
          <a:blip r:embed="rId2"/>
          <a:stretch/>
        </p:blipFill>
        <p:spPr>
          <a:xfrm>
            <a:off x="5089680" y="-6480"/>
            <a:ext cx="3682800" cy="2914920"/>
          </a:xfrm>
          <a:prstGeom prst="rect">
            <a:avLst/>
          </a:prstGeom>
          <a:ln w="0">
            <a:noFill/>
          </a:ln>
        </p:spPr>
      </p:pic>
      <p:sp>
        <p:nvSpPr>
          <p:cNvPr id="149" name="Выноска-облако 9"/>
          <p:cNvSpPr/>
          <p:nvPr/>
        </p:nvSpPr>
        <p:spPr>
          <a:xfrm>
            <a:off x="3780000" y="1413000"/>
            <a:ext cx="201600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10" descr=""/>
          <p:cNvPicPr/>
          <p:nvPr/>
        </p:nvPicPr>
        <p:blipFill>
          <a:blip r:embed="rId3"/>
          <a:stretch/>
        </p:blipFill>
        <p:spPr>
          <a:xfrm>
            <a:off x="6480" y="3382920"/>
            <a:ext cx="4535280" cy="2054160"/>
          </a:xfrm>
          <a:prstGeom prst="rect">
            <a:avLst/>
          </a:prstGeom>
          <a:ln w="0">
            <a:noFill/>
          </a:ln>
        </p:spPr>
      </p:pic>
      <p:sp>
        <p:nvSpPr>
          <p:cNvPr id="151" name="Выноска-облако 11"/>
          <p:cNvSpPr/>
          <p:nvPr/>
        </p:nvSpPr>
        <p:spPr>
          <a:xfrm>
            <a:off x="1332000" y="5229360"/>
            <a:ext cx="216036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12" descr=""/>
          <p:cNvPicPr/>
          <p:nvPr/>
        </p:nvPicPr>
        <p:blipFill>
          <a:blip r:embed="rId4"/>
          <a:stretch/>
        </p:blipFill>
        <p:spPr>
          <a:xfrm>
            <a:off x="4870440" y="2651040"/>
            <a:ext cx="3865680" cy="2536920"/>
          </a:xfrm>
          <a:prstGeom prst="rect">
            <a:avLst/>
          </a:prstGeom>
          <a:ln w="0">
            <a:noFill/>
          </a:ln>
        </p:spPr>
      </p:pic>
      <p:sp>
        <p:nvSpPr>
          <p:cNvPr id="153" name="Пятно 1 13"/>
          <p:cNvSpPr/>
          <p:nvPr/>
        </p:nvSpPr>
        <p:spPr>
          <a:xfrm>
            <a:off x="7164360" y="4437000"/>
            <a:ext cx="1440000" cy="151308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778d48cdea0eb0fb80a9a6b574a0f20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тр.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C:\Users\1\Pictures\2014-05-25\Mail0004.JPG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83dab1964f5a5d7aa6b9f77e25779202"/>
          <p:cNvPicPr/>
          <p:nvPr/>
        </p:nvPicPr>
        <p:blipFill>
          <a:blip r:embed="rId2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83dab1964f5a5d7aa6b9f77e25779202"/>
          <p:cNvPicPr/>
          <p:nvPr/>
        </p:nvPicPr>
        <p:blipFill>
          <a:blip r:embed="rId3"/>
          <a:stretch/>
        </p:blipFill>
        <p:spPr>
          <a:xfrm>
            <a:off x="3348000" y="2637000"/>
            <a:ext cx="2736720" cy="35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9836d1a2ab57c3b23a8510866fdbccb"/>
          <p:cNvPicPr/>
          <p:nvPr/>
        </p:nvPicPr>
        <p:blipFill>
          <a:blip r:embed="rId4"/>
          <a:stretch/>
        </p:blipFill>
        <p:spPr>
          <a:xfrm>
            <a:off x="4932360" y="1700280"/>
            <a:ext cx="367200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Мотивация к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а, пере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бегать и иг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ельзя и за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, когда звенит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овёт всех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опаздывать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ыстрее в класс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b3774bc6dcd701f427682e1d12bfb97"/>
          <p:cNvPicPr/>
          <p:nvPr/>
        </p:nvPicPr>
        <p:blipFill>
          <a:blip r:embed="rId2"/>
          <a:stretch/>
        </p:blipFill>
        <p:spPr>
          <a:xfrm>
            <a:off x="3059280" y="1628640"/>
            <a:ext cx="280800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n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ктуализац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3280" y="5300640"/>
            <a:ext cx="45007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МОЛОД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92436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00720" y="162864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500720" y="162864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34800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7164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11600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04292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161928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195640" y="2781360"/>
            <a:ext cx="57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77164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334800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92436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500720" y="2781360"/>
            <a:ext cx="57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61928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34800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111600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692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692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5724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2268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84328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341964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5148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457200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99564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2268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6"/>
          <p:cNvSpPr/>
          <p:nvPr/>
        </p:nvSpPr>
        <p:spPr>
          <a:xfrm>
            <a:off x="1692360" y="162864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7"/>
          <p:cNvSpPr/>
          <p:nvPr/>
        </p:nvSpPr>
        <p:spPr>
          <a:xfrm>
            <a:off x="2268360" y="1628640"/>
            <a:ext cx="503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68360" y="1628640"/>
            <a:ext cx="503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f09e6679c89079f5cfda1f46ec91dda0"/>
          <p:cNvPicPr/>
          <p:nvPr/>
        </p:nvPicPr>
        <p:blipFill>
          <a:blip r:embed="rId2"/>
          <a:stretch/>
        </p:blipFill>
        <p:spPr>
          <a:xfrm>
            <a:off x="7164360" y="692280"/>
            <a:ext cx="197964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627280" y="765000"/>
            <a:ext cx="4417920" cy="285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627280" y="1413000"/>
            <a:ext cx="1292400" cy="142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224840" y="1800360"/>
            <a:ext cx="1288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164120" y="1052640"/>
            <a:ext cx="1563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173240" y="779400"/>
            <a:ext cx="1359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04840" y="2954160"/>
            <a:ext cx="1359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2873520" y="4242960"/>
            <a:ext cx="2582280" cy="1818720"/>
            <a:chOff x="2873520" y="4242960"/>
            <a:chExt cx="2582280" cy="1818720"/>
          </a:xfrm>
        </p:grpSpPr>
        <p:sp>
          <p:nvSpPr>
            <p:cNvPr id="92" name="Rectangle 9"/>
            <p:cNvSpPr/>
            <p:nvPr/>
          </p:nvSpPr>
          <p:spPr>
            <a:xfrm rot="16200000">
              <a:off x="4042440" y="4149720"/>
              <a:ext cx="1320120" cy="150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3878640" y="5563440"/>
              <a:ext cx="15062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3399"/>
                  </a:solidFill>
                  <a:latin typeface="Arial"/>
                </a:rPr>
                <a:t>35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2873520" y="4590720"/>
              <a:ext cx="11487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3399"/>
                  </a:solidFill>
                  <a:latin typeface="Arial"/>
                </a:rPr>
                <a:t>3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2"/>
          <p:cNvSpPr/>
          <p:nvPr/>
        </p:nvSpPr>
        <p:spPr>
          <a:xfrm>
            <a:off x="2627280" y="2060640"/>
            <a:ext cx="11541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796000" y="4243320"/>
            <a:ext cx="2854080" cy="1856880"/>
            <a:chOff x="5796000" y="4243320"/>
            <a:chExt cx="2854080" cy="1856880"/>
          </a:xfrm>
        </p:grpSpPr>
        <p:sp>
          <p:nvSpPr>
            <p:cNvPr id="97" name="Rectangle 14"/>
            <p:cNvSpPr/>
            <p:nvPr/>
          </p:nvSpPr>
          <p:spPr>
            <a:xfrm>
              <a:off x="6967440" y="4243320"/>
              <a:ext cx="1610280" cy="1358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6893280" y="5601960"/>
              <a:ext cx="1756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9966"/>
                  </a:solidFill>
                  <a:latin typeface="Arial"/>
                </a:rPr>
                <a:t>4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5796000" y="4514400"/>
              <a:ext cx="11714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9966"/>
                  </a:solidFill>
                  <a:latin typeface="Arial"/>
                </a:rPr>
                <a:t>35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7"/>
          <p:cNvGrpSpPr/>
          <p:nvPr/>
        </p:nvGrpSpPr>
        <p:grpSpPr>
          <a:xfrm>
            <a:off x="222120" y="4379760"/>
            <a:ext cx="2581200" cy="1590480"/>
            <a:chOff x="222120" y="4379760"/>
            <a:chExt cx="2581200" cy="1590480"/>
          </a:xfrm>
        </p:grpSpPr>
        <p:sp>
          <p:nvSpPr>
            <p:cNvPr id="101" name="Rectangle 18"/>
            <p:cNvSpPr/>
            <p:nvPr/>
          </p:nvSpPr>
          <p:spPr>
            <a:xfrm>
              <a:off x="1444320" y="4379760"/>
              <a:ext cx="1154880" cy="108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1308240" y="5466960"/>
              <a:ext cx="149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222120" y="4583520"/>
              <a:ext cx="12402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cc3399"/>
                  </a:solidFill>
                  <a:latin typeface="Arial"/>
                </a:rPr>
                <a:t>3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1"/>
          <p:cNvSpPr/>
          <p:nvPr/>
        </p:nvSpPr>
        <p:spPr>
          <a:xfrm>
            <a:off x="1104840" y="1800360"/>
            <a:ext cx="1292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35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367160" y="169920"/>
            <a:ext cx="1565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3213E-006 -8.97576E-007 L -0.11873 -0.52915 E">
                                      <p:cBhvr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6" descr="C:\Documents and Settings\Я\Мои документы\Мои рисунки\Коллекция картинок (Microsoft)\j04394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2"/>
          <a:stretch/>
        </p:blipFill>
        <p:spPr>
          <a:xfrm>
            <a:off x="49320" y="-6480"/>
            <a:ext cx="9101160" cy="1768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214200" y="285768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0" descr="C:\Documents and Settings\Я\Мои документы\Мои рисунки\анимашки\смайлы\alfavit-438.gif"/>
          <p:cNvPicPr/>
          <p:nvPr/>
        </p:nvPicPr>
        <p:blipFill>
          <a:blip r:embed="rId3"/>
          <a:stretch/>
        </p:blipFill>
        <p:spPr>
          <a:xfrm>
            <a:off x="785880" y="4071960"/>
            <a:ext cx="2214360" cy="200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1" descr="C:\Documents and Settings\Я\Мои документы\Мои рисунки\анимашки\смайлы\alfavit-484.gif"/>
          <p:cNvPicPr/>
          <p:nvPr/>
        </p:nvPicPr>
        <p:blipFill>
          <a:blip r:embed="rId4"/>
          <a:stretch/>
        </p:blipFill>
        <p:spPr>
          <a:xfrm>
            <a:off x="4500720" y="4071960"/>
            <a:ext cx="235728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401148564e258a6086d842639cbe7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помин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500720" y="27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500720" y="1989000"/>
            <a:ext cx="28728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4500720" y="1989000"/>
            <a:ext cx="28728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835280" y="404640"/>
            <a:ext cx="66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ъясни  с. 10, №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9" descr="C:\Users\1\Pictures\2014-05-25\Mail0012.JPG"/>
          <p:cNvPicPr/>
          <p:nvPr/>
        </p:nvPicPr>
        <p:blipFill>
          <a:blip r:embed="rId2"/>
          <a:stretch/>
        </p:blipFill>
        <p:spPr>
          <a:xfrm>
            <a:off x="6804000" y="260280"/>
            <a:ext cx="1297080" cy="1787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1800000" cy="190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фон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оверяй ( № 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4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5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2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3b0eebc15c66fb569df2ca7c41ee4315"/>
          <p:cNvPicPr/>
          <p:nvPr/>
        </p:nvPicPr>
        <p:blipFill>
          <a:blip r:embed="rId2"/>
          <a:stretch/>
        </p:blipFill>
        <p:spPr>
          <a:xfrm>
            <a:off x="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C:\Users\1\Pictures\2014-05-25\Mail0012.JPG"/>
          <p:cNvPicPr/>
          <p:nvPr/>
        </p:nvPicPr>
        <p:blipFill>
          <a:blip r:embed="rId3"/>
          <a:stretch/>
        </p:blipFill>
        <p:spPr>
          <a:xfrm>
            <a:off x="7236000" y="260280"/>
            <a:ext cx="1296720" cy="178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mjgi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4"/>
          <p:cNvPicPr/>
          <p:nvPr/>
        </p:nvPicPr>
        <p:blipFill>
          <a:blip r:embed="rId2"/>
          <a:stretch/>
        </p:blipFill>
        <p:spPr>
          <a:xfrm>
            <a:off x="4356000" y="2852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892480" y="6308280"/>
            <a:ext cx="3251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89720"/>
            <a:ext cx="1403280" cy="126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2:57:15Z</dcterms:created>
  <dc:creator>Work_user</dc:creator>
  <dc:description/>
  <dc:language>en-US</dc:language>
  <cp:lastModifiedBy>1</cp:lastModifiedBy>
  <dcterms:modified xsi:type="dcterms:W3CDTF">2014-08-15T05:35:09Z</dcterms:modified>
  <cp:revision>23</cp:revision>
  <dc:subject/>
  <dc:title>Слайд 1</dc:title>
</cp:coreProperties>
</file>