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A3A-7554-4836-BD53-DDBD8EEC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23D-F3B1-47B8-97BC-AA216656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1CF-7FD5-4C36-8490-F3D3CF49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63A-C5D9-4623-A862-1C695AA6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BF3C-775D-4B43-A4DF-C6921089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DC82-0905-450A-8A41-C37F6094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D24C-E038-40B0-889A-6F2FC8A4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571D-009B-46BE-A067-4E056EDB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859B-DF44-493A-9645-D869231E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08B4-04BD-4A06-BC41-C78D6D7B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314E-1F38-4AD6-8F85-B578F948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588-F733-4A25-96A7-140F2BB6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5EB5-3B83-435C-87F0-CF18365D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6A4-05C5-48DD-8B02-284C4C96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0F6D-2760-4E03-8AFE-AD3C3FEB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807D-8127-4A66-83E4-3DB97C1A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2A56-745E-4B54-9CA7-2BF332FD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93F-9204-4692-870C-F608C24C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1FB-1895-4364-A450-23661E64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60C-64D4-4353-98D9-40776526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7A3-46D8-4798-951F-B898B802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A58-A381-4C29-BACA-180DE957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333-815F-48B5-B6B5-D6B4211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21E-AC99-4A0D-ACF4-AFCB8EBA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b86e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616E-2A23-456A-95E9-C7D80C716C2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b86e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DB64-59B6-45E0-9A54-1AFBA8D5C40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ПриваловаЕВ\Рабочий стол\пуговицы\19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ПриваловаЕВ\Рабочий стол\пуговицы\33486667.jpg"/>
          <p:cNvPicPr/>
          <p:nvPr/>
        </p:nvPicPr>
        <p:blipFill>
          <a:blip r:embed="rId2"/>
          <a:stretch/>
        </p:blipFill>
        <p:spPr>
          <a:xfrm>
            <a:off x="2000160" y="1357200"/>
            <a:ext cx="4714920" cy="55008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3"/>
          <a:stretch/>
        </p:blipFill>
        <p:spPr>
          <a:xfrm>
            <a:off x="1847880" y="1079640"/>
            <a:ext cx="5334120" cy="20113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4" descr=""/>
          <p:cNvPicPr/>
          <p:nvPr/>
        </p:nvPicPr>
        <p:blipFill>
          <a:blip r:embed="rId4"/>
          <a:stretch/>
        </p:blipFill>
        <p:spPr>
          <a:xfrm>
            <a:off x="12600" y="212760"/>
            <a:ext cx="9234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G:\пуговицы 1\199270.jpg"/>
          <p:cNvPicPr/>
          <p:nvPr/>
        </p:nvPicPr>
        <p:blipFill>
          <a:blip r:embed="rId1"/>
          <a:stretch/>
        </p:blipFill>
        <p:spPr>
          <a:xfrm>
            <a:off x="5214960" y="1857240"/>
            <a:ext cx="3573360" cy="385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G:\пуговицы 1\article_image-image-article.jpg"/>
          <p:cNvPicPr/>
          <p:nvPr/>
        </p:nvPicPr>
        <p:blipFill>
          <a:blip r:embed="rId2"/>
          <a:stretch/>
        </p:blipFill>
        <p:spPr>
          <a:xfrm>
            <a:off x="357120" y="1857240"/>
            <a:ext cx="4470480" cy="38512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655280" y="28584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Необычное приме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обычной пугов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ПриваловаЕВ\Рабочий стол\пуговицы\parovoz.jpg"/>
          <p:cNvPicPr/>
          <p:nvPr/>
        </p:nvPicPr>
        <p:blipFill>
          <a:blip r:embed="rId1"/>
          <a:stretch/>
        </p:blipFill>
        <p:spPr>
          <a:xfrm>
            <a:off x="285840" y="214200"/>
            <a:ext cx="85057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ПриваловаЕВ\Рабочий стол\пуговицы\ec8f79cdb1ca.jpg"/>
          <p:cNvPicPr/>
          <p:nvPr/>
        </p:nvPicPr>
        <p:blipFill>
          <a:blip r:embed="rId1"/>
          <a:stretch/>
        </p:blipFill>
        <p:spPr>
          <a:xfrm>
            <a:off x="1533600" y="380880"/>
            <a:ext cx="6076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ПриваловаЕВ\Рабочий стол\пуговицы\1245924701_82519xcitefun-6.jpg"/>
          <p:cNvPicPr/>
          <p:nvPr/>
        </p:nvPicPr>
        <p:blipFill>
          <a:blip r:embed="rId1"/>
          <a:stretch/>
        </p:blipFill>
        <p:spPr>
          <a:xfrm>
            <a:off x="1000080" y="214200"/>
            <a:ext cx="685800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ПриваловаЕВ\Рабочий стол\пуговицы\86801.jpg"/>
          <p:cNvPicPr/>
          <p:nvPr/>
        </p:nvPicPr>
        <p:blipFill>
          <a:blip r:embed="rId1"/>
          <a:stretch/>
        </p:blipFill>
        <p:spPr>
          <a:xfrm>
            <a:off x="714240" y="285840"/>
            <a:ext cx="75963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ПриваловаЕВ\Рабочий стол\пуговицы\86803.jpg"/>
          <p:cNvPicPr/>
          <p:nvPr/>
        </p:nvPicPr>
        <p:blipFill>
          <a:blip r:embed="rId1"/>
          <a:stretch/>
        </p:blipFill>
        <p:spPr>
          <a:xfrm>
            <a:off x="1285920" y="285840"/>
            <a:ext cx="6380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MIRo\Desktop\Пуговицы 3\64186720_1836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0" y="0"/>
            <a:ext cx="95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Verdana"/>
              </a:rPr>
              <a:t>Основополагающий вопр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0" y="642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ahoma"/>
                <a:ea typeface="Tahoma"/>
              </a:rPr>
              <a:t>Что мы знаем о пуговицах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0" y="1214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редставление проблемной ситу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бсуждение темы проек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рганизация малых групп сотрудничества, распределение ро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Работа в групп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амостоятельная исследовательская, поисковая работа учащихся в соответствии со своим зада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формление результатов проектной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Защита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1157760" y="357120"/>
            <a:ext cx="39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Verdana"/>
              </a:rPr>
              <a:t>План проек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142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Проблемы (темы) самостоятельного исследо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0" y="1349280"/>
            <a:ext cx="914400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возникновения пугов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нтересные истории о пуговица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гическое значение пугов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меты связанные с пуговиц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етодика пришивания пугов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словицы, поговорки, загад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8072280" y="1571760"/>
            <a:ext cx="857520" cy="49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Verdana"/>
              </a:rPr>
              <a:t>Дидактические цели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643040" y="1071720"/>
            <a:ext cx="728676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чить находить и обрабатывать полезную информа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чить делать выводы, анализировать и обобщать информационный матери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чить представлять результаты своей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C:\Documents and Settings\комп 2\Мои документы\Derewankina\copyright\АНИМАЦИИ\people1.gif"/>
          <p:cNvPicPr/>
          <p:nvPr/>
        </p:nvPicPr>
        <p:blipFill>
          <a:blip r:embed="rId1"/>
          <a:stretch/>
        </p:blipFill>
        <p:spPr>
          <a:xfrm>
            <a:off x="0" y="714240"/>
            <a:ext cx="13082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0" y="21420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  <a:ea typeface="Tahoma"/>
              </a:rPr>
              <a:t>Методические задачи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928800"/>
            <a:ext cx="914400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знакомить учащихся с историей пуговиц, различными их видами, показать, где применя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звивать творческие способности, вырабатывать навыки, способствующие развитию аккуратности, глазом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ививать интерес к шитью, искусству, истории костюма разных времён и нар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аучить пришивать различные виды пугов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оспитывать усидчивость, аккуратность, бережное отношение к одежде и внимание к своему внешнему ви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00080" y="1143000"/>
          <a:ext cx="7167600" cy="4189320"/>
        </p:xfrm>
        <a:graphic>
          <a:graphicData uri="http://schemas.openxmlformats.org/drawingml/2006/table">
            <a:tbl>
              <a:tblPr/>
              <a:tblGrid>
                <a:gridCol w="5143680"/>
                <a:gridCol w="20239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е темы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групп для проведения исследов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в групп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неде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к демонстр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нед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полученных результатов и вывод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2"/>
          <p:cNvSpPr/>
          <p:nvPr/>
        </p:nvSpPr>
        <p:spPr>
          <a:xfrm>
            <a:off x="285840" y="357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роки</a:t>
            </a: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реализации проек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28584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Формы представления учащимися результатов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000080" y="1714680"/>
            <a:ext cx="671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33ea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ук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общ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Букет из пуговиц"/>
          <p:cNvPicPr/>
          <p:nvPr/>
        </p:nvPicPr>
        <p:blipFill>
          <a:blip r:embed="rId1"/>
          <a:stretch/>
        </p:blipFill>
        <p:spPr>
          <a:xfrm>
            <a:off x="4714920" y="2000160"/>
            <a:ext cx="4238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ПриваловаЕВ\Рабочий стол\пуговицы\1_3_10379_12065356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Троянская война случилась из-за яблока, лилипутская – из-за яиц.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 Первая Мировая война случилась из-за плохо расстегивающихся пуговиц. Эрцгерцог Франц-Фердинанд умер после выстрела только из-за того, что на расстегивание всех его пуговиц для обработки раны потребовалось слишком много времени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0" y="5380200"/>
            <a:ext cx="9144000" cy="1465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Когда пуговицы появились, их носили гораздо больше, чем нужно, ведь чем знатнее и богаче был человек, тем их должно было быть больше. Известно, например, что французский король Франциск I как-то заказал ювелиру 13600 маленьких золотых пуговиц для отделки лишь одного бархатного  костюм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0" y="2571840"/>
            <a:ext cx="9144000" cy="1739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каз Петра I, предписывающий пришивать оловянные пуговицы к обшлагам рукавов солдатских мундиров с внешней стороны был полон тайного смысла: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уговицы не позволяли солдатам по привычке после еды вытирать рукавом рот и нос. Так без шпицрутенов отучил солдат от дурной привычки, портившей мундирное сукно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07:38Z</dcterms:created>
  <dc:creator>Елена Владимировна</dc:creator>
  <dc:description/>
  <dc:language>en-US</dc:language>
  <cp:lastModifiedBy>MIRo</cp:lastModifiedBy>
  <dcterms:modified xsi:type="dcterms:W3CDTF">2011-01-30T11:43:45Z</dcterms:modified>
  <cp:revision>26</cp:revision>
  <dc:subject/>
  <dc:title>Слайд 1</dc:title>
</cp:coreProperties>
</file>