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AE0-0C6D-46FB-9A06-29D6CECD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0579-4278-4F13-9660-1BA24732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7E45-E991-42B2-8787-F1750627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8FC-8CFA-4C9E-9E87-63B655AD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0002-88BD-4472-9C1B-F7E82DFF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0EDD-60B0-418D-9682-AF1FB4E1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FED4-EE36-4927-91E2-593D4F66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6734-7E23-437D-B310-3FA6E4DA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B0E9-896F-431C-97CF-E06672DE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8814-6894-4783-996A-161A39C7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8897-C720-4E80-9D25-C03F76A4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6629-5D84-45E6-B262-D5CE7775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EAFF-4775-4B72-9A69-76546575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AFFB-AC9E-4ADF-976E-78D6D19F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89B8-05C3-4C7B-9F30-70DF5486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21E2-0C9E-4DDF-8FE5-934344B8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CBE6-C57D-4D8D-90CD-D80713AF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3285-B887-4B83-B452-5A6683CA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228-D267-45AB-A095-6DC30E43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F60-AE69-445A-A5E0-0A07A601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87FC-9949-4CAF-B2B4-4F44E80F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23A2-F279-4EB0-92CE-DBEB5498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96AE-1C25-456E-B483-0EF7032E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CB26-3C21-4D5F-AE20-2131DB78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b86e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62AF-E719-4EE0-ADE4-658D88847AF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b86e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78E4-C783-4DD1-B13F-68ECA7A1ECA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:\Documents and Settings\ПриваловаЕВ\Рабочий стол\пуговицы\19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ПриваловаЕВ\Рабочий стол\пуговицы\33486667.jpg"/>
          <p:cNvPicPr/>
          <p:nvPr/>
        </p:nvPicPr>
        <p:blipFill>
          <a:blip r:embed="rId2"/>
          <a:stretch/>
        </p:blipFill>
        <p:spPr>
          <a:xfrm>
            <a:off x="2000160" y="1357200"/>
            <a:ext cx="4714920" cy="55008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2" descr=""/>
          <p:cNvPicPr/>
          <p:nvPr/>
        </p:nvPicPr>
        <p:blipFill>
          <a:blip r:embed="rId3"/>
          <a:stretch/>
        </p:blipFill>
        <p:spPr>
          <a:xfrm>
            <a:off x="1847880" y="1079640"/>
            <a:ext cx="5334120" cy="201132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4" descr=""/>
          <p:cNvPicPr/>
          <p:nvPr/>
        </p:nvPicPr>
        <p:blipFill>
          <a:blip r:embed="rId4"/>
          <a:stretch/>
        </p:blipFill>
        <p:spPr>
          <a:xfrm>
            <a:off x="12600" y="212760"/>
            <a:ext cx="9234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G:\пуговицы 1\199270.jpg"/>
          <p:cNvPicPr/>
          <p:nvPr/>
        </p:nvPicPr>
        <p:blipFill>
          <a:blip r:embed="rId1"/>
          <a:stretch/>
        </p:blipFill>
        <p:spPr>
          <a:xfrm>
            <a:off x="5214960" y="1857240"/>
            <a:ext cx="3573360" cy="385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G:\пуговицы 1\article_image-image-article.jpg"/>
          <p:cNvPicPr/>
          <p:nvPr/>
        </p:nvPicPr>
        <p:blipFill>
          <a:blip r:embed="rId2"/>
          <a:stretch/>
        </p:blipFill>
        <p:spPr>
          <a:xfrm>
            <a:off x="357120" y="1857240"/>
            <a:ext cx="4470480" cy="38512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1655280" y="285840"/>
            <a:ext cx="563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Необычное примен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обычной пуговиц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Documents and Settings\ПриваловаЕВ\Рабочий стол\пуговицы\parovoz.jpg"/>
          <p:cNvPicPr/>
          <p:nvPr/>
        </p:nvPicPr>
        <p:blipFill>
          <a:blip r:embed="rId1"/>
          <a:stretch/>
        </p:blipFill>
        <p:spPr>
          <a:xfrm>
            <a:off x="285840" y="214200"/>
            <a:ext cx="850572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nts and Settings\ПриваловаЕВ\Рабочий стол\пуговицы\ec8f79cdb1ca.jpg"/>
          <p:cNvPicPr/>
          <p:nvPr/>
        </p:nvPicPr>
        <p:blipFill>
          <a:blip r:embed="rId1"/>
          <a:stretch/>
        </p:blipFill>
        <p:spPr>
          <a:xfrm>
            <a:off x="1533600" y="380880"/>
            <a:ext cx="60768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Documents and Settings\ПриваловаЕВ\Рабочий стол\пуговицы\1245924701_82519xcitefun-6.jpg"/>
          <p:cNvPicPr/>
          <p:nvPr/>
        </p:nvPicPr>
        <p:blipFill>
          <a:blip r:embed="rId1"/>
          <a:stretch/>
        </p:blipFill>
        <p:spPr>
          <a:xfrm>
            <a:off x="1000080" y="214200"/>
            <a:ext cx="6858000" cy="65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Documents and Settings\ПриваловаЕВ\Рабочий стол\пуговицы\86801.jpg"/>
          <p:cNvPicPr/>
          <p:nvPr/>
        </p:nvPicPr>
        <p:blipFill>
          <a:blip r:embed="rId1"/>
          <a:stretch/>
        </p:blipFill>
        <p:spPr>
          <a:xfrm>
            <a:off x="714240" y="285840"/>
            <a:ext cx="759636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Documents and Settings\ПриваловаЕВ\Рабочий стол\пуговицы\86803.jpg"/>
          <p:cNvPicPr/>
          <p:nvPr/>
        </p:nvPicPr>
        <p:blipFill>
          <a:blip r:embed="rId1"/>
          <a:stretch/>
        </p:blipFill>
        <p:spPr>
          <a:xfrm>
            <a:off x="1285920" y="285840"/>
            <a:ext cx="63802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:\Users\MIRo\Desktop\Пуговицы 3\64186720_1836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0" y="0"/>
            <a:ext cx="95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Verdana"/>
              </a:rPr>
              <a:t>Основополагающий вопро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0" y="6429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ahoma"/>
                <a:ea typeface="Tahoma"/>
              </a:rPr>
              <a:t>Что мы знаем о пуговицах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0" y="1214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Представление проблемной ситу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Обсуждение темы проек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Организация малых групп сотрудничества, распределение рол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Работа в групп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Самостоятельная исследовательская, поисковая работа учащихся в соответствии со своим зада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Оформление результатов проектной дея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Защита про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1157760" y="357120"/>
            <a:ext cx="396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Verdana"/>
              </a:rPr>
              <a:t>План проект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0" y="142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Проблемы (темы) самостоятельного исследовани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0" y="1349280"/>
            <a:ext cx="9144000" cy="57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entury Gothic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стория возникновения пуговиц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нтересные истории о пуговицах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агическое значение пуговиц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иметы связанные с пуговиц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етодика пришивания пугов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словицы, поговорки, загад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8072280" y="1571760"/>
            <a:ext cx="857520" cy="492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Verdana"/>
              </a:rPr>
              <a:t>Дидактические цели проект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1643040" y="1071720"/>
            <a:ext cx="728676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чить находить и обрабатывать полезную информац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чить делать выводы, анализировать и обобщать информационный материа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чить представлять результаты своей раб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C:\Documents and Settings\комп 2\Мои документы\Derewankina\copyright\АНИМАЦИИ\people1.gif"/>
          <p:cNvPicPr/>
          <p:nvPr/>
        </p:nvPicPr>
        <p:blipFill>
          <a:blip r:embed="rId1"/>
          <a:stretch/>
        </p:blipFill>
        <p:spPr>
          <a:xfrm>
            <a:off x="0" y="714240"/>
            <a:ext cx="13082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0" y="214200"/>
            <a:ext cx="87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  <a:ea typeface="Tahoma"/>
              </a:rPr>
              <a:t>Методические задачи проект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0" y="928800"/>
            <a:ext cx="914400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ознакомить учащихся с историей пуговиц, различными их видами, показать, где применяю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Развивать творческие способности, вырабатывать навыки, способствующие развитию аккуратности, глазом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ививать интерес к шитью, искусству, истории костюма разных времён и нар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Научить пришивать различные виды пугов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Воспитывать усидчивость, аккуратность, бережное отношение к одежде и внимание к своему внешнему ви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000080" y="1143000"/>
          <a:ext cx="7167600" cy="4189320"/>
        </p:xfrm>
        <a:graphic>
          <a:graphicData uri="http://schemas.openxmlformats.org/drawingml/2006/table">
            <a:tbl>
              <a:tblPr/>
              <a:tblGrid>
                <a:gridCol w="5143680"/>
                <a:gridCol w="202392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уждение темы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ча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</a:tr>
              <a:tr h="122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групп для проведения исследова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ча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в групп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неде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ка к демонстраци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нед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полученных результатов и вывод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ча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</a:tr>
            </a:tbl>
          </a:graphicData>
        </a:graphic>
      </p:graphicFrame>
      <p:sp>
        <p:nvSpPr>
          <p:cNvPr id="101" name="TextBox 2"/>
          <p:cNvSpPr/>
          <p:nvPr/>
        </p:nvSpPr>
        <p:spPr>
          <a:xfrm>
            <a:off x="285840" y="357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Сроки</a:t>
            </a:r>
            <a:r>
              <a:rPr b="1" i="1" lang="ru-RU" sz="32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реализации проект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0" y="28584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Формы представления учащимися результатов исследо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000080" y="1714680"/>
            <a:ext cx="671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33ea9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езент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укл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общ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Букет из пуговиц"/>
          <p:cNvPicPr/>
          <p:nvPr/>
        </p:nvPicPr>
        <p:blipFill>
          <a:blip r:embed="rId1"/>
          <a:stretch/>
        </p:blipFill>
        <p:spPr>
          <a:xfrm>
            <a:off x="4714920" y="2000160"/>
            <a:ext cx="4238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nts and Settings\ПриваловаЕВ\Рабочий стол\пуговицы\1_3_10379_12065356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Троянская война случилась из-за яблока, лилипутская – из-за яиц.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 Первая Мировая война случилась из-за плохо расстегивающихся пуговиц. Эрцгерцог Франц-Фердинанд умер после выстрела только из-за того, что на расстегивание всех его пуговиц для обработки раны потребовалось слишком много времени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0" y="5380200"/>
            <a:ext cx="9144000" cy="1465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Когда пуговицы появились, их носили гораздо больше, чем нужно, ведь чем знатнее и богаче был человек, тем их должно было быть больше. Известно, например, что французский король Франциск I как-то заказал ювелиру 13600 маленьких золотых пуговиц для отделки лишь одного бархатного  костюм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0" y="2571840"/>
            <a:ext cx="9144000" cy="1739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Указ Петра I, предписывающий пришивать оловянные пуговицы к обшлагам рукавов солдатских мундиров с внешней стороны был полон тайного смысла: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пуговицы не позволяли солдатам по привычке после еды вытирать рукавом рот и нос. Так без шпицрутенов отучил солдат от дурной привычки, портившей мундирное сукно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07:38Z</dcterms:created>
  <dc:creator>Елена Владимировна</dc:creator>
  <dc:description/>
  <dc:language>en-US</dc:language>
  <cp:lastModifiedBy>MIRo</cp:lastModifiedBy>
  <dcterms:modified xsi:type="dcterms:W3CDTF">2011-01-30T11:43:45Z</dcterms:modified>
  <cp:revision>26</cp:revision>
  <dc:subject/>
  <dc:title>Слайд 1</dc:title>
</cp:coreProperties>
</file>