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04D-64A5-488F-9830-C7507760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9D9-5195-4C69-98BB-00BED47E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3F9-49EC-4954-AFB7-8B53BBF9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FE6-2F3D-4958-B77F-F6AF391E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C0C2-BA51-43C4-8B35-F48C68BB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A2D9-0A23-42B0-A39F-D419C6EA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B4C1-F692-4D8D-9670-DCD5DCCB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6FDD-9834-4AB2-A0CD-4595CC42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F668-DF6D-455F-A702-221E74C1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7E6A-9F6A-4D97-9973-DDC4C5E6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D909-1C18-4FC3-BB9E-4701C1E0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306-94DB-4324-BA16-50960E09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CE91-9832-4CB4-BB00-A97D4B6A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D8F3-2EBA-4124-855E-5CDFEECD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99DF-27BD-4E9A-9451-50677B33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D80A-799D-4375-AC56-A54456E6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14C6-5DE0-4F4C-A282-F9755299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3D40-C2D0-427C-96B2-AC926485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33E2F-1A1E-49ED-A1F7-A26DAA3C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2381-3701-4228-AC01-3710F91F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D245-8971-4D6C-A6B7-91D50377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E039-9E1C-42B8-B3E6-2F62C8F8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5793-1F80-40BF-8741-FD6E5C3B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B928-052F-4E8E-A2B0-F2277B58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426CC-1054-4BCB-BB40-E7C61266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7DFC9-1680-4F40-99B5-6CA7587F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C65C7-4728-4774-A766-4D02DC1A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7BBAF-A55E-448F-8036-92F99242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7967E-D936-497C-9340-03CC0EBE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9B51C-7441-44C5-8E2A-F5C47D1D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80D-C83A-4300-96B1-58D5FFB5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E5A-5498-4687-AF0C-B1AE4BC4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A13-1855-4219-9DB3-7D3274B2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119-144A-442E-BC46-84C1EA60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39D-63C6-4009-B989-68D4E9E4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9CC-2958-4E0B-BCB7-B07752BA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2F1C-B620-4670-950B-B8CADF48B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1FC5-6BAB-472B-9CE7-73883994F0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4CB8-E201-4866-964F-D12FFFA8B39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eoples.ru/art/music/bard/lyudmila_tumanova/tumanova_28_jpg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057.radikal.ru/1001/a2/1e098c9d5d8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eoples.ru/art/music/bard/lyudmila_tumanova/tumanova_27_jpg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eoples.ru/art/music/bard/lyudmila_tumanova/tumanova_04_jpg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Browallia New"/>
              </a:rPr>
              <a:t>Туманова Людмила Анатольевна</a:t>
            </a:r>
            <a:r>
              <a:rPr b="0" lang="en-US" sz="1800" spc="-1" strike="noStrike">
                <a:solidFill>
                  <a:srgbClr val="333399"/>
                </a:solidFill>
                <a:latin typeface="Browallia New"/>
              </a:rPr>
              <a:t> (род. 1945) – поэт, автор и исполнитель песен.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Browallia New"/>
              </a:rPr>
              <a:t> Родилась в Курган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618920" y="981000"/>
            <a:ext cx="4537080" cy="55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453708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Картинка 12 из 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692280"/>
            <a:ext cx="63975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435640" cy="66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724360" y="1118880"/>
            <a:ext cx="341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Я жадно музыку ловлю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де ритмом - вечное движенье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"Нежность, чистота, душевность... Много еще слов-характеристик можно привести, говоря о песнях Людмилы Тумановой, но никакими словами не передать обаяние творчества этого милого, славного человека. Мы, к сожалению, привыкаем к звукошумовой среде, в которой живем…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 как дорог нам и живителен глоток чистого воздуха- песни Людмилы Тумановой! "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Ян Френкель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788000" y="758520"/>
            <a:ext cx="4032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ы заметил, друг мой старый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ы расстаться не спешим?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Я пришла к тебе с гитарой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сидим, пошелестим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50920" y="2260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доброты вашей хватит для многих людей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867280" y="753120"/>
            <a:ext cx="316872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разговора со зрителем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Как вы написали свою первую песню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овершенно неожиданно, ведь я их не пишу - песни приходят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Картинка 19 из 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628344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Картинка 67 из 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49360"/>
            <a:ext cx="590400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Картинка 62 из 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58327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6:30:38Z</dcterms:created>
  <dc:creator>Customer</dc:creator>
  <dc:description/>
  <dc:language>en-US</dc:language>
  <cp:lastModifiedBy>Customer</cp:lastModifiedBy>
  <dcterms:modified xsi:type="dcterms:W3CDTF">2011-01-15T07:48:38Z</dcterms:modified>
  <cp:revision>5</cp:revision>
  <dc:subject/>
  <dc:title>Туманова Людмила Анатольевна (род. 1945) – поэт, автор и исполнитель песен.  Родилась в Кургане. </dc:title>
</cp:coreProperties>
</file>