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40C4-7045-4DF6-B27A-C592E6ED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9A5-2148-4C6C-97E3-6E4DED25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6639-561D-45D1-A675-C9F2F0E7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D5CC-92F3-4B1A-B9CC-53FC59E6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4B43-A25C-4494-AF24-3E94E44C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9E0E-9058-442C-BA73-EE46E7D7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18BA-A5D9-42A1-BB5E-9B6C0B98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EA46-0F26-48D8-887A-815CC5EC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DAE9-1691-46A1-A36A-0652AB92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93C7-89F6-4665-8ADB-BD4B500C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ED1E-C3DE-49C3-856D-1039DD36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EBCD-0007-4C12-A909-2BDF3003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988B-8017-4932-AF88-B568D045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861A-F57B-4DA3-807C-70CA97D5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1C3E-15C6-4146-A3A6-2BD435F2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FA57-D19F-4F0A-972E-6A5A6485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ECE9-712D-4B2A-88BF-0607CEC4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778CA-6D62-4DDE-936E-602F5A50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381BD-F33F-49E5-9036-E9AFCDAD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6BDC8-F81E-4844-A4A6-CF97D264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7EEA4-A244-4902-9B3C-E58000A8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F7ECF-0E1D-4910-B14A-75189C16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7FD1-7253-4BD7-A527-5A3BE237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1583F-0E9D-452A-90E3-1D33B4B3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EF318-27C4-4D41-8B73-AA16F0A6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41C92-4B16-4B31-BA0F-F2237BD3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78032-E18D-4E74-A841-F37CD654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85FDD-E06F-413C-B5B7-EA098893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1408D-3148-4FEC-BB72-4D04A1D0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6CA4C-1B19-48F4-BD48-4079E1C5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E54-8F2A-496A-BB24-B7728DE1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A909-74F7-4F42-A880-BAE9A10E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4F70-F22C-446D-83CF-A17FD2CD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CCF-592A-405F-A34B-AF8FA9FF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BAAE-36E5-4596-AC95-9B1CF564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42B-D30B-4BAC-9F48-76BAE5E9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32AF-99E9-424D-A038-FC98021A8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0016-46F8-4728-B091-52970104E1C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AE00-A4E8-4076-A0E5-01AE8C4D0D6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eoples.ru/art/music/bard/lyudmila_tumanova/tumanova_28_jpg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057.radikal.ru/1001/a2/1e098c9d5d8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eoples.ru/art/music/bard/lyudmila_tumanova/tumanova_27_jpg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eoples.ru/art/music/bard/lyudmila_tumanova/tumanova_04_jpg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Browallia New"/>
              </a:rPr>
              <a:t>Туманова Людмила Анатольевна</a:t>
            </a:r>
            <a:r>
              <a:rPr b="0" lang="en-US" sz="1800" spc="-1" strike="noStrike">
                <a:solidFill>
                  <a:srgbClr val="333399"/>
                </a:solidFill>
                <a:latin typeface="Browallia New"/>
              </a:rPr>
              <a:t> (род. 1945) – поэт, автор и исполнитель песен.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Browallia New"/>
              </a:rPr>
              <a:t> Родилась в Кургане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618920" y="981000"/>
            <a:ext cx="4537080" cy="559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453708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Картинка 12 из 2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692280"/>
            <a:ext cx="63975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435640" cy="66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724360" y="1118880"/>
            <a:ext cx="3419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Я жадно музыку ловлю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де ритмом - вечное движенье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"Нежность, чистота, душевность... Много еще слов-характеристик можно привести, говоря о песнях Людмилы Тумановой, но никакими словами не передать обаяние творчества этого милого, славного человека. Мы, к сожалению, привыкаем к звукошумовой среде, в которой живем…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И как дорог нам и живителен глоток чистого воздуха- песни Людмилы Тумановой! "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Ян Френкель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788000" y="758520"/>
            <a:ext cx="4032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ы заметил, друг мой старый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ы расстаться не спешим?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Я пришла к тебе с гитарой -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сидим, пошелестим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50920" y="22608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доброты вашей хватит для многих людей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867280" y="753120"/>
            <a:ext cx="3168720" cy="48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 разговора со зрителем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Как вы написали свою первую песню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Совершенно неожиданно, ведь я их не пишу - песни приходят 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67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Картинка 19 из 2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04640"/>
            <a:ext cx="628344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Картинка 67 из 2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49360"/>
            <a:ext cx="590400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Картинка 62 из 2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58327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6:30:38Z</dcterms:created>
  <dc:creator>Customer</dc:creator>
  <dc:description/>
  <dc:language>en-US</dc:language>
  <cp:lastModifiedBy>Customer</cp:lastModifiedBy>
  <dcterms:modified xsi:type="dcterms:W3CDTF">2011-01-15T07:48:38Z</dcterms:modified>
  <cp:revision>5</cp:revision>
  <dc:subject/>
  <dc:title>Туманова Людмила Анатольевна (род. 1945) – поэт, автор и исполнитель песен.  Родилась в Кургане. </dc:title>
</cp:coreProperties>
</file>