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F59-B4D5-4C0C-A61A-C04FDEF8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C90-D01E-4294-9703-05F68D2B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025-48DD-4508-BEBE-77FC4B02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88B-5FFB-404A-8DE0-4D2A6965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3BE3-FFC5-4FEE-B1B0-D14A3BFB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AE0D-C993-42B7-933C-1D586142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60F9-D4C5-41BB-9637-983C8F8F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876E-A689-490D-8008-172E0518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3503-B397-4A22-8742-428487B2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7B04-4EBB-4848-AC73-6F0895D5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55A1-E087-474A-AC7F-43B12B47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DC9-D957-4383-8D37-4AAF0F5D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4AFD-8891-4CE4-916C-C3C4BBE4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3649-9C9E-4CFA-B932-27FA9AF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02C1-53D2-46F0-AA08-794F0B76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55D1-6C73-447F-8A07-946A9E2F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CAA1-F174-4B5B-8F28-9933FAF0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4C90-A7C5-4D55-983C-EB9D480F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D42C-45C8-40AC-BE45-46EBF15C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2E7DA-DAEE-4FD9-B815-389BF65E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BA054-7CE6-4CB5-87D7-10C781C8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14FCF-D96F-47BE-B2FD-130036E3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D6D-A6C2-4C24-8B77-053E0B28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A05C-EC05-41B5-920B-363EA7C8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96D5-AB65-4184-883D-1459EE01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EA8E-15BF-489C-81F5-2D557556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54F3E-F874-4222-B729-7BB67B61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E1FA-D904-4434-B199-C02D1D69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AAE97-E836-4DA7-AA1F-ABBE0926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86545-1133-4565-BFC4-34521237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87E-7F06-497A-BBCE-BB70DD99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ABB-2AD9-4DAA-B4CB-B8847B1C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553-1DC9-454D-BD1F-A22A4FA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742-3FE6-48FB-9C12-15E0FA0F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DA4-5B18-4AE2-B9E8-A492AD66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C99-0DAA-4B80-BEB0-034E4FB7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8706-9D00-4E13-A2EC-070C2645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36E7-4040-40E8-B4F2-F16C1E6D99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0949-3D4A-4140-9565-1CD72B3FB5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eoples.ru/art/music/bard/lyudmila_tumanova/tumanova_28_jpg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057.radikal.ru/1001/a2/1e098c9d5d8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eoples.ru/art/music/bard/lyudmila_tumanova/tumanova_27_jpg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eoples.ru/art/music/bard/lyudmila_tumanova/tumanova_04_jpg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rowallia New"/>
              </a:rPr>
              <a:t>Туманова Людмила Анатольевна</a:t>
            </a:r>
            <a:r>
              <a:rPr b="0" lang="en-US" sz="1800" spc="-1" strike="noStrike">
                <a:solidFill>
                  <a:srgbClr val="333399"/>
                </a:solidFill>
                <a:latin typeface="Browallia New"/>
              </a:rPr>
              <a:t> (род. 1945) – поэт, автор и исполнитель песен.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Browallia New"/>
              </a:rPr>
              <a:t> Родилась в Курган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618920" y="981000"/>
            <a:ext cx="4537080" cy="55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45370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Картинка 12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692280"/>
            <a:ext cx="63975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435640" cy="66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24360" y="1118880"/>
            <a:ext cx="341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Я жадно музыку ловлю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де ритмом - вечное движенье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"Нежность, чистота, душевность... Много еще слов-характеристик можно привести, говоря о песнях Людмилы Тумановой, но никакими словами не передать обаяние творчества этого милого, славного человека. Мы, к сожалению, привыкаем к звукошумовой среде, в которой живем…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 как дорог нам и живителен глоток чистого воздуха- песни Людмилы Тумановой! "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Ян Френкель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788000" y="758520"/>
            <a:ext cx="4032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ы заметил, друг мой старый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ы расстаться не спешим?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Я пришла к тебе с гитарой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сидим, пошелестим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50920" y="2260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доброты вашей хватит для многих людей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867280" y="753120"/>
            <a:ext cx="316872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разговора со зрителем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ак вы написали свою первую песню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овершенно неожиданно, ведь я их не пишу - песни приходят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Картинка 19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628344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Картинка 67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49360"/>
            <a:ext cx="590400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Картинка 62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58327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6:30:38Z</dcterms:created>
  <dc:creator>Customer</dc:creator>
  <dc:description/>
  <dc:language>en-US</dc:language>
  <cp:lastModifiedBy>Customer</cp:lastModifiedBy>
  <dcterms:modified xsi:type="dcterms:W3CDTF">2011-01-15T07:48:38Z</dcterms:modified>
  <cp:revision>5</cp:revision>
  <dc:subject/>
  <dc:title>Туманова Людмила Анатольевна (род. 1945) – поэт, автор и исполнитель песен.  Родилась в Кургане. </dc:title>
</cp:coreProperties>
</file>