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6FD-61D9-4F86-B7FD-2A9334A1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3D4-E17F-41F0-A8CD-99A8C93B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FF7-68D5-4318-8693-AA2DD86C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0AE-D6D4-46BB-836F-0334FE51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FB2D-2F48-49C8-9AEB-FAA64C82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5339-AA8A-42C6-9EB4-8684EE3A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DA75-D50D-4030-A4EA-CDD57E54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A6EC-8C87-40EC-BDDC-19DF7FE8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8160-6A6A-4525-A156-F0242CC7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0FE6-E531-4BEA-A2BE-A4E0485F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5A09-5F9B-40D9-91AA-2BCAD3D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F71-F636-4283-A27C-EC1D5CC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2CFA-FC09-4022-85D4-8BA672E5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530A-53CB-4097-A440-5DED6DF5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522F-CA8E-4A89-AA69-5AA1F992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0577-666C-40CD-BA1E-FCCFDD5A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ECF6-A9F4-463A-ADA9-FF957BA9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AF0-842F-4AB6-B518-FA8AA5F9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55D-A8D4-4D80-AC8F-41DB30C8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6CA-9E6E-4432-9A3F-A0041BBF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0F3-D5AD-4107-A37D-E1655335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6C7-B9B1-45F5-A260-20D0DB4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8EC-0F82-477B-8320-A772074E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1CC-D59A-4942-8960-09784BF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1540-7DD3-448A-907D-5E770BB2B3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4135-8B42-4071-84D7-F3A869E8B8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ный духовой музыкальный инструмент альтово-сопранового регистра, самый высокий по звучанию среди медных духовых. В качестве сигнального инструмента натуральная труба использовалась с древнейших времён, примерно с XVII века вошла в состав оркестра. С изобретением механизма вентилей труба получила полный хроматический звукоряд и с середины XIX века стала полноценным инструментом классической музыки. Инструмент обладает ярким, блестящим тембром, используется как сольный инструмент, в симфоническом и духовом оркестрах, а также в джазе и других жан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азновидности тру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ьтовая тру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совая тру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уба-пикко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7848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стория труб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ба — один из древнейших музыкальных инструментов. Упоминания о самых старых инструментах подобного типа датируются приблизительно 3600 лет до н. э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бы существовали во многих цивилизациях — в Древнем Египте, Древней Греции, Древнем Китае и др., и использовались как сигнальные инструменты. Такую роль труба играла в течение многих столетий вплоть до XVII века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редневековье трубачи были обязательными членами войска, только они могли с помощью сигнала быстро передать приказ командующего другим частям армии, находившимся на расстоянии. Искусство игры на трубе считалось «элитным», ему обучали только особо отобранных людей. В мирное время трубы звучали на праздничных шествиях, рыцарских турнирах, в крупных городах существовала должность «башенных» трубачей, которые извещали о прибытии высокопоставленной персоны, смене времени суток (таким образом, выполняя роль своеобразных часов), приближении к городу вражеского войска и других событиях.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троение труб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06600"/>
            <a:ext cx="8820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Устройсво труб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бы делают из латуни или меди, реже — из серебра и других металлов. Уже в античности существовала технология изготовления инструмента из одного цельного листа метал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52908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звестные трубач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дре, Мори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бан, Жан-Батис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андт, Василий Георгие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шицер, Тимофей Александро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вид, Георгий Антоно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аков, Михаил Иннокентье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и Армстронг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ззи Гиллесп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йлз Дэви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кан Харденберг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4:44:26Z</dcterms:created>
  <dc:creator>татьяна</dc:creator>
  <dc:description/>
  <dc:language>en-US</dc:language>
  <cp:lastModifiedBy>татьяна</cp:lastModifiedBy>
  <dcterms:modified xsi:type="dcterms:W3CDTF">2012-10-15T15:03:45Z</dcterms:modified>
  <cp:revision>2</cp:revision>
  <dc:subject/>
  <dc:title>Труба</dc:title>
</cp:coreProperties>
</file>