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1F0C8-F3DF-4445-B05C-797A3563F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C96E4-27AC-4CD6-9461-B15D49B37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72DA5-5F48-488B-9C26-657F9B9E3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99D7F-6790-4767-AFA6-325B1F3C1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71249-7AD4-46FF-B34B-464D3497C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2F207-C322-48B4-AAB6-0FE9748FD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3799E-B4BE-4744-A365-852E70ED3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2571D-316A-4F09-9ED8-4DE25902C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8DDCC-A261-4522-896E-6FFF2606F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C0AB6-FD4A-4D3C-9550-B63FA91B4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C8912-F250-47E7-9E6F-DA0AEEDA4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2DC9C-CCA2-4DD4-B61E-9FDD4DD22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F29BD-1671-400B-8E53-459AA144F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8F150-C0A4-45BF-8C9E-9D8A66C56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C4913-2B67-43A4-88E0-88DD54A00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E50E0-9134-43AE-904C-05E4D9703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4D2EC-1C9E-43C4-A26A-286AFB8DC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5D6CF-BEE4-4F35-9D3D-E2C070A9D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36F0E-7A58-477C-AA7B-DD352E5C9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83106-5499-4A9A-A74A-1C1334CE6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A254B-B27C-4F82-A708-F73165026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0873A-B18A-485C-86BA-D7BBD05C6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99DD1-E53C-485B-BD10-B0028323C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AECF4-7C99-4028-AE7A-326202D35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02274-24E6-48F3-B8C2-E088D74E6A3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94447-03AD-4518-9F35-144F6651B7E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Труб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0574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едный духовой музыкальный инструмент альтово-сопранового регистра, самый высокий по звучанию среди медных духовых. В качестве сигнального инструмента натуральная труба использовалась с древнейших времён, примерно с XVII века вошла в состав оркестра. С изобретением механизма вентилей труба получила полный хроматический звукоряд и с середины XIX века стала полноценным инструментом классической музыки. Инструмент обладает ярким, блестящим тембром, используется как сольный инструмент, в симфоническом и духовом оркестрах, а также в джазе и других жанра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Разновидности труб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Альтовая труб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Басовая труб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Труба-пикколо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755640" y="3716280"/>
            <a:ext cx="784872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История трубы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руба — один из древнейших музыкальных инструментов. Упоминания о самых старых инструментах подобного типа датируются приблизительно 3600 лет до н. э.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рубы существовали во многих цивилизациях — в Древнем Египте, Древней Греции, Древнем Китае и др., и использовались как сигнальные инструменты. Такую роль труба играла в течение многих столетий вплоть до XVII века.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611280" y="836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 Средневековье трубачи были обязательными членами войска, только они могли с помощью сигнала быстро передать приказ командующего другим частям армии, находившимся на расстоянии. Искусство игры на трубе считалось «элитным», ему обучали только особо отобранных людей. В мирное время трубы звучали на праздничных шествиях, рыцарских турнирах, в крупных городах существовала должность «башенных» трубачей, которые извещали о прибытии высокопоставленной персоны, смене времени суток (таким образом, выполняя роль своеобразных часов), приближении к городу вражеского войска и других событиях. 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403280" y="1557360"/>
            <a:ext cx="6193080" cy="394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Строение трубы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24000" y="2406600"/>
            <a:ext cx="882000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Устройсво трубы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рубы делают из латуни или меди, реже — из серебра и других металлов. Уже в античности существовала технология изготовления инструмента из одного цельного листа металл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4788000" y="2421000"/>
            <a:ext cx="3529080" cy="117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Известные трубачи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ндре, Морис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рбан, Жан-Батист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рандт, Василий Георгиевич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окшицер, Тимофей Александрович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рвид, Георгий Антонович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абаков, Михаил Иннокентьевич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Луи Армстронг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иззи Гиллеспи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айлз Дэвис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Хокан Харденбергер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5T14:44:26Z</dcterms:created>
  <dc:creator>татьяна</dc:creator>
  <dc:description/>
  <dc:language>en-US</dc:language>
  <cp:lastModifiedBy>татьяна</cp:lastModifiedBy>
  <dcterms:modified xsi:type="dcterms:W3CDTF">2012-10-15T15:03:45Z</dcterms:modified>
  <cp:revision>2</cp:revision>
  <dc:subject/>
  <dc:title>Труба</dc:title>
</cp:coreProperties>
</file>