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87B1-EE44-46BB-9168-A46B9BD9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355-8FA9-4B88-8537-A22CF888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C1A-77EA-433A-920B-FD0E2B6E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66F-525D-4888-B6D1-304197DB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791-C7BD-47EA-A7DC-90AA72B3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725-1DA8-4DC1-ABAC-5AAD5739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5D86-0888-4E78-AC1B-16BDF48E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4A52-9F8C-4E57-921F-3D3CCA65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99D-0782-46B4-B486-B538E5B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96F4-0E37-463C-8145-23F1D5CB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747-88A9-4A24-97D8-1A97FFD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5EF-4B79-47C1-8257-D55CA9D3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E71F-97C0-4A73-A187-5661F325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B45-E0C4-4EF5-8163-373E84F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965C-6C45-41AF-945C-EF44174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829-04F1-497E-859B-482E83DE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E363-477C-4858-B516-E36BF7EB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801-A021-4237-AF62-8B8494BB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BD4-EB08-456F-9707-C3DCF394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705-ABE5-4F8A-A460-0DC084F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AD6-FED8-4938-9B23-8048328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B18-4B26-4C34-8094-B0F7075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A93-D273-4512-A343-958B564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0BA-480F-4714-9D31-7392C14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CCB-E302-4E97-B0B6-598F69C9DB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316-C9E0-4B09-9148-6B5F08073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у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азновидности тру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ьт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совая тру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уба-пикко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848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стория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а — один из древнейших музыкальных инструментов. Упоминания о самых старых инструментах подобного типа датируются приблизительно 3600 лет до н. э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бы существовали во многих цивилизациях — в Древнем Египте, Древней Греции, Древнем Китае и др., и использовались как сигнальные инструменты. Такую роль труба играла в течение многих столетий вплоть до XVII века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едневековье трубачи были обязательными членами войска, только они могли с помощью сигнала быстро передать приказ командующего другим частям армии, находившимся на расстоянии. Искусство игры на трубе считалось «элитным», ему обучали только особо отобранных людей. В мирное время трубы звучали на праздничных шествиях, рыцарских турнирах, в крупных городах существовала должность «башенных» трубачей, которые извещали о прибытии высокопоставленной персоны, смене времени суток (таким образом, выполняя роль своеобразных часов), приближении к городу вражеского войска и других событиях.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троение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06600"/>
            <a:ext cx="8820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Устройсво труб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бы делают из латуни или меди, реже — из серебра и других металлов. Уже в античности существовала технология изготовления инструмента из одного цельного листа метал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5290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звестные труб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дре, Мор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ан, Жан-Батис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андт, Василий Георги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шицер, Тимофей Александр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вид, Георгий Антоно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аков, Михаил Иннокентьевич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и Армстронг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ззи Гиллесп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лз Дэв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кан Харденберг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4:44:26Z</dcterms:created>
  <dc:creator>татьяна</dc:creator>
  <dc:description/>
  <dc:language>en-US</dc:language>
  <cp:lastModifiedBy>татьяна</cp:lastModifiedBy>
  <dcterms:modified xsi:type="dcterms:W3CDTF">2012-10-15T15:03:45Z</dcterms:modified>
  <cp:revision>2</cp:revision>
  <dc:subject/>
  <dc:title>Труба</dc:title>
</cp:coreProperties>
</file>