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5.gif" ContentType="image/gif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2D17-93EA-4209-AB72-92A303B3A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759E-8E02-4185-8F83-C2626CE0E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8687-2DD9-44D7-B7AA-B66C22ADB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B094-9FBB-47FB-A28A-8A9AC1877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5E083-875E-43BC-BE1E-2D6F029E8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B283D-F26C-4A71-AAC6-9D6FDCE4E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3681C-EAC9-4662-844E-15FFB7AC5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8E011-B210-4C19-8159-EBBF6C678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6A6AA-AEDA-4958-904A-93FF166E2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E224E-D7B4-469D-ADA4-F99B9DA81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4A1B2-3B29-48D6-A233-D2FA238F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6AA3-419D-4D50-9CD4-8044BBB47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F9583-F851-483D-81D4-C1E67ECE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2C5A6-5BB7-421B-99AF-E02DE129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D1DFE-98FC-46BA-8076-66F91C5C1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8C0BF-888F-4BEA-8AD6-9514AC7A1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FB9F7-4E71-477F-A5CA-1E84E05D2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3EB0-968C-4736-8580-134657FAE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7AAA-067A-4732-B5FD-1A882AE03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FD7B-9512-47E8-B85F-ABA484205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7295-BE5E-4398-BEC9-46D44E3F9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BC89-7860-4E75-95C9-049A75FA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2F85-DAAC-43C8-949C-A840DAB8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026C-FE88-44E8-A613-3A997315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D2E37-0FF8-4962-9919-28B5AD996BB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F4D8B-4025-415B-BCF1-C6E6967C85C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image" Target="../media/image2.jpeg"/><Relationship Id="rId7" Type="http://schemas.openxmlformats.org/officeDocument/2006/relationships/image" Target="../media/image3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6.xm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770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Тест по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теме </a:t>
            </a:r>
            <a:br>
              <a:rPr sz="3200"/>
            </a:b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«Народные песни»</a:t>
            </a:r>
            <a:br>
              <a:rPr sz="3200"/>
            </a:b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(8 класс, УМК под ред.Г.И.Беленького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9640" y="3141720"/>
            <a:ext cx="288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Выполнила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Ключкова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Татьяна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Валентиновна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учитель МОУ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Бутылицкая СОШ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580000" y="1413000"/>
            <a:ext cx="3564000" cy="5445000"/>
          </a:xfrm>
          <a:prstGeom prst="rect">
            <a:avLst/>
          </a:prstGeom>
          <a:ln w="76320">
            <a:solidFill>
              <a:srgbClr val="33cc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В точку!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>
            <a:hlinkClick r:id="" action="ppaction://hlinkshowjump?jump=nextslide"/>
          </p:cNvPr>
          <p:cNvSpPr/>
          <p:nvPr/>
        </p:nvSpPr>
        <p:spPr>
          <a:xfrm>
            <a:off x="810108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079800" y="1879560"/>
            <a:ext cx="298440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4. Как предлагает Пётр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встретить шведского короля?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А) Как заклятого враг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Б) Как важную персону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В) Как гостя на пир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3538440"/>
            <a:ext cx="4716360" cy="3319560"/>
          </a:xfrm>
          <a:prstGeom prst="rect">
            <a:avLst/>
          </a:prstGeom>
          <a:ln w="57240">
            <a:solidFill>
              <a:srgbClr val="33cc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Не торопись!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>
            <a:hlinkClick r:id="" action="ppaction://hlinkshowjump?jump=previousslide"/>
          </p:cNvPr>
          <p:cNvSpPr/>
          <p:nvPr/>
        </p:nvSpPr>
        <p:spPr>
          <a:xfrm>
            <a:off x="7740720" y="5373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050920" y="1936800"/>
            <a:ext cx="4311720" cy="35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То, что надо!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>
            <a:hlinkClick r:id="" action="ppaction://hlinkshowjump?jump=nextslide"/>
          </p:cNvPr>
          <p:cNvSpPr/>
          <p:nvPr/>
        </p:nvSpPr>
        <p:spPr>
          <a:xfrm>
            <a:off x="766764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843280" y="2276640"/>
            <a:ext cx="3562200" cy="33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5.С чем народ сравнивает Полтавскую битву?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А) Со свадебным пиром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Б) С приёмом гостей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В) Со вспаханным полем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796000" y="4449600"/>
            <a:ext cx="3348000" cy="2408400"/>
          </a:xfrm>
          <a:prstGeom prst="rect">
            <a:avLst/>
          </a:prstGeom>
          <a:ln w="76320">
            <a:solidFill>
              <a:srgbClr val="33cc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А если подумать ещё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">
            <a:hlinkClick r:id="" action="ppaction://hlinkshowjump?jump=previousslide"/>
          </p:cNvPr>
          <p:cNvSpPr/>
          <p:nvPr/>
        </p:nvSpPr>
        <p:spPr>
          <a:xfrm>
            <a:off x="7451640" y="5373720"/>
            <a:ext cx="1152720" cy="1008000"/>
          </a:xfrm>
          <a:custGeom>
            <a:avLst/>
            <a:gdLst>
              <a:gd name="textAreaLeft" fmla="*/ 65160 w 1152720"/>
              <a:gd name="textAreaRight" fmla="*/ 1087560 w 115272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4700" h="21600">
                <a:moveTo>
                  <a:pt x="0" y="0"/>
                </a:moveTo>
                <a:lnTo>
                  <a:pt x="24700" y="0"/>
                </a:lnTo>
                <a:lnTo>
                  <a:pt x="24700" y="21600"/>
                </a:lnTo>
                <a:lnTo>
                  <a:pt x="0" y="21600"/>
                </a:lnTo>
                <a:close/>
              </a:path>
              <a:path fill="lightenLess" w="24700" h="21600">
                <a:moveTo>
                  <a:pt x="0" y="0"/>
                </a:moveTo>
                <a:lnTo>
                  <a:pt x="24700" y="0"/>
                </a:lnTo>
                <a:lnTo>
                  <a:pt x="23300" y="1400"/>
                </a:lnTo>
                <a:lnTo>
                  <a:pt x="1400" y="1400"/>
                </a:lnTo>
                <a:close/>
              </a:path>
              <a:path fill="darken" w="24700" h="21600">
                <a:moveTo>
                  <a:pt x="24700" y="0"/>
                </a:moveTo>
                <a:lnTo>
                  <a:pt x="24700" y="21600"/>
                </a:lnTo>
                <a:lnTo>
                  <a:pt x="23300" y="20200"/>
                </a:lnTo>
                <a:lnTo>
                  <a:pt x="23300" y="1400"/>
                </a:lnTo>
                <a:close/>
              </a:path>
              <a:path fill="darkenLess" w="24700" h="21600">
                <a:moveTo>
                  <a:pt x="247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0" y="20200"/>
                </a:lnTo>
                <a:close/>
              </a:path>
              <a:path fill="lighten" w="247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0" h="21600">
                <a:moveTo>
                  <a:pt x="12350" y="3837"/>
                </a:moveTo>
                <a:lnTo>
                  <a:pt x="14926" y="6448"/>
                </a:lnTo>
                <a:lnTo>
                  <a:pt x="14926" y="4707"/>
                </a:lnTo>
                <a:lnTo>
                  <a:pt x="16702" y="4707"/>
                </a:lnTo>
                <a:lnTo>
                  <a:pt x="16702" y="8224"/>
                </a:lnTo>
                <a:lnTo>
                  <a:pt x="19313" y="10800"/>
                </a:lnTo>
                <a:lnTo>
                  <a:pt x="17659" y="10800"/>
                </a:lnTo>
                <a:lnTo>
                  <a:pt x="17659" y="17989"/>
                </a:lnTo>
                <a:lnTo>
                  <a:pt x="7041" y="17989"/>
                </a:lnTo>
                <a:lnTo>
                  <a:pt x="7041" y="10800"/>
                </a:lnTo>
                <a:lnTo>
                  <a:pt x="5387" y="10800"/>
                </a:lnTo>
                <a:close/>
              </a:path>
              <a:path fill="darkenLess" w="24700" h="21600">
                <a:moveTo>
                  <a:pt x="14926" y="6448"/>
                </a:moveTo>
                <a:lnTo>
                  <a:pt x="14926" y="4707"/>
                </a:lnTo>
                <a:lnTo>
                  <a:pt x="16702" y="4707"/>
                </a:lnTo>
                <a:lnTo>
                  <a:pt x="16702" y="8224"/>
                </a:lnTo>
                <a:close/>
              </a:path>
              <a:path fill="darkenLess" w="24700" h="21600">
                <a:moveTo>
                  <a:pt x="11427" y="14299"/>
                </a:moveTo>
                <a:lnTo>
                  <a:pt x="13273" y="14299"/>
                </a:lnTo>
                <a:lnTo>
                  <a:pt x="13273" y="17989"/>
                </a:lnTo>
                <a:lnTo>
                  <a:pt x="17659" y="17989"/>
                </a:lnTo>
                <a:lnTo>
                  <a:pt x="17659" y="10800"/>
                </a:lnTo>
                <a:lnTo>
                  <a:pt x="7041" y="10800"/>
                </a:lnTo>
                <a:lnTo>
                  <a:pt x="7041" y="17989"/>
                </a:lnTo>
                <a:lnTo>
                  <a:pt x="11427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916360" y="2349360"/>
            <a:ext cx="3462120" cy="34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Ура-а-а!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">
            <a:hlinkClick r:id="" action="ppaction://hlinkshowjump?jump=nextslide"/>
          </p:cNvPr>
          <p:cNvSpPr/>
          <p:nvPr/>
        </p:nvSpPr>
        <p:spPr>
          <a:xfrm>
            <a:off x="7524720" y="544500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838600" y="1523880"/>
            <a:ext cx="34668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6.За что, с народной точки зрения, достались Емельяну Пугачёву кандалы?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А) За стремление к свободе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Б) За преступлени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В) За бунт против власт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500880" y="3573360"/>
            <a:ext cx="2643120" cy="3284640"/>
          </a:xfrm>
          <a:prstGeom prst="rect">
            <a:avLst/>
          </a:prstGeom>
          <a:ln w="76320">
            <a:solidFill>
              <a:srgbClr val="33cc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Ну что же ты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">
            <a:hlinkClick r:id="" action="ppaction://hlinkshowjump?jump=previousslide"/>
          </p:cNvPr>
          <p:cNvSpPr/>
          <p:nvPr/>
        </p:nvSpPr>
        <p:spPr>
          <a:xfrm>
            <a:off x="7740720" y="544500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3841"/>
                </a:moveTo>
                <a:lnTo>
                  <a:pt x="13376" y="6452"/>
                </a:ln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lnTo>
                  <a:pt x="17763" y="10804"/>
                </a:lnTo>
                <a:lnTo>
                  <a:pt x="16109" y="10804"/>
                </a:lnTo>
                <a:lnTo>
                  <a:pt x="16109" y="17993"/>
                </a:lnTo>
                <a:lnTo>
                  <a:pt x="5491" y="17993"/>
                </a:lnTo>
                <a:lnTo>
                  <a:pt x="5491" y="10804"/>
                </a:lnTo>
                <a:lnTo>
                  <a:pt x="3837" y="10804"/>
                </a:lnTo>
                <a:close/>
              </a:path>
              <a:path fill="darkenLess" w="21600" h="21607">
                <a:moveTo>
                  <a:pt x="13376" y="6452"/>
                </a:move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close/>
              </a:path>
              <a:path fill="darkenLess" w="21600" h="21607">
                <a:moveTo>
                  <a:pt x="9877" y="14303"/>
                </a:moveTo>
                <a:lnTo>
                  <a:pt x="11723" y="14303"/>
                </a:lnTo>
                <a:lnTo>
                  <a:pt x="11723" y="17993"/>
                </a:lnTo>
                <a:lnTo>
                  <a:pt x="16109" y="17993"/>
                </a:lnTo>
                <a:lnTo>
                  <a:pt x="16109" y="10804"/>
                </a:lnTo>
                <a:lnTo>
                  <a:pt x="5491" y="10804"/>
                </a:lnTo>
                <a:lnTo>
                  <a:pt x="5491" y="17993"/>
                </a:lnTo>
                <a:lnTo>
                  <a:pt x="9877" y="17993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228840" y="2309760"/>
            <a:ext cx="268632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Замечательно!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">
            <a:hlinkClick r:id="" action="ppaction://hlinkshowjump?jump=nextslide"/>
          </p:cNvPr>
          <p:cNvSpPr/>
          <p:nvPr/>
        </p:nvSpPr>
        <p:spPr>
          <a:xfrm>
            <a:off x="7667640" y="5373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247920" y="2637000"/>
            <a:ext cx="226548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626920" y="301320"/>
            <a:ext cx="374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1.Какая историческая личность не является героем прочитанных исторических песен?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1" action="ppaction://hlinksldjump"/>
              </a:rPr>
              <a:t>А) Ермак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2" action="ppaction://hlinksldjump"/>
              </a:rPr>
              <a:t>Тимофеич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3" action="ppaction://hlinksldjump"/>
              </a:rPr>
              <a:t>Б) Степан Разин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4" action="ppaction://hlinksldjump"/>
              </a:rPr>
              <a:t>В) Пётр Первый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5" action="ppaction://hlinksldjump"/>
              </a:rPr>
              <a:t>Г) Емельян Пугачёв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790640" cy="1790640"/>
          </a:xfrm>
          <a:prstGeom prst="rect">
            <a:avLst/>
          </a:prstGeom>
          <a:ln w="76320">
            <a:solidFill>
              <a:srgbClr val="33cccc"/>
            </a:solidFill>
            <a:miter/>
          </a:ln>
        </p:spPr>
      </p:pic>
      <p:pic>
        <p:nvPicPr>
          <p:cNvPr id="96" name="" descr=""/>
          <p:cNvPicPr/>
          <p:nvPr/>
        </p:nvPicPr>
        <p:blipFill>
          <a:blip r:embed="rId7"/>
          <a:stretch/>
        </p:blipFill>
        <p:spPr>
          <a:xfrm>
            <a:off x="6343560" y="4619520"/>
            <a:ext cx="2800440" cy="2238480"/>
          </a:xfrm>
          <a:prstGeom prst="rect">
            <a:avLst/>
          </a:prstGeom>
          <a:ln w="76320">
            <a:solidFill>
              <a:srgbClr val="33cccc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8"/>
          <a:stretch/>
        </p:blipFill>
        <p:spPr>
          <a:xfrm>
            <a:off x="7521480" y="0"/>
            <a:ext cx="1622520" cy="2276640"/>
          </a:xfrm>
          <a:prstGeom prst="rect">
            <a:avLst/>
          </a:prstGeom>
          <a:ln w="76320">
            <a:solidFill>
              <a:srgbClr val="33cccc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9"/>
          <a:stretch/>
        </p:blipFill>
        <p:spPr>
          <a:xfrm>
            <a:off x="0" y="3867120"/>
            <a:ext cx="1838160" cy="2990880"/>
          </a:xfrm>
          <a:prstGeom prst="rect">
            <a:avLst/>
          </a:prstGeom>
          <a:ln w="76320">
            <a:solidFill>
              <a:srgbClr val="33cc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7.С чем сопоставляются в лирических песнях душевные переживания героев?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А) С историческими событиям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Б) С народными обрядам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В) С явлениями природы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068880" y="3429000"/>
            <a:ext cx="3075120" cy="3429000"/>
          </a:xfrm>
          <a:prstGeom prst="rect">
            <a:avLst/>
          </a:prstGeom>
          <a:ln w="76320">
            <a:solidFill>
              <a:srgbClr val="33cc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Ещё одно усилие!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">
            <a:hlinkClick r:id="" action="ppaction://hlinkshowjump?jump=previousslide"/>
          </p:cNvPr>
          <p:cNvSpPr/>
          <p:nvPr/>
        </p:nvSpPr>
        <p:spPr>
          <a:xfrm>
            <a:off x="7812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452760" y="2252520"/>
            <a:ext cx="2238480" cy="23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Победа!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">
            <a:hlinkClick r:id="" action="ppaction://hlinkshowjump?jump=nextslide"/>
          </p:cNvPr>
          <p:cNvSpPr/>
          <p:nvPr/>
        </p:nvSpPr>
        <p:spPr>
          <a:xfrm>
            <a:off x="788508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835280" y="2309760"/>
            <a:ext cx="407988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оставь отметку!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«5» - 7 баллов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«4» - 5-6 баллов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«3» - 3-4 балл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«2» - 0-2 балл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334120" y="278136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764280" y="1768320"/>
            <a:ext cx="775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cccc"/>
                </a:solidFill>
                <a:latin typeface="Verdana"/>
              </a:rPr>
              <a:t>Спасибо за работу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Подумай!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>
            <a:hlinkClick r:id="" action="ppaction://hlinkshowjump?jump=previousslide"/>
          </p:cNvPr>
          <p:cNvSpPr/>
          <p:nvPr/>
        </p:nvSpPr>
        <p:spPr>
          <a:xfrm>
            <a:off x="788508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050920" y="2309760"/>
            <a:ext cx="386424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Ура!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>
            <a:hlinkClick r:id="" action="ppaction://hlinkshowjump?jump=nextslide"/>
          </p:cNvPr>
          <p:cNvSpPr/>
          <p:nvPr/>
        </p:nvSpPr>
        <p:spPr>
          <a:xfrm>
            <a:off x="766764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700360" y="2421000"/>
            <a:ext cx="415908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2.Какое историческое событие не освещается в прочитанных исторических песнях?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1" action="ppaction://hlinksldjump"/>
              </a:rPr>
              <a:t>А)Поход Ермака на Сибирь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2" action="ppaction://hlinksldjump"/>
              </a:rPr>
              <a:t>Б)Северная война со Швецией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3" action="ppaction://hlinksldjump"/>
              </a:rPr>
              <a:t>В)Отечественная война с Наполеоном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4" action="ppaction://hlinksldjump"/>
              </a:rPr>
              <a:t>Г)Восстание Емельяна Пугачёв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Подумай ещё!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>
            <a:hlinkClick r:id="" action="ppaction://hlinkshowjump?jump=previousslide"/>
          </p:cNvPr>
          <p:cNvSpPr/>
          <p:nvPr/>
        </p:nvSpPr>
        <p:spPr>
          <a:xfrm>
            <a:off x="7451640" y="5516640"/>
            <a:ext cx="1224000" cy="936720"/>
          </a:xfrm>
          <a:custGeom>
            <a:avLst/>
            <a:gdLst>
              <a:gd name="textAreaLeft" fmla="*/ 60480 w 1224000"/>
              <a:gd name="textAreaRight" fmla="*/ 1163520 w 122400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28222" h="21600">
                <a:moveTo>
                  <a:pt x="0" y="0"/>
                </a:moveTo>
                <a:lnTo>
                  <a:pt x="28222" y="0"/>
                </a:lnTo>
                <a:lnTo>
                  <a:pt x="28222" y="21600"/>
                </a:lnTo>
                <a:lnTo>
                  <a:pt x="0" y="21600"/>
                </a:lnTo>
                <a:close/>
              </a:path>
              <a:path fill="lightenLess" w="28222" h="21600">
                <a:moveTo>
                  <a:pt x="0" y="0"/>
                </a:moveTo>
                <a:lnTo>
                  <a:pt x="28222" y="0"/>
                </a:lnTo>
                <a:lnTo>
                  <a:pt x="26822" y="1400"/>
                </a:lnTo>
                <a:lnTo>
                  <a:pt x="1400" y="1400"/>
                </a:lnTo>
                <a:close/>
              </a:path>
              <a:path fill="darken" w="28222" h="21600">
                <a:moveTo>
                  <a:pt x="28222" y="0"/>
                </a:moveTo>
                <a:lnTo>
                  <a:pt x="28222" y="21600"/>
                </a:lnTo>
                <a:lnTo>
                  <a:pt x="26822" y="20200"/>
                </a:lnTo>
                <a:lnTo>
                  <a:pt x="26822" y="1400"/>
                </a:lnTo>
                <a:close/>
              </a:path>
              <a:path fill="darkenLess" w="28222" h="21600">
                <a:moveTo>
                  <a:pt x="282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22" y="20200"/>
                </a:lnTo>
                <a:close/>
              </a:path>
              <a:path fill="lighten" w="282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22" h="21600">
                <a:moveTo>
                  <a:pt x="14111" y="3837"/>
                </a:moveTo>
                <a:lnTo>
                  <a:pt x="16687" y="6448"/>
                </a:lnTo>
                <a:lnTo>
                  <a:pt x="16687" y="4707"/>
                </a:lnTo>
                <a:lnTo>
                  <a:pt x="18463" y="4707"/>
                </a:lnTo>
                <a:lnTo>
                  <a:pt x="18463" y="8224"/>
                </a:lnTo>
                <a:lnTo>
                  <a:pt x="21074" y="10800"/>
                </a:lnTo>
                <a:lnTo>
                  <a:pt x="19420" y="10800"/>
                </a:lnTo>
                <a:lnTo>
                  <a:pt x="19420" y="17989"/>
                </a:lnTo>
                <a:lnTo>
                  <a:pt x="8802" y="17989"/>
                </a:lnTo>
                <a:lnTo>
                  <a:pt x="8802" y="10800"/>
                </a:lnTo>
                <a:lnTo>
                  <a:pt x="7148" y="10800"/>
                </a:lnTo>
                <a:close/>
              </a:path>
              <a:path fill="darkenLess" w="28222" h="21600">
                <a:moveTo>
                  <a:pt x="16687" y="6448"/>
                </a:moveTo>
                <a:lnTo>
                  <a:pt x="16687" y="4707"/>
                </a:lnTo>
                <a:lnTo>
                  <a:pt x="18463" y="4707"/>
                </a:lnTo>
                <a:lnTo>
                  <a:pt x="18463" y="8224"/>
                </a:lnTo>
                <a:close/>
              </a:path>
              <a:path fill="darkenLess" w="28222" h="21600">
                <a:moveTo>
                  <a:pt x="13188" y="14299"/>
                </a:moveTo>
                <a:lnTo>
                  <a:pt x="15034" y="14299"/>
                </a:lnTo>
                <a:lnTo>
                  <a:pt x="15034" y="17989"/>
                </a:lnTo>
                <a:lnTo>
                  <a:pt x="19420" y="17989"/>
                </a:lnTo>
                <a:lnTo>
                  <a:pt x="19420" y="10800"/>
                </a:lnTo>
                <a:lnTo>
                  <a:pt x="8802" y="10800"/>
                </a:lnTo>
                <a:lnTo>
                  <a:pt x="8802" y="17989"/>
                </a:lnTo>
                <a:lnTo>
                  <a:pt x="13188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203640" y="2276640"/>
            <a:ext cx="3063960" cy="30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Молодец!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766764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060720" y="1936800"/>
            <a:ext cx="302256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3.Почему Ермак с казаками решили идти на Сибирь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1" action="ppaction://hlinksldjump"/>
              </a:rPr>
              <a:t>А)Они хотели заслужить милость царя Ивана Грозного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2" action="ppaction://hlinksldjump"/>
              </a:rPr>
              <a:t>Б)Хотели стать первопроходцам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3" action="ppaction://hlinksldjump"/>
              </a:rPr>
              <a:t>В)Хотели разбогатеть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6431040" y="3429000"/>
            <a:ext cx="2712960" cy="3429000"/>
          </a:xfrm>
          <a:prstGeom prst="rect">
            <a:avLst/>
          </a:prstGeom>
          <a:ln w="76320">
            <a:solidFill>
              <a:srgbClr val="33cc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Ответ неправильный!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>
            <a:hlinkClick r:id="" action="ppaction://hlinkshowjump?jump=previousslide"/>
          </p:cNvPr>
          <p:cNvSpPr/>
          <p:nvPr/>
        </p:nvSpPr>
        <p:spPr>
          <a:xfrm>
            <a:off x="766764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781360" y="1936800"/>
            <a:ext cx="358128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0T17:40:31Z</dcterms:created>
  <dc:creator>Lenovo</dc:creator>
  <dc:description/>
  <dc:language>en-US</dc:language>
  <cp:lastModifiedBy>Lenovo</cp:lastModifiedBy>
  <dcterms:modified xsi:type="dcterms:W3CDTF">2011-07-12T04:56:10Z</dcterms:modified>
  <cp:revision>5</cp:revision>
  <dc:subject/>
  <dc:title>Тест по теме «Исторические и лирические народные песни»</dc:title>
</cp:coreProperties>
</file>