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040-8C1F-403D-B679-FA6F7167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50B-11C3-4EEB-A601-543608C9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9E1-9CB8-445D-AB70-B1A45D43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FBA-68B7-4D06-8B9C-C5C82BF6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F2C-DB45-44F5-B708-F5FF3C6D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334F-767B-46F9-B24F-681AFC4A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4B6-3DCF-46F8-AF87-36C99F5B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EF7-C774-40D5-B5EF-3C0010A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69BA-C098-4CD1-94C4-8B8404A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9F0C-90D3-4FDE-B045-4955CAB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1872-382E-4F33-ACC4-A00CD9C7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D20-A147-4EDD-A65F-0E35D36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2A4F-0393-4200-A50C-CE9154F1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90F4-D7B4-49C2-B1A3-3CBEED17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F1CE-4092-4F04-B9D7-031986E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4F36-800D-46B3-BCAE-0500ECB4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1D7B-64E7-4E84-8C28-312020CA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042-711F-4603-B2EE-1FB24984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008-5F32-41E7-952E-C68F3641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DCC-C22C-4285-8DF3-9A675E2E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B40-8EC1-45AA-BD61-DC4A0B3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574-279D-460D-8D33-6966821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FD1-064E-493C-ACB4-7BD7C03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080-1498-4E3E-B53D-C7EB682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2F6F-E881-495D-A7CA-F3D50B7927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997-62E0-43A2-A016-DAA95FB493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ст по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е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«Народные песни»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(8 класс, УМК под ред.Г.И.Беленького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3141720"/>
            <a:ext cx="28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лючко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тья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алентинов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итель МО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тылицкая СОШ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564000" cy="5445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точку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101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79800" y="1879560"/>
            <a:ext cx="2984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4. Как предлагает Пётр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встретить шведского корол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Как заклятого вра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Как важную персон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Как гостя на пи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538440"/>
            <a:ext cx="4716360" cy="33195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 торопись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936800"/>
            <a:ext cx="43117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о, что над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5622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С чем народ сравнивает Полтавскую битву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Со свадебным пир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С приёмом го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Со вспаханным по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6000" y="4449600"/>
            <a:ext cx="3348000" cy="24084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 если подумать ещё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451640" y="537372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0" h="21600">
                <a:moveTo>
                  <a:pt x="12350" y="3837"/>
                </a:moveTo>
                <a:lnTo>
                  <a:pt x="14926" y="6448"/>
                </a:ln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lnTo>
                  <a:pt x="19313" y="10800"/>
                </a:lnTo>
                <a:lnTo>
                  <a:pt x="17659" y="10800"/>
                </a:lnTo>
                <a:lnTo>
                  <a:pt x="17659" y="17989"/>
                </a:lnTo>
                <a:lnTo>
                  <a:pt x="7041" y="17989"/>
                </a:lnTo>
                <a:lnTo>
                  <a:pt x="7041" y="10800"/>
                </a:lnTo>
                <a:lnTo>
                  <a:pt x="5387" y="10800"/>
                </a:lnTo>
                <a:close/>
              </a:path>
              <a:path fill="darkenLess" w="24700" h="21600">
                <a:moveTo>
                  <a:pt x="14926" y="6448"/>
                </a:move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close/>
              </a:path>
              <a:path fill="darkenLess" w="24700" h="21600">
                <a:moveTo>
                  <a:pt x="11427" y="14299"/>
                </a:moveTo>
                <a:lnTo>
                  <a:pt x="13273" y="14299"/>
                </a:lnTo>
                <a:lnTo>
                  <a:pt x="13273" y="17989"/>
                </a:lnTo>
                <a:lnTo>
                  <a:pt x="17659" y="17989"/>
                </a:lnTo>
                <a:lnTo>
                  <a:pt x="17659" y="10800"/>
                </a:lnTo>
                <a:lnTo>
                  <a:pt x="7041" y="10800"/>
                </a:lnTo>
                <a:lnTo>
                  <a:pt x="7041" y="17989"/>
                </a:lnTo>
                <a:lnTo>
                  <a:pt x="1142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462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ра-а-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24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38600" y="1523880"/>
            <a:ext cx="346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6.За что, с народной точки зрения, достались Емельяну Пугачёву кандалы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За стремление к свобод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За преступ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За бунт против вла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500880" y="3573360"/>
            <a:ext cx="2643120" cy="3284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у что же ты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28840" y="2309760"/>
            <a:ext cx="2686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мечате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67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7920" y="2637000"/>
            <a:ext cx="2265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6920" y="30132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Какая историческая личность не является героем прочитанных исторических песен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 Ерма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Тимофеи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Б) Степан Рази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В) Пётр Перв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Г) Емельян Пугачё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90640" cy="1790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343560" y="4619520"/>
            <a:ext cx="2800440" cy="22384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521480" y="0"/>
            <a:ext cx="1622520" cy="2276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0" y="3867120"/>
            <a:ext cx="1838160" cy="29908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7.С чем сопоставляются в лирических песнях душевные переживания героев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С историческими события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С народными обряд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С явлениями приро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68880" y="3429000"/>
            <a:ext cx="3075120" cy="342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щё одно усил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52760" y="2252520"/>
            <a:ext cx="22384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бед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309760"/>
            <a:ext cx="40798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ставь отметку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5» - 7 балл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4» - 5-6 балл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3» - 3-4 бал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2» - 0-2 бал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4120" y="2781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4280" y="1768320"/>
            <a:ext cx="775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Verdana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2309760"/>
            <a:ext cx="3864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р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41590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.Какое историческое событие не освещается в прочитанных исторических песнях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Поход Ермака на Сибир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Б)Северная война со Швеци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В)Отечественная война с Наполеон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Г)Восстание Емельяна Пугачё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умай ещё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7451640" y="5516640"/>
            <a:ext cx="1224000" cy="93672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8222" h="21600">
                <a:moveTo>
                  <a:pt x="0" y="0"/>
                </a:moveTo>
                <a:lnTo>
                  <a:pt x="28222" y="0"/>
                </a:lnTo>
                <a:lnTo>
                  <a:pt x="28222" y="21600"/>
                </a:lnTo>
                <a:lnTo>
                  <a:pt x="0" y="21600"/>
                </a:lnTo>
                <a:close/>
              </a:path>
              <a:path fill="lightenLess" w="28222" h="21600">
                <a:moveTo>
                  <a:pt x="0" y="0"/>
                </a:moveTo>
                <a:lnTo>
                  <a:pt x="28222" y="0"/>
                </a:lnTo>
                <a:lnTo>
                  <a:pt x="26822" y="1400"/>
                </a:lnTo>
                <a:lnTo>
                  <a:pt x="1400" y="1400"/>
                </a:lnTo>
                <a:close/>
              </a:path>
              <a:path fill="darken" w="28222" h="21600">
                <a:moveTo>
                  <a:pt x="28222" y="0"/>
                </a:moveTo>
                <a:lnTo>
                  <a:pt x="28222" y="21600"/>
                </a:lnTo>
                <a:lnTo>
                  <a:pt x="26822" y="20200"/>
                </a:lnTo>
                <a:lnTo>
                  <a:pt x="26822" y="1400"/>
                </a:lnTo>
                <a:close/>
              </a:path>
              <a:path fill="darkenLess" w="28222" h="21600">
                <a:moveTo>
                  <a:pt x="28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22" y="20200"/>
                </a:lnTo>
                <a:close/>
              </a:path>
              <a:path fill="lighten" w="28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22" h="21600">
                <a:moveTo>
                  <a:pt x="14111" y="3837"/>
                </a:moveTo>
                <a:lnTo>
                  <a:pt x="16687" y="6448"/>
                </a:lnTo>
                <a:lnTo>
                  <a:pt x="16687" y="4707"/>
                </a:lnTo>
                <a:lnTo>
                  <a:pt x="18463" y="4707"/>
                </a:lnTo>
                <a:lnTo>
                  <a:pt x="18463" y="8224"/>
                </a:lnTo>
                <a:lnTo>
                  <a:pt x="21074" y="10800"/>
                </a:lnTo>
                <a:lnTo>
                  <a:pt x="19420" y="10800"/>
                </a:lnTo>
                <a:lnTo>
                  <a:pt x="19420" y="17989"/>
                </a:lnTo>
                <a:lnTo>
                  <a:pt x="8802" y="17989"/>
                </a:lnTo>
                <a:lnTo>
                  <a:pt x="8802" y="10800"/>
                </a:lnTo>
                <a:lnTo>
                  <a:pt x="7148" y="10800"/>
                </a:lnTo>
                <a:close/>
              </a:path>
              <a:path fill="darkenLess" w="28222" h="21600">
                <a:moveTo>
                  <a:pt x="16687" y="6448"/>
                </a:moveTo>
                <a:lnTo>
                  <a:pt x="16687" y="4707"/>
                </a:lnTo>
                <a:lnTo>
                  <a:pt x="18463" y="4707"/>
                </a:lnTo>
                <a:lnTo>
                  <a:pt x="18463" y="8224"/>
                </a:lnTo>
                <a:close/>
              </a:path>
              <a:path fill="darkenLess" w="28222" h="21600">
                <a:moveTo>
                  <a:pt x="13188" y="14299"/>
                </a:moveTo>
                <a:lnTo>
                  <a:pt x="15034" y="14299"/>
                </a:lnTo>
                <a:lnTo>
                  <a:pt x="15034" y="17989"/>
                </a:lnTo>
                <a:lnTo>
                  <a:pt x="19420" y="17989"/>
                </a:lnTo>
                <a:lnTo>
                  <a:pt x="19420" y="10800"/>
                </a:lnTo>
                <a:lnTo>
                  <a:pt x="8802" y="10800"/>
                </a:lnTo>
                <a:lnTo>
                  <a:pt x="8802" y="17989"/>
                </a:lnTo>
                <a:lnTo>
                  <a:pt x="1318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0639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67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60720" y="1936800"/>
            <a:ext cx="30225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Почему Ермак с казаками решили идти на Сибир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Они хотели заслужить милость царя Ивана Гроз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Б)Хотели стать первопроход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В)Хотели разбогате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31040" y="3429000"/>
            <a:ext cx="2712960" cy="342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твет неправильный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81360" y="1936800"/>
            <a:ext cx="358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7:40:31Z</dcterms:created>
  <dc:creator>Lenovo</dc:creator>
  <dc:description/>
  <dc:language>en-US</dc:language>
  <cp:lastModifiedBy>Lenovo</cp:lastModifiedBy>
  <dcterms:modified xsi:type="dcterms:W3CDTF">2011-07-12T04:56:10Z</dcterms:modified>
  <cp:revision>5</cp:revision>
  <dc:subject/>
  <dc:title>Тест по теме «Исторические и лирические народные песни»</dc:title>
</cp:coreProperties>
</file>