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D34-4C5C-4A42-A4EC-89EE136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568-A132-4682-938F-4DDD0A2E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711-9474-4AEC-BF35-C1B9A7BA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ACF-4953-4505-83D3-934583D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64D4-34D8-4483-B687-BFBF13FA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4DF-0594-4F0E-951F-87D6B8A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6B6-6FA2-4DE6-927A-194C7EF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3FE-AB61-4C10-9D7E-84CFC3BF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9CE-017F-4F3A-8FAE-DA83703F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9DEA-FF06-4B4D-BC77-88230EAF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7DA-FC78-4241-A0FA-3FCCCFA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5B3-0927-48D8-B7C9-D1B049FB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5AF-05C8-4FAD-B447-BF233071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2FD-C83F-41A5-B56A-7B9396A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7D0-4D45-4541-8B5A-929AE6A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36F6-5CF7-4B2F-BE16-18751579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721-514E-4FE6-A1F7-41EA480D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88F-EA84-4A1F-9C21-47355DF4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B2F-905F-4885-B1C3-0FA3C16A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194-50DC-4F05-BCAD-14C6E10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4F1-0BFC-417A-9C74-8E9501A9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CC0-5703-4296-91FA-37BA777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8A5-EB65-401C-81B2-2506427A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83F-A993-4D6E-9898-A6472E2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1347-2F51-4574-9448-F8CC9275B1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AC8-32A6-4A55-B4A0-5C963CE145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ст по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е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«Народные песни»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(8 класс, УМК под ред.Г.И.Беленьког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3141720"/>
            <a:ext cx="28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лючко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тья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алентинов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итель МО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тылицкая СОШ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564000" cy="5445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точ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79800" y="1879560"/>
            <a:ext cx="2984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4. Как предлагает Пётр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встретить шведского корол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Как заклятого вра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Как важную персон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Как гостя на пи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538440"/>
            <a:ext cx="4716360" cy="33195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 торопись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936800"/>
            <a:ext cx="43117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о, что над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5622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С чем народ сравнивает Полтавскую битву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о свадебным пир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приёмом го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о вспаханным по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6000" y="4449600"/>
            <a:ext cx="3348000" cy="24084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 если подумать ещё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451640" y="537372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0" h="21600">
                <a:moveTo>
                  <a:pt x="12350" y="3837"/>
                </a:moveTo>
                <a:lnTo>
                  <a:pt x="14926" y="6448"/>
                </a:ln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lnTo>
                  <a:pt x="19313" y="10800"/>
                </a:lnTo>
                <a:lnTo>
                  <a:pt x="17659" y="10800"/>
                </a:lnTo>
                <a:lnTo>
                  <a:pt x="17659" y="17989"/>
                </a:lnTo>
                <a:lnTo>
                  <a:pt x="7041" y="17989"/>
                </a:lnTo>
                <a:lnTo>
                  <a:pt x="7041" y="10800"/>
                </a:lnTo>
                <a:lnTo>
                  <a:pt x="5387" y="10800"/>
                </a:lnTo>
                <a:close/>
              </a:path>
              <a:path fill="darkenLess" w="24700" h="21600">
                <a:moveTo>
                  <a:pt x="14926" y="6448"/>
                </a:move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close/>
              </a:path>
              <a:path fill="darkenLess" w="24700" h="21600">
                <a:moveTo>
                  <a:pt x="11427" y="14299"/>
                </a:moveTo>
                <a:lnTo>
                  <a:pt x="13273" y="14299"/>
                </a:lnTo>
                <a:lnTo>
                  <a:pt x="13273" y="17989"/>
                </a:lnTo>
                <a:lnTo>
                  <a:pt x="17659" y="17989"/>
                </a:lnTo>
                <a:lnTo>
                  <a:pt x="17659" y="10800"/>
                </a:lnTo>
                <a:lnTo>
                  <a:pt x="7041" y="10800"/>
                </a:lnTo>
                <a:lnTo>
                  <a:pt x="7041" y="17989"/>
                </a:lnTo>
                <a:lnTo>
                  <a:pt x="1142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46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ра-а-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24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38600" y="1523880"/>
            <a:ext cx="346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6.За что, с народной точки зрения, достались Емельяну Пугачёву кандалы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За стремление к свобод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За преступ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За бунт против вла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00880" y="3573360"/>
            <a:ext cx="2643120" cy="3284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у что же ты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28840" y="2309760"/>
            <a:ext cx="2686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мечате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7920" y="2637000"/>
            <a:ext cx="2265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6920" y="30132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Какая историческая личность не является героем прочитанных исторических песен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 Ерма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Тимофеи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Б) Степан Рази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В) Пётр Перв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Г) Емельян Пугачё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90640" cy="1790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343560" y="4619520"/>
            <a:ext cx="2800440" cy="22384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521480" y="0"/>
            <a:ext cx="1622520" cy="2276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0" y="3867120"/>
            <a:ext cx="1838160" cy="29908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7.С чем сопоставляются в лирических песнях душевные переживания героев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 историческими события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народными обряд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 явлениями приро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68880" y="3429000"/>
            <a:ext cx="307512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щё одно усил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52760" y="2252520"/>
            <a:ext cx="22384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бед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309760"/>
            <a:ext cx="4079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ставь отмет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5» - 7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4» - 5-6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3» - 3-4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2» - 0-2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2781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4280" y="1768320"/>
            <a:ext cx="775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Verdana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309760"/>
            <a:ext cx="3864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р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41590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.Какое историческое событие не освещается в прочитанных исторических песнях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Поход Ермака на Сибир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Северная война со Швеци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Отечественная война с Наполеон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Г)Восстание Емельяна Пугачё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 ещё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7451640" y="5516640"/>
            <a:ext cx="1224000" cy="93672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8222" h="21600">
                <a:moveTo>
                  <a:pt x="0" y="0"/>
                </a:moveTo>
                <a:lnTo>
                  <a:pt x="28222" y="0"/>
                </a:lnTo>
                <a:lnTo>
                  <a:pt x="28222" y="21600"/>
                </a:lnTo>
                <a:lnTo>
                  <a:pt x="0" y="21600"/>
                </a:lnTo>
                <a:close/>
              </a:path>
              <a:path fill="lightenLess" w="28222" h="21600">
                <a:moveTo>
                  <a:pt x="0" y="0"/>
                </a:moveTo>
                <a:lnTo>
                  <a:pt x="28222" y="0"/>
                </a:lnTo>
                <a:lnTo>
                  <a:pt x="26822" y="1400"/>
                </a:lnTo>
                <a:lnTo>
                  <a:pt x="1400" y="1400"/>
                </a:lnTo>
                <a:close/>
              </a:path>
              <a:path fill="darken" w="28222" h="21600">
                <a:moveTo>
                  <a:pt x="28222" y="0"/>
                </a:moveTo>
                <a:lnTo>
                  <a:pt x="28222" y="21600"/>
                </a:lnTo>
                <a:lnTo>
                  <a:pt x="26822" y="20200"/>
                </a:lnTo>
                <a:lnTo>
                  <a:pt x="26822" y="1400"/>
                </a:lnTo>
                <a:close/>
              </a:path>
              <a:path fill="darkenLess" w="28222" h="21600">
                <a:moveTo>
                  <a:pt x="28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22" y="20200"/>
                </a:lnTo>
                <a:close/>
              </a:path>
              <a:path fill="lighten" w="28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22" h="21600">
                <a:moveTo>
                  <a:pt x="14111" y="3837"/>
                </a:moveTo>
                <a:lnTo>
                  <a:pt x="16687" y="6448"/>
                </a:ln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lnTo>
                  <a:pt x="21074" y="10800"/>
                </a:lnTo>
                <a:lnTo>
                  <a:pt x="19420" y="10800"/>
                </a:lnTo>
                <a:lnTo>
                  <a:pt x="19420" y="17989"/>
                </a:lnTo>
                <a:lnTo>
                  <a:pt x="8802" y="17989"/>
                </a:lnTo>
                <a:lnTo>
                  <a:pt x="8802" y="10800"/>
                </a:lnTo>
                <a:lnTo>
                  <a:pt x="7148" y="10800"/>
                </a:lnTo>
                <a:close/>
              </a:path>
              <a:path fill="darkenLess" w="28222" h="21600">
                <a:moveTo>
                  <a:pt x="16687" y="6448"/>
                </a:move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close/>
              </a:path>
              <a:path fill="darkenLess" w="28222" h="21600">
                <a:moveTo>
                  <a:pt x="13188" y="14299"/>
                </a:moveTo>
                <a:lnTo>
                  <a:pt x="15034" y="14299"/>
                </a:lnTo>
                <a:lnTo>
                  <a:pt x="15034" y="17989"/>
                </a:lnTo>
                <a:lnTo>
                  <a:pt x="19420" y="17989"/>
                </a:lnTo>
                <a:lnTo>
                  <a:pt x="19420" y="10800"/>
                </a:lnTo>
                <a:lnTo>
                  <a:pt x="8802" y="10800"/>
                </a:lnTo>
                <a:lnTo>
                  <a:pt x="8802" y="17989"/>
                </a:lnTo>
                <a:lnTo>
                  <a:pt x="1318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0639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60720" y="1936800"/>
            <a:ext cx="30225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Почему Ермак с казаками решили идти на Сибир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Они хотели заслужить милость царя Ивана Гроз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Хотели стать первопроход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Хотели разбогате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31040" y="3429000"/>
            <a:ext cx="271296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твет неправильны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81360" y="1936800"/>
            <a:ext cx="358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7:40:31Z</dcterms:created>
  <dc:creator>Lenovo</dc:creator>
  <dc:description/>
  <dc:language>en-US</dc:language>
  <cp:lastModifiedBy>Lenovo</cp:lastModifiedBy>
  <dcterms:modified xsi:type="dcterms:W3CDTF">2011-07-12T04:56:10Z</dcterms:modified>
  <cp:revision>5</cp:revision>
  <dc:subject/>
  <dc:title>Тест по теме «Исторические и лирические народные песни»</dc:title>
</cp:coreProperties>
</file>