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858-B8E3-4CD4-8084-27960BA5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F49-25EF-43BC-A8FF-C1AFDA5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173-6275-47FB-BCF2-29A748A3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797-043E-4799-810A-ACDE0416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9FE-F78D-444E-801B-14D3BCE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D1C-FC56-4A6E-91F7-0FB43EF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2B1-D995-4AA9-A6CA-125A24D7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0CC-4A52-4A5D-AAF0-88A7E98B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6B0-DCD5-4830-8049-276DBC6C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511-F4A5-408B-8F48-7AC644A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31A-2604-4C40-A273-13EE3BF4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C4C-3FA5-4CCE-AEE7-1B27F7E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010-0CB2-4328-862E-E5E634F5F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14880" y="4071960"/>
            <a:ext cx="4749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11 класса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ева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Иванцова Е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68360" y="1700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АЙНА ЧИСЛА П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genon.ru/GetAnswer.aspx?qid=5806df1c-fa85-4ed3-a1e7-18d9613ec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mages.yandex.ru/yandsearch?p=4&amp;text=%D1%87%D0%B8%D1%81%D0%BB%D0%BE%20%D0%BF%D0%B8&amp;stype=image&amp;ed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ommunity.livejournal.com/ru_encyclopedia/541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mnemonica.ru/zapominalki/chislo-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635280" y="404640"/>
            <a:ext cx="223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СЫ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пи — математическая константа, равная отношению длины окружности к ее диаметру. Число пи является иррациональным и трансцендентным, цифровое представление которого является бесконечной непериодической десятичной дробью — 3,141592653589793238462643... и так до бескон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635280" y="404640"/>
            <a:ext cx="1295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числа П, выражающего отношение длины окружности к её диаметру, началась в Древнем Египте. Площадь круга диаметром d египетские математики определяли как (d-d/9)2 (эта запись дана здесь в современных символах). Из приведенного выражения можно заключить, что в то время число p считали равным дроби (16/9)2, или 256/81, т.е. p = 3,160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3203640" y="476280"/>
            <a:ext cx="20462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0" y="414972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246528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3"/>
          <a:stretch/>
        </p:blipFill>
        <p:spPr>
          <a:xfrm>
            <a:off x="3708360" y="4194000"/>
            <a:ext cx="208764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4"/>
          <a:stretch/>
        </p:blipFill>
        <p:spPr>
          <a:xfrm>
            <a:off x="5508720" y="3789360"/>
            <a:ext cx="2211120" cy="27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5"/>
          <a:stretch/>
        </p:blipFill>
        <p:spPr>
          <a:xfrm>
            <a:off x="7451640" y="4076640"/>
            <a:ext cx="16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имед в III в. до  н.э. обосновал в своей небольшой работе "Измерение круга" три полож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кий круг равновелик прямоугольному треугольнику, катеты которого соответственно равны длине окружности и её радиус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и круга относятся к квадрату, построенному на диаметре, как 11 к 1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любой окружности к её диаметруменьше 3 1/7 и больше 3 10/7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093080" y="4005360"/>
            <a:ext cx="1760400" cy="2192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3132000" y="476280"/>
            <a:ext cx="22622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обозначением этого числа греческой буквой  воспользовался британский математик Джонс в 1706 году, а общепринятым оно стало после работ Леонарда Эйлера в 1737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означение происходит от начальной буквы греческих слов περιφέρεια — окружность, периферия и περίμετρος — пери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1535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числа пи отмечается некоторыми математиками 14 марта в 1:59 (в американской системе записи дат — 3/14; первые разряды числа π = 3,14159). Обычно празднуют в 1:59 дня (в 12-часовой системе), но придерживающиеся 24-часовой системы света времени считают, что это 13:59, и предпочитают отмечать ночью. В это время читают хвалебные речи в честь числа пи, его роли в жизни человечества, рисуют антиутопические картины мира без пи, едят пи-рог (pie), пьют напитки и играют в игры, начинающиеся на «п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марта, в день числа пи, родился Альберт Эйнштей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ают также день приближённого значения пи — 22 июля (22/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979640" y="404640"/>
            <a:ext cx="4329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 ЧИСЛА П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ь вычисления пи — использование формул с бесконечным числом членов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π = 2 · 2/1 · (2/3 · 4/3) · (4/5 · 6/5) · (6/7 · 8/7) ·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π = 4 · (1/1 – 1/3) + (1/5 – 1/7) +(1/9 – 1/11)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627280" y="333360"/>
            <a:ext cx="3600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 личности Пи персонифицировано сегодня, не ясно, но для того, что бы увидеть значение этого числа для нашего мира, не нужно быть математиком: Пи проявляется во всём, что нас окружает. И это, кстати, очень свойственно для любого разумного существа, каковым, без сомнения, является П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2916360" y="54936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НА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635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только постар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мнить все, как е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, четырнадцать, пятн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яносто два и ш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3059280" y="260280"/>
            <a:ext cx="275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инал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350028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, четырнадцать, пятнадцать, девять два, шесть пять, три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девять, семь и девять, три два, три восемь, сорок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шесть четыре, три три восемь, три два семь девять, пять ноль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восемь и четыре, девятнадцать, семь,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6084720" y="465300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240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58:29Z</dcterms:created>
  <dc:creator>Portable</dc:creator>
  <dc:description/>
  <dc:language>en-US</dc:language>
  <cp:lastModifiedBy>Елена Александровна</cp:lastModifiedBy>
  <dcterms:modified xsi:type="dcterms:W3CDTF">2010-12-02T22:18:24Z</dcterms:modified>
  <cp:revision>5</cp:revision>
  <dc:subject/>
  <dc:title>Тайна числа ПИ</dc:title>
</cp:coreProperties>
</file>