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120-B646-4D68-8F4A-EE8F5C0F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6D4-2AFB-4BFF-86B5-ABFEC5F6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85F-3103-43B1-877B-42AAA13E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375-AAA4-4990-B095-C47ED39F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1696-06DB-4BE2-98C2-22E365BB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3A4F-B8D1-4083-9656-9B8A89BC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B3F3-097A-42A1-88CB-8CA18F2F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62AE-7D36-4B82-B582-85A00D8E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E95-EF08-4F83-B7F6-BB972B7D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E8DB-CBA2-4BF1-8B0C-B0DD71FC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5D5-F028-4893-ABFB-98DA3D15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A12-F8FA-4555-BB3D-DCF13647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E714-4488-473B-945B-EA7DC739D6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214880" y="4071960"/>
            <a:ext cx="4749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выполн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ца 11 класса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й школы №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еева Алекса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 Иванцова Е.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468360" y="1700280"/>
            <a:ext cx="6985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АЙНА ЧИСЛА ПИ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99cc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genon.ru/GetAnswer.aspx?qid=5806df1c-fa85-4ed3-a1e7-18d9613ec8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images.yandex.ru/yandsearch?p=4&amp;text=%D1%87%D0%B8%D1%81%D0%BB%D0%BE%20%D0%BF%D0%B8&amp;stype=image&amp;ed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community.livejournal.com/ru_encyclopedia/5418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mnemonica.ru/zapominalki/chislo-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3635280" y="404640"/>
            <a:ext cx="2232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СЫ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 пи — математическая константа, равная отношению длины окружности к ее диаметру. Число пи является иррациональным и трансцендентным, цифровое представление которого является бесконечной непериодической десятичной дробью — 3,141592653589793238462643... и так до бескон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3635280" y="404640"/>
            <a:ext cx="1295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я числа П, выражающего отношение длины окружности к её диаметру, началась в Древнем Египте. Площадь круга диаметром d египетские математики определяли как (d-d/9)2 (эта запись дана здесь в современных символах). Из приведенного выражения можно заключить, что в то время число p считали равным дроби (16/9)2, или 256/81, т.е. p = 3,160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3203640" y="476280"/>
            <a:ext cx="204624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СТОР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0" y="414972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"/>
          <p:cNvPicPr/>
          <p:nvPr/>
        </p:nvPicPr>
        <p:blipFill>
          <a:blip r:embed="rId2"/>
          <a:stretch/>
        </p:blipFill>
        <p:spPr>
          <a:xfrm>
            <a:off x="1692360" y="3573360"/>
            <a:ext cx="2465280" cy="230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"/>
          <p:cNvPicPr/>
          <p:nvPr/>
        </p:nvPicPr>
        <p:blipFill>
          <a:blip r:embed="rId3"/>
          <a:stretch/>
        </p:blipFill>
        <p:spPr>
          <a:xfrm>
            <a:off x="3708360" y="4194000"/>
            <a:ext cx="2087640" cy="266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"/>
          <p:cNvPicPr/>
          <p:nvPr/>
        </p:nvPicPr>
        <p:blipFill>
          <a:blip r:embed="rId4"/>
          <a:stretch/>
        </p:blipFill>
        <p:spPr>
          <a:xfrm>
            <a:off x="5508720" y="3789360"/>
            <a:ext cx="2211120" cy="270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"/>
          <p:cNvPicPr/>
          <p:nvPr/>
        </p:nvPicPr>
        <p:blipFill>
          <a:blip r:embed="rId5"/>
          <a:stretch/>
        </p:blipFill>
        <p:spPr>
          <a:xfrm>
            <a:off x="7451640" y="4076640"/>
            <a:ext cx="1692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химед в III в. до  н.э. обосновал в своей небольшой работе "Измерение круга" три положе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який круг равновелик прямоугольному треугольнику, катеты которого соответственно равны длине окружности и её радиус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щади круга относятся к квадрату, построенному на диаметре, как 11 к 14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е любой окружности к её диаметруменьше 3 1/7 и больше 3 10/7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7093080" y="4005360"/>
            <a:ext cx="1760400" cy="219240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>
            <a:off x="3132000" y="476280"/>
            <a:ext cx="226224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СТОР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первые обозначением этого числа греческой буквой  воспользовался британский математик Джонс в 1706 году, а общепринятым оно стало после работ Леонарда Эйлера в 1737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бозначение происходит от начальной буквы греческих слов περιφέρεια — окружность, периферия и περίμετρος — периме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3348000" y="189000"/>
            <a:ext cx="15350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ь числа пи отмечается некоторыми математиками 14 марта в 1:59 (в американской системе записи дат — 3/14; первые разряды числа π = 3,14159). Обычно празднуют в 1:59 дня (в 12-часовой системе), но придерживающиеся 24-часовой системы света времени считают, что это 13:59, и предпочитают отмечать ночью. В это время читают хвалебные речи в честь числа пи, его роли в жизни человечества, рисуют антиутопические картины мира без пи, едят пи-рог (pie), пьют напитки и играют в игры, начинающиеся на «п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 марта, в день числа пи, родился Альберт Эйнштей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чают также день приближённого значения пи — 22 июля (22/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1979640" y="404640"/>
            <a:ext cx="432900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НЬ ЧИСЛА П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ть вычисления пи — использование формул с бесконечным числом членов. 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π = 2 · 2/1 · (2/3 · 4/3) · (4/5 · 6/5) · (6/7 · 8/7) ·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π = 4 · (1/1 – 1/3) + (1/5 – 1/7) +(1/9 – 1/11) +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2627280" y="333360"/>
            <a:ext cx="360036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ЧИСЛ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1628640"/>
            <a:ext cx="56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ой личности Пи персонифицировано сегодня, не ясно, но для того, что бы увидеть значение этого числа для нашего мира, не нужно быть математиком: Пи проявляется во всём, что нас окружает. И это, кстати, очень свойственно для любого разумного существа, каковым, без сомнения, является П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2916360" y="549360"/>
            <a:ext cx="295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НАЧ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3635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только постара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апомнить все, как е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, четырнадцать, пятнадц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яносто два и ш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3059280" y="260280"/>
            <a:ext cx="2752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поминал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24000" y="3500280"/>
            <a:ext cx="568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, четырнадцать, пятнадцать, девять два, шесть пять, три п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емь девять, семь и девять, три два, три восемь, сорок ш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шесть четыре, три три восемь, три два семь девять, пять ноль д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емь восемь и четыре, девятнадцать, семь, 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6084720" y="4653000"/>
            <a:ext cx="2448000" cy="194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3240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4:58:29Z</dcterms:created>
  <dc:creator>Portable</dc:creator>
  <dc:description/>
  <dc:language>en-US</dc:language>
  <cp:lastModifiedBy>Елена Александровна</cp:lastModifiedBy>
  <dcterms:modified xsi:type="dcterms:W3CDTF">2010-12-02T22:18:24Z</dcterms:modified>
  <cp:revision>5</cp:revision>
  <dc:subject/>
  <dc:title>Тайна числа ПИ</dc:title>
</cp:coreProperties>
</file>