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6BB-5D0E-4B3C-A6E6-759D05A0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3FC-4524-4174-AA7F-019C06D7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281-3BEF-433A-9C56-790FD86C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21B-EF57-44D9-90A0-F95546E0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B7E6-C9AE-4046-BE5D-963DD534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AB93-AA3B-45BD-9B23-CDF790D5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2A4B-BCEF-4016-9812-51193706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0755-9C91-4B25-9A17-29064C3B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D15F-799F-46C8-BF80-1F61F037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7B01-7483-4775-A1D5-1D5BE680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C502-E468-4D31-B3F3-AB8DD0C6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E45-2441-4B40-91CA-F078C048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A5EF-F355-416F-948F-3F3CBAE6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987A-530E-46A3-B495-2F56FA5D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1C3A-4700-4F30-8508-861331BC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1FA2-69F5-4161-B0E9-2CF9584C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392C-7D12-4C5C-877A-EA44A2A0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6DC-F36F-4FE3-8886-224C6578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0F3-5D35-4629-8066-1074FD10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888-8211-4C8D-B7FD-C15B4E02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A8D-4595-4C98-A5EA-33889041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364-46C2-4724-8D2C-E649E9EB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2B4-EAB9-44F0-80D2-5D4B9BBC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53E-1AE0-4737-A3E3-6EE2C6DD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F934-90CA-4BAB-BAD6-161D6C843A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7FC1-81E2-4B25-9F17-C41053617F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66"/>
                </a:solidFill>
                <a:latin typeface="Arial"/>
              </a:rPr>
              <a:t>Спортивная Хакасия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История физической культуры и спорта в Хакасии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народов, населяющих Хакасию, физические упражнения и игры зародились в древности. К национальным видам спорта относятся: конные скачки, борьба курес, стрельба из лу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47640" y="4653000"/>
            <a:ext cx="2448000" cy="1600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2735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История физической культуры и спорта в Хакас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вым крупным официальным спортивным мероприятием в Хакасии была спартакиада молодёжи, которая состоялась 13.06.1926 г в с.Усть-Абаканское. В программу были включены лёгкая атлетика, футбол, волейбол, стрельба, национальная борьба курес, конные скачки и поднятие тяжестей. Получили развитие такие виды спорта как хоккей с мячом (с 1932 г.), лыжный спорт, вольная борьба 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Физическая культура и спорт в Хакасии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республике культивируется 41 вид спорта, активно занимаются физической культурой и спортом свыше 51 тысячи человек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республике Хакасия работают 14 стадионов, 222 спортивных зала, 25 плавательных бассейнов. Работает 19 детско - юношеских спортивных школ, где занимается более 11000 детей, школа высшего спортивного мастерства, училище Олимпийского резерва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республике ежегодно проводятся более 50 спортивно-массовых мероприятий, в том числе наиболее значимые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спортивные игры народов Республики Хакасия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спартакиада молодежи России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летние и зимние спартакиады школьников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всероссийский турниры по вольной и греко-римской борьбе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Российские соревнования по хоккею с мячом, настольному теннису, конному спорту, кикбоксингу и бокс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 последние годы спортсмены Хакасии приняли участие в 60 международных соревнованиях. На чемпионатах и первенствах Европы и Мира завоевано медалей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золотых- 16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серебряных- 14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бронзовых- 15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За эти годы более 30 спортсменов входили в сборные команды России по различным видам спорта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ордостью Республики Хакасия являются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Иван Ярыгин - двукратный Олимпийский чемпион по вольной борьб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3814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ргей Карамчаков - бронзовый призер Олимпийских игр в г. Сеуле по вольной борьбе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Леонид Чучунов - многократный чемпион России, серебряный призер чемпионата Европы, участник Олимпийских игр в г. Сиднее по вольной борьбе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етр Макарчук - трехкратный чемпион России, победитель кубка Европы, участник Олимпийских игр в г. Солт-Лейк-Сити по бобслею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Инга Карамчакова - шестикратная чемпионка России, четырехкратная чемпионка Европы, трехкратный призер чемпионатов мира, чемпион мира среди молодежи по вольной борьбе среди женщин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ег Немченко - двукратный чемпион России, третий призер чемпионата Европы по греко-римской борьб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Евгений Хорошкин - чемпион России по борьбе дзюдо, чемпион Азиатских игр, второй призер чемпионата мира по борьбе самбо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ван Мосин - чемпи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и по кикбоксинг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кратный приз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пионатов мир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84720" y="3213000"/>
            <a:ext cx="25243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стр.108- 111. Рассказать об основных видах спорта в Р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: приготовить сообщен ие об одном из спортсменов Р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003640" y="4437000"/>
            <a:ext cx="3168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5:14:10Z</dcterms:created>
  <dc:creator>Customer</dc:creator>
  <dc:description/>
  <dc:language>en-US</dc:language>
  <cp:lastModifiedBy>Customer</cp:lastModifiedBy>
  <dcterms:modified xsi:type="dcterms:W3CDTF">2011-12-14T16:30:59Z</dcterms:modified>
  <cp:revision>2</cp:revision>
  <dc:subject/>
  <dc:title>Спортивная Хакасия</dc:title>
</cp:coreProperties>
</file>