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CEE-7E48-48F4-8276-1F9B21A5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678-ECA0-40C8-A7B2-E62D13DA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399-0A01-4C58-A63E-7DBEB1CB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69C-7F51-4DFE-8C58-09C80C6C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E152-917B-41D3-A9DA-A1B7D669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3897-84CA-440D-B76C-8FA978BA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F7E6-398B-4BC6-91BB-FBE2BA88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DA42-36A4-49F7-8515-6A8A21A5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51C1-FD2E-48DA-9685-40DF5EAA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9AF7-97E6-4B42-B616-D5DF6DE9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2A35-5D20-4B3F-BB6D-D1D2873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72F-C603-4D20-8CCF-AA4FF97E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4313-30F4-48B2-A2FE-E0884B64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79BC-C843-4509-A28E-B8451488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E2B6-9F8C-4AB6-BB92-E1C137CD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88E7-F95A-4669-9E3B-AB949D78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0539-6547-4DCF-8A29-66E7BF2B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D1F-48F0-42FB-82E2-5A313A8B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5C6-FB7F-4E1D-8B77-8A4C18E5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4CF-7268-4D88-AAE0-9BDA1B42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DE5-1F1B-4E11-9475-2F570C2C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ED7-1FBA-428D-A4C7-2701F37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5A1-40B8-417B-8E9E-CD07E896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70E-8DB5-401A-9A00-B9F8005B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3C80-100D-4D70-9DDF-DCA7DBCC7C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429C-0C31-4631-9E08-2F35A74C51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66"/>
                </a:solidFill>
                <a:latin typeface="Arial"/>
              </a:rPr>
              <a:t>Спортивная Хакасия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История физической культуры и спорта в Хакаси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народов, населяющих Хакасию, физические упражнения и игры зародились в древности. К национальным видам спорта относятся: конные скачки, борьба курес, стрельба из лу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4653000"/>
            <a:ext cx="2448000" cy="1600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2735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История физической культуры и спорта в Хакас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м крупным официальным спортивным мероприятием в Хакасии была спартакиада молодёжи, которая состоялась 13.06.1926 г в с.Усть-Абаканское. В программу были включены лёгкая атлетика, футбол, волейбол, стрельба, национальная борьба курес, конные скачки и поднятие тяжестей. Получили развитие такие виды спорта как хоккей с мячом (с 1932 г.), лыжный спорт, вольная борьба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Физическая культура и спорт в Хакасии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еспублике культивируется 41 вид спорта, активно занимаются физической культурой и спортом свыше 51 тысячи человек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еспублике Хакасия работают 14 стадионов, 222 спортивных зала, 25 плавательных бассейнов. Работает 19 детско - юношеских спортивных школ, где занимается более 11000 детей, школа высшего спортивного мастерства, училище Олимпийского резерва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еспублике ежегодно проводятся более 50 спортивно-массовых мероприятий, в том числе наиболее значимые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портивные игры народов Республики Хакасия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партакиада молодежи России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летние и зимние спартакиады школьников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всероссийский турниры по вольной и греко-римской борьбе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оссийские соревнования по хоккею с мячом, настольному теннису, конному спорту, кикбоксингу и бокс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 последние годы спортсмены Хакасии приняли участие в 60 международных соревнованиях. На чемпионатах и первенствах Европы и Мира завоевано медалей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золотых- 16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серебряных- 14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бронзовых- 15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За эти годы более 30 спортсменов входили в сборные команды России по различным видам спорта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рдостью Республики Хакасия являются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Иван Ярыгин - двукратный Олимпийский чемпион по вольной борьб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381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гей Карамчаков - бронзовый призер Олимпийских игр в г. Сеуле по вольной борьб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Леонид Чучунов - многократный чемпион России, серебряный призер чемпионата Европы, участник Олимпийских игр в г. Сиднее по вольной борьб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етр Макарчук - трехкратный чемпион России, победитель кубка Европы, участник Олимпийских игр в г. Солт-Лейк-Сити по бобслею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Инга Карамчакова - шестикратная чемпионка России, четырехкратная чемпионка Европы, трехкратный призер чемпионатов мира, чемпион мира среди молодежи по вольной борьбе среди женщин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ег Немченко - двукратный чемпион России, третий призер чемпионата Европы по греко-римской борьб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Евгений Хорошкин - чемпион России по борьбе дзюдо, чемпион Азиатских игр, второй призер чемпионата мира по борьбе самбо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ван Мосин - чемпи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и по кикбоксинг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кратный приз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пионатов мир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84720" y="3213000"/>
            <a:ext cx="25243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стр.108- 111. Рассказать об основных видах спорта в Р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: приготовить сообщен ие об одном из спортсменов Р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003640" y="4437000"/>
            <a:ext cx="3168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5:14:10Z</dcterms:created>
  <dc:creator>Customer</dc:creator>
  <dc:description/>
  <dc:language>en-US</dc:language>
  <cp:lastModifiedBy>Customer</cp:lastModifiedBy>
  <dcterms:modified xsi:type="dcterms:W3CDTF">2011-12-14T16:30:59Z</dcterms:modified>
  <cp:revision>2</cp:revision>
  <dc:subject/>
  <dc:title>Спортивная Хакасия</dc:title>
</cp:coreProperties>
</file>