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3AF-276B-4195-B671-6B80180D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816-96D1-42BD-B363-E67DF19E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F85-E825-41B7-9A97-38A39896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339-329D-423E-A096-23250FCE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4C90-CB05-4C0F-A7D4-9B594D8D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F00E-2253-469D-9097-10943DDD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CD0C-D66C-47C3-A97A-7EC37F01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F7A7-F2AF-4C69-85D1-E3973622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4837-26F5-4998-B60A-722F9930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0635-DF5A-4E74-9F25-DFD3258F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DCD2-376C-4C5E-B4C5-9E7833A2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3C7-0C5D-4C62-A9B2-08C6F9F1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562A-9320-40E0-AD45-23978C87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A5BB-6226-402C-AF3E-AB36F879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87B8-2852-4C00-8B4B-7031945B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5F31-7952-4D25-8587-FEF37655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2B81-4FC0-4F98-BBFB-D9E67EF7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294-90CB-4F43-8E20-29E006D1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346-D708-4342-B677-A01A7BEE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C25-97DE-4870-82BB-C6D70D43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66D-365E-40C0-8E97-07C1F693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6EB-9326-4361-88BB-8DE3EA03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D15-AB1A-4670-9F13-E59E2A15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E05-BCD7-4F09-93D8-66171BEE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0786-E7B8-47D8-A547-3FC2257150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F6FB-DFD9-468D-9601-A5F5B87FB7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66"/>
                </a:solidFill>
                <a:latin typeface="Arial"/>
              </a:rPr>
              <a:t>Спортивная Хакасия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История физической культуры и спорта в Хакасии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народов, населяющих Хакасию, физические упражнения и игры зародились в древности. К национальным видам спорта относятся: конные скачки, борьба курес, стрельба из лу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47640" y="4653000"/>
            <a:ext cx="2448000" cy="1600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2735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История физической культуры и спорта в Хакас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вым крупным официальным спортивным мероприятием в Хакасии была спартакиада молодёжи, которая состоялась 13.06.1926 г в с.Усть-Абаканское. В программу были включены лёгкая атлетика, футбол, волейбол, стрельба, национальная борьба курес, конные скачки и поднятие тяжестей. Получили развитие такие виды спорта как хоккей с мячом (с 1932 г.), лыжный спорт, вольная борьба 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Физическая культура и спорт в Хакасии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республике культивируется 41 вид спорта, активно занимаются физической культурой и спортом свыше 51 тысячи человек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республике Хакасия работают 14 стадионов, 222 спортивных зала, 25 плавательных бассейнов. Работает 19 детско - юношеских спортивных школ, где занимается более 11000 детей, школа высшего спортивного мастерства, училище Олимпийского резерва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республике ежегодно проводятся более 50 спортивно-массовых мероприятий, в том числе наиболее значимые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спортивные игры народов Республики Хакасия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спартакиада молодежи России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летние и зимние спартакиады школьников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всероссийский турниры по вольной и греко-римской борьбе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Российские соревнования по хоккею с мячом, настольному теннису, конному спорту, кикбоксингу и бокс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 последние годы спортсмены Хакасии приняли участие в 60 международных соревнованиях. На чемпионатах и первенствах Европы и Мира завоевано медалей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золотых- 16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серебряных- 14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бронзовых- 15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За эти годы более 30 спортсменов входили в сборные команды России по различным видам спорта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рдостью Республики Хакасия являются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Иван Ярыгин - двукратный Олимпийский чемпион по вольной борьб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3814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ргей Карамчаков - бронзовый призер Олимпийских игр в г. Сеуле по вольной борьбе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Леонид Чучунов - многократный чемпион России, серебряный призер чемпионата Европы, участник Олимпийских игр в г. Сиднее по вольной борьбе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етр Макарчук - трехкратный чемпион России, победитель кубка Европы, участник Олимпийских игр в г. Солт-Лейк-Сити по бобслею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Инга Карамчакова - шестикратная чемпионка России, четырехкратная чемпионка Европы, трехкратный призер чемпионатов мира, чемпион мира среди молодежи по вольной борьбе среди женщин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ег Немченко - двукратный чемпион России, третий призер чемпионата Европы по греко-римской борьб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Евгений Хорошкин - чемпион России по борьбе дзюдо, чемпион Азиатских игр, второй призер чемпионата мира по борьбе самбо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ван Мосин - чемпи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и по кикбоксинг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кратный приз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пионатов мир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84720" y="3213000"/>
            <a:ext cx="25243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стр.108- 111. Рассказать об основных видах спорта в Р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: приготовить сообщен ие об одном из спортсменов Р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003640" y="4437000"/>
            <a:ext cx="3168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5:14:10Z</dcterms:created>
  <dc:creator>Customer</dc:creator>
  <dc:description/>
  <dc:language>en-US</dc:language>
  <cp:lastModifiedBy>Customer</cp:lastModifiedBy>
  <dcterms:modified xsi:type="dcterms:W3CDTF">2011-12-14T16:30:59Z</dcterms:modified>
  <cp:revision>2</cp:revision>
  <dc:subject/>
  <dc:title>Спортивная Хакасия</dc:title>
</cp:coreProperties>
</file>