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052-C063-4C11-AD07-C3DC21BE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74C-298F-4053-A9AC-63392071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E04-6EF2-4EDB-9167-2A3431CD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48C-0419-49C0-BE3C-B0AB1B8E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81A-DF9F-4A15-9F09-CC502BB0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293-911B-4AC5-926C-C5E907F6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9C9-7A5E-4D0A-B50D-352AF028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EF5-26B7-4F22-BBA6-E8FAC5FD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128-76B3-4CBA-A261-932FDBC9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0D7-6859-458F-894A-679FCF19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260-2618-444C-8823-48EF8FD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6F6-7783-4161-B741-9B1C6EFB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2A6C-6A8E-4924-8AEA-573789BDE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r>
              <a:rPr b="1" i="1" lang="ru-RU" sz="4800" spc="-1" strike="noStrike">
                <a:solidFill>
                  <a:srgbClr val="333399"/>
                </a:solidFill>
                <a:latin typeface="Monotype Corsiva"/>
              </a:rPr>
              <a:t>Инструкционные карты</a:t>
            </a:r>
            <a:br>
              <a:rPr sz="4800"/>
            </a:br>
            <a:r>
              <a:rPr b="1" i="1" lang="ru-RU" sz="4800" spc="-1" strike="noStrike">
                <a:solidFill>
                  <a:srgbClr val="333399"/>
                </a:solidFill>
                <a:latin typeface="Monotype Corsiva"/>
              </a:rPr>
              <a:t>    по теме:</a:t>
            </a: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«Изготовление украшений    из шнуров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27120" y="2728800"/>
            <a:ext cx="45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Изображение 043.avi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Изображение 041.avi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язание шнура крюч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79640" y="1320840"/>
            <a:ext cx="4897440" cy="3408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403280" y="558972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68360" y="53928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вяжется цепочка из нужного числа воздушных петель, сомкнуть её в соединительные столбики в кольцо и вязать столбики б/н против часовой стрелки, вводя крючок в переднюю полупетлю. Связать шнур соответствующей д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50920" y="3524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вязать круглый шнур с бусинками. Основное правило: перед нач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язания бусины необходимо нанизать на рабочую нить в определенной последов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137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Изображение 068"/>
          <p:cNvPicPr/>
          <p:nvPr/>
        </p:nvPicPr>
        <p:blipFill>
          <a:blip r:embed="rId1"/>
          <a:stretch/>
        </p:blipFill>
        <p:spPr>
          <a:xfrm>
            <a:off x="468360" y="274680"/>
            <a:ext cx="835164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летение шнура из бис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3533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3930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908000" y="71280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Плетение шнура из бисера и  стекляру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Изображение 069"/>
          <p:cNvPicPr/>
          <p:nvPr/>
        </p:nvPicPr>
        <p:blipFill>
          <a:blip r:embed="rId1"/>
          <a:stretch/>
        </p:blipFill>
        <p:spPr>
          <a:xfrm>
            <a:off x="395280" y="260280"/>
            <a:ext cx="8450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летение шнура на кат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552760" cy="6305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708360" y="1413000"/>
            <a:ext cx="504036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стить хвост нитки в отверстие. Накинуть нить и обернуть её вокруг скоб. Крючком или специальным приспособлением снять петлю через натянутую нить и скобу в центр катушки. Таким же образом сделать петли на остальных скобах. Сплести шнур необходимой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расоты можно выполнить шнур с бус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ушки могут быть с разным количеством ск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Изображение 070"/>
          <p:cNvPicPr/>
          <p:nvPr/>
        </p:nvPicPr>
        <p:blipFill>
          <a:blip r:embed="rId1"/>
          <a:stretch/>
        </p:blipFill>
        <p:spPr>
          <a:xfrm>
            <a:off x="179280" y="274680"/>
            <a:ext cx="8785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6:51:53Z</dcterms:created>
  <dc:creator>1</dc:creator>
  <dc:description/>
  <dc:language>en-US</dc:language>
  <cp:lastModifiedBy>ZooM</cp:lastModifiedBy>
  <dcterms:modified xsi:type="dcterms:W3CDTF">2013-11-22T17:33:30Z</dcterms:modified>
  <cp:revision>8</cp:revision>
  <dc:subject/>
  <dc:title>Вязание шнура крючком.</dc:title>
</cp:coreProperties>
</file>