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6B7-C789-4007-A09D-29929BF0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8E4-45C4-4802-AB9E-5E397BDE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0F1-5F39-4DD2-BF8F-EF3FC37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BBC-BA30-4027-B799-60DA5A05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C7B-2DD3-45EC-A9B5-81D6DBC3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0FD-DD58-47D0-AFD5-517744C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D7D-37EE-4B8C-9D01-F1A9885B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B68-32D0-4F94-A5F5-E0809331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42F-98BA-4E48-BEA1-1D29282E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565-99D6-45A8-888E-17330ED2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3F6-2319-42E3-9825-CC6D49C5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A5E-301E-40B0-8C6A-02FE66E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480D-D374-418B-BF90-7BC1DEB7E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r>
              <a:rPr b="1" i="1" lang="ru-RU" sz="4800" spc="-1" strike="noStrike">
                <a:solidFill>
                  <a:srgbClr val="333399"/>
                </a:solidFill>
                <a:latin typeface="Monotype Corsiva"/>
              </a:rPr>
              <a:t>Инструкционные карты</a:t>
            </a:r>
            <a:br>
              <a:rPr sz="4800"/>
            </a:br>
            <a:r>
              <a:rPr b="1" i="1" lang="ru-RU" sz="4800" spc="-1" strike="noStrike">
                <a:solidFill>
                  <a:srgbClr val="333399"/>
                </a:solidFill>
                <a:latin typeface="Monotype Corsiva"/>
              </a:rPr>
              <a:t>    по теме:</a:t>
            </a: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«Изготовление украшений    из шнуров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27120" y="2728800"/>
            <a:ext cx="45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Изображение 043.avi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Изображение 041.avi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язание шнура крюч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79640" y="1320840"/>
            <a:ext cx="4897440" cy="3408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403280" y="5589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68360" y="53928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вяжется цепочка из нужного числа воздушных петель, сомкнуть её в соединительные столбики в кольцо и вязать столбики б/н против часовой стрелки, вводя крючок в переднюю полупетлю. Связать шнур соответствующей д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50920" y="352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вязать круглый шнур с бусинками. Основное правило: перед нач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язания бусины необходимо нанизать на рабочую нить в определенной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137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Изображение 068"/>
          <p:cNvPicPr/>
          <p:nvPr/>
        </p:nvPicPr>
        <p:blipFill>
          <a:blip r:embed="rId1"/>
          <a:stretch/>
        </p:blipFill>
        <p:spPr>
          <a:xfrm>
            <a:off x="468360" y="274680"/>
            <a:ext cx="835164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летение шнура из бис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353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393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908000" y="71280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Плетение шнура из бисера и  стекляру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Изображение 069"/>
          <p:cNvPicPr/>
          <p:nvPr/>
        </p:nvPicPr>
        <p:blipFill>
          <a:blip r:embed="rId1"/>
          <a:stretch/>
        </p:blipFill>
        <p:spPr>
          <a:xfrm>
            <a:off x="395280" y="260280"/>
            <a:ext cx="8450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летение шнура на кат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552760" cy="630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708360" y="1413000"/>
            <a:ext cx="504036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стить хвост нитки в отверстие. Накинуть нить и обернуть её вокруг скоб. Крючком или специальным приспособлением снять петлю через натянутую нить и скобу в центр катушки. Таким же образом сделать петли на остальных скобах. Сплести шнур необходимой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расоты можно выполнить шнур с бус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ушки могут быть с разным количеством ск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Изображение 070"/>
          <p:cNvPicPr/>
          <p:nvPr/>
        </p:nvPicPr>
        <p:blipFill>
          <a:blip r:embed="rId1"/>
          <a:stretch/>
        </p:blipFill>
        <p:spPr>
          <a:xfrm>
            <a:off x="179280" y="274680"/>
            <a:ext cx="8785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6:51:53Z</dcterms:created>
  <dc:creator>1</dc:creator>
  <dc:description/>
  <dc:language>en-US</dc:language>
  <cp:lastModifiedBy>ZooM</cp:lastModifiedBy>
  <dcterms:modified xsi:type="dcterms:W3CDTF">2013-11-22T17:33:30Z</dcterms:modified>
  <cp:revision>8</cp:revision>
  <dc:subject/>
  <dc:title>Вязание шнура крючком.</dc:title>
</cp:coreProperties>
</file>