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6A3B-0555-4C09-BF06-5DC1B936D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A193-4221-4987-B44B-22E1612E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24DC-20DA-4755-BCE3-3DE98087C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4D6F-B2CC-48C9-B0EC-01DFBF565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EE30-40E4-4BE2-9140-679E338B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B750-1911-465F-8475-1A89BE51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9C03-2667-4E4C-9D81-3CD05183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710A-35D8-4932-8034-A253AD51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5DCA-A97A-4D11-963D-DD02E076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3874-FF19-45DC-A4A6-FFDC3D5A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7D20-BFE4-4E17-8AA2-890BFD31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D9C8-235E-462E-8230-3E9DB776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ffffcc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4717-64A7-49EE-A2B5-B04AF90B71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4000"/>
            </a:br>
            <a:r>
              <a:rPr b="1" i="1" lang="ru-RU" sz="4800" spc="-1" strike="noStrike">
                <a:solidFill>
                  <a:srgbClr val="333399"/>
                </a:solidFill>
                <a:latin typeface="Monotype Corsiva"/>
              </a:rPr>
              <a:t>Инструкционные карты</a:t>
            </a:r>
            <a:br>
              <a:rPr sz="4800"/>
            </a:br>
            <a:r>
              <a:rPr b="1" i="1" lang="ru-RU" sz="4800" spc="-1" strike="noStrike">
                <a:solidFill>
                  <a:srgbClr val="333399"/>
                </a:solidFill>
                <a:latin typeface="Monotype Corsiva"/>
              </a:rPr>
              <a:t>    по теме:</a:t>
            </a:r>
            <a:br>
              <a:rPr sz="48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4000" spc="-1" strike="noStrike">
                <a:solidFill>
                  <a:srgbClr val="333399"/>
                </a:solidFill>
                <a:latin typeface="Arial"/>
              </a:rPr>
              <a:t>«Изготовление украшений    из шнуров»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527120" y="2728800"/>
            <a:ext cx="45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Изображение 043.avi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8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91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4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Изображение 041.avi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136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0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Вязание шнура крюч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1979640" y="1320840"/>
            <a:ext cx="4897440" cy="34084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1403280" y="5589720"/>
            <a:ext cx="648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468360" y="53928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начала вяжется цепочка из нужного числа воздушных петель, сомкнуть её в соединительные столбики в кольцо и вязать столбики б/н против часовой стрелки, вводя крючок в переднюю полупетлю. Связать шнур соответствующей дл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250920" y="35244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но связать круглый шнур с бусинками. Основное правило: перед нача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язания бусины необходимо нанизать на рабочую нить в определенной последова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1374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Изображение 068"/>
          <p:cNvPicPr/>
          <p:nvPr/>
        </p:nvPicPr>
        <p:blipFill>
          <a:blip r:embed="rId1"/>
          <a:stretch/>
        </p:blipFill>
        <p:spPr>
          <a:xfrm>
            <a:off x="468360" y="274680"/>
            <a:ext cx="835164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Плетение шнура из бис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735336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920"/>
                            </p:stCondLst>
                            <p:childTnLst>
                              <p:par>
                                <p:cTn id="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424720" cy="39304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1908000" y="712800"/>
            <a:ext cx="59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Плетение шнура из бисера и  стекляру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320"/>
                            </p:stCondLst>
                            <p:childTnLst>
                              <p:par>
                                <p:cTn id="6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Изображение 069"/>
          <p:cNvPicPr/>
          <p:nvPr/>
        </p:nvPicPr>
        <p:blipFill>
          <a:blip r:embed="rId1"/>
          <a:stretch/>
        </p:blipFill>
        <p:spPr>
          <a:xfrm>
            <a:off x="395280" y="260280"/>
            <a:ext cx="84502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Плетение шнура на катуш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2552760" cy="63057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3708360" y="1413000"/>
            <a:ext cx="5040360" cy="40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естить хвост нитки в отверстие. Накинуть нить и обернуть её вокруг скоб. Крючком или специальным приспособлением снять петлю через натянутую нить и скобу в центр катушки. Таким же образом сделать петли на остальных скобах. Сплести шнур необходимой дл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красоты можно выполнить шнур с бусин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тушки могут быть с разным количеством ско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96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460"/>
                            </p:stCondLst>
                            <p:childTnLst>
                              <p:par>
                                <p:cTn id="8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Изображение 070"/>
          <p:cNvPicPr/>
          <p:nvPr/>
        </p:nvPicPr>
        <p:blipFill>
          <a:blip r:embed="rId1"/>
          <a:stretch/>
        </p:blipFill>
        <p:spPr>
          <a:xfrm>
            <a:off x="179280" y="274680"/>
            <a:ext cx="878544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06:51:53Z</dcterms:created>
  <dc:creator>1</dc:creator>
  <dc:description/>
  <dc:language>en-US</dc:language>
  <cp:lastModifiedBy>ZooM</cp:lastModifiedBy>
  <dcterms:modified xsi:type="dcterms:W3CDTF">2013-11-22T17:33:30Z</dcterms:modified>
  <cp:revision>8</cp:revision>
  <dc:subject/>
  <dc:title>Вязание шнура крючком.</dc:title>
</cp:coreProperties>
</file>