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5C9-C484-4BD9-901D-9BA031B1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CC7-0F94-4CF3-A036-5A064A16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61B-1BFD-4675-AF1B-8A61E77B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5FD-A1DE-447A-BF82-6F3CF89A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0CB-266D-4E79-8238-A3916EEE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CCF-D8E6-4BC3-A964-B65CB9ED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A58-3357-4765-8D55-FE97655B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AA3-AFCB-42EA-942A-BD433D1E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962-BEA6-47CC-B2AA-4A186910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26B-854F-4136-91FE-FC388F8F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67B-F1E2-4EB4-8B80-D8EF8744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AD3-B27C-4807-83C5-CF76650F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B7BB-C71C-4B6A-8BC2-D59F7B94C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musicostrov.ru/" TargetMode="External"/><Relationship Id="rId4" Type="http://schemas.openxmlformats.org/officeDocument/2006/relationships/hyperlink" Target="http://photoawards.ru/users/40521" TargetMode="External"/><Relationship Id="rId5" Type="http://schemas.openxmlformats.org/officeDocument/2006/relationships/hyperlink" Target="http://en.www/" TargetMode="External"/><Relationship Id="rId6" Type="http://schemas.openxmlformats.org/officeDocument/2006/relationships/hyperlink" Target="http://blogs.mail.ru/mail/graphinya59/440522692F013914.html" TargetMode="External"/><Relationship Id="rId7" Type="http://schemas.openxmlformats.org/officeDocument/2006/relationships/hyperlink" Target="http://www.interfax.by/article/54253" TargetMode="External"/><Relationship Id="rId8" Type="http://schemas.openxmlformats.org/officeDocument/2006/relationships/hyperlink" Target="http://www.cmdj.ru/other/clasic/51048-Val_sy_i_rapsodii_SHtraus_List_SHopen.html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Arial"/>
              </a:rPr>
              <a:t>Романтические образы в творчестве Фредерика Шоп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3933720"/>
            <a:ext cx="74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втор презент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нтипенко Окса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читель музыки МОУ СОШ № 9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. Нижнеудинск  Иркут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125360"/>
            <a:ext cx="77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езентация к уроку музыки в 7 класс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тема полугодия «Музыкальный обра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4000" spc="-1" strike="noStrike" u="sng">
                <a:solidFill>
                  <a:srgbClr val="800000"/>
                </a:solidFill>
                <a:uFillTx/>
                <a:latin typeface="Georgia"/>
              </a:rPr>
              <a:t>Романтизм </a:t>
            </a:r>
            <a:r>
              <a:rPr b="1" lang="ru-RU" sz="4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(франц) -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идейное и художественное направление культуры                конц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XVIII –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чал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400"/>
                </a:solidFill>
                <a:latin typeface="Arial"/>
              </a:rPr>
              <a:t>от испанского </a:t>
            </a:r>
            <a:r>
              <a:rPr b="1" i="1" lang="ru-RU" sz="2800" spc="-1" strike="noStrike">
                <a:solidFill>
                  <a:srgbClr val="005400"/>
                </a:solidFill>
                <a:latin typeface="Arial"/>
              </a:rPr>
              <a:t>«романсе»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(в средние века испанские романсы,  затем  рыцарский роман)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400"/>
                </a:solidFill>
                <a:latin typeface="Arial"/>
              </a:rPr>
              <a:t>от английского</a:t>
            </a:r>
            <a:r>
              <a:rPr b="0" lang="ru-RU" sz="2800" spc="-1" strike="noStrike">
                <a:solidFill>
                  <a:srgbClr val="0054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5400"/>
                </a:solidFill>
                <a:latin typeface="Arial"/>
              </a:rPr>
              <a:t>«романтик»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(романтический, означавшее «странное», «живописное», «фантастическое»)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3068640"/>
            <a:ext cx="82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В своих произведениях, пронизанных яркой эмоциональностью и лиризмом, романтики стремятся передать все богатство внутреннего мир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708360" y="1844640"/>
            <a:ext cx="519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Еще звучит в моих уш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Седьмого вальса легкий ша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вешний вете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трепетанье птичьих кры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мир, который я откр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В сплетенье нотных ст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Еще звучит тот вальс во мн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облако в голубиз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родничок в трав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сон, что вижу ная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Как весть о том, что я ж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Constantia"/>
              </a:rPr>
              <a:t>С природою в р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Л.Оз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500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nstantia"/>
              </a:rPr>
              <a:t>Вальс № 7    Ф. Шоп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7920" y="1700280"/>
            <a:ext cx="3160440" cy="496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08360" y="2349360"/>
            <a:ext cx="52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Какая частица жизни заключена в этом произве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Каково его постро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Как можно охарактеризовать обр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dcb8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ждый из вальсов Шопена – это либо жанровая зарисовка, либо чей-то порт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177920"/>
            <a:ext cx="9144000" cy="5680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dcb8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льс № 7 Ф. Шопена – это портретная зарисовка Марии Водзинь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50920" y="1341360"/>
          <a:ext cx="8713800" cy="4905360"/>
        </p:xfrm>
        <a:graphic>
          <a:graphicData uri="http://schemas.openxmlformats.org/drawingml/2006/table">
            <a:tbl>
              <a:tblPr/>
              <a:tblGrid>
                <a:gridCol w="1657080"/>
                <a:gridCol w="1727280"/>
                <a:gridCol w="5329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Ф.Шопен «Вальс №6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Ф.Шопен «Вальс № 7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5400"/>
                          </a:solidFill>
                          <a:latin typeface="Arial"/>
                        </a:rPr>
                        <a:t>Словарь эстетических     эмо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ягко                          Радостно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есело                        Звонк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зволнованно           Ласк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рогательно              Игр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орно                     Ярко Порывисто                Поэтич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Задушевно                Неж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Шутливо                    Спокой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змятежно               Свет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аинствен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3345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1049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опен – Вальс № 6, № 7 -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usicostro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альс Шопена..."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hotoawards.ru/users/405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ария Лукачева-Вальсы Шопена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en.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едевры классики - Шопен Вальс 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blogs.mail.ru/mail/graphinya59/440522692F013914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альсы Шопена над Бресто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interfax.by/article/542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Вальс Шопена. http://blogs.mail.ru/mail/ekaterina_alt.90/tag/Стихи 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Вальсы и рапсодии - Штраус, Лист, Шопен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cmdj.ru/other/clasic/51048-Val_sy_i_rapsodii_SHtraus_List_SHop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252720" y="1125360"/>
            <a:ext cx="9217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Constantia"/>
              </a:rPr>
              <a:t>«В мире есть не только нужное и полезное, но и красивое. Перед человеком открылась радость жизни, потому, что он услышал шепот листьев и песню кузнечика, журчание весеннего ручейка и перепевы серебряных колокольчиков жаворонка в горячем летнем небе, шуршание снежинок и стон метели, ласковое плескание волны и торжественную тишину ночи, услышал и, затаив дыхание, слушает сотни и тысячи лет чудесную музыку жизни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.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341360"/>
            <a:ext cx="835344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400"/>
                </a:solidFill>
                <a:latin typeface="Constantia"/>
              </a:rPr>
              <a:t>«Мы знаем, что в каждом музыкальном сочинении заключается какая – то частица жизни, мы называем её </a:t>
            </a:r>
            <a:r>
              <a:rPr b="1" lang="ru-RU" sz="3600" spc="-1" strike="noStrike">
                <a:solidFill>
                  <a:srgbClr val="0000cc"/>
                </a:solidFill>
                <a:latin typeface="Constantia"/>
              </a:rPr>
              <a:t>музыкальным образом</a:t>
            </a:r>
            <a:r>
              <a:rPr b="1" lang="ru-RU" sz="3200" spc="-1" strike="noStrike">
                <a:solidFill>
                  <a:srgbClr val="005400"/>
                </a:solidFill>
                <a:latin typeface="Constantia"/>
              </a:rPr>
              <a:t>.                                    Это может быть образ ласковый. Добрый образ колыбельной песни, может быть образ мужественный, образ, воплощающий тревог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.Б. Кабалев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68360" y="1773360"/>
            <a:ext cx="80611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bbe0e3"/>
                </a:solidFill>
                <a:latin typeface="Monotype Corsiva"/>
              </a:rPr>
              <a:t>Романтические образы</a:t>
            </a:r>
            <a:endParaRPr b="1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bbe0e3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bbe0e3"/>
                </a:solidFill>
                <a:latin typeface="Monotype Corsiva"/>
              </a:rPr>
              <a:t>в творчестве</a:t>
            </a:r>
            <a:endParaRPr b="1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bbe0e3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bbe0e3"/>
                </a:solidFill>
                <a:latin typeface="Monotype Corsiva"/>
              </a:rPr>
              <a:t>Фридерика Шопена</a:t>
            </a:r>
            <a:endParaRPr b="1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bbe0e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4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nstantia"/>
              </a:rPr>
              <a:t>знакомство с биографией Ф. Шопена, основными чертами художественного направления «романтиз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nstantia"/>
              </a:rPr>
              <a:t>развивать воображение и фантазию, воздействовать на чувства и эмоции через восприятие  музыкальных образов  вальсов Ф.Шоп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nstantia"/>
              </a:rPr>
              <a:t>«Шопен в музыке – это то же, что и Пушкин в поэзии…»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Л.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5734080"/>
            <a:ext cx="1079280" cy="934920"/>
          </a:xfrm>
          <a:prstGeom prst="rect">
            <a:avLst/>
          </a:prstGeom>
          <a:solidFill>
            <a:srgbClr val="dcb8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40000" y="980640"/>
            <a:ext cx="5003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Польский композитор и пианист-виртуоз.</a:t>
            </a:r>
            <a:br>
              <a:rPr sz="3200"/>
            </a:b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Крупнейший представитель польского музыкального искусства. По-новому истолковал многие жанры: возродил на романтической основе прелюди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857400" cy="540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50920" y="5661000"/>
            <a:ext cx="3887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ридерик Шопен    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1819-18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42920" y="2204640"/>
            <a:ext cx="42706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nstantia"/>
              </a:rPr>
              <a:t>Вальс № 6 «Минутка»              Ф. Шоп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Почему этот вальс называют вальсом –минут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Какое настроение передает музы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Как она постро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nstantia"/>
              </a:rPr>
              <a:t>Каков музыкальный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051080" cy="5400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981000"/>
            <a:ext cx="89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nstantia"/>
              </a:rPr>
              <a:t>Вальс № 6 «Минутка»   Ф. Шоп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15772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nstantia"/>
              </a:rPr>
              <a:t>Образ молодости и изя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345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О, как люблю я в ясный летний час,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Когда заката золото струится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И облаков сребристых вереница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Обласкана зефирами, - хоть раз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Уйти от тягот, что терзают нас,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На миг от неотступных дум забыться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И с просветленною душой укрыться</a:t>
            </a:r>
            <a:br>
              <a:rPr sz="3200"/>
            </a:br>
            <a:r>
              <a:rPr b="1" lang="en-US" sz="3200" spc="-1" strike="noStrike">
                <a:solidFill>
                  <a:srgbClr val="005400"/>
                </a:solidFill>
                <a:latin typeface="Constantia"/>
              </a:rPr>
              <a:t>В заглохшей чаще, радующей глаз.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Джон Кит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24:21Z</dcterms:created>
  <dc:creator>Billi</dc:creator>
  <dc:description/>
  <dc:language>en-US</dc:language>
  <cp:lastModifiedBy>Billi</cp:lastModifiedBy>
  <dcterms:modified xsi:type="dcterms:W3CDTF">2011-03-01T15:16:51Z</dcterms:modified>
  <cp:revision>8</cp:revision>
  <dc:subject/>
  <dc:title>Слайд 1</dc:title>
</cp:coreProperties>
</file>