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CDA-CFA6-494B-B174-B968E524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51C-1568-47F3-9514-170209C4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0E5-98DC-4DB9-BB7E-59F10958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D2E-BBB7-4B77-89D0-314CE98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B2F-A6CC-4489-A3A8-CFB020E7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492-C3C4-4580-A190-D973C25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6DE-1BBD-4D42-AA49-EFCA019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D14-A28F-4F7C-8D74-8C23791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228-FE65-42EF-93A3-97D2C76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63E-B827-40C6-B175-366E84E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C8D-C790-4402-896B-906F175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F05-C655-4E30-BAD5-054D9AB2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E109-23D9-4B24-8FB1-D9EFB4A4C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musicostrov.ru/" TargetMode="External"/><Relationship Id="rId4" Type="http://schemas.openxmlformats.org/officeDocument/2006/relationships/hyperlink" Target="http://photoawards.ru/users/40521" TargetMode="External"/><Relationship Id="rId5" Type="http://schemas.openxmlformats.org/officeDocument/2006/relationships/hyperlink" Target="http://en.www/" TargetMode="External"/><Relationship Id="rId6" Type="http://schemas.openxmlformats.org/officeDocument/2006/relationships/hyperlink" Target="http://blogs.mail.ru/mail/graphinya59/440522692F013914.html" TargetMode="External"/><Relationship Id="rId7" Type="http://schemas.openxmlformats.org/officeDocument/2006/relationships/hyperlink" Target="http://www.interfax.by/article/54253" TargetMode="External"/><Relationship Id="rId8" Type="http://schemas.openxmlformats.org/officeDocument/2006/relationships/hyperlink" Target="http://www.cmdj.ru/other/clasic/51048-Val_sy_i_rapsodii_SHtraus_List_SHopen.html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Романтические образы в творчестве Фредерика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393372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втор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нтипенко Окса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читель музыки МОУ СОШ № 9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. Нижнеудинск  Иркут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25360"/>
            <a:ext cx="77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езентация к уроку музыки в 7 класс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ема полугодия «Музыкальный обра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Georgia"/>
              </a:rPr>
              <a:t>Романтизм </a:t>
            </a: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(франц) 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дейное и художественное направление культуры                конц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VIII –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чал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испанского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се»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(в средние века испанские романсы,  затем  рыцарский роман)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английского</a:t>
            </a:r>
            <a:r>
              <a:rPr b="0" lang="ru-RU" sz="28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тик»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романтический, означавшее «странное», «живописное», «фантастическое»)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06864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своих произведениях, пронизанных яркой эмоциональностью и лиризмом, романтики стремятся передать все богатство внутреннего мир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08360" y="1844640"/>
            <a:ext cx="519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в моих уш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едьмого вальса легкий ша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шний вете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трепетанье птичьих кры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мир, который я от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В сплетенье нотных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тот вальс во м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облако в голубиз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родничок в тра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сон, что вижу ная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сть о том, что я ж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 природою в 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Л.О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500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7 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7920" y="1700280"/>
            <a:ext cx="3160440" cy="496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08360" y="2349360"/>
            <a:ext cx="52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ая частица жизни заключена в этом произве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ово его постро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 можно охарактеризовать об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ждый из вальсов Шопена – это либо жанровая зарисовка, либо чей-то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льс № 7 Ф. Шопена – это портретная зарисовка Марии Водзинь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341360"/>
          <a:ext cx="8713800" cy="49053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5329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6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 7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Словарь эстетических     эмо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ягко                          Радостно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село                        Звон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волнованно           Ласк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рогательно              Игр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орно                     Ярко Порывисто                Поэтич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ушевно                Неж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утливо                    Спокой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змятежно               Свет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аинстве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3345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104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пен – Вальс № 6, № 7 -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usicost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альс Шопена..."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hotoawards.ru/users/405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ария Лукачева-Вальсы Шопена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n.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едевры классики - Шопен Вальс 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logs.mail.ru/mail/graphinya59/440522692F01391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альсы Шопена над Брест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nterfax.by/article/542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Вальс Шопена. http://blogs.mail.ru/mail/ekaterina_alt.90/tag/Стихи 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Вальсы и рапсодии - Штраус, Лист, Шопен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mdj.ru/other/clasic/51048-Val_sy_i_rapsodii_SHtraus_List_SHop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52720" y="1125360"/>
            <a:ext cx="9217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«В мире есть не только нужное и полезное, но и красивое. Перед человеком открылась радость жизни, потому, что он услышал шепот листьев и песню кузнечика, журчание весеннего ручейка и перепевы серебряных колокольчиков жаворонка в горячем летнем небе, шуршание снежинок и стон метели, ласковое плескание волны и торжественную тишину ночи, услышал и, затаив дыхание, слушает сотни и тысячи лет чудесную музыку жизни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341360"/>
            <a:ext cx="835344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«Мы знаем, что в каждом музыкальном сочинении заключается какая – то частица жизни, мы называем её </a:t>
            </a:r>
            <a:r>
              <a:rPr b="1" lang="ru-RU" sz="3600" spc="-1" strike="noStrike">
                <a:solidFill>
                  <a:srgbClr val="0000cc"/>
                </a:solidFill>
                <a:latin typeface="Constantia"/>
              </a:rPr>
              <a:t>музыкальным образом</a:t>
            </a: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.                                    Это может быть образ ласковый. Добрый образ колыбельной песни, может быть образ мужественный, образ, воплощающий трево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.Б. Кабалев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773360"/>
            <a:ext cx="80611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Романтические образы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в творчестве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Фридерика Шопена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4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знакомство с биографией Ф. Шопена, основными чертами художественного направления «романтиз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развивать воображение и фантазию, воздействовать на чувства и эмоции через восприятие  музыкальных образов  вальсов Ф.Шоп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«Шопен в музыке – это то же, что и Пушкин в поэзии…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734080"/>
            <a:ext cx="1079280" cy="934920"/>
          </a:xfrm>
          <a:prstGeom prst="rect">
            <a:avLst/>
          </a:prstGeom>
          <a:solidFill>
            <a:srgbClr val="dcb8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00" y="980640"/>
            <a:ext cx="500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льский композитор и пианист-виртуоз.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Крупнейший представитель польского музыкального искусства. По-новому истолковал многие жанры: возродил на романтической основе прелюди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857400" cy="540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5661000"/>
            <a:ext cx="388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ридерик Шопен   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19-18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2920" y="2204640"/>
            <a:ext cx="42706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Вальс № 6 «Минутка»              Ф. Шоп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Почему этот вальс называют вальсом –минут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е настроение передает му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 она постро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в музыкальный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051080" cy="540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98100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6 «Минутка»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5772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Образ молодости и изя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345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, как люблю я в ясный летний ч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Когда заката золото струит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облаков сребристых вереница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бласкана зефирами, - хоть раз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Уйти от тягот, что терзают н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На миг от неотступных дум заб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с просветленною душой укр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заглохшей чаще, радующей глаз.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Джон Кит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24:21Z</dcterms:created>
  <dc:creator>Billi</dc:creator>
  <dc:description/>
  <dc:language>en-US</dc:language>
  <cp:lastModifiedBy>Billi</cp:lastModifiedBy>
  <dcterms:modified xsi:type="dcterms:W3CDTF">2011-03-01T15:16:51Z</dcterms:modified>
  <cp:revision>8</cp:revision>
  <dc:subject/>
  <dc:title>Слайд 1</dc:title>
</cp:coreProperties>
</file>