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D37-2EC4-4BE1-9A97-82D011FC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AE7-E7D7-4271-B73E-2934C0F5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9DD-55BA-4BC1-A865-17696BFA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5CC-31EA-4160-98B1-E1160F98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A84-4A6D-4DFC-BD86-8EC8851C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76F-46B7-41C0-8E95-1530B2C6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B79-1EB3-4F91-B284-7FEDF026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C3F-F9F3-4644-947A-A456133C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31F-E488-4012-A115-B7F07D01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54BB-0105-4296-9682-DECD3FDA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E61-0F3F-42CB-B772-2C97C38D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38C-935E-4930-9F2D-1B7B9FA3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4C49-23BE-4BA1-AA49-955304DC2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musicostrov.ru/" TargetMode="External"/><Relationship Id="rId4" Type="http://schemas.openxmlformats.org/officeDocument/2006/relationships/hyperlink" Target="http://photoawards.ru/users/40521" TargetMode="External"/><Relationship Id="rId5" Type="http://schemas.openxmlformats.org/officeDocument/2006/relationships/hyperlink" Target="http://en.www/" TargetMode="External"/><Relationship Id="rId6" Type="http://schemas.openxmlformats.org/officeDocument/2006/relationships/hyperlink" Target="http://blogs.mail.ru/mail/graphinya59/440522692F013914.html" TargetMode="External"/><Relationship Id="rId7" Type="http://schemas.openxmlformats.org/officeDocument/2006/relationships/hyperlink" Target="http://www.interfax.by/article/54253" TargetMode="External"/><Relationship Id="rId8" Type="http://schemas.openxmlformats.org/officeDocument/2006/relationships/hyperlink" Target="http://www.cmdj.ru/other/clasic/51048-Val_sy_i_rapsodii_SHtraus_List_SHopen.html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800000"/>
                </a:solidFill>
                <a:latin typeface="Arial"/>
              </a:rPr>
              <a:t>Романтические образы в творчестве Фредерика Шоп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3933720"/>
            <a:ext cx="748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втор презент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нтипенко Окса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читель музыки МОУ СОШ № 9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. Нижнеудинск  Иркутская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125360"/>
            <a:ext cx="77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Презентация к уроку музыки в 7 класс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тема полугодия «Музыкальный образ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4000" spc="-1" strike="noStrike" u="sng">
                <a:solidFill>
                  <a:srgbClr val="800000"/>
                </a:solidFill>
                <a:uFillTx/>
                <a:latin typeface="Georgia"/>
              </a:rPr>
              <a:t>Романтизм </a:t>
            </a:r>
            <a:r>
              <a:rPr b="1" lang="ru-RU" sz="40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(франц) -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идейное и художественное направление культуры                конца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XVIII –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ачала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XIX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400"/>
                </a:solidFill>
                <a:latin typeface="Arial"/>
              </a:rPr>
              <a:t>от испанского </a:t>
            </a:r>
            <a:r>
              <a:rPr b="1" i="1" lang="ru-RU" sz="2800" spc="-1" strike="noStrike">
                <a:solidFill>
                  <a:srgbClr val="005400"/>
                </a:solidFill>
                <a:latin typeface="Arial"/>
              </a:rPr>
              <a:t>«романсе»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(в средние века испанские романсы,  затем  рыцарский роман)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400"/>
                </a:solidFill>
                <a:latin typeface="Arial"/>
              </a:rPr>
              <a:t>от английского</a:t>
            </a:r>
            <a:r>
              <a:rPr b="0" lang="ru-RU" sz="2800" spc="-1" strike="noStrike">
                <a:solidFill>
                  <a:srgbClr val="0054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5400"/>
                </a:solidFill>
                <a:latin typeface="Arial"/>
              </a:rPr>
              <a:t>«романтик»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(романтический, означавшее «странное», «живописное», «фантастическое»)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306864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В своих произведениях, пронизанных яркой эмоциональностью и лиризмом, романтики стремятся передать все богатство внутреннего мира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708360" y="1844640"/>
            <a:ext cx="519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Еще звучит в моих уш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Седьмого вальса легкий ша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вешний ветер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трепетанье птичьих кры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мир, который я откр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В сплетенье нотных ст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Еще звучит тот вальс во м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облако в голубиз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родничок в трав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сон, что вижу наяв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весть о том, что я жи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С природою в род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Л.Оз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6500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nstantia"/>
              </a:rPr>
              <a:t>Вальс № 7    Ф. Шоп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77920" y="1700280"/>
            <a:ext cx="3160440" cy="4968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708360" y="2349360"/>
            <a:ext cx="52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Constantia"/>
              </a:rPr>
              <a:t>Какая частица жизни заключена в этом произве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Constantia"/>
              </a:rPr>
              <a:t>Каково его постро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nstantia"/>
              </a:rPr>
              <a:t>Как можно охарактеризовать обра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dcb8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аждый из вальсов Шопена – это либо жанровая зарисовка, либо чей-то порт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177920"/>
            <a:ext cx="9144000" cy="5680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dcb8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альс № 7 Ф. Шопена – это портретная зарисовка Марии Водзинь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50920" y="1341360"/>
          <a:ext cx="8713800" cy="4905360"/>
        </p:xfrm>
        <a:graphic>
          <a:graphicData uri="http://schemas.openxmlformats.org/drawingml/2006/table">
            <a:tbl>
              <a:tblPr/>
              <a:tblGrid>
                <a:gridCol w="1657080"/>
                <a:gridCol w="1727280"/>
                <a:gridCol w="53294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5400"/>
                          </a:solidFill>
                          <a:latin typeface="Arial"/>
                        </a:rPr>
                        <a:t>Ф.Шопен «Вальс №6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5400"/>
                          </a:solidFill>
                          <a:latin typeface="Arial"/>
                        </a:rPr>
                        <a:t>Ф.Шопен «Вальс № 7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54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5400"/>
                          </a:solidFill>
                          <a:latin typeface="Arial"/>
                        </a:rPr>
                        <a:t>Словарь эстетических     эмо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2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ягко                          Радостно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есело                        Звонк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зволнованно           Ласко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рогательно              Игри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дорно                     Ярко Порывисто                Поэтич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душевно                Неж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Шутливо                    Спокой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езмятежно               Свет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аинствен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627280" y="378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33455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21049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опен – Вальс № 6, № 7 -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usicostrov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альс Шопена..."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photoawards.ru/users/405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Мария Лукачева-Вальсы Шопена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en.ww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Шедевры классики - Шопен Вальс 10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blogs.mail.ru/mail/graphinya59/440522692F013914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Вальсы Шопена над Брестом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interfax.by/article/542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Вальс Шопена. http://blogs.mail.ru/mail/ekaterina_alt.90/tag/Стихи о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Вальсы и рапсодии - Штраус, Лист, Шопен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cmdj.ru/other/clasic/51048-Val_sy_i_rapsodii_SHtraus_List_SHop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252720" y="1125360"/>
            <a:ext cx="9217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Constantia"/>
              </a:rPr>
              <a:t>«В мире есть не только нужное и полезное, но и красивое. Перед человеком открылась радость жизни, потому, что он услышал шепот листьев и песню кузнечика, журчание весеннего ручейка и перепевы серебряных колокольчиков жаворонка в горячем летнем небе, шуршание снежинок и стон метели, ласковое плескание волны и торжественную тишину ночи, услышал и, затаив дыхание, слушает сотни и тысячи лет чудесную музыку жизни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В.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1341360"/>
            <a:ext cx="835344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400"/>
                </a:solidFill>
                <a:latin typeface="Constantia"/>
              </a:rPr>
              <a:t>«Мы знаем, что в каждом музыкальном сочинении заключается какая – то частица жизни, мы называем её </a:t>
            </a:r>
            <a:r>
              <a:rPr b="1" lang="ru-RU" sz="3600" spc="-1" strike="noStrike">
                <a:solidFill>
                  <a:srgbClr val="0000cc"/>
                </a:solidFill>
                <a:latin typeface="Constantia"/>
              </a:rPr>
              <a:t>музыкальным образом</a:t>
            </a:r>
            <a:r>
              <a:rPr b="1" lang="ru-RU" sz="3200" spc="-1" strike="noStrike">
                <a:solidFill>
                  <a:srgbClr val="005400"/>
                </a:solidFill>
                <a:latin typeface="Constantia"/>
              </a:rPr>
              <a:t>.                                    Это может быть образ ласковый. Добрый образ колыбельной песни, может быть образ мужественный, образ, воплощающий тревог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Д.Б. Кабалев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68360" y="1773360"/>
            <a:ext cx="806112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bbe0e3"/>
                </a:solidFill>
                <a:latin typeface="Monotype Corsiva"/>
              </a:rPr>
              <a:t>Романтические образы</a:t>
            </a:r>
            <a:endParaRPr b="1" lang="en-US" sz="1800" spc="1" strike="noStrike">
              <a:ln w="19080">
                <a:solidFill>
                  <a:srgbClr val="0000cc"/>
                </a:solidFill>
                <a:miter/>
              </a:ln>
              <a:solidFill>
                <a:srgbClr val="bbe0e3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bbe0e3"/>
                </a:solidFill>
                <a:latin typeface="Monotype Corsiva"/>
              </a:rPr>
              <a:t>в творчестве</a:t>
            </a:r>
            <a:endParaRPr b="1" lang="en-US" sz="1800" spc="1" strike="noStrike">
              <a:ln w="19080">
                <a:solidFill>
                  <a:srgbClr val="0000cc"/>
                </a:solidFill>
                <a:miter/>
              </a:ln>
              <a:solidFill>
                <a:srgbClr val="bbe0e3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bbe0e3"/>
                </a:solidFill>
                <a:latin typeface="Monotype Corsiva"/>
              </a:rPr>
              <a:t>Фридерика Шопена</a:t>
            </a:r>
            <a:endParaRPr b="1" lang="en-US" sz="1800" spc="1" strike="noStrike">
              <a:ln w="19080">
                <a:solidFill>
                  <a:srgbClr val="0000cc"/>
                </a:solidFill>
                <a:miter/>
              </a:ln>
              <a:solidFill>
                <a:srgbClr val="bbe0e3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4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nstantia"/>
              </a:rPr>
              <a:t>знакомство с биографией Ф. Шопена, основными чертами художественного направления «романтизм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nstantia"/>
              </a:rPr>
              <a:t>развивать воображение и фантазию, воздействовать на чувства и эмоции через восприятие  музыкальных образов  вальсов Ф.Шоп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1341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nstantia"/>
              </a:rPr>
              <a:t>«Шопен в музыке – это то же, что и Пушкин в поэзии…»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                       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Л.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5734080"/>
            <a:ext cx="1079280" cy="934920"/>
          </a:xfrm>
          <a:prstGeom prst="rect">
            <a:avLst/>
          </a:prstGeom>
          <a:solidFill>
            <a:srgbClr val="dcb8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40000" y="980640"/>
            <a:ext cx="5003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Польский композитор и пианист-виртуоз.</a:t>
            </a:r>
            <a:br>
              <a:rPr sz="3200"/>
            </a:b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Крупнейший представитель польского музыкального искусства. По-новому истолковал многие жанры: возродил на романтической основе прелюди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857400" cy="5400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50920" y="5661000"/>
            <a:ext cx="3887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Фридерик Шопен                      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(1819-184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42920" y="2204640"/>
            <a:ext cx="42706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nstantia"/>
              </a:rPr>
              <a:t>Вальс № 6 «Минутка»              Ф. Шоп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Почему этот вальс называют вальсом –минут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Какое настроение передает музы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Как она постро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Каков музыкальный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051080" cy="5400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0" y="981000"/>
            <a:ext cx="896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nstantia"/>
              </a:rPr>
              <a:t>Вальс № 6 «Минутка»   Ф. Шоп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15772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nstantia"/>
              </a:rPr>
              <a:t>Образ молодости и изя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3455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О, как люблю я в ясный летний час,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Когда заката золото струится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И облаков сребристых вереница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Обласкана зефирами, - хоть раз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Уйти от тягот, что терзают нас,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На миг от неотступных дум забыться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И с просветленною душой укрыться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В заглохшей чаще, радующей глаз.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Джон Кит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4:24:21Z</dcterms:created>
  <dc:creator>Billi</dc:creator>
  <dc:description/>
  <dc:language>en-US</dc:language>
  <cp:lastModifiedBy>Billi</cp:lastModifiedBy>
  <dcterms:modified xsi:type="dcterms:W3CDTF">2011-03-01T15:16:51Z</dcterms:modified>
  <cp:revision>8</cp:revision>
  <dc:subject/>
  <dc:title>Слайд 1</dc:title>
</cp:coreProperties>
</file>