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8.png" ContentType="image/png"/>
  <Override PartName="/ppt/media/image12.jpeg" ContentType="image/jpeg"/>
  <Override PartName="/ppt/media/image7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3.jpeg" ContentType="image/jpeg"/>
  <Override PartName="/ppt/media/image2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4.wmf" ContentType="image/x-wmf"/>
  <Override PartName="/ppt/media/image18.jpeg" ContentType="image/jpeg"/>
  <Override PartName="/ppt/media/image2.jpeg" ContentType="image/jpeg"/>
  <Override PartName="/ppt/media/image23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031DD-FC79-4980-866B-94CD77F92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07817-D2ED-4844-A7F6-C84545E62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51BA3-733B-4D6C-845B-8851F1E9A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110FD-E0DD-43AC-9771-E79A1F9C9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3348A-9BBD-4AEA-92FE-B98C1274C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8D253-B3DC-40B2-8E87-AE2209982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1D954-F8ED-40AB-84C7-C77671771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9A6FF-E746-4366-B4EF-052ED4695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1C0FD-F4A6-4E72-BA57-7F2D8935D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278B2-FB8A-4953-A847-90B5F0790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1FE7B-5644-45AB-ADCC-9C6DB8AAA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40FC2-7D32-4E32-BA67-ADFDEF791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00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8B268-63BF-49D8-B490-74BC06BC1E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00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едмет: «Основы изобразительного искусства»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«Художественная графика костюма»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ема программы: «Графическое решение головы человек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600200"/>
            <a:ext cx="6477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ема: Рисование головы человека по пропорциональным схемам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офессии: «Портной», «Художник по костюму», «Закройщик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еподаватель: Воропаева И.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523880" y="2724120"/>
            <a:ext cx="1981440" cy="1847880"/>
          </a:xfrm>
          <a:prstGeom prst="rect">
            <a:avLst/>
          </a:prstGeom>
          <a:ln w="63360">
            <a:solidFill>
              <a:srgbClr val="808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00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исунок головы в повороте и в профи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азличные положения головы: поворот ¾, профиль, фас лил наклон – обогащают модельерский рисунок, делая его интересным для восприятия моде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зображение головы в ракурсе – самый простой способ разнообразить рисунок фигуры в статичной постановк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897440" y="990720"/>
            <a:ext cx="3713040" cy="5333760"/>
          </a:xfrm>
          <a:prstGeom prst="rect">
            <a:avLst/>
          </a:prstGeom>
          <a:ln w="6336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00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исунок головы в повороте и в профи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-360" y="1523520"/>
            <a:ext cx="39625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исунок головы в ракурсе строится в первую очередь с учетом законов перспектив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 случае, если голова модели находится на уровне наших глаз, все горизонтальные линии лица – линия разреза глаз, основания носа и подбородка – изображаются прямы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Если голова опущена вниз или приподнята вверх, то все вспомогательные линии примут дугообразную форму, соответственно объему голов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4419720" y="762120"/>
            <a:ext cx="4267080" cy="2873160"/>
          </a:xfrm>
          <a:prstGeom prst="rect">
            <a:avLst/>
          </a:prstGeom>
          <a:ln w="63360">
            <a:solidFill>
              <a:srgbClr val="0000ff"/>
            </a:solidFill>
            <a:miter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5589720" y="3809880"/>
            <a:ext cx="2182680" cy="2819520"/>
          </a:xfrm>
          <a:prstGeom prst="rect">
            <a:avLst/>
          </a:prstGeom>
          <a:ln w="6336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00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собенности прорисовки головы в повороте 3/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38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 отличие от рисунка головы в фас, когда все части лица расположены симметрично профильной линии, изображение лица в ракурсе предполагает перемещение средней профильной линии в сторон, соответствующую степени поворота головы на эскиз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се парные симметрично расположенные части лица – брови, глаза, скулы – изменят свои размеры и форм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5800680" y="838080"/>
            <a:ext cx="2048040" cy="5943600"/>
          </a:xfrm>
          <a:prstGeom prst="rect">
            <a:avLst/>
          </a:prstGeom>
          <a:ln w="6336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00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собенности прорисовки головы в повороте 3/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52280" y="533160"/>
            <a:ext cx="50292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чинают с композиционного расположения головы на листе Изображение намечается очень легко и обобщенно, выявляется общая форма и движение – поворот головы и ше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исунок располагают, оставляя достаточное пространство  лицевой части, чтобы не создалось впечатление лица «смотрящего» за рамку эскиза. Поэтому поворот головы модели должен быть к центру эскиз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атем намечается профильная линия лица или ось симметр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Линия смещается, согласно законам перспективы, в сторону наклона лица, принимает форму дуги и определяет степень поворота головы на эскиз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ысота головы и все вспомогательные линии намечаются так же, как в положении в фа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181480" y="1893960"/>
            <a:ext cx="3810240" cy="3408120"/>
          </a:xfrm>
          <a:prstGeom prst="rect">
            <a:avLst/>
          </a:prstGeom>
          <a:ln w="6336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00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собенности прорисовки головы в повороте 3/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3657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алее намечается затылочная часть и гол нижней челю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имметричное построение головы диктует рисовальщику попеременно строить то правую то левую области головы. Например, наметив правое крыло носа, следует сразу же наметить левое и т.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Таким образом, идет прорисовка всех частей лица: формы носа, разреза и формы глаз, объёма губ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4038480" y="1752480"/>
            <a:ext cx="1968480" cy="3581640"/>
          </a:xfrm>
          <a:prstGeom prst="rect">
            <a:avLst/>
          </a:prstGeom>
          <a:ln w="63360">
            <a:solidFill>
              <a:srgbClr val="0000ff"/>
            </a:solidFill>
            <a:miter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6248520" y="1752480"/>
            <a:ext cx="2676240" cy="3581640"/>
          </a:xfrm>
          <a:prstGeom prst="rect">
            <a:avLst/>
          </a:prstGeom>
          <a:ln w="6336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00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исунок головы в профи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0" y="304560"/>
            <a:ext cx="411480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 данном ракурсе видна одна сторона лица для рисов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пределяем композицию на листе, оставляя больше пространства  лицевой части эскиз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оводим вертикальную линию и намечаем на ней высоту головы  и вспомогательные линии: основания волос, надбровных дуг, разреза глаз, основания носа, рта и подбородка как при рисовании головы в фас. Прорисованный квадрат поможет определить основные пропорции. Средняя линия, делящая квадрат на ½ определяет границу лицевой и затылочной частей головы. На ней намечается ух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исуем части лица, лицевая часть может выходить за пределы квадрата, нос выступает впере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етально прорабатывают формы, намечая характерные черт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Шея наклонена впере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3962520" y="2325600"/>
            <a:ext cx="5105160" cy="2516400"/>
          </a:xfrm>
          <a:prstGeom prst="rect">
            <a:avLst/>
          </a:prstGeom>
          <a:ln w="6336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00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остюм и причес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0" y="304560"/>
            <a:ext cx="464832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ическа обрамляет лицо модели. Эскизы с продуманной и обрисованной формой прически наиболее полно передают тот или иной стиль в мод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 помощью прически легче всего передать дух эпохи, перенести зрителя в 60-е или поддержать современную тему костюм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исуя волосы важно рассматривать их как один большой объ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правление линий волос располагается строго по форм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носить штрихи необходимо в одинаковом направлении, создавая объ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е надо увлекаться прорисовкой каждого волос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труктура прически передается ритмом линий, различным по нажим и толщине, пятном и т.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лавным в эскизе модели остается костюм, прическа лишь соответствует образ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5810400" y="3724200"/>
            <a:ext cx="2190600" cy="3057480"/>
          </a:xfrm>
          <a:prstGeom prst="rect">
            <a:avLst/>
          </a:prstGeom>
          <a:ln w="63360">
            <a:solidFill>
              <a:srgbClr val="0000ff"/>
            </a:solidFill>
            <a:miter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4533840" y="457200"/>
            <a:ext cx="4457880" cy="3114720"/>
          </a:xfrm>
          <a:prstGeom prst="rect">
            <a:avLst/>
          </a:prstGeom>
          <a:ln w="6336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00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бразцы рисунков обучающих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52280" y="685800"/>
            <a:ext cx="2641680" cy="3200400"/>
          </a:xfrm>
          <a:prstGeom prst="rect">
            <a:avLst/>
          </a:prstGeom>
          <a:ln w="63360">
            <a:solidFill>
              <a:srgbClr val="0000ff"/>
            </a:solidFill>
            <a:miter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6019920" y="2514600"/>
            <a:ext cx="2930400" cy="4191120"/>
          </a:xfrm>
          <a:prstGeom prst="rect">
            <a:avLst/>
          </a:prstGeom>
          <a:ln w="63360">
            <a:solidFill>
              <a:srgbClr val="0000ff"/>
            </a:solidFill>
            <a:miter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3048120" y="1447920"/>
            <a:ext cx="2695320" cy="3581280"/>
          </a:xfrm>
          <a:prstGeom prst="rect">
            <a:avLst/>
          </a:prstGeom>
          <a:ln w="63360">
            <a:solidFill>
              <a:srgbClr val="3366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00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бразцы рисунков обучающих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3276720" y="1447920"/>
            <a:ext cx="2762280" cy="4419360"/>
          </a:xfrm>
          <a:prstGeom prst="rect">
            <a:avLst/>
          </a:prstGeom>
          <a:ln w="63360">
            <a:solidFill>
              <a:srgbClr val="0000ff"/>
            </a:solidFill>
            <a:miter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154080" y="609480"/>
            <a:ext cx="2894040" cy="4572000"/>
          </a:xfrm>
          <a:prstGeom prst="rect">
            <a:avLst/>
          </a:prstGeom>
          <a:ln w="63360">
            <a:solidFill>
              <a:srgbClr val="0000ff"/>
            </a:solidFill>
            <a:miter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6240600" y="2438280"/>
            <a:ext cx="2903400" cy="4343400"/>
          </a:xfrm>
          <a:prstGeom prst="rect">
            <a:avLst/>
          </a:prstGeom>
          <a:ln w="6336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00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ыво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скусство портрета – одна из самых сложных изобразительных задач и требует от начинающего рисовальщика развития зрительной памяти, наблюдательности и постоянной практической работ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нание пропорций головы и лица, умение воплотить эти навыки в эскизе помогут полнее раскрыть художественный образ модел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00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одельерский рисунок: голо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36576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модельерском рисунке очень важно не только передать пропорции и пластику движения фигуры, но и необходимый наклон головы и характерные черты лица модели. Всё это обогащает графику эскиза костюм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нание пропорций головы и лица, умение воплотить эти навыки в эскизе помогут полнее раскрыть художественный образ модел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819680" y="685800"/>
            <a:ext cx="4019400" cy="5591160"/>
          </a:xfrm>
          <a:prstGeom prst="rect">
            <a:avLst/>
          </a:prstGeom>
          <a:ln w="6336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00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-123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457200"/>
            <a:ext cx="51814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63600" indent="-363600" algn="just">
              <a:spcBef>
                <a:spcPts val="675"/>
              </a:spcBef>
              <a:spcAft>
                <a:spcPts val="675"/>
              </a:spcAft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 algn="just">
              <a:spcBef>
                <a:spcPts val="675"/>
              </a:spcBef>
              <a:spcAft>
                <a:spcPts val="675"/>
              </a:spcAft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501480" y="1066680"/>
            <a:ext cx="8033040" cy="4572000"/>
          </a:xfrm>
          <a:prstGeom prst="rect">
            <a:avLst/>
          </a:prstGeom>
          <a:ln w="6336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00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одельерский рисунок: гол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990360"/>
            <a:ext cx="48006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Эскиз модного ансамбля включает изображение модели одежды, головного убора или прически, поэтому необходимо владеть рисунком, знать закономерности пропорций и анатомического строения головы челове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 жизни невозможно встретить похожих друг на друга людей, вместе с тем, при всём многообразии индивидуальных различий в строении формы головы, есть общие правила ведения рисун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5867280" y="1066680"/>
            <a:ext cx="2057400" cy="5334120"/>
          </a:xfrm>
          <a:prstGeom prst="rect">
            <a:avLst/>
          </a:prstGeom>
          <a:ln w="6336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00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сновные пропорции головы челове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240" y="838080"/>
            <a:ext cx="48006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олова составляет 1/8часть высоты всей фигу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иния разреза глаз делит высоту головы на две равные ч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сстояние между глазами равно длине гла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сота уха равна длине но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ицо по высоте делится на три равные части: от линии роста волос до линии бровей, от бровей до линии основания носа, от основания носа до нижней точки подбород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блюдение пропорций придает рисунку головы необходимую жизненность и правдив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 стоит увлекаться излишней натуралистичностью деталей лица, чтобы не отвлекать зрителя от главного в модельерском рисунке – передачи формы и деталей модели одеж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5116680" y="1447920"/>
          <a:ext cx="3630600" cy="4419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16680" y="1447920"/>
                    <a:ext cx="3630600" cy="441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00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исунок головы в фа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пределяем композицию рисунка головы в листе. Обычно эскиз располагают в центре листа. Изображение не должно быть больше натуральной величины головы, а также соответствовать заданному формат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оводим профильную линию и отмечаем на ней высоту головы – произвольную, но с учетом компози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670280" y="1905120"/>
            <a:ext cx="1805040" cy="2743200"/>
          </a:xfrm>
          <a:prstGeom prst="rect">
            <a:avLst/>
          </a:prstGeom>
          <a:ln w="63360">
            <a:solidFill>
              <a:srgbClr val="0000ff"/>
            </a:solidFill>
            <a:miter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6927840" y="1905120"/>
            <a:ext cx="1785960" cy="2743200"/>
          </a:xfrm>
          <a:prstGeom prst="rect">
            <a:avLst/>
          </a:prstGeom>
          <a:ln w="6336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00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исунок головы в фа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456840"/>
            <a:ext cx="396252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ткладываем на профильной линии от нижней точки овала вниз высоту шеи равную примерно 1/3 высоты головы, выделяем яремную ямку, проводим линию плеч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алее по намеченной овальной форме проводим линию разреза глаз, которая делит первоначальную форму на две равные части: от верхней теменной точки до переносицы и от переносицы до нижней точки подбород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ходим высоту лицевой части головы: от самой верхней точки формы находим положение горизонтальной линии роста волос – 1/7 части высоты головы. Величина лицевой части равна расстоянию от линии нижней границы роста волос до подбород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114800" y="2016000"/>
            <a:ext cx="4886280" cy="2632320"/>
          </a:xfrm>
          <a:prstGeom prst="rect">
            <a:avLst/>
          </a:prstGeom>
          <a:ln w="6336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00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исунок головы в фа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ся лицевая часть головы делится на три равные части: верхняя часть соответствует высоте лба, средняя – длине носа и высоте уха, нижняя – подбородк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ледующий этап – поиск местоположения глаз. Для этого среднюю горизонтальную линию ноловы делим на пять частей и проводим вспомогательные отрезки. Соответственно, височные части лица и переносица (расстояние между глазами) равны длине глаза, так как занимают равные отрез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4915080" y="2004840"/>
            <a:ext cx="3695400" cy="2899080"/>
          </a:xfrm>
          <a:prstGeom prst="rect">
            <a:avLst/>
          </a:prstGeom>
          <a:ln w="6336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00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исунок головы в фа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Чтобы определить положение рта, нужно нижнюю часть лица от основания носа до подбородка разделить на три равные части. Верхнее деление соответствует линии р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мечают форму носа, рта, глаз и уш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гда общая форма и овал лица определены, переходят к изображению характерных черт лица, уточняют форму прически, проводят плавный контур шеи и плеч. Контурные линии шеи - вертикаль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4572000" y="1828800"/>
            <a:ext cx="1916280" cy="3200400"/>
          </a:xfrm>
          <a:prstGeom prst="rect">
            <a:avLst/>
          </a:prstGeom>
          <a:ln w="63360">
            <a:solidFill>
              <a:srgbClr val="0000ff"/>
            </a:solidFill>
            <a:miter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6924600" y="1828800"/>
            <a:ext cx="1990800" cy="3228840"/>
          </a:xfrm>
          <a:prstGeom prst="rect">
            <a:avLst/>
          </a:prstGeom>
          <a:ln w="6336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00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исунок головы в фа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оверив основные пропорции рисунка и уточнив все детали, можно очистить рисунок от вспомогательных линий с помощью ласти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Линии изгиба бровей, век и характерные пряди волос достаточно подчеркнуть более насыщенными контурами карандаш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5398920" y="1371600"/>
            <a:ext cx="2899080" cy="4495680"/>
          </a:xfrm>
          <a:prstGeom prst="rect">
            <a:avLst/>
          </a:prstGeom>
          <a:ln w="6336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Ира</cp:lastModifiedBy>
  <dcterms:modified xsi:type="dcterms:W3CDTF">2010-12-27T21:10:53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