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EAF6-3512-4B5B-8BE9-B9B2ACC2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E33A-7E6D-46EE-AD1C-CCB97354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C7FB-4DD2-4432-AED9-344C3BB1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22E-9096-4F61-8E6B-F81BCA65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A671-28EA-4200-968E-C7353790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A88-9B87-4F53-9FFC-0E1EBABB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66E-EDBC-4812-B3F6-2F2A41DC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A75-719D-4EEB-9502-3E5507AB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2CC9-1352-4272-90A1-EAA7BE5C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C75B-B1F9-4F0A-8FE8-99C7F9CB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378-2902-482A-A19B-6F9E913D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1031-5ADE-4AA0-ABC3-9FC7E81E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4EF8-FC91-428B-83A2-164869F4A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мет: «Основы изобразительного искусства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Художественная графика костюма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ма программы: «Графическое решение головы чело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: Рисование головы человека по пропорциональным схем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фессии: «Портной», «Художник по костюму», «Закройщ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подаватель: Воропаева И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2724120"/>
            <a:ext cx="1981440" cy="1847880"/>
          </a:xfrm>
          <a:prstGeom prst="rect">
            <a:avLst/>
          </a:prstGeom>
          <a:ln w="63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головы в повороте и в проф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личные положения головы: поворот ¾, профиль, фас лил наклон – обогащают модельерский рисунок, делая его интересным для восприятия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ображение головы в ракурсе – самый простой способ разнообразить рисунок фигуры в статичной постанов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97440" y="990720"/>
            <a:ext cx="3713040" cy="533376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головы в повороте и в проф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3962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нок головы в ракурсе строится в первую очередь с учетом законов перспек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лучае, если голова модели находится на уровне наших глаз, все горизонтальные линии лица – линия разреза глаз, основания носа и подбородка – изображаются прям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голова опущена вниз или приподнята вверх, то все вспомогательные линии примут дугообразную форму, соответственно объему гол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762120"/>
            <a:ext cx="4267080" cy="287316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589720" y="3809880"/>
            <a:ext cx="2182680" cy="28195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обенности прорисовки головы в повороте 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тличие от рисунка головы в фас, когда все части лица расположены симметрично профильной линии, изображение лица в ракурсе предполагает перемещение средней профильной линии в сторон, соответствующую степени поворота головы на эски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парные симметрично расположенные части лица – брови, глаза, скулы – изменят свои размеры и фор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800680" y="838080"/>
            <a:ext cx="2048040" cy="59436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обенности прорисовки головы в повороте 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533160"/>
            <a:ext cx="5029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инают с композиционного расположения головы на листе Изображение намечается очень легко и обобщенно, выявляется общая форма и движение – поворот головы и ш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нок располагают, оставляя достаточное пространство  лицевой части, чтобы не создалось впечатление лица «смотрящего» за рамку эскиза. Поэтому поворот головы модели должен быть к центру эски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ем намечается профильная линия лица или ось симмет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ния смещается, согласно законам перспективы, в сторону наклона лица, принимает форму дуги и определяет степень поворота головы на эски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та головы и все вспомогательные линии намечаются так же, как в положении в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181480" y="1893960"/>
            <a:ext cx="3810240" cy="34081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обенности прорисовки головы в повороте 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3657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лее намечается затылочная часть и гол нижней челю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мметричное построение головы диктует рисовальщику попеременно строить то правую то левую области головы. Например, наметив правое крыло носа, следует сразу же наметить левое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им образом, идет прорисовка всех частей лица: формы носа, разреза и формы глаз, объёма г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1968480" cy="358164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248520" y="1752480"/>
            <a:ext cx="2676240" cy="358164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головы в проф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41148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данном ракурсе видна одна сторона лица для рис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яем композицию на листе, оставляя больше пространства  лицевой части эски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одим вертикальную линию и намечаем на ней высоту головы  и вспомогательные линии: основания волос, надбровных дуг, разреза глаз, основания носа, рта и подбородка как при рисовании головы в фас. Прорисованный квадрат поможет определить основные пропорции. Средняя линия, делящая квадрат на ½ определяет границу лицевой и затылочной частей головы. На ней намечается ух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ем части лица, лицевая часть может выходить за пределы квадрата, нос выступает 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ально прорабатывают формы, намечая характерные че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ея наклонена впер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62520" y="2325600"/>
            <a:ext cx="5105160" cy="25164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стюм и приче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46483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ческа обрамляет лицо модели. Эскизы с продуманной и обрисованной формой прически наиболее полно передают тот или иной стиль в м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омощью прически легче всего передать дух эпохи, перенести зрителя в 60-е или поддержать современную тему костю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я волосы важно рассматривать их как один большой объ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равление линий волос располагается строго по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носить штрихи необходимо в одинаковом направлении, создавая объ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надо увлекаться прорисовкой каждого воло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уктура прически передается ритмом линий, различным по нажим и толщине, пятном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м в эскизе модели остается костюм, прическа лишь соответствует об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810400" y="3724200"/>
            <a:ext cx="2190600" cy="305748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33840" y="457200"/>
            <a:ext cx="4457880" cy="31147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цы рисунков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2641680" cy="32004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19920" y="2514600"/>
            <a:ext cx="2930400" cy="41911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048120" y="1447920"/>
            <a:ext cx="2695320" cy="3581280"/>
          </a:xfrm>
          <a:prstGeom prst="rect">
            <a:avLst/>
          </a:prstGeom>
          <a:ln w="633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цы рисунков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762280" cy="441936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54080" y="609480"/>
            <a:ext cx="2894040" cy="45720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240600" y="2438280"/>
            <a:ext cx="2903400" cy="43434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кусство портрета – одна из самых сложных изобразительных задач и требует от начинающего рисовальщика развития зрительной памяти, наблюдательности и постоянной практическ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е пропорций головы и лица, умение воплотить эти навыки в эскизе помогут полнее раскрыть художественный образ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дельерский рисунок: 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дельерском рисунке очень важно не только передать пропорции и пластику движения фигуры, но и необходимый наклон головы и характерные черты лица модели. Всё это обогащает графику эскиза костю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е пропорций головы и лица, умение воплотить эти навыки в эскизе помогут полнее раскрыть художественный образ мод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19680" y="685800"/>
            <a:ext cx="4019400" cy="559116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123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57200"/>
            <a:ext cx="51814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 algn="just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1480" y="1066680"/>
            <a:ext cx="8033040" cy="45720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дельерский рисунок: го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4800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скиз модного ансамбля включает изображение модели одежды, головного убора или прически, поэтому необходимо владеть рисунком, знать закономерности пропорций и анатомического строения головы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жизни невозможно встретить похожих друг на друга людей, вместе с тем, при всём многообразии индивидуальных различий в строении формы головы, есть общие правила ведения рису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057400" cy="53341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пропорции головы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800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ва составляет 1/8часть высоты всей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ия разреза глаз делит высоту головы на две равные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 между глазами равно длине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а уха равна длине н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о по высоте делится на три равные части: от линии роста волос до линии бровей, от бровей до линии основания носа, от основания носа до нижней точки подборо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людение пропорций придает рисунку головы необходимую жизненность и правд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тоит увлекаться излишней натуралистичностью деталей лица, чтобы не отвлекать зрителя от главного в модельерском рисунке – передачи формы и деталей модели одеж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116680" y="1447920"/>
          <a:ext cx="3630600" cy="44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6680" y="1447920"/>
                    <a:ext cx="3630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сунок головы в ф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яем композицию рисунка головы в листе. Обычно эскиз располагают в центре листа. Изображение не должно быть больше натуральной величины головы, а также соответствовать заданному форм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одим профильную линию и отмечаем на ней высоту головы – произвольную, но с учетом композ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70280" y="1905120"/>
            <a:ext cx="1805040" cy="27432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927840" y="1905120"/>
            <a:ext cx="1785960" cy="27432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головы в ф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39625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адываем на профильной линии от нижней точки овала вниз высоту шеи равную примерно 1/3 высоты головы, выделяем яремную ямку, проводим линию пле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 по намеченной овальной форме проводим линию разреза глаз, которая делит первоначальную форму на две равные части: от верхней теменной точки до переносицы и от переносицы до нижней точки подборо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ходим высоту лицевой части головы: от самой верхней точки формы находим положение горизонтальной линии роста волос – 1/7 части высоты головы. Величина лицевой части равна расстоянию от линии нижней границы роста волос до подборо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114800" y="2016000"/>
            <a:ext cx="4886280" cy="26323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сунок головы в ф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я лицевая часть головы делится на три равные части: верхняя часть соответствует высоте лба, средняя – длине носа и высоте уха, нижняя – подбород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ющий этап – поиск местоположения глаз. Для этого среднюю горизонтальную линию ноловы делим на пять частей и проводим вспомогательные отрезки. Соответственно, височные части лица и переносица (расстояние между глазами) равны длине глаза, так как занимают равные отре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15080" y="2004840"/>
            <a:ext cx="3695400" cy="289908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головы в ф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ы определить положение рта, нужно нижнюю часть лица от основания носа до подбородка разделить на три равные части. Верхнее деление соответствует линии 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мечают форму носа, рта, глаз и уш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общая форма и овал лица определены, переходят к изображению характерных черт лица, уточняют форму прически, проводят плавный контур шеи и плеч. Контурные линии шеи - вертика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1916280" cy="32004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924600" y="1828800"/>
            <a:ext cx="1990800" cy="322884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сунок головы в ф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ив основные пропорции рисунка и уточнив все детали, можно очистить рисунок от вспомогательных линий с помощью лас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нии изгиба бровей, век и характерные пряди волос достаточно подчеркнуть более насыщенными контурами каранда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8920" y="1371600"/>
            <a:ext cx="2899080" cy="449568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а</cp:lastModifiedBy>
  <dcterms:modified xsi:type="dcterms:W3CDTF">2010-12-27T21:10:5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