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F41-3032-4671-B9B6-12FA8719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B78-4487-47FE-8468-0B945206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637-9F48-43CF-BF4B-7829FFD8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300-DCE4-4CC7-93F5-2965C3E7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016-9FBE-43CA-81F5-EC350429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B0C-8E44-40AE-AD16-B7C42BFC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A52-F4FE-4DDE-9695-6B4096D1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03C-3464-415D-83E1-B42E9B71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BB7-E677-4D60-849C-FA113882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664-A1A6-4316-9BFC-A9BD588E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6B1-ED1F-433C-BA28-3830E01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36D-364F-4D5A-B663-E4E31F0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8E70-8B22-4810-B5AA-29E8C6B2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мет: «Основы изобразительного искусств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удожественная графика костюм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 программы: «Графическое решение головы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: Рисование головы человека по пропорциональным схем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и: «Портной», «Художник по костюму», «Закройщ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: Воропаева И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2724120"/>
            <a:ext cx="1981440" cy="184788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овороте и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ные положения головы: поворот ¾, профиль, фас лил наклон – обогащают модельерский рисунок, делая его интересным для восприяти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головы в ракурсе – самый простой способ разнообразить рисунок фигуры в статичной постан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97440" y="990720"/>
            <a:ext cx="3713040" cy="53337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овороте и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962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нок головы в ракурсе строится в первую очередь с учетом законов перспе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учае, если голова модели находится на уровне наших глаз, все горизонтальные линии лица – линия разреза глаз, основания носа и подбородка – изображаются пря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голова опущена вниз или приподнята вверх, то все вспомогательные линии примут дугообразную форму, соответственно объему гол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762120"/>
            <a:ext cx="4267080" cy="28731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89720" y="3809880"/>
            <a:ext cx="2182680" cy="28195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личие от рисунка головы в фас, когда все части лица расположены симметрично профильной линии, изображение лица в ракурсе предполагает перемещение средней профильной линии в сторон, соответствующую степени поворота головы на эски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парные симметрично расположенные части лица – брови, глаза, скулы – изменят свои размеры и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00680" y="838080"/>
            <a:ext cx="2048040" cy="59436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ют с композиционного расположения головы на листе Изображение намечается очень легко и обобщенно, выявляется общая форма и движение – поворот головы и ш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нок располагают, оставляя достаточное пространство  лицевой части, чтобы не создалось впечатление лица «смотрящего» за рамку эскиза. Поэтому поворот головы модели должен быть к центру эск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намечается профильная линия лица или ось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смещается, согласно законам перспективы, в сторону наклона лица, принимает форму дуги и определяет степень поворота головы на эски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а головы и все вспомогательные линии намечаются так же, как в положении в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893960"/>
            <a:ext cx="3810240" cy="3408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лее намечается затылочная часть и гол нижней челю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метричное построение головы диктует рисовальщику попеременно строить то правую то левую области головы. Например, наметив правое крыло носа, следует сразу же наметить ле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идет прорисовка всех частей лица: формы носа, разреза и формы глаз, объёма г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1968480" cy="35816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676240" cy="35816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анном ракурсе видна одна сторона лица для рис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м композицию на листе, оставляя больше пространства  лицевой части эск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м вертикальную линию и намечаем на ней высоту головы  и вспомогательные линии: основания волос, надбровных дуг, разреза глаз, основания носа, рта и подбородка как при рисовании головы в фас. Прорисованный квадрат поможет определить основные пропорции. Средняя линия, делящая квадрат на ½ определяет границу лицевой и затылочной частей головы. На ней намечается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ем части лица, лицевая часть может выходить за пределы квадрата, нос выступает 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ьно прорабатывают формы, намечая характерн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ея наклонена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325600"/>
            <a:ext cx="5105160" cy="2516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тюм и приче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4648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еска обрамляет лицо модели. Эскизы с продуманной и обрисованной формой прически наиболее полно передают тот или иной стиль в м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прически легче всего передать дух эпохи, перенести зрителя в 60-е или поддержать современную тему костю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я волосы важно рассматривать их как один большой 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авление линий волос располагается строго по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носить штрихи необходимо в одинаковом направлении, создавая 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надо увлекаться прорисовкой каждого вол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ктура прически передается ритмом линий, различным по нажим и толщине, пятно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 в эскизе модели остается костюм, прическа лишь соответствует 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10400" y="3724200"/>
            <a:ext cx="2190600" cy="30574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33840" y="457200"/>
            <a:ext cx="4457880" cy="31147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цы рисунков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2641680" cy="3200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930400" cy="4191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48120" y="1447920"/>
            <a:ext cx="2695320" cy="358128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цы рисунков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762280" cy="44193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080" y="609480"/>
            <a:ext cx="2894040" cy="45720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240600" y="2438280"/>
            <a:ext cx="2903400" cy="4343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усство портрета – одна из самых сложных изобразительных задач и требует от начинающего рисовальщика развития зрительной памяти, наблюдательности и постоянной практиче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е пропорций головы и лица, умение воплотить эти навыки в эскизе помогут полнее раскрыть художественный образ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ельерский рисунок: 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ельерском рисунке очень важно не только передать пропорции и пластику движения фигуры, но и необходимый наклон головы и характерные черты лица модели. Всё это обогащает графику эскиза костю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пропорций головы и лица, умение воплотить эти навыки в эскизе помогут полнее раскрыть художественный образ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19680" y="685800"/>
            <a:ext cx="4019400" cy="55911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2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"/>
            <a:ext cx="5181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" y="1066680"/>
            <a:ext cx="8033040" cy="45720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ьерский рисунок: 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800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скиз модного ансамбля включает изображение модели одежды, головного убора или прически, поэтому необходимо владеть рисунком, знать закономерности пропорций и анатомического строения головы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жизни невозможно встретить похожих друг на друга людей, вместе с тем, при всём многообразии индивидуальных различий в строении формы головы, есть общие правила ведения рису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057400" cy="5334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пропорции головы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800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составляет 1/8часть высоты вс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разреза глаз делит высоту головы на две рав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между глазами равно длине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уха равна длине н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 по высоте делится на три равные части: от линии роста волос до линии бровей, от бровей до линии основания носа, от основания носа до нижней точки подб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ение пропорций придает рисунку головы необходимую жизненность и правд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тоит увлекаться излишней натуралистичностью деталей лица, чтобы не отвлекать зрителя от главного в модельерском рисунке – передачи формы и деталей модели оде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116680" y="1447920"/>
          <a:ext cx="36306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6680" y="1447920"/>
                    <a:ext cx="3630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м композицию рисунка головы в листе. Обычно эскиз располагают в центре листа. Изображение не должно быть больше натуральной величины головы, а также соответствовать заданному форм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м профильную линию и отмечаем на ней высоту головы – произвольную, но с учетом ком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70280" y="1905120"/>
            <a:ext cx="1805040" cy="27432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27840" y="1905120"/>
            <a:ext cx="1785960" cy="27432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3962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на профильной линии от нижней точки овала вниз высоту шеи равную примерно 1/3 высоты головы, выделяем яремную ямку, проводим линию пл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 по намеченной овальной форме проводим линию разреза глаз, которая делит первоначальную форму на две равные части: от верхней теменной точки до переносицы и от переносицы до нижней точки подб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одим высоту лицевой части головы: от самой верхней точки формы находим положение горизонтальной линии роста волос – 1/7 части высоты головы. Величина лицевой части равна расстоянию от линии нижней границы роста волос до подборо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14800" y="2016000"/>
            <a:ext cx="4886280" cy="26323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лицевая часть головы делится на три равные части: верхняя часть соответствует высоте лба, средняя – длине носа и высоте уха, нижняя – подборо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– поиск местоположения глаз. Для этого среднюю горизонтальную линию ноловы делим на пять частей и проводим вспомогательные отрезки. Соответственно, височные части лица и переносица (расстояние между глазами) равны длине глаза, так как занимают равные отре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2004840"/>
            <a:ext cx="3695400" cy="28990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определить положение рта, нужно нижнюю часть лица от основания носа до подбородка разделить на три равные части. Верхнее деление соответствует линии 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ечают форму носа, рта, глаз и у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общая форма и овал лица определены, переходят к изображению характерных черт лица, уточняют форму прически, проводят плавный контур шеи и плеч. Контурные линии шеи - вертика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1916280" cy="3200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924600" y="1828800"/>
            <a:ext cx="1990800" cy="32288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ив основные пропорции рисунка и уточнив все детали, можно очистить рисунок от вспомогательных линий с помощью л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и изгиба бровей, век и характерные пряди волос достаточно подчеркнуть более насыщенными контурами каранд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8920" y="1371600"/>
            <a:ext cx="2899080" cy="44956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а</cp:lastModifiedBy>
  <dcterms:modified xsi:type="dcterms:W3CDTF">2010-12-27T21:10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