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6C5-BD1A-475D-B5BE-EBA0B711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926-156A-44C8-9418-A4EF9843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82B-9006-47C0-8296-A590B2CE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E7F-4FE9-4F89-B473-D99777A0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970C-1BAA-4EB3-B57D-B02CCD03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D665-9F3F-483B-99BC-D53F5115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B58E-EB0A-4F3A-82F9-1FD723AD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2C1A-F988-423A-A2B5-31063EF9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7B79-5893-4FA4-ADEE-2BB72139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FC7E-E6EC-4B32-9944-4E1929B7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6187-C4B5-4C4A-871A-E452465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1A0-B993-45FA-B256-C139FEFF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4B6F-C6A3-47BD-9C4E-3727336E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15A7-8299-4B42-9549-2E156DB2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4DDD-6F62-47CF-B6B7-D4FF563C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6BFA-53C1-4D77-AFC9-050143E3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5058-8A3C-4492-A5D1-CD020C46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49F-C83C-4FB3-A95B-4D1D3AE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C74-4512-428D-8D7B-9F9CC2CC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03F-86F0-4233-814F-A535BA63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E42-CCCC-4774-B018-1F70FD0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E68-D2F5-4605-9CDA-27024BC5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F39-0481-4459-8D21-FD4B06D0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125-9632-4C55-BCF4-0B5CE40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B969-A351-41B2-B93B-85D4A9DA91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18E6-A337-44DF-841F-2F075870F4F2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742840" y="46483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Verdana"/>
              </a:rPr>
              <a:t>Автор работы: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Verdana"/>
              </a:rPr>
              <a:t>Дьяконов Иван 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c5b5"/>
                </a:solidFill>
                <a:latin typeface="Verdana"/>
              </a:rPr>
              <a:t>История рэпа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4" name="에미넴-You Don't Know.mp3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102280" y="1523520"/>
            <a:ext cx="358128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эп-индустрия набирала обороты. Брейк-данс вошел в моду в Европе. Граффити можно было встретить не только в США, Германии или Италии, но и в Японии. Хип-хоп стал частью массовой културы. Во многом это произошло благодаря американскому продюсеру Расселу Симмонзу (Russell Simmons). Начиная с 1983 г. он вывел в свет таких исполнителей, как Эл Эл Кул Джей, группы «Бисти Бойз» ,«Ран Ди-Эм-Си»,  «Паблик Энеми» (Public Enemy)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IMG"/>
          <p:cNvPicPr/>
          <p:nvPr/>
        </p:nvPicPr>
        <p:blipFill>
          <a:blip r:embed="rId1"/>
          <a:stretch/>
        </p:blipFill>
        <p:spPr>
          <a:xfrm>
            <a:off x="1230480" y="1523880"/>
            <a:ext cx="37382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90760" y="1125360"/>
            <a:ext cx="480060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«Ран Ди-Эм-Си» по праву считаются «королями рэпа» 80-х гг. Дебютный альбом группы появился в 1984 г. и сразу заработал «золото». Затем были концертные туры, киносъемки, участие в престижных фестивалях. Но настоящая известность пришла к музыкантам после выхода сингла «Иди туда». Альбом «Ад поднимается» был распродан в США в количестве трех миллионов экземпляров. Он стал первым «платиновым» рэп-альбомом и первым диском, занявшим верхние позиции в хит-парадах рок-музыки. «Ран Ди-Эм-Си» оказались и первой рэп-группой, показанной по кабельному музыкальному телевидению Эм-ти-ви (MTV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IMG_0001"/>
          <p:cNvPicPr/>
          <p:nvPr/>
        </p:nvPicPr>
        <p:blipFill>
          <a:blip r:embed="rId1"/>
          <a:stretch/>
        </p:blipFill>
        <p:spPr>
          <a:xfrm>
            <a:off x="1143000" y="1752480"/>
            <a:ext cx="330516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125000"/>
            <a:ext cx="388620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ще одна знаковая фигура на рэп-сцене – Эм Си Хэммер. Его второй диск «Пожалуйста, Хэммер, не причиняй им вреда» разошелся десятимиллионным тиражом и оказался наиболее раскупаемым альбомом в истории рэп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песня с этой пластинки – «Это нельзя потрогать»– завоевала премию «Грэмми» в двух номинация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Эм Си Хэммер доказал, что рэп может быть по-настоящему коммерчески успешн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3" descr="Хаммер"/>
          <p:cNvPicPr/>
          <p:nvPr/>
        </p:nvPicPr>
        <p:blipFill>
          <a:blip r:embed="rId1"/>
          <a:stretch/>
        </p:blipFill>
        <p:spPr>
          <a:xfrm>
            <a:off x="5557680" y="533520"/>
            <a:ext cx="3011760" cy="60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gangsta"/>
          <p:cNvPicPr/>
          <p:nvPr/>
        </p:nvPicPr>
        <p:blipFill>
          <a:blip r:embed="rId1"/>
          <a:stretch/>
        </p:blipFill>
        <p:spPr>
          <a:xfrm>
            <a:off x="1327320" y="1066680"/>
            <a:ext cx="371304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101920" y="1267920"/>
            <a:ext cx="3862440" cy="46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тивовес коммерческому рэпу в начале 90-х гг. появился гангста-рэп. Для этого течения характерно более агрессивное звучание и обилие ненормативной лексики в текстах, которые в основном посвящены криминальной тематике и нередко автобиографичны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267080" y="404280"/>
            <a:ext cx="441648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граммный альбом для рэп-сцены Западного побережья – диск «Хроника» (The Chronic) бывшего участника группы “H.B.A.” Доктора Дри, выпущенный в 1992 г. Изобретенный Дри новый стиль, который музыкант назвал джи-фанк (G-funk), пришелся по душе и слушателям, и исполнителям рэпа. Медленные ритмы, глубокие басовые линии, «фанковые» гитары и дополнительный женский вокал – отличительные черты этого стиля. Появилось множество последователей джи-фанка, большинство которых издавались на собственной звукозаписывающей фирме Доктора Дри «Дэт Роу» (Death Row Records). Самому Доктору Дри роль продюсера понравилась, и он с удовольствием помогал начинающим исполнителям. Именно Дри обязаны своим успехом Снуп Доги Дог (Snoop Doggy Dog), Уоррен Джи (Warren G), Тупак Шакур и д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3" descr="тупэк"/>
          <p:cNvPicPr/>
          <p:nvPr/>
        </p:nvPicPr>
        <p:blipFill>
          <a:blip r:embed="rId1"/>
          <a:stretch/>
        </p:blipFill>
        <p:spPr>
          <a:xfrm>
            <a:off x="270000" y="1523880"/>
            <a:ext cx="41767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447880" y="1447560"/>
            <a:ext cx="3543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сле смерти Тупака Шакура Доктор Дри объявил, что гангстерский рэп исчерпал себя, и покинул «Дэт Роу». Дри продолжает различные новые начинания. Один из его последних подопечных – Эминем – самый заметный исполнитель на сегодняшней рэп-сцен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3" descr="Эминем"/>
          <p:cNvPicPr/>
          <p:nvPr/>
        </p:nvPicPr>
        <p:blipFill>
          <a:blip r:embed="rId1"/>
          <a:stretch/>
        </p:blipFill>
        <p:spPr>
          <a:xfrm>
            <a:off x="380880" y="1600200"/>
            <a:ext cx="5029200" cy="37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3760" y="549360"/>
            <a:ext cx="380988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Восточном побережье большую роль в развитии рэп-движения играет Пафф Дэдди - владелец фирмы звукозаписи «Бэд Бой Энтертейнмент» (Bad Boy Entertainment). Главным музыкантом этой фирмы, да и всего нью-йоркского рэпа в целом, был Ноториус Би Ай Джи. Но он был убит через шесть месяцев после Шакура при схожих обстоятельствах. Второй альбом Би Ай Джи, выпущенный уже после его смерти, стал шестикратно «платиновым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Пдиди"/>
          <p:cNvPicPr/>
          <p:nvPr/>
        </p:nvPicPr>
        <p:blipFill>
          <a:blip r:embed="rId1"/>
          <a:stretch/>
        </p:blipFill>
        <p:spPr>
          <a:xfrm>
            <a:off x="685800" y="1890720"/>
            <a:ext cx="495288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3573000"/>
            <a:ext cx="7786800" cy="30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эп стал не только голосом нескольких поколений городской молодежи, но и колыбелью современной клубной культуры. Именно на рэп-вечеринках зародилась техника игры, которая сейчас повсеместно используется в танцевальных клубах; именно на таких вечеринках начал формироваться образ современного диск-жоке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3" descr="Уилл Смит"/>
          <p:cNvPicPr/>
          <p:nvPr/>
        </p:nvPicPr>
        <p:blipFill>
          <a:blip r:embed="rId1"/>
          <a:stretch/>
        </p:blipFill>
        <p:spPr>
          <a:xfrm>
            <a:off x="3200400" y="3808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Винни пух"/>
          <p:cNvPicPr/>
          <p:nvPr/>
        </p:nvPicPr>
        <p:blipFill>
          <a:blip r:embed="rId1"/>
          <a:stretch/>
        </p:blipFill>
        <p:spPr>
          <a:xfrm>
            <a:off x="2438280" y="609480"/>
            <a:ext cx="5087880" cy="3189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55720" y="4095720"/>
            <a:ext cx="723600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ожно без преувеличения сказать, что культура хип-хоп дала толчок развитию всей электронной танцевальной музыки 90-х гг. В начале нового тысячелетия рэп переживает очередной подъем и, вероятно, в будущем подарит своим поклонникам еще немало интересных исполнителе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47880" y="1447560"/>
            <a:ext cx="3543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В середине 70-х гг. в США распространились дискотеки. Здесь парила музыка диско. Ориентированная на так называемый средний класс, она идеально подходила для отдыха в конце рабочей недели. Танцевальный ритм, незатейливые мелодии и простые тексты обеспечили диско коммерческий успех. Пластинки продавались огромными тиражами, сотнями открывались ночные клубы (подчас довольно дорогие).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Picture 3" descr="50центов"/>
          <p:cNvPicPr/>
          <p:nvPr/>
        </p:nvPicPr>
        <p:blipFill>
          <a:blip r:embed="rId1"/>
          <a:stretch/>
        </p:blipFill>
        <p:spPr>
          <a:xfrm>
            <a:off x="1900080" y="1447920"/>
            <a:ext cx="325296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102280" y="475920"/>
            <a:ext cx="3581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днако некоторым слоям населения такой отдых был не по карману. И поэтому вполне закономерно, что появилась новая танцевальная музыка, доступная всем – независимо от материального положения. Постепенно она завоевала свою аудиторию. Назвали эту музыку «рэп». Родина рэпа – бедный район Нью-Йорка – Южный Бронкс. Именно здесь в начале 70-х гг., возникло явление, которое позднее стали именовать культурой хип-хо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8" name="Picture 3" descr="manhattan"/>
          <p:cNvPicPr/>
          <p:nvPr/>
        </p:nvPicPr>
        <p:blipFill>
          <a:blip r:embed="rId1"/>
          <a:stretch/>
        </p:blipFill>
        <p:spPr>
          <a:xfrm>
            <a:off x="609480" y="380880"/>
            <a:ext cx="487692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граффити"/>
          <p:cNvPicPr/>
          <p:nvPr/>
        </p:nvPicPr>
        <p:blipFill>
          <a:blip r:embed="rId1"/>
          <a:stretch/>
        </p:blipFill>
        <p:spPr>
          <a:xfrm>
            <a:off x="1295280" y="228600"/>
            <a:ext cx="7467840" cy="4348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69800" y="4647960"/>
            <a:ext cx="7313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рмины «рэп» и «хип-хоп» часто употребляют как синонимы, что не совсем верно. Хип-хоп (hip hop) включает в себя настенные росписи – граффити (um. Graffity – «нацарапанные»), уникальный по своей пластичности танец брейк-данс (break dance), манеру спортивно одеваться и, наконец, музыкальное направление рэп (rap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24280" y="907920"/>
            <a:ext cx="395928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Ключевая фигура в истории рэпа – Кул Ди-Джей Херк. Этот диск-жокей появился в Южном Бронксе в 1967 г. Именно он одним из первых начал использовать лупинг– циклическое воспроизведение определенного звукового фрагмента или сэмпла (sample – “образец”). В качестве сэмплов Херк использовал брейки– места в музыкальной композиции, где основные инструменты временно умолкают и слышны только басы и ударные или одни ударные. Из-под рук диск-жокея выходил сплошной ритм, под который было удобно танцевать брейк-данс, чем с удовольствием и пользовались слушатели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3" descr="кул ди джей"/>
          <p:cNvPicPr/>
          <p:nvPr/>
        </p:nvPicPr>
        <p:blipFill>
          <a:blip r:embed="rId1"/>
          <a:stretch/>
        </p:blipFill>
        <p:spPr>
          <a:xfrm>
            <a:off x="473040" y="914400"/>
            <a:ext cx="42292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102280" y="764640"/>
            <a:ext cx="358128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Verdana"/>
              </a:rPr>
              <a:t>«Крестным отцом» рэпа считают Грэндмастера Флэша. Флэп ставил рядом с собой два проигрывателя с одинаковой записью и попеременно включал их. Пока нужный отрывок воспроизводился с первой пластинки, диск-жокей имел достаточно времени, чтобы отыскать начало данного фрагмента на второй. Кроме того, во время воспроизведения первого диска Флэш производил различные манипуляции со вторым и добивался очень интересных звуковых эффектов. Данная техника получила название скрэтчинг. В 1976 г. Грэндмастер Флэш решил, что ему не помешает напарник-вокалист. Опыт удался, и в результате Грэндмастер сформировал собственную группу «Фьюриос Файв»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3" descr="флэш"/>
          <p:cNvPicPr/>
          <p:nvPr/>
        </p:nvPicPr>
        <p:blipFill>
          <a:blip r:embed="rId1"/>
          <a:stretch/>
        </p:blipFill>
        <p:spPr>
          <a:xfrm>
            <a:off x="380880" y="1481040"/>
            <a:ext cx="49532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1640" y="476280"/>
            <a:ext cx="4111560" cy="60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Рэп действительно доступен каждому. Для его исполнения не обязательно использовать дорогостоящие музыкальные инструменты – достаточно двух проигрывателей, чужой музыки для сэмплов, умения рифмовать строчки и немного фантазии. Вскоре появилось огромное количество молодежных групп, исполнявших свою музыку и под открытым небом, и в клубах. Тексты в основном были посвящены тяготам жизни в бедных кварталах больших городов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3" descr="Баста Раймс"/>
          <p:cNvPicPr/>
          <p:nvPr/>
        </p:nvPicPr>
        <p:blipFill>
          <a:blip r:embed="rId1"/>
          <a:stretch/>
        </p:blipFill>
        <p:spPr>
          <a:xfrm>
            <a:off x="415800" y="457200"/>
            <a:ext cx="3908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TYDU9"/>
          <p:cNvPicPr/>
          <p:nvPr/>
        </p:nvPicPr>
        <p:blipFill>
          <a:blip r:embed="rId1"/>
          <a:stretch/>
        </p:blipFill>
        <p:spPr>
          <a:xfrm>
            <a:off x="2286000" y="380880"/>
            <a:ext cx="5286240" cy="3965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4365720"/>
            <a:ext cx="73134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1979 г. Группа «Шугархилл Гэнг» выпустила сингл «Восторг рэпера» Пластинка разошлась двухмиллионным тиражом в США и заняла почетные места в хит-парадах многих стран. С нее начался переход рэпа с улиц и дискотек в студии звукозапис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115640" y="4095720"/>
            <a:ext cx="787572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В 1980 г. лучшим диск-жокеем Нью-Йорка был признан Африка Бамбаатаа. Через два года вышли его первые синглы «Сенсация джаззи» (Jazzy Sensation) и «Планета Рок» (Planet Rock)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Verdana"/>
              </a:rPr>
              <a:t>В этих и последующих студийных работах Бамбаатаа заложил основы многих танцевальных течений конца 80-х гг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3" descr="Aqppuka"/>
          <p:cNvPicPr/>
          <p:nvPr/>
        </p:nvPicPr>
        <p:blipFill>
          <a:blip r:embed="rId1"/>
          <a:stretch/>
        </p:blipFill>
        <p:spPr>
          <a:xfrm>
            <a:off x="2438280" y="533520"/>
            <a:ext cx="4448160" cy="33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32:32Z</dcterms:created>
  <dc:creator>svetadyak</dc:creator>
  <dc:description/>
  <dc:language>en-US</dc:language>
  <cp:lastModifiedBy>Коля</cp:lastModifiedBy>
  <dcterms:modified xsi:type="dcterms:W3CDTF">2013-03-20T19:34:20Z</dcterms:modified>
  <cp:revision>3</cp:revision>
  <dc:subject/>
  <dc:title>История рэ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49</vt:lpwstr>
  </property>
</Properties>
</file>