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5B6-60E1-4E46-A904-E7EC5BA0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D6C-2F80-42B0-B88D-CFA1917B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6EC-629A-43EF-A6F0-4062B2F0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E94-2C7A-4FC5-961B-1483E3D8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317A-A335-465E-A3FF-FDE8D16E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BE77-E40C-4BD7-93B6-930704C2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0EA4-A875-40CD-A341-F19DA1AF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FA94-855B-420D-81C6-61AC67A1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1FD4-3F46-46D2-B86F-81392ACB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3D3E-1B07-46FF-B942-A998A9E6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4E95-030A-4E93-B4FA-AC1194BC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11E-9E2F-41AB-A197-694A3C12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2C49-7641-4BBC-8BB5-3FFD3D6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2C60-C7D5-41AE-A924-6A26886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B8D0-96E1-47F1-B9D2-F2D28EFF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7CDD-6743-4BDD-A8DD-93855770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A1E7-CDF2-4B6F-9662-D99336D6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EC9-90C0-4618-B1D4-6FFC3CD6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990-F00C-4CFF-989B-8C49CDEC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3FD-C336-45F3-9AF6-81D531ED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A84-3E33-4A71-8879-CA4905A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439-C325-462E-90D0-FA2328A0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906-F371-4B9B-BDEA-6A49AFF0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47C-0898-41C5-901A-A4C9DFD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0AD4-B27F-4419-828F-BCD5802A7C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5E91-480C-4024-914B-C68C81D934ED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Verdana"/>
              </a:rPr>
              <a:t>Автор работы: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Verdana"/>
              </a:rPr>
              <a:t>Дьяконов Иван 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c5b5"/>
                </a:solidFill>
                <a:latin typeface="Verdana"/>
              </a:rPr>
              <a:t>История рэпа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pic>
        <p:nvPicPr>
          <p:cNvPr id="84" name="에미넴-You Don't Know.mp3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02280" y="1523520"/>
            <a:ext cx="358128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эп-индустрия набирала обороты. Брейк-данс вошел в моду в Европе. Граффити можно было встретить не только в США, Германии или Италии, но и в Японии. Хип-хоп стал частью массовой културы. Во многом это произошло благодаря американскому продюсеру Расселу Симмонзу (Russell Simmons). Начиная с 1983 г. он вывел в свет таких исполнителей, как Эл Эл Кул Джей, группы «Бисти Бойз» ,«Ран Ди-Эм-Си»,  «Паблик Энеми» (Public Enemy)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3" descr="IMG"/>
          <p:cNvPicPr/>
          <p:nvPr/>
        </p:nvPicPr>
        <p:blipFill>
          <a:blip r:embed="rId1"/>
          <a:stretch/>
        </p:blipFill>
        <p:spPr>
          <a:xfrm>
            <a:off x="1230480" y="1523880"/>
            <a:ext cx="37382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90760" y="1125360"/>
            <a:ext cx="480060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«Ран Ди-Эм-Си» по праву считаются «королями рэпа» 80-х гг. Дебютный альбом группы появился в 1984 г. и сразу заработал «золото». Затем были концертные туры, киносъемки, участие в престижных фестивалях. Но настоящая известность пришла к музыкантам после выхода сингла «Иди туда». Альбом «Ад поднимается» был распродан в США в количестве трех миллионов экземпляров. Он стал первым «платиновым» рэп-альбомом и первым диском, занявшим верхние позиции в хит-парадах рок-музыки. «Ран Ди-Эм-Си» оказались и первой рэп-группой, показанной по кабельному музыкальному телевидению Эм-ти-ви (MTV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IMG_0001"/>
          <p:cNvPicPr/>
          <p:nvPr/>
        </p:nvPicPr>
        <p:blipFill>
          <a:blip r:embed="rId1"/>
          <a:stretch/>
        </p:blipFill>
        <p:spPr>
          <a:xfrm>
            <a:off x="1143000" y="1752480"/>
            <a:ext cx="33051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125000"/>
            <a:ext cx="388620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ще одна знаковая фигура на рэп-сцене – Эм Си Хэммер. Его второй диск «Пожалуйста, Хэммер, не причиняй им вреда» разошелся десятимиллионным тиражом и оказался наиболее раскупаемым альбомом в истории рэп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песня с этой пластинки – «Это нельзя потрогать»– завоевала премию «Грэмми» в двух номинация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м Си Хэммер доказал, что рэп может быть по-настоящему коммерчески успешны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3" descr="Хаммер"/>
          <p:cNvPicPr/>
          <p:nvPr/>
        </p:nvPicPr>
        <p:blipFill>
          <a:blip r:embed="rId1"/>
          <a:stretch/>
        </p:blipFill>
        <p:spPr>
          <a:xfrm>
            <a:off x="5557680" y="533520"/>
            <a:ext cx="301176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gangsta"/>
          <p:cNvPicPr/>
          <p:nvPr/>
        </p:nvPicPr>
        <p:blipFill>
          <a:blip r:embed="rId1"/>
          <a:stretch/>
        </p:blipFill>
        <p:spPr>
          <a:xfrm>
            <a:off x="1327320" y="1066680"/>
            <a:ext cx="3713040" cy="5562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01920" y="1267920"/>
            <a:ext cx="386244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тивовес коммерческому рэпу в начале 90-х гг. появился гангста-рэп. Для этого течения характерно более агрессивное звучание и обилие ненормативной лексики в текстах, которые в основном посвящены криминальной тематике и нередко автобиографичны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67080" y="404280"/>
            <a:ext cx="441648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граммный альбом для рэп-сцены Западного побережья – диск «Хроника» (The Chronic) бывшего участника группы “H.B.A.” Доктора Дри, выпущенный в 1992 г. Изобретенный Дри новый стиль, который музыкант назвал джи-фанк (G-funk), пришелся по душе и слушателям, и исполнителям рэпа. Медленные ритмы, глубокие басовые линии, «фанковые» гитары и дополнительный женский вокал – отличительные черты этого стиля. Появилось множество последователей джи-фанка, большинство которых издавались на собственной звукозаписывающей фирме Доктора Дри «Дэт Роу» (Death Row Records). Самому Доктору Дри роль продюсера понравилась, и он с удовольствием помогал начинающим исполнителям. Именно Дри обязаны своим успехом Снуп Доги Дог (Snoop Doggy Dog), Уоррен Джи (Warren G), Тупак Шакур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3" descr="тупэк"/>
          <p:cNvPicPr/>
          <p:nvPr/>
        </p:nvPicPr>
        <p:blipFill>
          <a:blip r:embed="rId1"/>
          <a:stretch/>
        </p:blipFill>
        <p:spPr>
          <a:xfrm>
            <a:off x="270000" y="1523880"/>
            <a:ext cx="41767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447880" y="1447560"/>
            <a:ext cx="3543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ле смерти Тупака Шакура Доктор Дри объявил, что гангстерский рэп исчерпал себя, и покинул «Дэт Роу». Дри продолжает различные новые начинания. Один из его последних подопечных – Эминем – самый заметный исполнитель на сегодняшней рэп-сцен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3" descr="Эминем"/>
          <p:cNvPicPr/>
          <p:nvPr/>
        </p:nvPicPr>
        <p:blipFill>
          <a:blip r:embed="rId1"/>
          <a:stretch/>
        </p:blipFill>
        <p:spPr>
          <a:xfrm>
            <a:off x="380880" y="1600200"/>
            <a:ext cx="502920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3760" y="549360"/>
            <a:ext cx="380988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Восточном побережье большую роль в развитии рэп-движения играет Пафф Дэдди - владелец фирмы звукозаписи «Бэд Бой Энтертейнмент» (Bad Boy Entertainment). Главным музыкантом этой фирмы, да и всего нью-йоркского рэпа в целом, был Ноториус Би Ай Джи. Но он был убит через шесть месяцев после Шакура при схожих обстоятельствах. Второй альбом Би Ай Джи, выпущенный уже после его смерти, стал шестикратно «платиновым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Пдиди"/>
          <p:cNvPicPr/>
          <p:nvPr/>
        </p:nvPicPr>
        <p:blipFill>
          <a:blip r:embed="rId1"/>
          <a:stretch/>
        </p:blipFill>
        <p:spPr>
          <a:xfrm>
            <a:off x="685800" y="1890720"/>
            <a:ext cx="495288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3573000"/>
            <a:ext cx="7786800" cy="30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эп стал не только голосом нескольких поколений городской молодежи, но и колыбелью современной клубной культуры. Именно на рэп-вечеринках зародилась техника игры, которая сейчас повсеместно используется в танцевальных клубах; именно на таких вечеринках начал формироваться образ современного диск-жоке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3" descr="Уилл Смит"/>
          <p:cNvPicPr/>
          <p:nvPr/>
        </p:nvPicPr>
        <p:blipFill>
          <a:blip r:embed="rId1"/>
          <a:stretch/>
        </p:blipFill>
        <p:spPr>
          <a:xfrm>
            <a:off x="3200400" y="3808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Винни пух"/>
          <p:cNvPicPr/>
          <p:nvPr/>
        </p:nvPicPr>
        <p:blipFill>
          <a:blip r:embed="rId1"/>
          <a:stretch/>
        </p:blipFill>
        <p:spPr>
          <a:xfrm>
            <a:off x="2438280" y="609480"/>
            <a:ext cx="5087880" cy="3189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55720" y="4095720"/>
            <a:ext cx="72360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ожно без преувеличения сказать, что культура хип-хоп дала толчок развитию всей электронной танцевальной музыки 90-х гг. В начале нового тысячелетия рэп переживает очередной подъем и, вероятно, в будущем подарит своим поклонникам еще немало интересных исполнител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47880" y="1447560"/>
            <a:ext cx="3543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В середине 70-х гг. в США распространились дискотеки. Здесь парила музыка диско. Ориентированная на так называемый средний класс, она идеально подходила для отдыха в конце рабочей недели. Танцевальный ритм, незатейливые мелодии и простые тексты обеспечили диско коммерческий успех. Пластинки продавались огромными тиражами, сотнями открывались ночные клубы (подчас довольно дорогие).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Picture 3" descr="50центов"/>
          <p:cNvPicPr/>
          <p:nvPr/>
        </p:nvPicPr>
        <p:blipFill>
          <a:blip r:embed="rId1"/>
          <a:stretch/>
        </p:blipFill>
        <p:spPr>
          <a:xfrm>
            <a:off x="1900080" y="1447920"/>
            <a:ext cx="325296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102280" y="475920"/>
            <a:ext cx="35812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днако некоторым слоям населения такой отдых был не по карману. И поэтому вполне закономерно, что появилась новая танцевальная музыка, доступная всем – независимо от материального положения. Постепенно она завоевала свою аудиторию. Назвали эту музыку «рэп». Родина рэпа – бедный район Нью-Йорка – Южный Бронкс. Именно здесь в начале 70-х гг., возникло явление, которое позднее стали именовать культурой хип-хо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Picture 3" descr="manhattan"/>
          <p:cNvPicPr/>
          <p:nvPr/>
        </p:nvPicPr>
        <p:blipFill>
          <a:blip r:embed="rId1"/>
          <a:stretch/>
        </p:blipFill>
        <p:spPr>
          <a:xfrm>
            <a:off x="609480" y="380880"/>
            <a:ext cx="4876920" cy="36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граффити"/>
          <p:cNvPicPr/>
          <p:nvPr/>
        </p:nvPicPr>
        <p:blipFill>
          <a:blip r:embed="rId1"/>
          <a:stretch/>
        </p:blipFill>
        <p:spPr>
          <a:xfrm>
            <a:off x="1295280" y="228600"/>
            <a:ext cx="7467840" cy="4348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69800" y="4647960"/>
            <a:ext cx="7313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рмины «рэп» и «хип-хоп» часто употребляют как синонимы, что не совсем верно. Хип-хоп (hip hop) включает в себя настенные росписи – граффити (um. Graffity – «нацарапанные»), уникальный по своей пластичности танец брейк-данс (break dance), манеру спортивно одеваться и, наконец, музыкальное направление рэп (rap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24280" y="907920"/>
            <a:ext cx="395928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Ключевая фигура в истории рэпа – Кул Ди-Джей Херк. Этот диск-жокей появился в Южном Бронксе в 1967 г. Именно он одним из первых начал использовать лупинг– циклическое воспроизведение определенного звукового фрагмента или сэмпла (sample – “образец”). В качестве сэмплов Херк использовал брейки– места в музыкальной композиции, где основные инструменты временно умолкают и слышны только басы и ударные или одни ударные. Из-под рук диск-жокея выходил сплошной ритм, под который было удобно танцевать брейк-данс, чем с удовольствием и пользовались слушател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3" descr="кул ди джей"/>
          <p:cNvPicPr/>
          <p:nvPr/>
        </p:nvPicPr>
        <p:blipFill>
          <a:blip r:embed="rId1"/>
          <a:stretch/>
        </p:blipFill>
        <p:spPr>
          <a:xfrm>
            <a:off x="473040" y="914400"/>
            <a:ext cx="42292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02280" y="764640"/>
            <a:ext cx="358128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«Крестным отцом» рэпа считают Грэндмастера Флэша. Флэп ставил рядом с собой два проигрывателя с одинаковой записью и попеременно включал их. Пока нужный отрывок воспроизводился с первой пластинки, диск-жокей имел достаточно времени, чтобы отыскать начало данного фрагмента на второй. Кроме того, во время воспроизведения первого диска Флэш производил различные манипуляции со вторым и добивался очень интересных звуковых эффектов. Данная техника получила название скрэтчинг. В 1976 г. Грэндмастер Флэш решил, что ему не помешает напарник-вокалист. Опыт удался, и в результате Грэндмастер сформировал собственную группу «Фьюриос Файв»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3" descr="флэш"/>
          <p:cNvPicPr/>
          <p:nvPr/>
        </p:nvPicPr>
        <p:blipFill>
          <a:blip r:embed="rId1"/>
          <a:stretch/>
        </p:blipFill>
        <p:spPr>
          <a:xfrm>
            <a:off x="380880" y="1481040"/>
            <a:ext cx="49532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1640" y="476280"/>
            <a:ext cx="4111560" cy="60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Рэп действительно доступен каждому. Для его исполнения не обязательно использовать дорогостоящие музыкальные инструменты – достаточно двух проигрывателей, чужой музыки для сэмплов, умения рифмовать строчки и немного фантазии. Вскоре появилось огромное количество молодежных групп, исполнявших свою музыку и под открытым небом, и в клубах. Тексты в основном были посвящены тяготам жизни в бедных кварталах больших городов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Picture 3" descr="Баста Раймс"/>
          <p:cNvPicPr/>
          <p:nvPr/>
        </p:nvPicPr>
        <p:blipFill>
          <a:blip r:embed="rId1"/>
          <a:stretch/>
        </p:blipFill>
        <p:spPr>
          <a:xfrm>
            <a:off x="415800" y="457200"/>
            <a:ext cx="3908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TYDU9"/>
          <p:cNvPicPr/>
          <p:nvPr/>
        </p:nvPicPr>
        <p:blipFill>
          <a:blip r:embed="rId1"/>
          <a:stretch/>
        </p:blipFill>
        <p:spPr>
          <a:xfrm>
            <a:off x="2286000" y="380880"/>
            <a:ext cx="5286240" cy="3965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4365720"/>
            <a:ext cx="73134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1979 г. Группа «Шугархилл Гэнг» выпустила сингл «Восторг рэпера» Пластинка разошлась двухмиллионным тиражом в США и заняла почетные места в хит-парадах многих стран. С нее начался переход рэпа с улиц и дискотек в студии звукозапис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15640" y="4095720"/>
            <a:ext cx="787572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В 1980 г. лучшим диск-жокеем Нью-Йорка был признан Африка Бамбаатаа. Через два года вышли его первые синглы «Сенсация джаззи» (Jazzy Sensation) и «Планета Рок» (Planet Rock)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В этих и последующих студийных работах Бамбаатаа заложил основы многих танцевальных течений конца 80-х гг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3" descr="Aqppuka"/>
          <p:cNvPicPr/>
          <p:nvPr/>
        </p:nvPicPr>
        <p:blipFill>
          <a:blip r:embed="rId1"/>
          <a:stretch/>
        </p:blipFill>
        <p:spPr>
          <a:xfrm>
            <a:off x="2438280" y="533520"/>
            <a:ext cx="4448160" cy="333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32:32Z</dcterms:created>
  <dc:creator>svetadyak</dc:creator>
  <dc:description/>
  <dc:language>en-US</dc:language>
  <cp:lastModifiedBy>Коля</cp:lastModifiedBy>
  <dcterms:modified xsi:type="dcterms:W3CDTF">2013-03-20T19:34:20Z</dcterms:modified>
  <cp:revision>3</cp:revision>
  <dc:subject/>
  <dc:title>История рэ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49</vt:lpwstr>
  </property>
</Properties>
</file>