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0C1B-C6EC-470A-8BE5-9FBE395E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E678-76BF-47BC-89EF-6BE493EC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67B-7ED9-41AA-B612-F742D847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FD86-3B56-45A9-B50A-37552B5C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2C83-28B7-4E7A-ACB7-466D277B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C7EA-33D2-4D88-8410-58A1C94F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A49B-5816-49D0-8E09-D2CA3733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F4E3-CC74-45CF-87F5-EABE551E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DEB7-D733-4F47-B71D-E3FD0957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6926-B5CF-40C8-894E-D5A8E2BC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F31F-58DC-4BD6-96AD-8AEA7BE0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48C-D343-4079-A39E-F94A678A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614E-7B32-4187-9EAC-C7A67045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FCD2-E8F5-449A-B417-6666F732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B9EE-7F18-4297-92AB-D1624A6D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5C4B-AA0C-4409-98E8-DC51FB54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D876-3E30-4EE7-BCB7-D0BD4FE3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A19A-EF4D-40ED-995B-9BD0889F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A94-D201-44A6-AE8A-D0311D72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67A5-5ECF-4C79-96D5-94C04259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8425-20C7-4DAC-824C-92E0A55B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38F-8689-40BB-B10B-82C6EE1F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15E7-3F8F-4B0B-B32A-D5D7A0D7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A86B-2C93-4CD6-B17C-7FCBDEC2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DD92-A7B8-4065-A856-7465C52426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7201-EB6B-4F5E-8357-2F3E87A6439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ё есть числ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ворили мудрецы, подчёрки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обычайно важную роль чисел в жизни лю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 rot="20488200">
            <a:off x="1403280" y="691920"/>
            <a:ext cx="8551800" cy="27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Путешествие в историю чисе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64" name=""/>
          <p:cNvSpPr/>
          <p:nvPr/>
        </p:nvSpPr>
        <p:spPr>
          <a:xfrm>
            <a:off x="3635280" y="6237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втор: Семиков Виктор, ученик 11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3080" t="40813" r="53497" b="23444"/>
          <a:stretch/>
        </p:blipFill>
        <p:spPr>
          <a:xfrm>
            <a:off x="2627280" y="549360"/>
            <a:ext cx="6265800" cy="5329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 rot="5400000">
            <a:off x="-1909800" y="2421000"/>
            <a:ext cx="6626160" cy="20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Berlin Sans FB Demi"/>
              </a:rPr>
              <a:t>Славянский алфавит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ассмотренные нами иероглифические и алфавитные системы счисления имели один существенный недостаток – в них было очень трудно выполнять арифметические операции. Этого неудобства нет у позиционных систем. Система счисления называется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озиционной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, если количественные значения символов, используемых для записи чисел, зависят от их положения в коде чис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сновные достоинства любой позиционной системы счисления – простота выполнения арифметических операций  и ограниченное количество символов, необходимых для записи любых чисе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 rot="290400">
            <a:off x="394920" y="-83880"/>
            <a:ext cx="8278920" cy="19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зиционные системы счисления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Широкое распространение до первой трети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века имели элементы двенадцатеричной системы счисления. В двенадцатеричной системе счисления более удобно производить расчёты ,чем в десятичной. Тем не менее, дюжина достаточно прочно вошла в нашу жизнь: В сутках две дюжины часов, час делится на пять дюжин минут, круг содержит тридцать дюжин градусов, фут делится на двенадцать дюйм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 вот шведский король Карл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II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 1717 году увлекался восьмеричной системой, считал её более удобной, чем десятичной, и намеревался королевским указом ввести её как общегосударственную. Но ввести её ему так и не удалось из-за неожиданной смерти корол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55640" y="692280"/>
            <a:ext cx="7777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auhaus 93"/>
              </a:rPr>
              <a:t>Другие позиционные 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auhaus 93"/>
              <a:ea typeface="Bauhaus 93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auhaus 93"/>
              </a:rPr>
              <a:t>системы счисления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auhaus 93"/>
              <a:ea typeface="Bauhaus 9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Использована  литерату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Информатика: Учебник для 6 класса/ Л. Л. Босова.- 5-е изд. –М.: БИНОМ. Лаборатория знаний, 2007. – 192 с. :и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форматика и информационные технологии. Учебник 10-11 классов / Н. Д. Угринович. – 2-е изд. – М.: БИНОМ. Лаборатория знаний, 2005. – 511 с.: ил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4000" y="2205000"/>
            <a:ext cx="7786440" cy="27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римерно в третьем тысячелетии до нашей эры египтяне придумали свою числовую систему, в которой для обозначения ключевых чисел использовались специальные значки – иероглифы. Вот он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 rot="21287400">
            <a:off x="1042920" y="476280"/>
            <a:ext cx="75405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Обозначение чисел и счёт в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Древнем Египт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 10  100  1000  10000  100000  1000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С течением времени эти знаки изменились и приобрели более простой ви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  10 100  1000  10000  100000  1000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826920" y="907920"/>
            <a:ext cx="411480" cy="770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1332000" y="907920"/>
            <a:ext cx="576000" cy="792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2195640" y="907920"/>
            <a:ext cx="431640" cy="720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3132000" y="981000"/>
            <a:ext cx="503280" cy="647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4356000" y="981000"/>
            <a:ext cx="428760" cy="719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9"/>
          <a:stretch/>
        </p:blipFill>
        <p:spPr>
          <a:xfrm>
            <a:off x="5867280" y="981000"/>
            <a:ext cx="495360" cy="649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7451640" y="981000"/>
            <a:ext cx="695520" cy="592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1"/>
          <a:stretch/>
        </p:blipFill>
        <p:spPr>
          <a:xfrm>
            <a:off x="611280" y="5084640"/>
            <a:ext cx="419040" cy="525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2"/>
          <a:stretch/>
        </p:blipFill>
        <p:spPr>
          <a:xfrm>
            <a:off x="1547640" y="5084640"/>
            <a:ext cx="304920" cy="454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3"/>
          <a:stretch/>
        </p:blipFill>
        <p:spPr>
          <a:xfrm>
            <a:off x="2268360" y="5084640"/>
            <a:ext cx="358920" cy="520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4"/>
          <a:stretch/>
        </p:blipFill>
        <p:spPr>
          <a:xfrm>
            <a:off x="3203640" y="5084640"/>
            <a:ext cx="431640" cy="516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5"/>
          <a:stretch/>
        </p:blipFill>
        <p:spPr>
          <a:xfrm>
            <a:off x="4356000" y="5084640"/>
            <a:ext cx="503280" cy="506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6"/>
          <a:stretch/>
        </p:blipFill>
        <p:spPr>
          <a:xfrm>
            <a:off x="5796000" y="5084640"/>
            <a:ext cx="581040" cy="506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7"/>
          <a:stretch/>
        </p:blipFill>
        <p:spPr>
          <a:xfrm>
            <a:off x="7596360" y="5084640"/>
            <a:ext cx="4950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Чтобы изобразить 3 252, рисовали три цветка лотоса(3 тысячи), два свёрнутых пальмовых листа(2 сотни), пять дуг(5 десятков) и два шеста(2 единицы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Система счисления в Древнего Египта является непозиционно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916360" y="4149720"/>
            <a:ext cx="360360" cy="503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276720" y="4149720"/>
            <a:ext cx="360360" cy="503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3708360" y="4149720"/>
            <a:ext cx="360360" cy="503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4140360" y="4149720"/>
            <a:ext cx="266400" cy="503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4500720" y="4149720"/>
            <a:ext cx="266400" cy="503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4859280" y="4149720"/>
            <a:ext cx="371520" cy="503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5292720" y="4149720"/>
            <a:ext cx="371520" cy="503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5724360" y="4149720"/>
            <a:ext cx="371520" cy="503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6156360" y="4149720"/>
            <a:ext cx="371520" cy="503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6588000" y="4149720"/>
            <a:ext cx="371520" cy="503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"/>
          <a:stretch/>
        </p:blipFill>
        <p:spPr>
          <a:xfrm>
            <a:off x="7020000" y="4149720"/>
            <a:ext cx="720720" cy="5032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4"/>
          <a:stretch/>
        </p:blipFill>
        <p:spPr>
          <a:xfrm>
            <a:off x="7812000" y="4149720"/>
            <a:ext cx="7207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77720" y="1622520"/>
            <a:ext cx="805968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основе римской системы счисления лежат знаки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один палец) для числа 1,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раскрытая ладонь) для числа 5,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X(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ве сложенные ладони) для 10, а так же специальные знаки для обозначения 50,100,500 и 1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 rot="21376800">
            <a:off x="324000" y="189000"/>
            <a:ext cx="864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имская система счислен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 rot="20765400">
            <a:off x="4932360" y="4149720"/>
            <a:ext cx="18669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чёные предполагают, что знак для числа 100 имел вид паучка, для числа 50 – вид верхней половины паучка, которая трансформировалась в знак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ля обозначения чисел 100,500 и 1000 стали применять первые буквы латинских слов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entum –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то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emimille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ловина тысячи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ille –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ысяч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2050920" y="2708280"/>
            <a:ext cx="936720" cy="720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3059280" y="2781360"/>
            <a:ext cx="811080" cy="582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995640" y="2708280"/>
            <a:ext cx="1008000" cy="720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6156360" y="2637000"/>
            <a:ext cx="647640" cy="79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5148360" y="2781360"/>
            <a:ext cx="882720" cy="582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6948360" y="2781360"/>
            <a:ext cx="811440" cy="582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667640" y="2349360"/>
            <a:ext cx="108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ff00"/>
                </a:solidFill>
                <a:latin typeface="Castellar"/>
              </a:rPr>
              <a:t>L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9144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Алфавитной нумерацией пользовались также южные и восточные славянские народы. У одних народов числовые значения букв установились в порядке славянского алфавита, у других же роль цифр играли не все буквы славянского алфавита, а только те из них, которые имелись  и в греческом алфави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252360" y="0"/>
            <a:ext cx="979308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лавянский цифровой алфавит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914400" y="115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д буквой обозначавшей цифру, ставился специальный значок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итл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 этом числовые значения букв возрастали в том же порядке, в каком следовали буквы в греческом алфавите. Например: если записать числа 55,288,1 и 498, то получится фраз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иже приведён греческий и славянский алфави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2484360" y="4108320"/>
            <a:ext cx="47516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078760" cy="4876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611280" y="333360"/>
            <a:ext cx="806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реческий алфавит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5:41:49Z</dcterms:created>
  <dc:creator>User</dc:creator>
  <dc:description/>
  <dc:language>en-US</dc:language>
  <cp:lastModifiedBy>User</cp:lastModifiedBy>
  <dcterms:modified xsi:type="dcterms:W3CDTF">2009-01-29T07:02:09Z</dcterms:modified>
  <cp:revision>14</cp:revision>
  <dc:subject/>
  <dc:title>Путешествие в историю чисел</dc:title>
</cp:coreProperties>
</file>