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755-143F-401C-8AB1-20E46A1E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D74-88F7-4238-B664-A30F959D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582-E007-4B39-B48A-E797107B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F2F-5181-4BB1-9525-42675F6E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1DDC-81A7-4D42-8C8C-6ED0D642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B8C8-84F1-425E-80BC-C57585B8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91EB-533E-42C2-A20E-7FDF3430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5AD4-7472-4268-8E4A-8D647C35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41D2-9678-4C73-AD5B-F3DA1A52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CD16-ED3D-4042-AD4A-98939338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732-25B1-404D-8240-412095C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38B-9C04-497F-945B-FC7E2C09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1AA1-1C2C-4A53-8385-679074A1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59C1-F68A-4AEA-9662-FD710BC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3494-F281-4F96-AF7F-27ED360E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36C-A48F-4E44-8A22-FE831F7A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559C-ADC9-48A3-8BBC-3B2C21CA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DE5-29EA-4F5D-ACF4-DD310F7D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231-E13A-4027-9E93-D8418706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879-556B-4FCF-9A0C-ED40210A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E49-E304-43E8-AC63-33D79DE8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E72-B2BC-4D2F-88CB-9293BAE6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A9A-85B7-4056-B06C-318D812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B32-7335-4F2F-8B0E-9F86508D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92CD-0F86-4A25-B1FA-A447A7ABAB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65D-03D2-49BA-9533-1FACBDE0A9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ё есть числ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ворили мудрецы, подчёрки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ычайно важную роль чисел в жизни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 rot="20488200">
            <a:off x="1403280" y="691920"/>
            <a:ext cx="8551800" cy="27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утешествие в историю чис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6237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втор: Семиков Виктор, ученик 11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3080" t="40813" r="53497" b="23444"/>
          <a:stretch/>
        </p:blipFill>
        <p:spPr>
          <a:xfrm>
            <a:off x="2627280" y="549360"/>
            <a:ext cx="6265800" cy="532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 rot="5400000">
            <a:off x="-1909800" y="2421000"/>
            <a:ext cx="662616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erlin Sans FB Demi"/>
              </a:rPr>
              <a:t>Славянский алфавит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ссмотренные нами иероглифические и алфавитные системы счисления имели один существенный недостаток – в них было очень трудно выполнять арифметические операции. Этого неудобства нет у позиционных систем. Система счисления называется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зиционно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 если количественные значения символов, используемых для записи чисел, зависят от их положения в коде чис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сновные достоинства любой позиционной системы счисления – простота выполнения арифметических операций  и ограниченное количество символов, необходимых для записи любых чисе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 rot="290400">
            <a:off x="394920" y="-83880"/>
            <a:ext cx="827892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иционные системы счислени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Широкое распространение до первой трет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века имели элементы двенадцатеричной системы счисления. В двенадцатеричной системе счисления более удобно производить расчёты ,чем в десятичной. Тем не менее, дюжина достаточно прочно вошла в нашу жизнь: В сутках две дюжины часов, час делится на пять дюжин минут, круг содержит тридцать дюжин градусов, фут делится на двенадцать дюй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 вот шведский король Карл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1717 году увлекался восьмеричной системой, считал её более удобной, чем десятичной, и намеревался королевским указом ввести её как общегосударственную. Но ввести её ему так и не удалось из-за неожиданной смерти коро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55640" y="692280"/>
            <a:ext cx="7777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auhaus 93"/>
              </a:rPr>
              <a:t>Другие позиционные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auhaus 93"/>
              <a:ea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auhaus 93"/>
              </a:rPr>
              <a:t>системы счислен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auhaus 93"/>
              <a:ea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спользована  литера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нформатика: Учебник для 6 класса/ Л. Л. Босова.- 5-е изд. –М.: БИНОМ. Лаборатория знаний, 2007. – 192 с. :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форматика и информационные технологии. Учебник 10-11 классов / Н. Д. Угринович. – 2-е изд. – М.: БИНОМ. Лаборатория знаний, 2005. – 511 с.: ил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778644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имерно в третьем тысячелетии до нашей эры египтяне придумали свою числовую систему, в которой для обозначения ключевых чисел использовались специальные значки – иероглифы. Вот он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 rot="21287400">
            <a:off x="1042920" y="476280"/>
            <a:ext cx="754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Обозначение чисел и счёт в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Древнем Егип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10  100  1000  10000  100000  100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 течением времени эти знаки изменились и приобрели более простой ви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 10 100  1000  10000  100000  100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26920" y="907920"/>
            <a:ext cx="411480" cy="770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1332000" y="907920"/>
            <a:ext cx="576000" cy="792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2195640" y="90792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3132000" y="98100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4356000" y="981000"/>
            <a:ext cx="428760" cy="7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5867280" y="981000"/>
            <a:ext cx="495360" cy="649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7451640" y="981000"/>
            <a:ext cx="695520" cy="592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611280" y="5084640"/>
            <a:ext cx="419040" cy="525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1547640" y="5084640"/>
            <a:ext cx="304920" cy="454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3"/>
          <a:stretch/>
        </p:blipFill>
        <p:spPr>
          <a:xfrm>
            <a:off x="2268360" y="5084640"/>
            <a:ext cx="358920" cy="520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4"/>
          <a:stretch/>
        </p:blipFill>
        <p:spPr>
          <a:xfrm>
            <a:off x="3203640" y="5084640"/>
            <a:ext cx="431640" cy="516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5"/>
          <a:stretch/>
        </p:blipFill>
        <p:spPr>
          <a:xfrm>
            <a:off x="4356000" y="5084640"/>
            <a:ext cx="503280" cy="50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6"/>
          <a:stretch/>
        </p:blipFill>
        <p:spPr>
          <a:xfrm>
            <a:off x="5796000" y="5084640"/>
            <a:ext cx="581040" cy="506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7"/>
          <a:stretch/>
        </p:blipFill>
        <p:spPr>
          <a:xfrm>
            <a:off x="7596360" y="5084640"/>
            <a:ext cx="4950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бы изобразить 3 252, рисовали три цветка лотоса(3 тысячи), два свёрнутых пальмовых листа(2 сотни), пять дуг(5 десятков) и два шеста(2 единицы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истема счисления в Древнего Египта является непозиционн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276720" y="414972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708360" y="414972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4140360" y="4149720"/>
            <a:ext cx="266400" cy="503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4500720" y="4149720"/>
            <a:ext cx="266400" cy="50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485928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529272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572436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615636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658800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7020000" y="4149720"/>
            <a:ext cx="720720" cy="503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7812000" y="4149720"/>
            <a:ext cx="720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77720" y="1622520"/>
            <a:ext cx="805968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основе римской системы счисления лежат знаки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один палец) для числа 1,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раскрытая ладонь) для числа 5,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X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ве сложенные ладони) для 10, а так же специальные знаки для обозначения 50,100,500 и 1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 rot="21376800">
            <a:off x="324000" y="189000"/>
            <a:ext cx="864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имская система счис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 rot="20765400">
            <a:off x="4932360" y="4149720"/>
            <a:ext cx="1866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чёные предполагают, что знак для числа 100 имел вид паучка, для числа 50 – вид верхней половины паучка, которая трансформировалась в знак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ля обозначения чисел 100,500 и 1000 стали применять первые буквы латинских слов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entum –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о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mimille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ловина тысячи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lle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ысяч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050920" y="2708280"/>
            <a:ext cx="936720" cy="72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059280" y="2781360"/>
            <a:ext cx="811080" cy="582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995640" y="2708280"/>
            <a:ext cx="1008000" cy="720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6156360" y="2637000"/>
            <a:ext cx="647640" cy="79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5148360" y="2781360"/>
            <a:ext cx="882720" cy="582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948360" y="2781360"/>
            <a:ext cx="811440" cy="582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67640" y="234936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Castellar"/>
              </a:rPr>
              <a:t>L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лфавитной нумерацией пользовались также южные и восточные славянские народы. У одних народов числовые значения букв установились в порядке славянского алфавита, у других же роль цифр играли не все буквы славянского алфавита, а только те из них, которые имелись  и в греческом алфав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252360" y="0"/>
            <a:ext cx="9793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авянский цифровой алфавит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14400" y="11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д буквой обозначавшей цифру, ставился специальный значо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тл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этом числовые значения букв возрастали в том же порядке, в каком следовали буквы в греческом алфавите. Например: если записать числа 55,288,1 и 498, то получится фра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иже приведён греческий и славянский алфави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484360" y="4108320"/>
            <a:ext cx="4751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78760" cy="4876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611280" y="333360"/>
            <a:ext cx="80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еческий алфавит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5:41:49Z</dcterms:created>
  <dc:creator>User</dc:creator>
  <dc:description/>
  <dc:language>en-US</dc:language>
  <cp:lastModifiedBy>User</cp:lastModifiedBy>
  <dcterms:modified xsi:type="dcterms:W3CDTF">2009-01-29T07:02:09Z</dcterms:modified>
  <cp:revision>14</cp:revision>
  <dc:subject/>
  <dc:title>Путешествие в историю чисел</dc:title>
</cp:coreProperties>
</file>