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5.png" ContentType="image/png"/>
  <Override PartName="/ppt/media/image28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2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CF422-7EA2-4169-930B-E564A243F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9D884-AE1A-4C9D-8F93-F69AC6605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831F1-0E8D-4F9E-8C0D-428912EB7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571FF-0D0A-4EF1-8655-1D27FFADD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EF1B5-D163-4C96-B6F0-46C1A9537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232B1-8FE5-4862-BCBD-5FB3529A8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2A62D-13EB-4A5D-BB72-B26698DA9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554FD-9B80-4484-BCA3-028F9DE99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D8B6C-6D35-4A6A-8250-CF43C0A8B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496F3-C4D1-447C-8261-8A9F38217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ED645-B0E8-43CA-A820-096184907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9C3A2-0C38-4BF4-B7E6-17D8F4737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2225C-B2DF-4539-9EBB-B808BA58A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E1C77-C31F-4CA9-90A9-16E68605C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BDD4C-64AA-43F1-8C27-9FB5210AB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CDCE9-3266-43FB-B4C6-7604885A1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E79F5-3998-4F60-89A5-6DEBAEDF0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B5BAA-4D99-4050-92A8-BEAACEF9E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C4E39-F18A-4D99-8A2A-C7052246B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0902D-CC6E-4036-95B7-E6689B768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9D9EE-8182-4154-8C80-6E182A230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5B560-258E-457A-8A54-35AD03924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361ED-5B44-4CFF-ADAC-AEC7EB328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AB20E-CE29-46D8-8595-B184D1D08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393A8-D8F4-4076-8317-B4E15DF2A51E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C9388-519B-4489-B814-B7E064BE671B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13.png"/><Relationship Id="rId13" Type="http://schemas.openxmlformats.org/officeDocument/2006/relationships/image" Target="../media/image14.png"/><Relationship Id="rId14" Type="http://schemas.openxmlformats.org/officeDocument/2006/relationships/image" Target="../media/image15.png"/><Relationship Id="rId15" Type="http://schemas.openxmlformats.org/officeDocument/2006/relationships/image" Target="../media/image16.png"/><Relationship Id="rId16" Type="http://schemas.openxmlformats.org/officeDocument/2006/relationships/image" Target="../media/image17.png"/><Relationship Id="rId17" Type="http://schemas.openxmlformats.org/officeDocument/2006/relationships/image" Target="../media/image18.png"/><Relationship Id="rId1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9.png"/><Relationship Id="rId9" Type="http://schemas.openxmlformats.org/officeDocument/2006/relationships/image" Target="../media/image19.png"/><Relationship Id="rId10" Type="http://schemas.openxmlformats.org/officeDocument/2006/relationships/image" Target="../media/image19.png"/><Relationship Id="rId11" Type="http://schemas.openxmlformats.org/officeDocument/2006/relationships/image" Target="../media/image19.png"/><Relationship Id="rId12" Type="http://schemas.openxmlformats.org/officeDocument/2006/relationships/image" Target="../media/image19.png"/><Relationship Id="rId13" Type="http://schemas.openxmlformats.org/officeDocument/2006/relationships/image" Target="../media/image20.png"/><Relationship Id="rId14" Type="http://schemas.openxmlformats.org/officeDocument/2006/relationships/image" Target="../media/image20.png"/><Relationship Id="rId1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image" Target="../media/image23.png"/><Relationship Id="rId8" Type="http://schemas.openxmlformats.org/officeDocument/2006/relationships/image" Target="../media/image23.png"/><Relationship Id="rId9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сё есть число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”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говорили мудрецы, подчёркива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еобычайно важную роль чисел в жизни люде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 rot="20488200">
            <a:off x="1403280" y="691920"/>
            <a:ext cx="8551800" cy="27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Путешествие в историю чисел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  <p:sp>
        <p:nvSpPr>
          <p:cNvPr id="164" name=""/>
          <p:cNvSpPr/>
          <p:nvPr/>
        </p:nvSpPr>
        <p:spPr>
          <a:xfrm>
            <a:off x="3635280" y="6237360"/>
            <a:ext cx="51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Автор: Семиков Виктор, ученик 11 класс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10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10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10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" descr=""/>
          <p:cNvPicPr/>
          <p:nvPr/>
        </p:nvPicPr>
        <p:blipFill>
          <a:blip r:embed="rId1"/>
          <a:srcRect l="3080" t="40813" r="53497" b="23444"/>
          <a:stretch/>
        </p:blipFill>
        <p:spPr>
          <a:xfrm>
            <a:off x="2627280" y="549360"/>
            <a:ext cx="6265800" cy="532908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 txBox="1"/>
          <p:nvPr/>
        </p:nvSpPr>
        <p:spPr>
          <a:xfrm rot="5400000">
            <a:off x="-1909800" y="2421000"/>
            <a:ext cx="6626160" cy="2016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Berlin Sans FB Demi"/>
              </a:rPr>
              <a:t>Славянский алфавит</a:t>
            </a:r>
            <a:endParaRPr b="1" i="1" lang="en-US" sz="18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Berlin Sans FB Demi"/>
              <a:ea typeface="Berlin Sans FB Dem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Рассмотренные нами иероглифические и алфавитные системы счисления имели один существенный недостаток – в них было очень трудно выполнять арифметические операции. Этого неудобства нет у позиционных систем. Система счисления называется </a:t>
            </a: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позиционной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, если количественные значения символов, используемых для записи чисел, зависят от их положения в коде числ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Основные достоинства любой позиционной системы счисления – простота выполнения арифметических операций  и ограниченное количество символов, необходимых для записи любых чисел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 rot="290400">
            <a:off x="394920" y="-83880"/>
            <a:ext cx="8278920" cy="198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озиционные системы счисления</a:t>
            </a:r>
            <a:endParaRPr b="0" i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468360" y="19890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Широкое распространение до первой трети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XX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 века имели элементы двенадцатеричной системы счисления. В двенадцатеричной системе счисления более удобно производить расчёты ,чем в десятичной. Тем не менее, дюжина достаточно прочно вошла в нашу жизнь: В сутках две дюжины часов, час делится на пять дюжин минут, круг содержит тридцать дюжин градусов, фут делится на двенадцать дюймо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А вот шведский король Карл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XII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в 1717 году увлекался восьмеричной системой, считал её более удобной, чем десятичной, и намеревался королевским указом ввести её как общегосударственную. Но ввести её ему так и не удалось из-за неожиданной смерти короля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755640" y="692280"/>
            <a:ext cx="7777080" cy="1584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Bauhaus 93"/>
              </a:rPr>
              <a:t>Другие позиционные </a:t>
            </a:r>
            <a:endParaRPr b="1" i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Bauhaus 93"/>
              <a:ea typeface="Bauhaus 93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Bauhaus 93"/>
              </a:rPr>
              <a:t>системы счисления</a:t>
            </a:r>
            <a:endParaRPr b="1" i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Bauhaus 93"/>
              <a:ea typeface="Bauhaus 9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Использована  литератур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 Информатика: Учебник для 6 класса/ Л. Л. Босова.- 5-е изд. –М.: БИНОМ. Лаборатория знаний, 2007. – 192 с. :и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нформатика и информационные технологии. Учебник 10-11 классов / Н. Д. Угринович. – 2-е изд. – М.: БИНОМ. Лаборатория знаний, 2005. – 511 с.: ил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684000" y="2205000"/>
            <a:ext cx="7786440" cy="27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Примерно в третьем тысячелетии до нашей эры египтяне придумали свою числовую систему, в которой для обозначения ключевых чисел использовались специальные значки – иероглифы. Вот они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 rot="21287400">
            <a:off x="1042920" y="476280"/>
            <a:ext cx="754056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6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66"/>
                </a:solidFill>
                <a:latin typeface="Arial"/>
              </a:rPr>
              <a:t> </a:t>
            </a: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66"/>
                </a:solidFill>
                <a:latin typeface="Arial"/>
              </a:rPr>
              <a:t>Обозначение чисел и счёт в 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66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66"/>
                </a:solidFill>
                <a:latin typeface="Arial"/>
              </a:rPr>
              <a:t>Древнем Египт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66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2000"/>
                            </p:stCondLst>
                            <p:childTnLst>
                              <p:par>
                                <p:cTn id="3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  10  100  1000  10000  100000  1000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С течением времени эти знаки изменились и приобрели более простой вид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   10 100  1000  10000  100000  1000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4"/>
          <a:stretch/>
        </p:blipFill>
        <p:spPr>
          <a:xfrm>
            <a:off x="826920" y="907920"/>
            <a:ext cx="411480" cy="77004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5"/>
          <a:stretch/>
        </p:blipFill>
        <p:spPr>
          <a:xfrm>
            <a:off x="1332000" y="907920"/>
            <a:ext cx="576000" cy="79236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6"/>
          <a:stretch/>
        </p:blipFill>
        <p:spPr>
          <a:xfrm>
            <a:off x="2195640" y="907920"/>
            <a:ext cx="431640" cy="72072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7"/>
          <a:stretch/>
        </p:blipFill>
        <p:spPr>
          <a:xfrm>
            <a:off x="3132000" y="981000"/>
            <a:ext cx="503280" cy="64764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8"/>
          <a:stretch/>
        </p:blipFill>
        <p:spPr>
          <a:xfrm>
            <a:off x="4356000" y="981000"/>
            <a:ext cx="428760" cy="71928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9"/>
          <a:stretch/>
        </p:blipFill>
        <p:spPr>
          <a:xfrm>
            <a:off x="5867280" y="981000"/>
            <a:ext cx="495360" cy="64944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10"/>
          <a:stretch/>
        </p:blipFill>
        <p:spPr>
          <a:xfrm>
            <a:off x="7451640" y="981000"/>
            <a:ext cx="695520" cy="59220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11"/>
          <a:stretch/>
        </p:blipFill>
        <p:spPr>
          <a:xfrm>
            <a:off x="611280" y="5084640"/>
            <a:ext cx="419040" cy="52560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12"/>
          <a:stretch/>
        </p:blipFill>
        <p:spPr>
          <a:xfrm>
            <a:off x="1547640" y="5084640"/>
            <a:ext cx="304920" cy="4543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3"/>
          <a:stretch/>
        </p:blipFill>
        <p:spPr>
          <a:xfrm>
            <a:off x="2268360" y="5084640"/>
            <a:ext cx="358920" cy="52092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14"/>
          <a:stretch/>
        </p:blipFill>
        <p:spPr>
          <a:xfrm>
            <a:off x="3203640" y="5084640"/>
            <a:ext cx="431640" cy="51624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15"/>
          <a:stretch/>
        </p:blipFill>
        <p:spPr>
          <a:xfrm>
            <a:off x="4356000" y="5084640"/>
            <a:ext cx="503280" cy="50652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16"/>
          <a:stretch/>
        </p:blipFill>
        <p:spPr>
          <a:xfrm>
            <a:off x="5796000" y="5084640"/>
            <a:ext cx="581040" cy="50652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17"/>
          <a:stretch/>
        </p:blipFill>
        <p:spPr>
          <a:xfrm>
            <a:off x="7596360" y="5084640"/>
            <a:ext cx="495000" cy="5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7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9" dur="2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4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4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0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5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Например: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24000" y="1557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Чтобы изобразить 3 252, рисовали три цветка лотоса(3 тысячи), два свёрнутых пальмовых листа(2 сотни), пять дуг(5 десятков) и два шеста(2 единицы)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Система счисления в Древнего Египта является непозиционной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2916360" y="4149720"/>
            <a:ext cx="360360" cy="50328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4"/>
          <a:stretch/>
        </p:blipFill>
        <p:spPr>
          <a:xfrm>
            <a:off x="3276720" y="4149720"/>
            <a:ext cx="360360" cy="50328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5"/>
          <a:stretch/>
        </p:blipFill>
        <p:spPr>
          <a:xfrm>
            <a:off x="3708360" y="4149720"/>
            <a:ext cx="360360" cy="50328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6"/>
          <a:stretch/>
        </p:blipFill>
        <p:spPr>
          <a:xfrm>
            <a:off x="4140360" y="4149720"/>
            <a:ext cx="266400" cy="50328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7"/>
          <a:stretch/>
        </p:blipFill>
        <p:spPr>
          <a:xfrm>
            <a:off x="4500720" y="4149720"/>
            <a:ext cx="266400" cy="5032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8"/>
          <a:stretch/>
        </p:blipFill>
        <p:spPr>
          <a:xfrm>
            <a:off x="4859280" y="4149720"/>
            <a:ext cx="371520" cy="50328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9"/>
          <a:stretch/>
        </p:blipFill>
        <p:spPr>
          <a:xfrm>
            <a:off x="5292720" y="4149720"/>
            <a:ext cx="371520" cy="50328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10"/>
          <a:stretch/>
        </p:blipFill>
        <p:spPr>
          <a:xfrm>
            <a:off x="5724360" y="4149720"/>
            <a:ext cx="371520" cy="50328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11"/>
          <a:stretch/>
        </p:blipFill>
        <p:spPr>
          <a:xfrm>
            <a:off x="6156360" y="4149720"/>
            <a:ext cx="371520" cy="50328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12"/>
          <a:stretch/>
        </p:blipFill>
        <p:spPr>
          <a:xfrm>
            <a:off x="6588000" y="4149720"/>
            <a:ext cx="371520" cy="50328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13"/>
          <a:stretch/>
        </p:blipFill>
        <p:spPr>
          <a:xfrm>
            <a:off x="7020000" y="4149720"/>
            <a:ext cx="720720" cy="50328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14"/>
          <a:stretch/>
        </p:blipFill>
        <p:spPr>
          <a:xfrm>
            <a:off x="7812000" y="4149720"/>
            <a:ext cx="720720" cy="5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477720" y="1622520"/>
            <a:ext cx="8059680" cy="28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В основе римской системы счисления лежат знаки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(один палец) для числа 1,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(раскрытая ладонь) для числа 5,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 X(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две сложенные ладони) для 10, а так же специальные знаки для обозначения 50,100,500 и 1000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 rot="21376800">
            <a:off x="324000" y="189000"/>
            <a:ext cx="864072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Римская система счисления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 rot="20765400">
            <a:off x="4932360" y="4149720"/>
            <a:ext cx="1866960" cy="20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395280" y="189000"/>
            <a:ext cx="8229600" cy="57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Учёные предполагают, что знак для числа 100 имел вид паучка, для числа 50 – вид верхней половины паучка, которая трансформировалась в знак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Для обозначения чисел 100,500 и 1000 стали применять первые буквы латинских слов(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Centum –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сто,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Demimille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половина тысячи,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Mille –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тысяча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3"/>
          <a:stretch/>
        </p:blipFill>
        <p:spPr>
          <a:xfrm>
            <a:off x="2050920" y="2708280"/>
            <a:ext cx="936720" cy="72072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4"/>
          <a:stretch/>
        </p:blipFill>
        <p:spPr>
          <a:xfrm>
            <a:off x="3059280" y="2781360"/>
            <a:ext cx="811080" cy="58248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5"/>
          <a:stretch/>
        </p:blipFill>
        <p:spPr>
          <a:xfrm>
            <a:off x="3995640" y="2708280"/>
            <a:ext cx="1008000" cy="72072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6"/>
          <a:stretch/>
        </p:blipFill>
        <p:spPr>
          <a:xfrm>
            <a:off x="6156360" y="2637000"/>
            <a:ext cx="647640" cy="792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7"/>
          <a:stretch/>
        </p:blipFill>
        <p:spPr>
          <a:xfrm>
            <a:off x="5148360" y="2781360"/>
            <a:ext cx="882720" cy="58248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8"/>
          <a:stretch/>
        </p:blipFill>
        <p:spPr>
          <a:xfrm>
            <a:off x="6948360" y="2781360"/>
            <a:ext cx="811440" cy="58248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7667640" y="2349360"/>
            <a:ext cx="1081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ff00"/>
                </a:solidFill>
                <a:latin typeface="Castellar"/>
              </a:rPr>
              <a:t>L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914400" y="21333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Алфавитной нумерацией пользовались также южные и восточные славянские народы. У одних народов числовые значения букв установились в порядке славянского алфавита, у других же роль цифр играли не все буквы славянского алфавита, а только те из них, которые имелись  и в греческом алфавит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-252360" y="0"/>
            <a:ext cx="9793080" cy="1630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Славянский цифровой алфавит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914400" y="1155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Над буквой обозначавшей цифру, ставился специальный значок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~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&lt;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итло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&gt;)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При этом числовые значения букв возрастали в том же порядке, в каком следовали буквы в греческом алфавите. Например: если записать числа 55,288,1 и 498, то получится фраза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Ниже приведён греческий и славянский алфавит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3"/>
          <a:stretch/>
        </p:blipFill>
        <p:spPr>
          <a:xfrm>
            <a:off x="2484360" y="4108320"/>
            <a:ext cx="4751640" cy="6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611280" y="1773360"/>
            <a:ext cx="8078760" cy="487656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 txBox="1"/>
          <p:nvPr/>
        </p:nvSpPr>
        <p:spPr>
          <a:xfrm>
            <a:off x="611280" y="333360"/>
            <a:ext cx="806436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Греческий алфавит</a:t>
            </a:r>
            <a:endParaRPr b="1" i="1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9T05:41:49Z</dcterms:created>
  <dc:creator>User</dc:creator>
  <dc:description/>
  <dc:language>en-US</dc:language>
  <cp:lastModifiedBy>User</cp:lastModifiedBy>
  <dcterms:modified xsi:type="dcterms:W3CDTF">2009-01-29T07:02:09Z</dcterms:modified>
  <cp:revision>14</cp:revision>
  <dc:subject/>
  <dc:title>Путешествие в историю чисел</dc:title>
</cp:coreProperties>
</file>