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5D1-1D80-4C3A-9BC0-727824FB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B24-CB65-4FD4-91A7-39563F3E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28F-12A5-4155-BA57-96AC9727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03C-AEF9-4DEE-8745-30588EE7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B51C-7E57-423A-96AC-DC1921B8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CFC8-2453-4E17-8F4C-5B60B992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671F-BBD1-4E28-B2CA-58B00C63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0F99-0FD8-4BAB-82BB-C4507463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148D-82F1-45EC-B885-C4AF2793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D034-FF21-476F-8B48-152FD9A3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BF3A-B78C-4135-8765-97AACCB3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824-5329-4E63-BD79-6240E104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29C5-9353-4060-8054-42C9A9D1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D1B8-E195-419A-8175-6817A379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B932-1330-443B-B113-0959321F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5677-C833-4692-8FAB-892664DC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EAEB-84A6-4866-9839-718D84C5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28A-DD8F-4455-9719-5E7A3D0C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288-D4F6-4AF1-B9C3-6EE3C91F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AF0-F6CE-44A2-9AA4-0B7F6867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07A-D331-461B-B365-50A8E5EF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2032-1192-4817-88CC-92B99C96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0E4-75FC-41A4-979C-F582E6DB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4AC-49F3-44F5-AD25-F610AA5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6D66-5BFF-44BD-83CB-DF947ACF67C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5CA5-9AAA-4FDA-B29D-0D7C699C569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hyperlink" Target="http://www.rvb.ru/pushkin/02comm/0870.htm#c36" TargetMode="External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835200"/>
            <a:ext cx="824256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5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1524240" cy="1981440"/>
          </a:xfrm>
          <a:prstGeom prst="rect">
            <a:avLst/>
          </a:prstGeom>
          <a:ln w="0">
            <a:noFill/>
          </a:ln>
        </p:spPr>
      </p:pic>
      <p:pic>
        <p:nvPicPr>
          <p:cNvPr id="12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5335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830г. – 16 лет, поступление в Московский университет, байроновские традиции романтической поэзии (исключительность главного героя, недосказанность сюжета, экзотический колорит)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10 лет побывал с бабушкой на Кавказе, сильные впечатления: «Горы Кавказские для меня священны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езответная любовь пятнадцатилетнего поэта к Катеньке Сушково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"Демон" (1829г.) - в центре байронической поэмы - герой, изгой и бунтарь, находящийся в войне с обществом и попирающий его социальные и нравственные нормы; над ним тяготеет "грех", преступление, обычно облеченное тайной и внешне предстающее как страда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Содержимое 4" descr=""/>
          <p:cNvPicPr/>
          <p:nvPr/>
        </p:nvPicPr>
        <p:blipFill>
          <a:blip r:embed="rId3"/>
          <a:stretch/>
        </p:blipFill>
        <p:spPr>
          <a:xfrm>
            <a:off x="5791320" y="4191120"/>
            <a:ext cx="156672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6" descr="Е.А. Сушкова. Миниатюра неизвестного художника"/>
          <p:cNvPicPr/>
          <p:nvPr/>
        </p:nvPicPr>
        <p:blipFill>
          <a:blip r:embed="rId4"/>
          <a:stretch/>
        </p:blipFill>
        <p:spPr>
          <a:xfrm>
            <a:off x="7086600" y="2362320"/>
            <a:ext cx="1771560" cy="21812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5"/>
          <a:stretch/>
        </p:blipFill>
        <p:spPr>
          <a:xfrm>
            <a:off x="914400" y="3049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1" descr="Е.А. Сушкова. Миниатюра неизвестного художника"/>
          <p:cNvPicPr/>
          <p:nvPr/>
        </p:nvPicPr>
        <p:blipFill>
          <a:blip r:embed="rId1"/>
          <a:stretch/>
        </p:blipFill>
        <p:spPr>
          <a:xfrm>
            <a:off x="3124080" y="106668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29" name="Заголовок 4" descr=""/>
          <p:cNvPicPr/>
          <p:nvPr/>
        </p:nvPicPr>
        <p:blipFill>
          <a:blip r:embed="rId2"/>
          <a:stretch/>
        </p:blipFill>
        <p:spPr>
          <a:xfrm>
            <a:off x="450720" y="158760"/>
            <a:ext cx="8315280" cy="968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281952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M-lle Souchkoff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теснине Кавказа я знаю скалу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уда долететь лишь степному орлу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о крест деревянный чернеет над не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ниет он и гнется от бурь и дожд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много уж лет протекло без следов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 тех пор, как он виден с далеких холмов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каждая кверху подъята рука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будто он хочет схватить обла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, если б взойти удалось мне туда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я бы молился и плакал тогда;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после я сбросил бы цепь бытия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с бурею братом назвался бы я!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79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сти, мой друг!., как призрак я лечу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далекий край: печали я ищу;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Хочу грустить, но лишь не пред тобой.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ы можешь жить, не слыша голос мой;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 всех блаженств, отнятых у меня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талось мне одно: видать тебя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т взор, что небо жалостью зажгло.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кончено! -- ни бледное чело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 пасмурный и недовольный взгляд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чем, ничем его не омрачат!..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ня забыть прекрасной нет труда, --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я тебя забуду навсегда;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 мучусь, если мысль ко мне придет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и тебя несчастна убьет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некогда с ланит и с уст мечта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дым слетит, завянет красота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бьется сердце медленней – свинец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ски на нем -- и что всему конец!..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ако ж я желал бы увидать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вой хладный труп, чтобы себе сказать: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его еще! желанья отняты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едняк -- теперь совсем, совсем оставлен ты!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Рисунок 10" descr=""/>
          <p:cNvPicPr/>
          <p:nvPr/>
        </p:nvPicPr>
        <p:blipFill>
          <a:blip r:embed="rId3"/>
          <a:stretch/>
        </p:blipFill>
        <p:spPr>
          <a:xfrm>
            <a:off x="990720" y="1066680"/>
            <a:ext cx="1295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231840" y="-23760"/>
            <a:ext cx="8766000" cy="144468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3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"/>
          <p:cNvPicPr/>
          <p:nvPr/>
        </p:nvPicPr>
        <p:blipFill>
          <a:blip r:embed="rId4"/>
          <a:stretch/>
        </p:blipFill>
        <p:spPr>
          <a:xfrm>
            <a:off x="6477120" y="4267080"/>
            <a:ext cx="1619280" cy="19814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" descr=""/>
          <p:cNvPicPr/>
          <p:nvPr/>
        </p:nvPicPr>
        <p:blipFill>
          <a:blip r:embed="rId5"/>
          <a:stretch/>
        </p:blipFill>
        <p:spPr>
          <a:xfrm>
            <a:off x="6477120" y="1752480"/>
            <a:ext cx="1609560" cy="21002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9"/>
          <p:cNvSpPr/>
          <p:nvPr/>
        </p:nvSpPr>
        <p:spPr>
          <a:xfrm>
            <a:off x="2895480" y="2362320"/>
            <a:ext cx="3353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рест на скал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онастырь на     Казбе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231840" y="92160"/>
            <a:ext cx="8766000" cy="144468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3"/>
          <a:stretch/>
        </p:blipFill>
        <p:spPr>
          <a:xfrm>
            <a:off x="762120" y="17524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"/>
          <p:cNvPicPr/>
          <p:nvPr/>
        </p:nvPicPr>
        <p:blipFill>
          <a:blip r:embed="rId4"/>
          <a:stretch/>
        </p:blipFill>
        <p:spPr>
          <a:xfrm>
            <a:off x="6400800" y="1828800"/>
            <a:ext cx="17715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5"/>
          <a:stretch/>
        </p:blipFill>
        <p:spPr>
          <a:xfrm>
            <a:off x="5867280" y="4267080"/>
            <a:ext cx="1609920" cy="21002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9"/>
          <p:cNvSpPr/>
          <p:nvPr/>
        </p:nvSpPr>
        <p:spPr>
          <a:xfrm>
            <a:off x="2590920" y="245736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рест на скал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онастырь на     Казбе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</a:rPr>
              <a:t>Монастырь на Казбек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ысоко над семьею гор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збек, твой царственный шатер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ияет вечными лучами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вой монастырь за облаками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в небе реющий ковчег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арит, чуть видный, над горами.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Далекий, вожделенный брег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б, сказав прости ущелью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,Подняться к вольной вышине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б, в заоблачную келью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соседство бога скрыться мне!..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2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667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</a:rPr>
              <a:t>Крест на скал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теснине Кавказа я знаю скалу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долететь лишь степному орлу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Но крест деревянный чернеет над ней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Гниет он и гнется от бурь и дождей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много уж лет протекло без следов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 тех пор, как он виден с далеких холм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каждая кверху подъята рука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будто он хочет схватить облака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О если б взойти удалось мне туда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я бы молился и плакал тогда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после я сбросил бы цепь бытия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с бурею братом назвался бы я! 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30 г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айти общее в стихотворен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Найти различия в стихотворен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роанализировать образы и средства их созда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Рассмотреть образ лирического геро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Выдвинуть гипотезу об авторств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Обратиться к фактам биографии поэ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5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3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ихи о Кавказ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Компози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в первой части описывается природа Кавказа, во второй – чувства лирического геро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лежит романтическая антитеза, основанная на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разах-символа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ротивопоставление земного мира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(«цепь бытия» - «ущелье»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ысшего, небесного, горнего мира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(«скала», «крест», «молился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» -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«монастырь», «ковчег», «заоблачная келья», Бог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 образы придают космический масштаб картине (пространство и врем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Лирические геро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моционально показывают свое неудовлетворение земной жизнью и стремление расстаться с земным миром (пунктуация и употребление глаголов условного наклонен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7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Заголовок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6002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ffff"/>
                </a:solidFill>
                <a:uFillTx/>
                <a:latin typeface="Times New Roman"/>
              </a:rPr>
              <a:t>Монастырь на Казбеке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ысоко над семьею гор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збек, твой царственный шатер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ияет вечными лучами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вой монастырь за облаками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в небе реющий ковчег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арит, чуть видный, над горами.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Далекий, вожделенный брег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б, сказав прости ущелью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,Подняться к вольной вышине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б, в заоблачную келью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соседство бога скрыться мне!..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2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95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В звуковой характеристике</a:t>
            </a:r>
            <a:r>
              <a:rPr b="0" i="1" lang="ru-RU" sz="15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ощущается легкость за счет ассонанс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Синтаксис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: восклицания и многоточие говорят о радостном стремлении к высоте, вечности, Богу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Лексика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: важную роль играют светлые эпитеты («царственный», «вечными», «реющий», «вожделенный», «вольной», «заоблачную»), указывающие на стремление к свободе, которую можно обрести в вечности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Пространство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: очень конкретно, «семья гор» (горная цепь), «шатер» Казбека (многогранная форма вершины, покрытая снегом), «монастырь» реет над облаками (облака опускаются ниже вершин и кажется, что монастырь действительно «реет»). Складывается впечатление, что автор видел все это на самом деле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Образы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: Казбек, небо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– образы высоты, 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монастырь, Бог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– образы духовной высоты, 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Небо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– романтический символ иного мира, 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монастырь, келья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– символы одиночества, отречения от мира, отшельничества, спокойстви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05" name="Заголовок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ffff"/>
                </a:solidFill>
                <a:uFillTx/>
                <a:latin typeface="Times New Roman"/>
              </a:rPr>
              <a:t>Крест на скале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теснине Кавказа я знаю скалу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долететь лишь степному орлу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Но крест деревянный чернеет над ней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Гниет он и гнется от бурь и дождей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много уж лет протекло без следов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 тех пор, как он виден с далеких холм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каждая кверху подъята рука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будто он хочет схватить облака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О если б взойти удалось мне туда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я бы молился и плакал тогда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после я сбросил бы цепь бытия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с бурею братом назвался бы я! 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30 г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0381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</a:rPr>
              <a:t>В звуковой характеристике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увствуется напряжение за счет аллитераци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</a:rPr>
              <a:t>Синтаксис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междометие «О» и усилительные частицы «как», «и» и конечное восклицание говорят о душевном надрыве лирического героя, о его стремлении покинуть земной мир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Times New Roman"/>
              </a:rPr>
              <a:t>Лексика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негативная («чернеет», «гниет и гнется», «схватить», «молился и плакал», «цепь», «бурею»), показывает тяжелую внутреннюю борьбу в душе геро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Times New Roman"/>
              </a:rPr>
              <a:t>Пространство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неконкретно, может ли быть скала в теснине (т.е. в ущелье), может ли быть виден крест на скале, которая находится в ущелье, какие могут быть холмы среди Кавказских гор, орел в таком случае должен лететь вниз, а не вверх. Складывается впечатление, что автор видел картину гор давно, ему не важна конкретика, а важен романтический пейз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Times New Roman"/>
              </a:rPr>
              <a:t>Образы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кала, облак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небо) – образы высоты,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цепь быти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образ земной жизни,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литва, слезы – образ Бог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ниющий крест, брат бури (скорее Демон, чем Бог), бур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образы не божественные, это символы духа противоречия и бунтарства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Содержимое 4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175284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3"/>
          <a:stretch/>
        </p:blipFill>
        <p:spPr>
          <a:xfrm>
            <a:off x="533520" y="1523880"/>
            <a:ext cx="1752480" cy="2210040"/>
          </a:xfrm>
          <a:prstGeom prst="rect">
            <a:avLst/>
          </a:prstGeom>
          <a:ln w="0">
            <a:noFill/>
          </a:ln>
        </p:spPr>
      </p:pic>
      <p:sp>
        <p:nvSpPr>
          <p:cNvPr id="112" name="Стрелка вправо 8"/>
          <p:cNvSpPr/>
          <p:nvPr/>
        </p:nvSpPr>
        <p:spPr>
          <a:xfrm rot="10800000">
            <a:off x="2666880" y="2214360"/>
            <a:ext cx="9907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2209680" y="3809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, хорошо знающий Кавказ и его природу, радостно стремящийся подняться к Богу, оставив земной ми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ятежный романтик, на душе которого нет спокойствия, он ищет бури (как будто в буре есть покой?!), душа его рвется между Демоном и Бо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трелка вправо 13"/>
          <p:cNvSpPr/>
          <p:nvPr/>
        </p:nvSpPr>
        <p:spPr>
          <a:xfrm>
            <a:off x="5562720" y="2214720"/>
            <a:ext cx="9903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Заголовок 6" descr=""/>
          <p:cNvPicPr/>
          <p:nvPr/>
        </p:nvPicPr>
        <p:blipFill>
          <a:blip r:embed="rId4"/>
          <a:stretch/>
        </p:blipFill>
        <p:spPr>
          <a:xfrm>
            <a:off x="3548160" y="1352520"/>
            <a:ext cx="24447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10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3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Заголовок 2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04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29 – 29 лет, сватовство к Н.Гончаровой, отъезд на Кавказ (Тифлис, Арзрум), романтическое настроение, воспоминания о пребывании на Кавказе во время южной ссылки. Был в русской армии Паскевича, действовавшей против Турции, война с которой началась в 1828 г. В ходе войны русская армия захватила в северо-восточной части Турции значительную территорию, в том числе старинный армянский город-крепость Арзрум (Эрзерум). Во время путешествия Пушкин вел дорожные записки, легшие в основу очерк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ушкин так описывает свое свидание с монастырем (старинной церковью Цминда Самеба) в книге «Путешествие в Арзрум», в 5 главе: </a:t>
            </a:r>
            <a:r>
              <a:rPr b="0" i="1" lang="ru-RU" sz="1500" spc="-1" strike="noStrike">
                <a:solidFill>
                  <a:srgbClr val="ffc000"/>
                </a:solidFill>
                <a:latin typeface="Times New Roman"/>
              </a:rPr>
              <a:t>«</a:t>
            </a: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Утром, проезжая мимо Казбека, увидел я чудное зрелище. Белые оборванные тучи перетягивались через вершину горы, и </a:t>
            </a:r>
            <a:r>
              <a:rPr b="0" lang="ru-RU" sz="15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уединенный монастырь</a:t>
            </a: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, озаренный лучами солнца, казалось, плавал в воздухе, несомый облаками»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8" descr=""/>
          <p:cNvPicPr/>
          <p:nvPr/>
        </p:nvPicPr>
        <p:blipFill>
          <a:blip r:embed="rId5"/>
          <a:stretch/>
        </p:blipFill>
        <p:spPr>
          <a:xfrm>
            <a:off x="6934320" y="2209680"/>
            <a:ext cx="1923840" cy="237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tretch/>
        </p:blipFill>
        <p:spPr>
          <a:xfrm>
            <a:off x="5638680" y="4038480"/>
            <a:ext cx="1694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Ольга</cp:lastModifiedBy>
  <dcterms:modified xsi:type="dcterms:W3CDTF">2011-01-22T09:37:31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