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7A2E-C057-4178-B175-4722555C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775B-14F9-40AB-9067-D078128E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3719-4EC0-429E-BC90-E204A6F2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2360-CEC5-494A-82FD-07657B3B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3DE9-C7CA-495F-B418-FA1155CA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408F-7E83-4567-9B3A-1F9182F9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E1B6-13DF-4CCB-B96B-9572F838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CFAC-D476-48DB-A541-FBC6086F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F4E1-E316-4700-A740-C73CE824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11CE-6289-4CB5-A02D-F9541663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4AC8-5400-47D0-A505-58C64770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845B-24DD-423C-9A9D-11D63294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2C34-B5D8-4C2D-BB92-0A657CFF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49FF-BBBA-48B6-B902-1F5F521B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BAC3-DEB9-445B-83AD-CC8E0B70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E149-5662-420A-B6F6-CA36228B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B498-069A-48AF-ACA7-60AE3A18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131F-6DAD-48EE-92C4-EF2D747A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3F45-5A35-4092-82C7-D780B46F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3FE3-8BBF-462F-9554-3671C742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FD17-C3D6-4A19-A690-57BE0A30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9D10-F9BC-4FEB-AEF5-BA453C2E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16E4-42F1-4FD8-A9DF-CFEE12E8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7CA3-32B7-4330-89AC-FFFC5CDD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D239-04F5-444C-99F2-20678E448C1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EAE6-D8C2-4298-B2C3-6C9C17C0CA9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hyperlink" Target="http://www.rvb.ru/pushkin/02comm/0870.htm#c36" TargetMode="External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50720" y="835200"/>
            <a:ext cx="824256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5" descr=""/>
          <p:cNvPicPr/>
          <p:nvPr/>
        </p:nvPicPr>
        <p:blipFill>
          <a:blip r:embed="rId1"/>
          <a:stretch/>
        </p:blipFill>
        <p:spPr>
          <a:xfrm>
            <a:off x="5638680" y="1523880"/>
            <a:ext cx="1524240" cy="1981440"/>
          </a:xfrm>
          <a:prstGeom prst="rect">
            <a:avLst/>
          </a:prstGeom>
          <a:ln w="0">
            <a:noFill/>
          </a:ln>
        </p:spPr>
      </p:pic>
      <p:pic>
        <p:nvPicPr>
          <p:cNvPr id="12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53352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03640" indent="-37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830г. – 16 лет, поступление в Московский университет, байроновские традиции романтической поэзии (исключительность главного героя, недосказанность сюжета, экзотический колорит)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10 лет побывал с бабушкой на Кавказе, сильные впечатления: «Горы Кавказские для меня священны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езответная любовь пятнадцатилетнего поэта к Катеньке Сушково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"Демон" (1829г.) - в центре байронической поэмы - герой, изгой и бунтарь, находящийся в войне с обществом и попирающий его социальные и нравственные нормы; над ним тяготеет "грех", преступление, обычно облеченное тайной и внешне предстающее как страдани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Содержимое 4" descr=""/>
          <p:cNvPicPr/>
          <p:nvPr/>
        </p:nvPicPr>
        <p:blipFill>
          <a:blip r:embed="rId3"/>
          <a:stretch/>
        </p:blipFill>
        <p:spPr>
          <a:xfrm>
            <a:off x="5791320" y="4191120"/>
            <a:ext cx="1566720" cy="19764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6" descr="Е.А. Сушкова. Миниатюра неизвестного художника"/>
          <p:cNvPicPr/>
          <p:nvPr/>
        </p:nvPicPr>
        <p:blipFill>
          <a:blip r:embed="rId4"/>
          <a:stretch/>
        </p:blipFill>
        <p:spPr>
          <a:xfrm>
            <a:off x="7086600" y="2362320"/>
            <a:ext cx="1771560" cy="21812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"/>
          <p:cNvPicPr/>
          <p:nvPr/>
        </p:nvPicPr>
        <p:blipFill>
          <a:blip r:embed="rId5"/>
          <a:stretch/>
        </p:blipFill>
        <p:spPr>
          <a:xfrm>
            <a:off x="914400" y="3049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1" descr="Е.А. Сушкова. Миниатюра неизвестного художника"/>
          <p:cNvPicPr/>
          <p:nvPr/>
        </p:nvPicPr>
        <p:blipFill>
          <a:blip r:embed="rId1"/>
          <a:stretch/>
        </p:blipFill>
        <p:spPr>
          <a:xfrm>
            <a:off x="3124080" y="1066680"/>
            <a:ext cx="1219320" cy="1524240"/>
          </a:xfrm>
          <a:prstGeom prst="rect">
            <a:avLst/>
          </a:prstGeom>
          <a:ln w="0">
            <a:noFill/>
          </a:ln>
        </p:spPr>
      </p:pic>
      <p:pic>
        <p:nvPicPr>
          <p:cNvPr id="129" name="Заголовок 4" descr=""/>
          <p:cNvPicPr/>
          <p:nvPr/>
        </p:nvPicPr>
        <p:blipFill>
          <a:blip r:embed="rId2"/>
          <a:stretch/>
        </p:blipFill>
        <p:spPr>
          <a:xfrm>
            <a:off x="450720" y="158760"/>
            <a:ext cx="8315280" cy="968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57200" y="281952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(M-lle Souchkoff)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теснине Кавказа я знаю скалу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уда долететь лишь степному орлу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о крест деревянный чернеет над ней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ниет он и гнется от бурь и дожд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 много уж лет протекло без следов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 тех пор, как он виден с далеких холмов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 каждая кверху подъята рука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к будто он хочет схватить обла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, если б взойти удалось мне туда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к я бы молился и плакал тогда;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 после я сбросил бы цепь бытия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 с бурею братом назвался бы я!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47960" y="13716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ости, мой друг!., как призрак я лечу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далекий край: печали я ищу;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Хочу грустить, но лишь не пред тобой.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ы можешь жить, не слыша голос мой;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з всех блаженств, отнятых у меня,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сталось мне одно: видать тебя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от взор, что небо жалостью зажгло.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се кончено! -- ни бледное чело,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 пасмурный и недовольный взгляд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чем, ничем его не омрачат!..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еня забыть прекрасной нет труда, --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 я тебя забуду навсегда;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Я мучусь, если мысль ко мне придет,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то и тебя несчастна убьет,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то некогда с ланит и с уст мечта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к дым слетит, завянет красота,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абьется сердце медленней – свинец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оски на нем -- и что всему конец!..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днако ж я желал бы увидать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вой хладный труп, чтобы себе сказать: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его еще! желанья отняты,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едняк -- теперь совсем, совсем оставлен ты!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Рисунок 10" descr=""/>
          <p:cNvPicPr/>
          <p:nvPr/>
        </p:nvPicPr>
        <p:blipFill>
          <a:blip r:embed="rId3"/>
          <a:stretch/>
        </p:blipFill>
        <p:spPr>
          <a:xfrm>
            <a:off x="990720" y="1066680"/>
            <a:ext cx="1295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Заголовок 1" descr=""/>
          <p:cNvPicPr/>
          <p:nvPr/>
        </p:nvPicPr>
        <p:blipFill>
          <a:blip r:embed="rId1"/>
          <a:stretch/>
        </p:blipFill>
        <p:spPr>
          <a:xfrm>
            <a:off x="231840" y="-23760"/>
            <a:ext cx="8766000" cy="1444680"/>
          </a:xfrm>
          <a:prstGeom prst="rect">
            <a:avLst/>
          </a:prstGeom>
          <a:ln w="0">
            <a:noFill/>
          </a:ln>
        </p:spPr>
      </p:pic>
      <p:pic>
        <p:nvPicPr>
          <p:cNvPr id="134" name="Содержимое 3" descr=""/>
          <p:cNvPicPr/>
          <p:nvPr/>
        </p:nvPicPr>
        <p:blipFill>
          <a:blip r:embed="rId2"/>
          <a:stretch/>
        </p:blipFill>
        <p:spPr>
          <a:xfrm>
            <a:off x="533520" y="419112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"/>
          <p:cNvPicPr/>
          <p:nvPr/>
        </p:nvPicPr>
        <p:blipFill>
          <a:blip r:embed="rId4"/>
          <a:stretch/>
        </p:blipFill>
        <p:spPr>
          <a:xfrm>
            <a:off x="6477120" y="4267080"/>
            <a:ext cx="1619280" cy="19814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8" descr=""/>
          <p:cNvPicPr/>
          <p:nvPr/>
        </p:nvPicPr>
        <p:blipFill>
          <a:blip r:embed="rId5"/>
          <a:stretch/>
        </p:blipFill>
        <p:spPr>
          <a:xfrm>
            <a:off x="6477120" y="1752480"/>
            <a:ext cx="1609560" cy="210024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9"/>
          <p:cNvSpPr/>
          <p:nvPr/>
        </p:nvSpPr>
        <p:spPr>
          <a:xfrm>
            <a:off x="2895480" y="2362320"/>
            <a:ext cx="3353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рест на скал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онастырь на     Казбек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231840" y="92160"/>
            <a:ext cx="8766000" cy="1444680"/>
          </a:xfrm>
          <a:prstGeom prst="rect">
            <a:avLst/>
          </a:prstGeom>
          <a:ln w="0">
            <a:noFill/>
          </a:ln>
        </p:spPr>
      </p:pic>
      <p:pic>
        <p:nvPicPr>
          <p:cNvPr id="84" name="Содержимое 3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"/>
          <p:cNvPicPr/>
          <p:nvPr/>
        </p:nvPicPr>
        <p:blipFill>
          <a:blip r:embed="rId3"/>
          <a:stretch/>
        </p:blipFill>
        <p:spPr>
          <a:xfrm>
            <a:off x="762120" y="175248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"/>
          <p:cNvPicPr/>
          <p:nvPr/>
        </p:nvPicPr>
        <p:blipFill>
          <a:blip r:embed="rId4"/>
          <a:stretch/>
        </p:blipFill>
        <p:spPr>
          <a:xfrm>
            <a:off x="6400800" y="1828800"/>
            <a:ext cx="1771560" cy="20574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8" descr=""/>
          <p:cNvPicPr/>
          <p:nvPr/>
        </p:nvPicPr>
        <p:blipFill>
          <a:blip r:embed="rId5"/>
          <a:stretch/>
        </p:blipFill>
        <p:spPr>
          <a:xfrm>
            <a:off x="5867280" y="4267080"/>
            <a:ext cx="1609920" cy="21002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9"/>
          <p:cNvSpPr/>
          <p:nvPr/>
        </p:nvSpPr>
        <p:spPr>
          <a:xfrm>
            <a:off x="2590920" y="245736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рест на скал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онастырь на     Казбек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</a:rPr>
              <a:t>Монастырь на Казбек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Высоко над семьею гор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Казбек, твой царственный шатер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Сияет вечными лучами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вой монастырь за облаками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Как в небе реющий ковчег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Парит, чуть видный, над горами.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Далекий, вожделенный брег!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уда б, сказав прости ущелью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,Подняться к вольной вышине!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уда б, в заоблачную келью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В соседство бога скрыться мне!..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829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66720" y="160020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</a:rPr>
              <a:t>Крест на скал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В теснине Кавказа я знаю скалу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уда долететь лишь степному орлу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Но крест деревянный чернеет над ней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Гниет он и гнется от бурь и дождей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И много уж лет протекло без следов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С тех пор, как он виден с далеких холмов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И каждая кверху подъята рука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Как будто он хочет схватить облака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О если б взойти удалось мне туда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Как я бы молился и плакал тогда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И после я сбросил бы цепь бытия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И с бурею братом назвался бы я! 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830 г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Найти общее в стихотворения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Найти различия в стихотворения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Проанализировать образы и средства их создани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Рассмотреть образ лирического геро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Выдвинуть гипотезу об авторств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. Обратиться к фактам биографии поэт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5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1066680" cy="1295280"/>
          </a:xfrm>
          <a:prstGeom prst="rect">
            <a:avLst/>
          </a:prstGeom>
          <a:ln w="0">
            <a:noFill/>
          </a:ln>
        </p:spPr>
      </p:pic>
      <p:pic>
        <p:nvPicPr>
          <p:cNvPr id="95" name="Содержимое 3" descr=""/>
          <p:cNvPicPr/>
          <p:nvPr/>
        </p:nvPicPr>
        <p:blipFill>
          <a:blip r:embed="rId2"/>
          <a:stretch/>
        </p:blipFill>
        <p:spPr>
          <a:xfrm>
            <a:off x="7238880" y="30492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96" name="Заголовок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ихи о Кавказ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Композиц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в первой части описывается природа Кавказа, во второй – чувства лирического геро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снове лежит романтическая антитеза, основанная на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разах-символа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противопоставление земного мира 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</a:rPr>
              <a:t>(«цепь бытия» - «ущелье»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высшего, небесного, горнего мира 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</a:rPr>
              <a:t>(«скала», «крест», «молился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» - 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</a:rPr>
              <a:t>«монастырь», «ковчег», «заоблачная келья», Бог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и образы придают космический масштаб картине (пространство и время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Лирические герои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моционально показывают свое неудовлетворение земной жизнью и стремление расстаться с земным миром (пунктуация и употребление глаголов условного наклонения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7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1066680" cy="129528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3" descr=""/>
          <p:cNvPicPr/>
          <p:nvPr/>
        </p:nvPicPr>
        <p:blipFill>
          <a:blip r:embed="rId2"/>
          <a:stretch/>
        </p:blipFill>
        <p:spPr>
          <a:xfrm>
            <a:off x="7238880" y="30492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100" name="Заголовок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60020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ffffff"/>
                </a:solidFill>
                <a:uFillTx/>
                <a:latin typeface="Times New Roman"/>
              </a:rPr>
              <a:t>Монастырь на Казбеке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Высоко над семьею гор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Казбек, твой царственный шатер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Сияет вечными лучами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вой монастырь за облаками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Как в небе реющий ковчег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Парит, чуть видный, над горами.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Далекий, вожделенный брег!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уда б, сказав прости ущелью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,Подняться к вольной вышине!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уда б, в заоблачную келью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В соседство бога скрыться мне!..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829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952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03640" indent="-3780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c000"/>
                </a:solidFill>
                <a:latin typeface="Times New Roman"/>
              </a:rPr>
              <a:t>В звуковой характеристике</a:t>
            </a:r>
            <a:r>
              <a:rPr b="0" i="1" lang="ru-RU" sz="15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ощущается легкость за счет ассонансов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c000"/>
                </a:solidFill>
                <a:latin typeface="Times New Roman"/>
              </a:rPr>
              <a:t>Синтаксис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: восклицания и многоточие говорят о радостном стремлении к высоте, вечности, Богу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c000"/>
                </a:solidFill>
                <a:latin typeface="Times New Roman"/>
              </a:rPr>
              <a:t>Лексика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: важную роль играют светлые эпитеты («царственный», «вечными», «реющий», «вожделенный», «вольной», «заоблачную»), указывающие на стремление к свободе, которую можно обрести в вечности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c000"/>
                </a:solidFill>
                <a:latin typeface="Times New Roman"/>
              </a:rPr>
              <a:t>Пространство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: очень конкретно, «семья гор» (горная цепь), «шатер» Казбека (многогранная форма вершины, покрытая снегом), «монастырь» реет над облаками (облака опускаются ниже вершин и кажется, что монастырь действительно «реет»). Складывается впечатление, что автор видел все это на самом деле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c000"/>
                </a:solidFill>
                <a:latin typeface="Times New Roman"/>
              </a:rPr>
              <a:t>Образы</a:t>
            </a: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: Казбек, небо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– образы высоты, </a:t>
            </a: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монастырь, Бог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– образы духовной высоты, </a:t>
            </a: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Небо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– романтический символ иного мира, </a:t>
            </a: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монастырь, келья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– символы одиночества, отречения от мира, отшельничества, спокойствия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5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1066680" cy="129528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3" descr=""/>
          <p:cNvPicPr/>
          <p:nvPr/>
        </p:nvPicPr>
        <p:blipFill>
          <a:blip r:embed="rId2"/>
          <a:stretch/>
        </p:blipFill>
        <p:spPr>
          <a:xfrm>
            <a:off x="7238880" y="30492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105" name="Заголовок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ffffff"/>
                </a:solidFill>
                <a:uFillTx/>
                <a:latin typeface="Times New Roman"/>
              </a:rPr>
              <a:t>Крест на скале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В теснине Кавказа я знаю скалу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уда долететь лишь степному орлу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Но крест деревянный чернеет над ней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Гниет он и гнется от бурь и дождей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И много уж лет протекло без следов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С тех пор, как он виден с далеких холмов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И каждая кверху подъята рука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Как будто он хочет схватить облака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О если б взойти удалось мне туда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Как я бы молился и плакал тогда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И после я сбросил бы цепь бытия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И с бурею братом назвался бы я! 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830 г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038120" y="1600200"/>
            <a:ext cx="4953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Times New Roman"/>
              </a:rPr>
              <a:t>В звуковой характеристике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увствуется напряжение за счет аллитерации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Times New Roman"/>
              </a:rPr>
              <a:t>Синтаксис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: междометие «О» и усилительные частицы «как», «и» и конечное восклицание говорят о душевном надрыве лирического героя, о его стремлении покинуть земной мир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c000"/>
                </a:solidFill>
                <a:latin typeface="Times New Roman"/>
              </a:rPr>
              <a:t>Лексика: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негативная («чернеет», «гниет и гнется», «схватить», «молился и плакал», «цепь», «бурею»), показывает тяжелую внутреннюю борьбу в душе геро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c000"/>
                </a:solidFill>
                <a:latin typeface="Times New Roman"/>
              </a:rPr>
              <a:t>Пространство: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неконкретно, может ли быть скала в теснине (т.е. в ущелье), может ли быть виден крест на скале, которая находится в ущелье, какие могут быть холмы среди Кавказских гор, орел в таком случае должен лететь вниз, а не вверх. Складывается впечатление, что автор видел картину гор давно, ему не важна конкретика, а важен романтический пейз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c000"/>
                </a:solidFill>
                <a:latin typeface="Times New Roman"/>
              </a:rPr>
              <a:t>Образы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кала, облак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(небо) – образы высоты,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цепь бытия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образ земной жизни,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олитва, слезы – образ Бог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гниющий крест, брат бури (скорее Демон, чем Бог), буря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образы не божественные, это символы духа противоречия и бунтарства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7892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Содержимое 4" descr=""/>
          <p:cNvPicPr/>
          <p:nvPr/>
        </p:nvPicPr>
        <p:blipFill>
          <a:blip r:embed="rId2"/>
          <a:stretch/>
        </p:blipFill>
        <p:spPr>
          <a:xfrm>
            <a:off x="6781680" y="1600200"/>
            <a:ext cx="1752840" cy="22096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"/>
          <p:cNvPicPr/>
          <p:nvPr/>
        </p:nvPicPr>
        <p:blipFill>
          <a:blip r:embed="rId3"/>
          <a:stretch/>
        </p:blipFill>
        <p:spPr>
          <a:xfrm>
            <a:off x="533520" y="1523880"/>
            <a:ext cx="1752480" cy="2210040"/>
          </a:xfrm>
          <a:prstGeom prst="rect">
            <a:avLst/>
          </a:prstGeom>
          <a:ln w="0">
            <a:noFill/>
          </a:ln>
        </p:spPr>
      </p:pic>
      <p:sp>
        <p:nvSpPr>
          <p:cNvPr id="112" name="Стрелка вправо 8"/>
          <p:cNvSpPr/>
          <p:nvPr/>
        </p:nvSpPr>
        <p:spPr>
          <a:xfrm rot="10800000">
            <a:off x="2666880" y="2214360"/>
            <a:ext cx="9907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2209680" y="38098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ловек, хорошо знающий Кавказ и его природу, радостно стремящийся подняться к Богу, оставив земной ми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ятежный романтик, на душе которого нет спокойствия, он ищет бури (как будто в буре есть покой?!), душа его рвется между Демоном и Бог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Стрелка вправо 13"/>
          <p:cNvSpPr/>
          <p:nvPr/>
        </p:nvSpPr>
        <p:spPr>
          <a:xfrm>
            <a:off x="5562720" y="2214720"/>
            <a:ext cx="9903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Заголовок 6" descr=""/>
          <p:cNvPicPr/>
          <p:nvPr/>
        </p:nvPicPr>
        <p:blipFill>
          <a:blip r:embed="rId4"/>
          <a:stretch/>
        </p:blipFill>
        <p:spPr>
          <a:xfrm>
            <a:off x="3548160" y="1352520"/>
            <a:ext cx="244476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Содержимое 10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Содержимое 3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1905120" cy="1371600"/>
          </a:xfrm>
          <a:prstGeom prst="rect">
            <a:avLst/>
          </a:prstGeom>
          <a:ln w="0">
            <a:noFill/>
          </a:ln>
        </p:spPr>
      </p:pic>
      <p:pic>
        <p:nvPicPr>
          <p:cNvPr id="118" name="Заголовок 2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0492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829 – 29 лет, сватовство к Н.Гончаровой, отъезд на Кавказ (Тифлис, Арзрум), романтическое настроение, воспоминания о пребывании на Кавказе во время южной ссылки. Был в русской армии Паскевича, действовавшей против Турции, война с которой началась в 1828 г. В ходе войны русская армия захватила в северо-восточной части Турции значительную территорию, в том числе старинный армянский город-крепость Арзрум (Эрзерум). Во время путешествия Пушкин вел дорожные записки, легшие в основу очерков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Пушкин так описывает свое свидание с монастырем (старинной церковью Цминда Самеба) в книге «Путешествие в Арзрум», в 5 главе: </a:t>
            </a:r>
            <a:r>
              <a:rPr b="0" i="1" lang="ru-RU" sz="1500" spc="-1" strike="noStrike">
                <a:solidFill>
                  <a:srgbClr val="ffc000"/>
                </a:solidFill>
                <a:latin typeface="Times New Roman"/>
              </a:rPr>
              <a:t>«</a:t>
            </a:r>
            <a:r>
              <a:rPr b="1" i="1" lang="ru-RU" sz="1500" spc="-1" strike="noStrike">
                <a:solidFill>
                  <a:srgbClr val="ffc000"/>
                </a:solidFill>
                <a:latin typeface="Times New Roman"/>
              </a:rPr>
              <a:t>Утром, проезжая мимо Казбека, увидел я чудное зрелище. Белые оборванные тучи перетягивались через вершину горы, и </a:t>
            </a:r>
            <a:r>
              <a:rPr b="0" lang="ru-RU" sz="1500" spc="-1" strike="noStrike" u="sng">
                <a:solidFill>
                  <a:srgbClr val="410082"/>
                </a:solidFill>
                <a:uFillTx/>
                <a:latin typeface="Times New Roman"/>
                <a:hlinkClick r:id="rId4"/>
              </a:rPr>
              <a:t>уединенный монастырь</a:t>
            </a:r>
            <a:r>
              <a:rPr b="1" i="1" lang="ru-RU" sz="1500" spc="-1" strike="noStrike">
                <a:solidFill>
                  <a:srgbClr val="ffc000"/>
                </a:solidFill>
                <a:latin typeface="Times New Roman"/>
              </a:rPr>
              <a:t>, озаренный лучами солнца, казалось, плавал в воздухе, несомый облаками»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Рисунок 8" descr=""/>
          <p:cNvPicPr/>
          <p:nvPr/>
        </p:nvPicPr>
        <p:blipFill>
          <a:blip r:embed="rId5"/>
          <a:stretch/>
        </p:blipFill>
        <p:spPr>
          <a:xfrm>
            <a:off x="6934320" y="2209680"/>
            <a:ext cx="1923840" cy="2371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6"/>
          <a:stretch/>
        </p:blipFill>
        <p:spPr>
          <a:xfrm>
            <a:off x="5638680" y="4038480"/>
            <a:ext cx="16941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ьга</dc:creator>
  <dc:description/>
  <dc:language>en-US</dc:language>
  <cp:lastModifiedBy>Ольга</cp:lastModifiedBy>
  <dcterms:modified xsi:type="dcterms:W3CDTF">2011-01-22T09:37:31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