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228-E117-427F-B879-304E1EF8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7D5-87F2-4F3C-A237-F8D24EDE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518-6322-43A9-8FE8-B042F967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083-5812-4BC9-82F8-615363F3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8DF9-E30B-4492-9191-E732969D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931E-98B8-47CC-BBFC-DA753F7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BA79-106D-401E-BEEE-542BBC3A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0C2E-DE2F-428B-8296-50C689C7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7BD6-4715-4B46-82DD-8649F367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5BEE-3C2E-4ED7-82E2-BBF9FDF5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C0D9-7176-4B3F-AEEF-151A173C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F1D-F505-4492-AC0D-14A4DB16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585F-993F-401C-BFCF-4CD130A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CDAB-91CE-4482-B257-356877D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C172-E460-4A66-8858-E106CC7D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6932-6446-4EC3-AD0F-1A79A8E4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FFE-C074-47E3-935F-22CED3FA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45A-07F0-4326-99D2-26B2E70B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B2F-CC77-437C-B746-EA2855F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193-6646-4776-9D3E-8ABF24F8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E39-6FCD-4AE4-9CE2-05784134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698-9CBC-4F82-BB45-0D15A11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AF9-A257-4567-B376-DF5C83CD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FE6-A4F5-47C5-BA77-EEB99CC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9B6F-8074-43F0-AE7B-A971595405A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1B54-20B9-43C7-A34B-B60B9B51BA2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hyperlink" Target="http://www.rvb.ru/pushkin/02comm/0870.htm#c36" TargetMode="Externa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5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152424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335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830г. – 16 лет, поступление в Московский университет, байроновские традиции романтической поэзии (исключительность главного героя, недосказанность сюжета, экзотический колорит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10 лет побывал с бабушкой на Кавказе, сильные впечатления: «Горы Кавказские для меня священны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езответная любовь пятнадцатилетнего поэта к Катеньке Сушков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"Демон" (1829г.) - в центре байронической поэмы - герой, изгой и бунтарь, находящийся в войне с обществом и попирающий его социальные и нравственные нормы; над ним тяготеет "грех", преступление, обычно облеченное тайной и внешне предстающее как страда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Содержимое 4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56672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Е.А. Сушкова. Миниатюра неизвестного художника"/>
          <p:cNvPicPr/>
          <p:nvPr/>
        </p:nvPicPr>
        <p:blipFill>
          <a:blip r:embed="rId4"/>
          <a:stretch/>
        </p:blipFill>
        <p:spPr>
          <a:xfrm>
            <a:off x="7086600" y="2362320"/>
            <a:ext cx="1771560" cy="21812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5"/>
          <a:stretch/>
        </p:blipFill>
        <p:spPr>
          <a:xfrm>
            <a:off x="914400" y="3049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1" descr="Е.А. Сушкова. Миниатюра неизвестного художника"/>
          <p:cNvPicPr/>
          <p:nvPr/>
        </p:nvPicPr>
        <p:blipFill>
          <a:blip r:embed="rId1"/>
          <a:stretch/>
        </p:blipFill>
        <p:spPr>
          <a:xfrm>
            <a:off x="3124080" y="106668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29" name="Заголовок 4" descr=""/>
          <p:cNvPicPr/>
          <p:nvPr/>
        </p:nvPicPr>
        <p:blipFill>
          <a:blip r:embed="rId2"/>
          <a:stretch/>
        </p:blipFill>
        <p:spPr>
          <a:xfrm>
            <a:off x="450720" y="158760"/>
            <a:ext cx="8315280" cy="96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281952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M-lle Souchkoff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, если б взойти удалось мне туд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79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сти, мой друг!., как призрак я лечу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далекий край: печали я ищу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очу грустить, но лишь не пред тобой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ы можешь жить, не слыша голос мой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 всех блаженств, отнятых у меня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талось мне одно: видать тебя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т взор, что небо жалостью зажгло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кончено! -- ни бледное чело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 пасмурный и недовольный взгляд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чем, ничем его не омрачат!.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ня забыть прекрасной нет труда, --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я тебя забуду навсегда;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 мучусь, если мысль ко мне придет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и тебя несчастна убьет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некогда с ланит и с уст мечта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дым слетит, завянет красота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бьется сердце медленней – свинец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ски на нем -- и что всему конец!..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ако ж я желал бы увидать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вой хладный труп, чтобы себе сказать: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его еще! желанья отняты,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328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едняк -- теперь совсем, совсем оставлен ты!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Рисунок 10" descr=""/>
          <p:cNvPicPr/>
          <p:nvPr/>
        </p:nvPicPr>
        <p:blipFill>
          <a:blip r:embed="rId3"/>
          <a:stretch/>
        </p:blipFill>
        <p:spPr>
          <a:xfrm>
            <a:off x="990720" y="1066680"/>
            <a:ext cx="1295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231840" y="-23760"/>
            <a:ext cx="8766000" cy="14446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3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61928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"/>
          <p:cNvPicPr/>
          <p:nvPr/>
        </p:nvPicPr>
        <p:blipFill>
          <a:blip r:embed="rId5"/>
          <a:stretch/>
        </p:blipFill>
        <p:spPr>
          <a:xfrm>
            <a:off x="6477120" y="1752480"/>
            <a:ext cx="160956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9"/>
          <p:cNvSpPr/>
          <p:nvPr/>
        </p:nvSpPr>
        <p:spPr>
          <a:xfrm>
            <a:off x="2895480" y="236232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рест на скал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онастырь на     Казбе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231840" y="92160"/>
            <a:ext cx="8766000" cy="144468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17715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5"/>
          <a:stretch/>
        </p:blipFill>
        <p:spPr>
          <a:xfrm>
            <a:off x="5867280" y="4267080"/>
            <a:ext cx="1609920" cy="2100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2590920" y="245736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рест на скал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онастырь на     Казбе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</a:rPr>
              <a:t>Монастырь на Казбе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соко над семьею гор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збек, твой царственный шате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ияет вечными лучам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вой монастырь за облаками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в небе реющий ковчег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арит, чуть видный, над горами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Далекий, вожделенный брег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сказав прости ущелью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,Подняться к вольной вышине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в заоблачную келью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соседство бога скрыться мне!.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667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</a:rPr>
              <a:t>Крест на скал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 если б взойти удалось мне туд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 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30 г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йти общее в стихотворен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Найти различия в стихотворен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оанализировать образы и средства их созда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Рассмотреть образ лирического гер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Выдвинуть гипотезу об авторст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Обратиться к фактам биографии поэ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хи о Кавка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Компози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в первой части описывается природа Кавказа, во второй – чувства лирического геро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лежит романтическая антитеза, основанная н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зах-символ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ротивопоставление земного мира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(«цепь бытия» - «ущелье»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ысшего, небесного, горнего мира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(«скала», «крест», «молился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» -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«монастырь», «ковчег», «заоблачная келья», Бог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 образы придают космический масштаб картине (пространство и врем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Лирические геро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моционально показывают свое неудовлетворение земной жизнью и стремление расстаться с земным миром (пунктуация и употребление глаголов условного наклонен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7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6002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Монастырь на Казбек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ысоко над семьею гор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збек, твой царственный шате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ияет вечными лучам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вой монастырь за облаками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в небе реющий ковчег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арит, чуть видный, над горами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Далекий, вожделенный брег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сказав прости ущелью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,Подняться к вольной вышине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б, в заоблачную келью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соседство бога скрыться мне!..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95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В звуковой характеристике</a:t>
            </a:r>
            <a:r>
              <a:rPr b="0" i="1" lang="ru-RU" sz="15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щущается легкость за счет ассонанс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Синтаксис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восклицания и многоточие говорят о радостном стремлении к высоте, вечности, Богу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Лексика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важную роль играют светлые эпитеты («царственный», «вечными», «реющий», «вожделенный», «вольной», «заоблачную»), указывающие на стремление к свободе, которую можно обрести в вечности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Пространств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: очень конкретно, «семья гор» (горная цепь), «шатер» Казбека (многогранная форма вершины, покрытая снегом), «монастырь» реет над облаками (облака опускаются ниже вершин и кажется, что монастырь действительно «реет»). Складывается впечатление, что автор видел все это на самом дел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Образы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: Казбек, неб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образы высоты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настырь, Бог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образы духовной высоты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Небо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романтический символ иного мира, 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настырь, келья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– символы одиночества, отречения от мира, отшельничества, спокойств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Крест на скале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В теснине Кавказа я знаю ска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уда долететь лишь степному орлу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Но крест деревянный чернеет над ней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ниет он и гнется от бурь и дождей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много уж лет протекло без следов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 тех пор, как он виден с далеких холм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каждая кверху подъята рук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будто он хочет схватить облака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О если б взойти удалось мне туда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Как я бы молился и плакал тогд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после я сбросил бы цепь бытия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И с бурею братом назвался бы я! 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30 г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0381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</a:rPr>
              <a:t>В звуковой характеристике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увствуется напряжение за счет аллитераци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</a:rPr>
              <a:t>Синтаксис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междометие «О» и усилительные частицы «как», «и» и конечное восклицание говорят о душевном надрыве лирического героя, о его стремлении покинуть земной ми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Лексика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негативная («чернеет», «гниет и гнется», «схватить», «молился и плакал», «цепь», «бурею»), показывает тяжелую внутреннюю борьбу в душе геро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Пространство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неконкретно, может ли быть скала в теснине (т.е. в ущелье), может ли быть виден крест на скале, которая находится в ущелье, какие могут быть холмы среди Кавказских гор, орел в таком случае должен лететь вниз, а не вверх. Складывается впечатление, что автор видел картину гор давно, ему не важна конкретика, а важен романтический пейз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Times New Roman"/>
              </a:rPr>
              <a:t>Образ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кала, облак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небо) – образы высоты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цепь быти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образ земной жизни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литва, слезы – образ Бог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ниющий крест, брат бури (скорее Демон, чем Бог), бур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образы не божественные, это символы духа противоречия и бунтарства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Содержимое 4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1752480" cy="2210040"/>
          </a:xfrm>
          <a:prstGeom prst="rect">
            <a:avLst/>
          </a:prstGeom>
          <a:ln w="0">
            <a:noFill/>
          </a:ln>
        </p:spPr>
      </p:pic>
      <p:sp>
        <p:nvSpPr>
          <p:cNvPr id="112" name="Стрелка вправо 8"/>
          <p:cNvSpPr/>
          <p:nvPr/>
        </p:nvSpPr>
        <p:spPr>
          <a:xfrm rot="10800000">
            <a:off x="2666880" y="2214360"/>
            <a:ext cx="9907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2209680" y="3809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, хорошо знающий Кавказ и его природу, радостно стремящийся подняться к Богу, оставив земной ми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ятежный романтик, на душе которого нет спокойствия, он ищет бури (как будто в буре есть покой?!), душа его рвется между Демоном и Б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трелка вправо 13"/>
          <p:cNvSpPr/>
          <p:nvPr/>
        </p:nvSpPr>
        <p:spPr>
          <a:xfrm>
            <a:off x="5562720" y="2214720"/>
            <a:ext cx="9903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Заголовок 6" descr=""/>
          <p:cNvPicPr/>
          <p:nvPr/>
        </p:nvPicPr>
        <p:blipFill>
          <a:blip r:embed="rId4"/>
          <a:stretch/>
        </p:blipFill>
        <p:spPr>
          <a:xfrm>
            <a:off x="3548160" y="1352520"/>
            <a:ext cx="24447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10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3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04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829 – 29 лет, сватовство к Н.Гончаровой, отъезд на Кавказ (Тифлис, Арзрум), романтическое настроение, воспоминания о пребывании на Кавказе во время южной ссылки. Был в русской армии Паскевича, действовавшей против Турции, война с которой началась в 1828 г. В ходе войны русская армия захватила в северо-восточной части Турции значительную территорию, в том числе старинный армянский город-крепость Арзрум (Эрзерум). Во время путешествия Пушкин вел дорожные записки, легшие в основу очерк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ушкин так описывает свое свидание с монастырем (старинной церковью Цминда Самеба) в книге «Путешествие в Арзрум», в 5 главе: </a:t>
            </a:r>
            <a:r>
              <a:rPr b="0" i="1" lang="ru-RU" sz="1500" spc="-1" strike="noStrike">
                <a:solidFill>
                  <a:srgbClr val="ffc000"/>
                </a:solidFill>
                <a:latin typeface="Times New Roman"/>
              </a:rPr>
              <a:t>«</a:t>
            </a: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Утром, проезжая мимо Казбека, увидел я чудное зрелище. Белые оборванные тучи перетягивались через вершину горы, и </a:t>
            </a:r>
            <a:r>
              <a:rPr b="0" lang="ru-RU" sz="15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уединенный монастырь</a:t>
            </a:r>
            <a:r>
              <a:rPr b="1" i="1" lang="ru-RU" sz="1500" spc="-1" strike="noStrike">
                <a:solidFill>
                  <a:srgbClr val="ffc000"/>
                </a:solidFill>
                <a:latin typeface="Times New Roman"/>
              </a:rPr>
              <a:t>, озаренный лучами солнца, казалось, плавал в воздухе, несомый облаками»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8" descr=""/>
          <p:cNvPicPr/>
          <p:nvPr/>
        </p:nvPicPr>
        <p:blipFill>
          <a:blip r:embed="rId5"/>
          <a:stretch/>
        </p:blipFill>
        <p:spPr>
          <a:xfrm>
            <a:off x="6934320" y="2209680"/>
            <a:ext cx="1923840" cy="237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638680" y="4038480"/>
            <a:ext cx="1694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Ольга</cp:lastModifiedBy>
  <dcterms:modified xsi:type="dcterms:W3CDTF">2011-01-22T09:37:31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