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BFC-3ABA-4859-956D-FF026DE1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879-96AD-4528-A433-04B011FD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AC8-8AA3-42FA-9D96-062DF90D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058-7980-4D2E-BFA5-9E394109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69AD-2200-472C-944E-5A3A2E94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B85A-58EC-4E2D-A87A-CC6C8916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A575-D6D6-42B2-A710-C7165CAF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44FF-7F95-49EA-A5D2-84330B7A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C603-1B42-4147-8F8D-169BA97D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46D2-27CE-4F06-AE14-5360700B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BA14-1ABB-45FF-8EF8-8FDE5F7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AEA-950D-46E0-BA2E-DFCC2AC3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2AD8-A51E-42E6-8AE9-FBB4543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62E0-CC62-497C-BA79-12FB3A7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9D80-BA3C-4B5B-883D-354D440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D0F1-E57B-4F28-8A49-3EEBB7D7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1FBF-B0E5-43D8-9CF1-D437E0DB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681-60BD-44C6-9BC8-368761F4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505-8FE2-45CE-B3F5-D608E841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25A-9779-4CC9-9851-3002B8B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B04-3DF1-4169-9504-DE09546A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4F0-C140-4B24-A2FF-AA4E897E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9AB-E2BC-4C89-8045-EB72B78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484-4B2A-447B-B8D3-24BE658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9D92-46D9-4D47-9686-1DD646460D7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B797-0127-4496-A73B-7E1BED80F4E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72360" cy="6048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79280" y="4653000"/>
            <a:ext cx="871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театральная кукла на руку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26920" y="5734080"/>
            <a:ext cx="676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работка для 6-го класса часть №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6308640"/>
            <a:ext cx="85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подователь технологии  Г.А Давлетшина. г.Лениногорск. РТ.СОШ №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867280" y="1699920"/>
            <a:ext cx="3059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голова – 1 дет.;  затылок – 2 дет.;  ладошки – 4 дет.;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туловище – рубашка для кукол на руку – 2 дет.;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атронка из картона – 13 х3 см.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333360"/>
            <a:ext cx="82803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отовить выкройки к раскрою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5543280" cy="4534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Verdana"/>
              </a:rPr>
              <a:t>Какими бывают театральные куклы?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017800" cy="2154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303280" cy="2190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6360" y="3645000"/>
            <a:ext cx="2448000" cy="2189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403280" y="1052640"/>
            <a:ext cx="1965240" cy="21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859280" y="1413000"/>
            <a:ext cx="2160720" cy="2089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539640" y="3357720"/>
            <a:ext cx="3024360" cy="33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кла-костюм для артиста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92360" y="6237360"/>
            <a:ext cx="20876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ионетка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6237360"/>
            <a:ext cx="25239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льчиковые</a:t>
            </a:r>
            <a:endParaRPr b="0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24360" y="5950080"/>
            <a:ext cx="324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ская картонная кукла театра теней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093080" y="2565360"/>
            <a:ext cx="1726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руку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59280" y="3284280"/>
            <a:ext cx="38275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Игрушка – Петрушка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перчаточная кукл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3960720" cy="489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7640" y="259920"/>
            <a:ext cx="42703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Сергей Владимирович Образцов создал первый в Москве театр кукол , сейчас это целый дом театра  кукол на Садовом кольце.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На сайте С.В.Образцов можно посмотреть на этих чудесных куко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10544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Необычные часы на здании дома театра кукол.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Каждый день в 12 часов распахиваются узорные ставни всех двенадцати окошек и показываются все жильцы теремка - начинается маленький спектакль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743280" cy="4941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67992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Verdana"/>
              </a:rPr>
              <a:t>Иде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68360" y="2619360"/>
            <a:ext cx="2521080" cy="2394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076720" y="2689200"/>
            <a:ext cx="2519640" cy="2324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116000" y="260280"/>
            <a:ext cx="2211480" cy="2263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2417760" cy="23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39640" y="5157720"/>
            <a:ext cx="820116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этой кукле работает вся рука кукловода. 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5950080"/>
            <a:ext cx="80391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кла может выполнять много движений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183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39640" y="189000"/>
            <a:ext cx="8064720" cy="12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орец Меч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46320"/>
            <a:ext cx="803268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640" y="0"/>
            <a:ext cx="82803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брая, добрая сказ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44480" y="475920"/>
            <a:ext cx="61419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Что нам потребуется для работы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материалы и инструмент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отделочные элемен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Кружево, шитье, лента, тесьма (вьюнчик)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Отделочные детали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Жабо, воланы, рюши, оборки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Можно применить</a:t>
            </a: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 вышивку, аппликацию, бисер, вязание на спицах и крючком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449440" cy="187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43640" y="5734080"/>
            <a:ext cx="2305080" cy="826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867280" y="3716280"/>
            <a:ext cx="1081080" cy="165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867280" y="1773360"/>
            <a:ext cx="1081080" cy="1726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427640" y="3933720"/>
            <a:ext cx="1152360" cy="2016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4427640" y="1916280"/>
            <a:ext cx="1150920" cy="1726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093080" y="1844640"/>
            <a:ext cx="187164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7164360" y="3213000"/>
            <a:ext cx="1655640" cy="574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7164360" y="4437000"/>
            <a:ext cx="180036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2:48:18Z</dcterms:created>
  <dc:creator>007</dc:creator>
  <dc:description/>
  <dc:language>en-US</dc:language>
  <cp:lastModifiedBy>User</cp:lastModifiedBy>
  <dcterms:modified xsi:type="dcterms:W3CDTF">2011-02-09T21:37:49Z</dcterms:modified>
  <cp:revision>30</cp:revision>
  <dc:subject/>
  <dc:title>Слайд 1</dc:title>
</cp:coreProperties>
</file>