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3E3-7CD4-4379-A7D3-0E96A555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8213-B4B7-4196-A6A0-8E488F30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82D-2B48-4286-B3B2-F3B13B16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A4D-B7A6-4BC3-91A0-336497EB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025F-D394-4C3A-9ECE-C274EEE8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6B38-A9C1-4A3E-9CE4-BB7F4907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5679-493A-40A3-BB55-4B8FBB32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ED19-B742-44A0-BF29-7C625CAB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FAAF-D7C4-4FDF-B88D-94F25F9F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50AD-9141-4A34-968C-31771178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05F7-357B-49FA-A396-588C765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15A-0339-4C58-B9CC-476D89E7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D0C9-A814-4E0B-9C35-45D1CACD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51DC-1437-433C-A516-E20F7BE8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805D-76A9-4465-971C-01C13608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637F-95AF-41D2-97FD-126AE90F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5F19-465D-4BD6-85F3-F1FDBDB3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564-215A-4F5C-82D1-475989CB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97F-EA3F-4A2B-9DCF-4AC22E6E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B3D-6828-4C96-9479-4C6EACF5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27B-B320-4F1A-8618-074C0D1C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38A-12CA-48B5-9DAB-7123147B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0E6-F601-4DE9-91B8-81C9B1A3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A90-BC9C-44D0-8173-F76F78CC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6296-7E20-43AD-AF33-5CABB785CF3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4216-E736-4450-8154-3C1E6C1F7C9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72360" cy="6048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79280" y="4653000"/>
            <a:ext cx="8713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театральная кукла на руку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26920" y="5734080"/>
            <a:ext cx="676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работка для 6-го класса часть №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6308640"/>
            <a:ext cx="856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подователь технологии  Г.А Давлетшина. г.Лениногорск. РТ.СОШ №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867280" y="1699920"/>
            <a:ext cx="30592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голова – 1 дет.;  затылок – 2 дет.;  ладошки – 4 дет.;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туловище – рубашка для кукол на руку – 2 дет.;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патронка из картона – 13 х3 см.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333360"/>
            <a:ext cx="82803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готовить выкройки к раскрою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5543280" cy="4534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Verdana"/>
              </a:rPr>
              <a:t>Какими бывают театральные куклы?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492360" y="3789360"/>
            <a:ext cx="2017800" cy="21542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303280" cy="2190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6360" y="3645000"/>
            <a:ext cx="2448000" cy="2189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403280" y="1052640"/>
            <a:ext cx="1965240" cy="2190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859280" y="1413000"/>
            <a:ext cx="2160720" cy="2089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539640" y="3357720"/>
            <a:ext cx="3024360" cy="33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кла-костюм для артиста</a:t>
            </a:r>
            <a:endParaRPr b="0" lang="en-US" sz="18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492360" y="6237360"/>
            <a:ext cx="208764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ионетка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8360" y="6237360"/>
            <a:ext cx="25239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льчиковые</a:t>
            </a:r>
            <a:endParaRPr b="0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724360" y="5950080"/>
            <a:ext cx="3240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оская картонная кукла театра теней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093080" y="2565360"/>
            <a:ext cx="1726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руку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59280" y="3284280"/>
            <a:ext cx="38275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Игрушка – Петрушка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перчаточная кукл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3960720" cy="489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7640" y="259920"/>
            <a:ext cx="42703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Сергей Владимирович Образцов создал первый в Москве театр кукол , сейчас это целый дом театра  кукол на Садовом кольце.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На сайте С.В.Образцов можно посмотреть на этих чудесных куко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10544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Необычные часы на здании дома театра кукол.</a:t>
            </a: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Каждый день в 12 часов распахиваются узорные ставни всех двенадцати окошек и показываются все жильцы теремка - начинается маленький спектакль.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743280" cy="4941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67992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Verdana"/>
              </a:rPr>
              <a:t>Иде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68360" y="2619360"/>
            <a:ext cx="2521080" cy="2394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076720" y="2689200"/>
            <a:ext cx="2519640" cy="2324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116000" y="260280"/>
            <a:ext cx="2211480" cy="2263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940360" y="260280"/>
            <a:ext cx="2417760" cy="2305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539640" y="5157720"/>
            <a:ext cx="820116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этой кукле работает вся рука кукловода. 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9640" y="5950080"/>
            <a:ext cx="80391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кла может выполнять много движений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amond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8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183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539640" y="189000"/>
            <a:ext cx="8064720" cy="12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ворец Меч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heel spokes="8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346320"/>
            <a:ext cx="803268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9640" y="0"/>
            <a:ext cx="828036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брая, добрая сказ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44480" y="475920"/>
            <a:ext cx="61419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Что нам потребуется для работы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4032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материалы и инструмент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отделочные элемент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Verdana"/>
              </a:rPr>
              <a:t>Кружево, шитье, лента, тесьма (вьюнчик)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Отделочные детали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Verdana"/>
              </a:rPr>
              <a:t>Жабо, воланы, рюши, оборки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Можно применить</a:t>
            </a:r>
            <a:r>
              <a:rPr b="0" lang="ru-RU" sz="1800" spc="-1" strike="noStrike">
                <a:solidFill>
                  <a:srgbClr val="008000"/>
                </a:solidFill>
                <a:latin typeface="Verdana"/>
              </a:rPr>
              <a:t> вышивку, аппликацию, бисер, вязание на спицах и крючком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449440" cy="1873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443640" y="5734080"/>
            <a:ext cx="2305080" cy="826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867280" y="3716280"/>
            <a:ext cx="1081080" cy="1657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5867280" y="1773360"/>
            <a:ext cx="1081080" cy="1726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4427640" y="3933720"/>
            <a:ext cx="1152360" cy="2016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4427640" y="1916280"/>
            <a:ext cx="1150920" cy="1726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7093080" y="1844640"/>
            <a:ext cx="187164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>
            <a:off x="7164360" y="3213000"/>
            <a:ext cx="1655640" cy="574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7164360" y="4437000"/>
            <a:ext cx="1800360" cy="432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2:48:18Z</dcterms:created>
  <dc:creator>007</dc:creator>
  <dc:description/>
  <dc:language>en-US</dc:language>
  <cp:lastModifiedBy>User</cp:lastModifiedBy>
  <dcterms:modified xsi:type="dcterms:W3CDTF">2011-02-09T21:37:49Z</dcterms:modified>
  <cp:revision>30</cp:revision>
  <dc:subject/>
  <dc:title>Слайд 1</dc:title>
</cp:coreProperties>
</file>