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75B-B362-4D72-9FC2-78917E3D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D53-9B69-4763-AD3A-8A50493C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B43-5544-444F-8A99-A58AE240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300-6F35-4BB7-B933-67EFE416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9C2E-E912-4FA1-A83C-1F004375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5868-8920-45DB-B418-59ED939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29FF-96DB-4CAA-924C-015A0573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DD80-4A7F-4C4B-A9BF-ADCC1E5D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DF02-2B6D-4471-9CBA-C41CEA7F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12F3-A10F-4B7F-B89B-6A5A618A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01A-ECDF-475B-B365-CFD4CBA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603-DE02-4870-A7F5-F7238DF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22F-9382-4423-889C-611AE63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8EF7-534A-4282-9E81-217FE88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74C3-6B4A-480A-92A0-5A1BBC44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6C5-2BD9-44A4-9174-37ED77E4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A816-891B-49CD-9398-89B76E79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3AB-94A2-46FE-9C8F-360B7883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B6B-DCD9-4108-94C7-D475FC9D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D92-C5A4-4F50-A088-9636AF38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2B1-7B73-436F-872E-F0EE8B3E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C0D-3B47-49D0-A973-D7768F5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B62-E8D6-44D5-9F88-44FDB46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B9C-5122-468C-A6C6-322F46D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5835-AF36-4363-A5A6-D22CFCC918A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785-E3F2-4C32-899E-529EC942B60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72360" cy="604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9280" y="4653000"/>
            <a:ext cx="871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театральная кукла на руку"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920" y="5734080"/>
            <a:ext cx="676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для 6-го класса часть №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6308640"/>
            <a:ext cx="85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подователь технологии  Г.А Давлетшина. г.Лениногорск. РТ.СОШ №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867280" y="1699920"/>
            <a:ext cx="3059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голова – 1 дет.;  затылок – 2 дет.;  ладошки – 4 дет.;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туловище – рубашка для кукол на руку – 2 дет.;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патронка из картона – 13 х3 см.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333360"/>
            <a:ext cx="82803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ить выкройки к раскрою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5543280" cy="4534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Verdana"/>
              </a:rPr>
              <a:t>Какими бывают театральные куклы?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360" y="3789360"/>
            <a:ext cx="2017800" cy="2154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03280" cy="219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44800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403280" y="1052640"/>
            <a:ext cx="1965240" cy="21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859280" y="1413000"/>
            <a:ext cx="2160720" cy="208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39640" y="3357720"/>
            <a:ext cx="3024360" cy="33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кла-костюм для артиста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492360" y="6237360"/>
            <a:ext cx="2087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ионетка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6237360"/>
            <a:ext cx="2523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льчиковые</a:t>
            </a:r>
            <a:endParaRPr b="0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5950080"/>
            <a:ext cx="324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ская картонная кукла театра тене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93080" y="2565360"/>
            <a:ext cx="1726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руку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59280" y="3284280"/>
            <a:ext cx="38275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Игрушка – Петрушка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перчаточная кукл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96072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7640" y="259920"/>
            <a:ext cx="42703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Сергей Владимирович Образцов создал первый в Москве театр кукол , сейчас это целый дом театра  кукол на Садовом кольце.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На сайте С.В.Образцов можно посмотреть на этих чудесных куко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1054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Необычные часы на здании дома театра кукол.</a:t>
            </a: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Каждый день в 12 часов распахиваются узорные ставни всех двенадцати окошек и показываются все жильцы теремка - начинается маленький спектакль.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743280" cy="4941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679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Verdana"/>
              </a:rPr>
              <a:t>Иде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68360" y="2619360"/>
            <a:ext cx="2521080" cy="239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76720" y="2689200"/>
            <a:ext cx="2519640" cy="2324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116000" y="260280"/>
            <a:ext cx="2211480" cy="2263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417760" cy="23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39640" y="5157720"/>
            <a:ext cx="82011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этой кукле работает вся рука кукловода. 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5950080"/>
            <a:ext cx="80391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кла может выполнять много движений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183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640" y="189000"/>
            <a:ext cx="8064720" cy="12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рец Меч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46320"/>
            <a:ext cx="803268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640" y="0"/>
            <a:ext cx="82803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ая, добрая сказ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44480" y="475920"/>
            <a:ext cx="61419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Verdana"/>
              </a:rPr>
              <a:t>Что нам потребуется для работы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материалы и инструмент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тделочные элементы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Кружево, шитье, лента, тесьма (вьюнчик)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Отделочные детали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Жабо, воланы, рюши, оборки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Можно применить</a:t>
            </a:r>
            <a:r>
              <a:rPr b="0" lang="ru-RU" sz="1800" spc="-1" strike="noStrike">
                <a:solidFill>
                  <a:srgbClr val="008000"/>
                </a:solidFill>
                <a:latin typeface="Verdana"/>
              </a:rPr>
              <a:t> вышивку, аппликацию, бисер, вязание на спицах и крючком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49440" cy="187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43640" y="5734080"/>
            <a:ext cx="2305080" cy="826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867280" y="3716280"/>
            <a:ext cx="10810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1081080" cy="1726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427640" y="3933720"/>
            <a:ext cx="1152360" cy="2016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427640" y="1916280"/>
            <a:ext cx="1150920" cy="1726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7093080" y="1844640"/>
            <a:ext cx="187164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7164360" y="3213000"/>
            <a:ext cx="1655640" cy="57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7164360" y="4437000"/>
            <a:ext cx="180036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2:48:18Z</dcterms:created>
  <dc:creator>007</dc:creator>
  <dc:description/>
  <dc:language>en-US</dc:language>
  <cp:lastModifiedBy>User</cp:lastModifiedBy>
  <dcterms:modified xsi:type="dcterms:W3CDTF">2011-02-09T21:37:49Z</dcterms:modified>
  <cp:revision>30</cp:revision>
  <dc:subject/>
  <dc:title>Слайд 1</dc:title>
</cp:coreProperties>
</file>